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06800" cy="36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1991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"/>
          <p:cNvSpPr/>
          <p:nvPr/>
        </p:nvSpPr>
        <p:spPr>
          <a:xfrm>
            <a:off x="1312920" y="1027080"/>
            <a:ext cx="491004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"/>
          <p:cNvSpPr/>
          <p:nvPr/>
        </p:nvSpPr>
        <p:spPr>
          <a:xfrm>
            <a:off x="1312920" y="1027080"/>
            <a:ext cx="491004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/>
          <p:nvPr/>
        </p:nvSpPr>
        <p:spPr>
          <a:xfrm>
            <a:off x="1312920" y="1027080"/>
            <a:ext cx="4930560" cy="369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005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8204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0880" y="4574880"/>
            <a:ext cx="858204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38640" y="210132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0880" y="457488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38640" y="457488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6300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2480" y="2101320"/>
            <a:ext cx="276300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44080" y="2101320"/>
            <a:ext cx="276300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0880" y="4574880"/>
            <a:ext cx="276300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2480" y="4574880"/>
            <a:ext cx="276300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44080" y="4574880"/>
            <a:ext cx="276300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58204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8204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8788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8640" y="2101320"/>
            <a:ext cx="418788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582040" cy="57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8640" y="2101320"/>
            <a:ext cx="418788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7488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8788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38640" y="210132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38640" y="457488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8640" y="2101320"/>
            <a:ext cx="418788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74880"/>
            <a:ext cx="8582040" cy="2258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04640" y="1893960"/>
            <a:ext cx="9672840" cy="5664240"/>
            <a:chOff x="404640" y="1893960"/>
            <a:chExt cx="9672840" cy="5664240"/>
          </a:xfrm>
        </p:grpSpPr>
        <p:sp>
          <p:nvSpPr>
            <p:cNvPr id="1" name=""/>
            <p:cNvSpPr/>
            <p:nvPr/>
          </p:nvSpPr>
          <p:spPr>
            <a:xfrm>
              <a:off x="404640" y="1893960"/>
              <a:ext cx="9672840" cy="5664240"/>
            </a:xfrm>
            <a:custGeom>
              <a:avLst/>
              <a:gdLst/>
              <a:ahLst/>
              <a:rect l="l" t="t" r="r" b="b"/>
              <a:pathLst>
                <a:path w="26874" h="1573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15734"/>
                  </a:lnTo>
                  <a:cubicBezTo>
                    <a:pt x="0" y="15736"/>
                    <a:pt x="2" y="15738"/>
                    <a:pt x="4" y="15738"/>
                  </a:cubicBezTo>
                  <a:lnTo>
                    <a:pt x="26869" y="15738"/>
                  </a:lnTo>
                  <a:cubicBezTo>
                    <a:pt x="26871" y="15738"/>
                    <a:pt x="26873" y="15736"/>
                    <a:pt x="26873" y="15734"/>
                  </a:cubicBezTo>
                  <a:lnTo>
                    <a:pt x="26873" y="4"/>
                  </a:lnTo>
                  <a:cubicBezTo>
                    <a:pt x="26873" y="2"/>
                    <a:pt x="26871" y="0"/>
                    <a:pt x="26869" y="0"/>
                  </a:cubicBezTo>
                  <a:lnTo>
                    <a:pt x="4" y="0"/>
                  </a:lnTo>
                </a:path>
              </a:pathLst>
            </a:custGeom>
            <a:solidFill>
              <a:srgbClr val="dddddd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8204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81080" cy="917640"/>
            <a:chOff x="0" y="0"/>
            <a:chExt cx="181080" cy="917640"/>
          </a:xfrm>
        </p:grpSpPr>
        <p:sp>
          <p:nvSpPr>
            <p:cNvPr id="5" name=""/>
            <p:cNvSpPr/>
            <p:nvPr/>
          </p:nvSpPr>
          <p:spPr>
            <a:xfrm>
              <a:off x="0" y="0"/>
              <a:ext cx="181080" cy="917640"/>
            </a:xfrm>
            <a:custGeom>
              <a:avLst/>
              <a:gdLst/>
              <a:ahLst/>
              <a:rect l="l" t="t" r="r" b="b"/>
              <a:pathLst>
                <a:path w="509" h="2555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2549"/>
                  </a:lnTo>
                  <a:cubicBezTo>
                    <a:pt x="0" y="2551"/>
                    <a:pt x="2" y="2554"/>
                    <a:pt x="4" y="2554"/>
                  </a:cubicBezTo>
                  <a:lnTo>
                    <a:pt x="503" y="2554"/>
                  </a:lnTo>
                  <a:cubicBezTo>
                    <a:pt x="505" y="2554"/>
                    <a:pt x="508" y="2551"/>
                    <a:pt x="508" y="2549"/>
                  </a:cubicBezTo>
                  <a:lnTo>
                    <a:pt x="508" y="4"/>
                  </a:lnTo>
                  <a:cubicBezTo>
                    <a:pt x="508" y="2"/>
                    <a:pt x="505" y="0"/>
                    <a:pt x="503" y="0"/>
                  </a:cubicBezTo>
                  <a:lnTo>
                    <a:pt x="4" y="0"/>
                  </a:lnTo>
                </a:path>
              </a:pathLst>
            </a:custGeom>
            <a:solidFill>
              <a:srgbClr val="125c8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0" y="2381400"/>
            <a:ext cx="181080" cy="917280"/>
            <a:chOff x="0" y="2381400"/>
            <a:chExt cx="181080" cy="917280"/>
          </a:xfrm>
        </p:grpSpPr>
        <p:sp>
          <p:nvSpPr>
            <p:cNvPr id="7" name=""/>
            <p:cNvSpPr/>
            <p:nvPr/>
          </p:nvSpPr>
          <p:spPr>
            <a:xfrm>
              <a:off x="0" y="2381400"/>
              <a:ext cx="181080" cy="917280"/>
            </a:xfrm>
            <a:custGeom>
              <a:avLst/>
              <a:gdLst/>
              <a:ahLst/>
              <a:rect l="l" t="t" r="r" b="b"/>
              <a:pathLst>
                <a:path w="509" h="2555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2549"/>
                  </a:lnTo>
                  <a:cubicBezTo>
                    <a:pt x="0" y="2551"/>
                    <a:pt x="2" y="2554"/>
                    <a:pt x="4" y="2554"/>
                  </a:cubicBezTo>
                  <a:lnTo>
                    <a:pt x="503" y="2554"/>
                  </a:lnTo>
                  <a:cubicBezTo>
                    <a:pt x="505" y="2554"/>
                    <a:pt x="508" y="2551"/>
                    <a:pt x="508" y="2549"/>
                  </a:cubicBezTo>
                  <a:lnTo>
                    <a:pt x="508" y="4"/>
                  </a:lnTo>
                  <a:cubicBezTo>
                    <a:pt x="508" y="2"/>
                    <a:pt x="505" y="0"/>
                    <a:pt x="503" y="0"/>
                  </a:cubicBezTo>
                  <a:lnTo>
                    <a:pt x="4" y="0"/>
                  </a:lnTo>
                </a:path>
              </a:pathLst>
            </a:custGeom>
            <a:solidFill>
              <a:srgbClr val="125c8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168560"/>
            <a:ext cx="181080" cy="917280"/>
            <a:chOff x="0" y="1168560"/>
            <a:chExt cx="181080" cy="917280"/>
          </a:xfrm>
        </p:grpSpPr>
        <p:sp>
          <p:nvSpPr>
            <p:cNvPr id="9" name=""/>
            <p:cNvSpPr/>
            <p:nvPr/>
          </p:nvSpPr>
          <p:spPr>
            <a:xfrm>
              <a:off x="0" y="1168560"/>
              <a:ext cx="181080" cy="917280"/>
            </a:xfrm>
            <a:custGeom>
              <a:avLst/>
              <a:gdLst/>
              <a:ahLst/>
              <a:rect l="l" t="t" r="r" b="b"/>
              <a:pathLst>
                <a:path w="509" h="2555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lnTo>
                    <a:pt x="0" y="2549"/>
                  </a:lnTo>
                  <a:cubicBezTo>
                    <a:pt x="0" y="2551"/>
                    <a:pt x="2" y="2554"/>
                    <a:pt x="4" y="2554"/>
                  </a:cubicBezTo>
                  <a:lnTo>
                    <a:pt x="503" y="2554"/>
                  </a:lnTo>
                  <a:cubicBezTo>
                    <a:pt x="505" y="2554"/>
                    <a:pt x="508" y="2551"/>
                    <a:pt x="508" y="2549"/>
                  </a:cubicBezTo>
                  <a:lnTo>
                    <a:pt x="508" y="4"/>
                  </a:lnTo>
                  <a:cubicBezTo>
                    <a:pt x="508" y="2"/>
                    <a:pt x="505" y="0"/>
                    <a:pt x="503" y="0"/>
                  </a:cubicBezTo>
                  <a:lnTo>
                    <a:pt x="4" y="0"/>
                  </a:lnTo>
                </a:path>
              </a:pathLst>
            </a:custGeom>
            <a:solidFill>
              <a:srgbClr val="125c8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9864720" cy="1957320"/>
          </a:xfrm>
          <a:prstGeom prst="rect">
            <a:avLst/>
          </a:prstGeom>
          <a:noFill/>
          <a:ln w="0">
            <a:noFill/>
          </a:ln>
        </p:spPr>
        <p:txBody>
          <a:bodyPr lIns="0" rIns="0" tIns="11088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700b8"/>
                </a:solidFill>
                <a:latin typeface="Arial"/>
              </a:rPr>
              <a:t>ДОБРЫЙ РАЗУМ НЕ НАЖИВАЮТ СРАЗУ</a:t>
            </a:r>
            <a:br>
              <a:rPr sz="3600"/>
            </a:br>
            <a:r>
              <a:rPr b="1" lang="ru-RU" sz="2000" spc="-1" strike="noStrike">
                <a:solidFill>
                  <a:srgbClr val="4700b8"/>
                </a:solidFill>
                <a:latin typeface="Arial"/>
              </a:rPr>
              <a:t>(НАРОДНАЯ МУДРОСТЬ)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60360" y="2093760"/>
            <a:ext cx="953928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6048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ТОПИС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г//гг//гг//гг//гг//гг//гг//гг//гг//гг//гг//гг//гг//гг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громный, маленький, большо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Горячий, жаркий, ледяно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Грязный, чистый, аккуратны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Ясный, солнечный, ненастный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2920" y="-324360"/>
            <a:ext cx="4738680" cy="7883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38680" cy="71899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38680" cy="71899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38680" cy="71899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38680" cy="71899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38680" cy="71899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616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54508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38680" cy="718992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539280" y="-349560"/>
            <a:ext cx="4738680" cy="71895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539280" y="-349560"/>
            <a:ext cx="4738680" cy="71895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5579640" y="17928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753840" y="44928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Упражнение 47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 type="subTitle"/>
          </p:nvPr>
        </p:nvSpPr>
        <p:spPr>
          <a:xfrm>
            <a:off x="178920" y="2160360"/>
            <a:ext cx="989964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ОЛОДНЫЙ ВЕТЕР-ТЕПЛЫЙ ВЕТ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ЯЖЁЛЫЕ ОБЛАКА-ЛЕГКИЕ ОБЛА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ИЛЬНЫЕ РАСКАТЫ-СЛАБЫЕ РАСКА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2000" y="0"/>
            <a:ext cx="86090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22176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СИНОНИМЫ</a:t>
            </a:r>
            <a:endParaRPr b="1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60000" y="2146320"/>
            <a:ext cx="972036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Огромный,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маленький, 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большо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Горячий, жаркий,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ледяно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Грязный, </a:t>
            </a: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чистый, аккуратны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Monotype Corsiva"/>
              </a:rPr>
              <a:t>Ясный, солнечный,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ненастный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753840" y="539640"/>
            <a:ext cx="860580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Упражнение 48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 type="subTitle"/>
          </p:nvPr>
        </p:nvSpPr>
        <p:spPr>
          <a:xfrm>
            <a:off x="-360" y="1800000"/>
            <a:ext cx="10620360" cy="46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Большой,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гром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громад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игант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леньк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алюсенький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шеч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рутой, обрывистый, отвес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216000" y="220320"/>
            <a:ext cx="9864720" cy="19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Monotype Corsiva"/>
              </a:rPr>
              <a:t>ИМЯ</a:t>
            </a:r>
            <a:br>
              <a:rPr sz="7200"/>
            </a:br>
            <a:r>
              <a:rPr b="1" lang="ru-RU" sz="7200" spc="-1" strike="noStrike">
                <a:solidFill>
                  <a:srgbClr val="0000ff"/>
                </a:solidFill>
                <a:latin typeface="Monotype Corsiva"/>
              </a:rPr>
              <a:t>ПРИЛАГАТЕЛЬНОЕ</a:t>
            </a:r>
            <a:endParaRPr b="1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ubTitle"/>
          </p:nvPr>
        </p:nvSpPr>
        <p:spPr>
          <a:xfrm>
            <a:off x="178920" y="2146320"/>
            <a:ext cx="989964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ИНОНИМ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3deb3d"/>
                </a:solidFill>
                <a:latin typeface="Times New Roman"/>
              </a:rPr>
              <a:t>АНТОНИ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3430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896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ПОХОЖИЕ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ПРОТИВОПОЛОЖНЫ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1616040" y="2160720"/>
            <a:ext cx="23464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5940360" y="2160720"/>
            <a:ext cx="216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718920" y="53964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«НАЙДИ ПАРУ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51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ЛИ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М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ЛОД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ЧИСТ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ОЛОД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СЕЛ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5151240" y="2101320"/>
            <a:ext cx="4568760" cy="51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РУСТ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МЕШН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ИЗ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Ю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ЛУП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ИСЛ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РЯ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87000"/>
              </a:lnSpc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ОРОЗ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58528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ВЫВОД:</a:t>
            </a:r>
            <a:endParaRPr b="1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subTitle"/>
          </p:nvPr>
        </p:nvSpPr>
        <p:spPr>
          <a:xfrm>
            <a:off x="718920" y="1858680"/>
            <a:ext cx="858492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2560" indent="-681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ПРИЛАГАТЕЛЬНОЕ — ЧАСТЬ РЕЧИ, ОБОЗНАЧАЮЩИЕ ПРИЗНАКИ ПРЕДМ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Й? КАКАЯ? КАКОЕ? КАК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ВИСИТ ОТ СУЩЕСТВИТЕЛЬН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НОНИМЫ — БЛИЗКИЕ ПО СМЫС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ТОНИМЫ — ПРОТИВОПОЛОЖНЫЕ ПО СМЫСЛ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2560" indent="-6811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ЛАЮТ НАШУ РЕЧЬ БОЛЕЕ ВЫРАЗИТЕЛЬНОЙ И КРАСИВОЙ, ПОМОГАЮТ ЛУЧШЕ ПРЕДСТАВИТЬ ПРЕДМЕТ ИЛИ Я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2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2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2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58204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58204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 txBox="1"/>
          <p:nvPr/>
        </p:nvSpPr>
        <p:spPr>
          <a:xfrm>
            <a:off x="-431640" y="1116000"/>
            <a:ext cx="9648720" cy="5400720"/>
          </a:xfrm>
          <a:prstGeom prst="rect">
            <a:avLst/>
          </a:prstGeom>
        </p:spPr>
        <p:txBody>
          <a:bodyPr wrap="none" lIns="0" rIns="0" tIns="0" bIns="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250920"/>
            <a:ext cx="8609040" cy="1387440"/>
          </a:xfrm>
          <a:prstGeom prst="rect">
            <a:avLst/>
          </a:prstGeom>
          <a:noFill/>
          <a:ln w="0">
            <a:noFill/>
          </a:ln>
        </p:spPr>
        <p:txBody>
          <a:bodyPr lIns="0" rIns="0" tIns="22176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008000"/>
                </a:solidFill>
                <a:latin typeface="Arial"/>
              </a:rPr>
              <a:t>АНТОНИМЫ</a:t>
            </a:r>
            <a:endParaRPr b="1" lang="en-US" sz="8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0" y="2146320"/>
            <a:ext cx="100807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Огромный, </a:t>
            </a:r>
            <a:r>
              <a:rPr b="0" lang="ru-RU" sz="4800" spc="-1" strike="noStrike">
                <a:solidFill>
                  <a:srgbClr val="008000"/>
                </a:solidFill>
                <a:latin typeface="Monotype Corsiva"/>
              </a:rPr>
              <a:t>маленький, большо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Горячий, </a:t>
            </a:r>
            <a:r>
              <a:rPr b="0" lang="ru-RU" sz="4800" spc="-1" strike="noStrike">
                <a:solidFill>
                  <a:srgbClr val="008000"/>
                </a:solidFill>
                <a:latin typeface="Monotype Corsiva"/>
              </a:rPr>
              <a:t>жаркий, ледяно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Monotype Corsiva"/>
              </a:rPr>
              <a:t>Грязный, чистый,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 аккуратный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Ясный, </a:t>
            </a:r>
            <a:r>
              <a:rPr b="0" lang="ru-RU" sz="4800" spc="-1" strike="noStrike">
                <a:solidFill>
                  <a:srgbClr val="008000"/>
                </a:solidFill>
                <a:latin typeface="Monotype Corsiva"/>
              </a:rPr>
              <a:t>солнечный, ненастный</a:t>
            </a:r>
            <a:r>
              <a:rPr b="0" lang="ru-RU" sz="5400" spc="-1" strike="noStrike">
                <a:solidFill>
                  <a:srgbClr val="008000"/>
                </a:solidFill>
                <a:latin typeface="Monotype Corsiv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40120" cy="788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16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40120" cy="788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16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40120" cy="788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016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40120" cy="788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016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40120" cy="788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3780000" cy="22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РАЗГАДАЙТЕ КРОССВОРД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34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26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90000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6072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70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4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97964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1928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26036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26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6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26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6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6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6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0000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0000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0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0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90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0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0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2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5928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50072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14036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78000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378000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70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70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34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34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34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7964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97964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7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97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97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97964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97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61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61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61928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61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900000" y="378000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61928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260360" y="6300720"/>
            <a:ext cx="360360" cy="358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06072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06072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6072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6072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06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06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06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06072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06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6072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06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70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0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70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70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70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700360" y="37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35728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34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34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34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4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780000" y="161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00000" y="3419640"/>
            <a:ext cx="360360" cy="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78000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78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78000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78000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78000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7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260360" y="3419640"/>
            <a:ext cx="18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41964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41964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4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0072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780000" y="126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780000" y="90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0072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50000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50072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140360" y="63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140360" y="59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14036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14036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14036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4036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14036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4036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14036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14036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14036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140360" y="197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58000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21964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21964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21964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1964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1964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21964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5928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85928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59280" y="306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859280" y="270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859280" y="234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50072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0072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50072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00720" y="4500720"/>
            <a:ext cx="360360" cy="358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500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500720" y="34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00000" y="3419640"/>
            <a:ext cx="360360" cy="360360"/>
          </a:xfrm>
          <a:prstGeom prst="rect">
            <a:avLst/>
          </a:prstGeom>
          <a:solidFill>
            <a:srgbClr val="ff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580000" y="558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580000" y="521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580000" y="485928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580000" y="450072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90000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260360" y="306072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61928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97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34000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700360" y="234000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06072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419640" y="270036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780000" y="53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0072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140360" y="161928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21964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859280" y="197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580000" y="3419640"/>
            <a:ext cx="360360" cy="36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2920" y="-324000"/>
            <a:ext cx="4740120" cy="7885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544720" y="0"/>
            <a:ext cx="5761080" cy="71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дин из главных членов предло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исьменный переска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длежащее и сказуемое — э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ческая.......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звуки, при произнесении котор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встречает пре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изменяемая часть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часть слова,стоящая перед кор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адеж имен существите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«не дружит»с пред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звуки, которые бывают удар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безудар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им членом предложения ча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ще всего бывает прилаг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часть речи, от которой зависят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лагате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онченная мыс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общая часть род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часть слова, которая сто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корня и служи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 бук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, 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и............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44720" y="414036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140360" y="665964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140360" y="7020000"/>
            <a:ext cx="36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22:04Z</dcterms:created>
  <dc:creator/>
  <dc:description/>
  <dc:language>en-US</dc:language>
  <cp:lastModifiedBy>1</cp:lastModifiedBy>
  <dcterms:modified xsi:type="dcterms:W3CDTF">2011-03-10T08:18:10Z</dcterms:modified>
  <cp:revision>4</cp:revision>
  <dc:subject/>
  <dc:title>ДОБРЫЙ РАЗУМ НЕ НАЖИВАЮТ СРАЗУ (НАРОДНАЯ МУДРОСТЬ)</dc:title>
</cp:coreProperties>
</file>