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A3133-68EF-4B63-A666-22C44901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B3193-DA4B-45C2-9845-A9FE0044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5C25F-0D55-43F0-8691-09BB5E6E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98D86-D75C-412C-9194-DE744FE9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4F4A-9404-4033-B8B7-8CB49671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B585-DBB1-4578-87D3-A1E6F240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49E6-E1AA-4DC8-8D38-B5958BA3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6E82-9B1A-4C0A-9CA5-59CADB2F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94BE-7F2C-44FF-8BF7-F9C7ADCB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E6FF-C5DD-4EA3-BB1B-CF3E28BF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3625-A718-4344-A4FC-053BA4D7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3A5F-BF7D-463C-BE5F-85DB6001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C45F-CD91-4FEB-A1F4-482D0F27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D877-2B5A-44A1-860D-C854FC81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A617-AEED-40C7-8856-0087AA2A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8E2B-C81D-4DDF-9E80-18A2AB00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95D0-F4DC-4B38-A540-56F341F9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258CD-505E-4C58-BCD8-6B4DF9F2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D0A03-291A-478A-A4C0-82FD563B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7A661-E1E1-49B6-B4D4-5A02FA47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ADE06-D1C4-4B23-8867-7D671992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912C3-78F4-475D-8215-92E69ED2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DE09D-9462-43AB-88F4-7B26E83E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43CA9-3702-4533-98B3-6FB3D686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05E5-A366-4A62-90CA-851F412D04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1815-E435-4A0A-A289-C988368D62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886e0"/>
                </a:solidFill>
                <a:latin typeface="Garamond"/>
              </a:rPr>
              <a:t>Программа педагогического управления процессом развития одарённости учащихся.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886e0"/>
                </a:solidFill>
                <a:latin typeface="Garamond"/>
              </a:rPr>
              <a:t>Автор: учитель математики МОУ СОШ №12 Максимова Ж.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^ </a:t>
            </a: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1.Информационно-методическое обеспечение процесса управления развитием одаренных детей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Содержание деятельности 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1  Создать эффективную и постоянно действующую систему выявления одаренности в ОУ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1 . Создание банка данных об одаренных детях в УО.                 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 2.Создание психологической службы для работы с одаренными детьми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3.Изучение способностей и возможностей педагогов управлять процессом развития одаренных учащихся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4.Подбор диагностического материала для изучения способностей учащихся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2Осуществлять  информационное обеспечение процесса развития одаренных  детей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1.Составление картотеки газетно-журнальных статей по вопросам одаренности детей.                                        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2.Подбор и накопление литературы. 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3.Оганизация информационных выставо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Информационно-методическое обеспечение процесса управления развитием одаренных детей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 Осуществлять методическое обеспечение процесса развития одаренности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.Разработка практических рекомендаций по составлению программ индивидуального развития одаренных детей. Создание программ индивидуального развития одаренных учащихся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. Подбор учебных программ для углубленного изучения предметов, факультативов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.Разработка практических рекомендаций по организации системно деятельного подхода в работе с одаренными детьми в УО. Создание комплексно-целевых программ в УО.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.Формирование банка ППО по работе с одаренными детьми. Использование передового опыта в работе с одаренными детьми в практике работы учителе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Обеспечение технологической готовности педагогов к решению проблемы по поиску, выявлению и обучению одаренных детей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 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.Способствовать повыше­нию научно-теоретических знаний педагогов и руководителей УО по работе с одаренными детьми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.     Организация работы постоянно действующего семинара для учителей, работающих с одаренными детьми: 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«Понятие одаренности в педагогике и психологии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«Специфика работы учителя с одаренными детьми. Варианты моделей обучения одаренных детей. Формы и методы работы» 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«Особенности содержания учебных программ для одаренных детей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«Контроль за организацией познавательной деятельности одаренных учащихся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«Роль семьи в выявлении и развитии одаренных детей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Обеспечение технологической готовности педагогов к решению проблемы по поиску, выявлению и обучению одаренных детей</a:t>
            </a: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 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.Способствовать углублению и расширению знаний педагогов в области преподаваемых предметов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1 . Организация курсовой подготовки  учителей, работающих с одаренными детьми.                                                                              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. Проведение практических семинаров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3. Проведение межпредметных  ШМО по проблемам развития одаренных детей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3.Пропагандировать и распространять передовой педагогический опыт по работе с одаренными детьм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1 . Изучение на заседаниях ШМО опыта работы учителей по планированию, разработке программ, использованию методов и форм работы с одаренными учащимися.                                             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 2. Организация работы педагогических мастерских, лабораторий по проектированию, моделированию работы с одаренными учащимися.                         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3. Научно-практическая конференция учителей «Проблемы детской одаренности: опыт и перспективы», собрать сборник документов и статей. 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Создание условий для развития и самореализации одаренных детей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пособствовать получению дополнительного образования одаренными учащимися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.Организация обучения учащихся:  в заочной школе  «Кенгуренок - КУ»,  «Сибирский медвежонок».             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.Организация работы факультативов и кружков.                                  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 3.Организация занятий с учащимися по индивидуальной образовательной траектории.                                                     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. Организация индивидуально-групповых занятий для одаренных учащихся в школе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 5.Организация участия в централизованном вузовском тестировании с целью получения объективной оценки качества обучения выпускников школ. 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6.Проведение каникулярной профильной школы «Школа развития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Создание условий для развития и самореализации одаренных дете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2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Обеспечить условия для самореализации интеллектуальных и творческих способностей учащихся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1 . Максимальная реализация интеллектуальных и творческих способностей одаренных учащихся в проведении олимпиад по общеобразовательным предметам. Участие  в краевых олимпиадах.           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2. Проведение научно-практической конференции учащихся по экологии и краеведению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3. Организация участия учащихся в  муниципальных и краевых тематических конференциях (история, литература, краеведение, экология).  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4. Организация и проведение «Школьного интеллектуального марафона» 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5. Проведение выставок детского творчества юных дарований                 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6. Приобщение талантливых детей к самостоятельной интеллектуальной исследовательской деятельности через школьное научное общество.        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7.Участие в школьной конференции для   одаренных школьников «Шаг в науку».                                                                              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Создание условий для развития и самореализации одаренных дете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.Обеспечить условия для ранней профессиональной ориентации  одаренных  детей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. Изучение ориентации одаренных учащихся на будущую профессию.        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2. Сбор информации о распределении учащихся выпускных классов.               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. Организация индивидуальной работы с одаренными учащимися и их родителями по распределению в учебные завед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Осуществление контроля за процессом развития одаренных детей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Способствовать организации системно деятельного подхода в работе с одаренными детьм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 . Изучение, анализ, экспертиза школьных программ по работе с одаренными учащимися.                                                                          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 2. Организация тематической проверки в УО «Система работы с одаренными учащимися в школе»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существлять контроль за качеством учебно-методического обеспечения работы с одаренными детьм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 Экспертиза программ углубленного изучения предметов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 Экспертиза программ факультативов и кружков, индивидуально-групповых занятий для работы с одаренными учащимися.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Осуществление контроля за процессом развития одаренных дете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Изучение состояния работы с одаренными учащимися в школах район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 С целью повышения качества образовательного процесса, совершенствования форм и методов в работе с одаренными учащимися организовать проведение тематических проверок:                                   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«Развитие общеучебных умений и навыков учащихся»;                   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- «Управление познавательной деятельностью одаренных детей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Обеспечение преемственно-перспективных связей в работе с одаренными детьми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Обеспечить преемственность в работе с одаренными детьми между ДОУ и начальной школой 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 С целью раннего выявления одаренных детей провести совместное обследование выпускников ДОУ на предмет определения готовности детей к обучению в школе.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. Проведение совместных МО воспитателей ДОУ и учителей начальных классов по вопросам развития одаренных детей. 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. Организация в ДОУ ранней диагностики доминирующих способностей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Введение: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 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даренность» происходит от слова «дар» и означает прежде всего особо благоприятные внутренние предпосылки развития. На вооружение необходимо взять концепцию, разработанную в лаборатории «Творческой одаренности» НИИ ПУО БГПУ под руководством к.п.н., профессора Н.И. Ильичевой: 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«Все дети, рожденные без патологии головного мозга, одарены от природы; задача педагога состоит в том, чтобы как можно раньше увидеть этот дар и развить его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 развитие одаренности влияет много факторов, основные из них: биогенетический, социально-экономический, педагогический и их диалектическое единство. Причем, доминирующим фактором считается педагогический при прочих равных условиях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   Исходя из данных положений, можно руководствоваться определением понятия одаренности, данным психологом К.К. Платоновым: «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Одаренность - генетически обусловленный компонент способностей, развивающийся в соответствующей деятельности или деградирующий при ее отсутствии».</a:t>
            </a: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ля развития природных задатков, «дара» необходимо педагогам, родителям использовать ранние сенситивные периоды. При разработке программы «Одаренные дети» я исходила из вышеизложенных положений и обозначила круг проблем по управлению развитием одаренных школьников в рамках обучения, развития и воспитания в общеобразовательном учреждении и семейного воспитания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Цели и задачи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здание условий для развития учащихся, одаренных в умственном отношении; повышение качества их обучения, расширение возможностей развития индивидуальных способностей, улучшение условий социальной адаптации учеников, гармонизация отношений в системах «учитель –  одаренный ученик», « одаренный ученик – ученик», «одаренный ученик – родитель»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^ Задачи развития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♦         развитие личности одаренных учащихся;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♦        развитие учебной деятельности;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♦         развитие творческой самостоятельности;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♦         развитие коммуникативных умений;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♦         развитие рефлексивных умени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Цели и задачи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^ Педагогические задач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■         Осуществление индивидуализации обучения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■         Реализация личностно-ориентированных технологий в практику обуче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■         Формирование системности в знаниях по разным предметам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■         Повышение качества обучения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■         Осуществление мероприятий по социальной адаптации  одаренных учеников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 </a:t>
            </a: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Принципы организации педагогического процесс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Принцип    гуманизации;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Принцип индивидуализации; Принцип дифференциаци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;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Принцип гуманитаризаци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Направления реализации программы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: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1. Профессиональный психолого-педагогический отбор одаренных детей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Психолого-педагогическое сопровождение одаренных детей;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425040"/>
            <a:ext cx="723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7640" y="321300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3072240"/>
            <a:ext cx="7921440" cy="308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 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рганизация работы с одаренными детьм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в рамках учебного процесса;                                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 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рганизация работы с ОУ во внеурочной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                                                                               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 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атериально-техническое и информационное обеспеч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6.  Взаимодействие с организациям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                                                    </a:t>
            </a: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Формирование основных целей: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здать условия для выявления, развития и поддержки одаренных детей и обеспечения их личностной   самореализации и профессионального самоопределения.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здать устойчивую систему работы с одаренными детьми в рамках общеобразовательного пространства школы на основе современных научных методик и технологий обучения, воспитания и развития личн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        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дачи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создание условий для выявления, поддержки и развития одаренных детей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беспечение участия одаренных детей в предметных олимпиадах всех уровней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азвитие и поддержка классов углубленного  и профильного обучения, призванных работать с одаренными деть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дготовка и повышение квалификации кадров, работающих с одаренными деть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существление необходимых мероприятий по научному, методическому и информационному обеспечению работы с одаренными детьм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                                                   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жидаемые результаты: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         обеспечение возможности для 35 учащихся ОУ принять участие во всех (школьном, муниципальном и региональном) этапах Всероссийских предметных олимпиад;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         обеспечить участие до 150 школьников в различных муниципальных, краевых и российских конкурсах исследовательских работ («Интеллектуальный марафон», «Чистая вода», «Русский медвежонок», «Кенгуру для старшеклассников», «Кенгуру для всех» и другие);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         обеспечить ежегодно  участие 30 детей в дистанционных предметных олимпиадах различного уровня;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         проведение конкурса «Ученик года»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         разработать положение о стипендии для одаренных детей в рамках конкурса «Ученик года»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         обеспечение издания методических материалов для педагогов по работе с одаренными дет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14:37:14Z</dcterms:created>
  <dc:creator>Нет</dc:creator>
  <dc:description/>
  <dc:language>en-US</dc:language>
  <cp:lastModifiedBy>Нет</cp:lastModifiedBy>
  <dcterms:modified xsi:type="dcterms:W3CDTF">2013-03-24T12:48:04Z</dcterms:modified>
  <cp:revision>21</cp:revision>
  <dc:subject/>
  <dc:title>Слайд 1</dc:title>
</cp:coreProperties>
</file>