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CFF32-6F8B-493A-8C4F-4121A421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E5A6B-4FCE-4BEB-B673-2AC690A6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6D5EF-60CD-4ACD-9E13-CB0BDC77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16909-6619-4B46-A6F6-C01EBDF2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547E-FD60-4F30-BBEB-20352F7C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28A8-271F-4863-A367-4BD2CF14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78BC-29CE-46AA-8484-4CD46E42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0234-AF48-4910-9334-8C7DBE09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973F-DF31-4765-A84A-ABE77B61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6617-69BF-4DC3-8FD3-6798385F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9840-A070-4B21-B718-6C8F47B6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D8CBB-9D91-4272-9105-121962EB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ECA0-877F-4B4D-8C1D-C5B12D57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9767-DAD1-4ACA-AD17-3D59C5D2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3828-6350-4936-80A7-1667A4C9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D7A6-93AB-489A-9406-7EEEFCAA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9BAE-1575-49F5-BEAB-51B28149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E7385-D269-438E-8187-F31E9D7F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A0964-1E08-4DFE-91CF-AE445FBD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01D44-3383-4800-B44B-B2551F3E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DA5C7-5AC9-47A5-B8B6-90776959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12122-81C4-4D38-A6AF-842B36DD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65CE-9C25-4D35-9728-C851AE79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F98F-E7CD-4BF6-BC1C-648EA099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4550-328D-4D7C-973D-CBF05CD2C3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C2B0-3A1B-4452-83EF-73135D8580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886e0"/>
                </a:solidFill>
                <a:latin typeface="Garamond"/>
              </a:rPr>
              <a:t>Программа педагогического управления процессом развития одарённости учащихся.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886e0"/>
                </a:solidFill>
                <a:latin typeface="Garamond"/>
              </a:rPr>
              <a:t>Автор: учитель математики МОУ СОШ №12 Максимова Ж.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^ </a:t>
            </a: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1.Информационно-методическое обеспечение процесса управления развитием одаренных детей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Содержание деятельности 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1  Создать эффективную и постоянно действующую систему выявления одаренности в ОУ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1 . Создание банка данных об одаренных детях в УО.                 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 2.Создание психологической службы для работы с одаренными детьми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3.Изучение способностей и возможностей педагогов управлять процессом развития одаренных учащихся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4.Подбор диагностического материала для изучения способностей учащихся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2Осуществлять  информационное обеспечение процесса развития одаренных  детей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1.Составление картотеки газетно-журнальных статей по вопросам одаренности детей.                                        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2.Подбор и накопление литературы. 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3.Оганизация информационных выставо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Информационно-методическое обеспечение процесса управления развитием одаренных детей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 Осуществлять методическое обеспечение процесса развития одаренности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.Разработка практических рекомендаций по составлению программ индивидуального развития одаренных детей. Создание программ индивидуального развития одаренных учащихся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. Подбор учебных программ для углубленного изучения предметов, факультативов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.Разработка практических рекомендаций по организации системно деятельного подхода в работе с одаренными детьми в УО. Создание комплексно-целевых программ в УО.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.Формирование банка ППО по работе с одаренными детьми. Использование передового опыта в работе с одаренными детьми в практике работы учителе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Обеспечение технологической готовности педагогов к решению проблемы по поиску, выявлению и обучению одаренных детей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 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.Способствовать повыше­нию научно-теоретических знаний педагогов и руководителей УО по работе с одаренными детьми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.     Организация работы постоянно действующего семинара для учителей, работающих с одаренными детьми: 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«Понятие одаренности в педагогике и психологи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«Специфика работы учителя с одаренными детьми. Варианты моделей обучения одаренных детей. Формы и методы работы» 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«Особенности содержания учебных программ для одаренных детей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«Контроль за организацией познавательной деятельности одаренных учащихся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«Роль семьи в выявлении и развитии одаренных детей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Обеспечение технологической готовности педагогов к решению проблемы по поиску, выявлению и обучению одаренных детей</a:t>
            </a: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 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.Способствовать углублению и расширению знаний педагогов в области преподаваемых предметов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1 . Организация курсовой подготовки  учителей, работающих с одаренными детьми.                                                                              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2. Проведение практических семинаров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3. Проведение межпредметных  ШМО по проблемам развития одаренных детей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      3.Пропагандировать и распространять передовой педагогический опыт по работе с одаренными детьми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1 . Изучение на заседаниях ШМО опыта работы учителей по планированию, разработке программ, использованию методов и форм работы с одаренными учащимися.                                             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 2. Организация работы педагогических мастерских, лабораторий по проектированию, моделированию работы с одаренными учащимися.                         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3. Научно-практическая конференция учителей «Проблемы детской одаренности: опыт и перспективы», собрать сборник документов и статей. 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Создание условий для развития и самореализации одаренных детей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пособствовать получению дополнительного образования одаренными учащимися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.Организация обучения учащихся:  в заочной школе  «Кенгуренок - КУ»,  «Сибирский медвежонок».             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.Организация работы факультативов и кружков.                                  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 3.Организация занятий с учащимися по индивидуальной образовательной траектории.                                                     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. Организация индивидуально-групповых занятий для одаренных учащихся в школе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 5.Организация участия в централизованном вузовском тестировании с целью получения объективной оценки качества обучения выпускников школ. 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6.Проведение каникулярной профильной школы «Школа развития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Создание условий для развития и самореализации одаренных дете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2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Обеспечить условия для самореализации интеллектуальных и творческих способностей учащихся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1 . Максимальная реализация интеллектуальных и творческих способностей одаренных учащихся в проведении олимпиад по общеобразовательным предметам. Участие  в краевых олимпиадах.           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2. Проведение научно-практической конференции учащихся по экологии и краеведению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3. Организация участия учащихся в  муниципальных и краевых тематических конференциях (история, литература, краеведение, экология).  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4. Организация и проведение «Школьного интеллектуального марафона» 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5. Проведение выставок детского творчества юных дарований                 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6. Приобщение талантливых детей к самостоятельной интеллектуальной исследовательской деятельности через школьное научное общество.        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7.Участие в школьной конференции для   одаренных школьников «Шаг в науку».                                                                              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Создание условий для развития и самореализации одаренных дете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Обеспечить условия для ранней профессиональной ориентации  одаренных  детей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. Изучение ориентации одаренных учащихся на будущую профессию.        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 2. Сбор информации о распределении учащихся выпускных классов.               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 Организация индивидуальной работы с одаренными учащимися и их родителями по распределению в учебные завед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Осуществление контроля за процессом развития одаренных детей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Способствовать организации системно деятельного подхода в работе с одаренными детьм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 . Изучение, анализ, экспертиза школьных программ по работе с одаренными учащимися.                                                                          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2. Организация тематической проверки в УО «Система работы с одаренными учащимися в школе»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существлять контроль за качеством учебно-методического обеспечения работы с одаренными детьм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 Экспертиза программ углубленного изучения предмето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Экспертиза программ факультативов и кружков, индивидуально-групповых занятий для работы с одаренными учащимися.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Осуществление контроля за процессом развития одаренных дете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Изучение состояния работы с одаренными учащимися в школах район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 С целью повышения качества образовательного процесса, совершенствования форм и методов в работе с одаренными учащимися организовать проведение тематических проверок:                                   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«Развитие общеучебных умений и навыков учащихся»;                   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- «Управление познавательной деятельностью одаренных детей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Обеспечение преемственно-перспективных связей в работе с одаренными детьми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Обеспечить преемственность в работе с одаренными детьми между ДОУ и начальной школой 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. С целью раннего выявления одаренных детей провести совместное обследование выпускников ДОУ на предмет определения готовности детей к обучению в школе.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. Проведение совместных МО воспитателей ДОУ и учителей начальных классов по вопросам развития одаренных детей.  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. Организация в ДОУ ранней диагностики доминирующих способностей де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Введение: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 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даренность» происходит от слова «дар» и означает прежде всего особо благоприятные внутренние предпосылки развития. На вооружение необходимо взять концепцию, разработанную в лаборатории «Творческой одаренности» НИИ ПУО БГПУ под руководством к.п.н., профессора Н.И. Ильичевой: 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«Все дети, рожденные без патологии головного мозга, одарены от природы; задача педагога состоит в том, чтобы как можно раньше увидеть этот дар и развить его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развитие одаренности влияет много факторов, основные из них: биогенетический, социально-экономический, педагогический и их диалектическое единство. Причем, доминирующим фактором считается педагогический при прочих равных условиях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   Исходя из данных положений, можно руководствоваться определением понятия одаренности, данным психологом К.К. Платоновым: «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Одаренность - генетически обусловленный компонент способностей, развивающийся в соответствующей деятельности или деградирующий при ее отсутствии».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развития природных задатков, «дара» необходимо педагогам, родителям использовать ранние сенситивные периоды. При разработке программы «Одаренные дети» я исходила из вышеизложенных положений и обозначила круг проблем по управлению развитием одаренных школьников в рамках обучения, развития и воспитания в общеобразовательном учреждении и семейного воспитания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Цели и задачи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здание условий для развития учащихся, одаренных в умственном отношении; повышение качества их обучения, расширение возможностей развития индивидуальных способностей, улучшение условий социальной адаптации учеников, гармонизация отношений в системах «учитель –  одаренный ученик», « одаренный ученик – ученик», «одаренный ученик – родитель»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^ Задачи развития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: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♦         развитие личности одаренных учащихся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♦        развитие учебной деятельности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♦         развитие творческой самостоятельности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♦         развитие коммуникативных умений;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♦         развитие рефлексивных умений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Цели и задачи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^ Педагогические задач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■         Осуществление индивидуализации обучения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■         Реализация личностно-ориентированных технологий в практику обуч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■         Формирование системности в знаниях по разным предметам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■         Повышение качества обучения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■         Осуществление мероприятий по социальной адаптации  одаренных учеников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 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Принципы организации педагогического процесс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ринцип    гуманизации;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ринцип индивидуализации; Принцип дифференциаци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;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Принцип гуманитаризаци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 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Направления реализации программы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: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1. Профессиональный психолого-педагогический отбор одаренных детей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Психолого-педагогическое сопровождение одаренных детей;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425040"/>
            <a:ext cx="723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321300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3072240"/>
            <a:ext cx="7921440" cy="308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 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рганизация работы с одаренными детьм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в рамках учебного процесса;                             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 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рганизация работы с ОУ во внеурочной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 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атериально-техническое и информационное обеспече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6.  Взаимодействие с организациям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                                                   </a:t>
            </a: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ормирование основных целей: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здать условия для выявления, развития и поддержки одаренных детей и обеспечения их личностной   самореализации и профессионального самоопределения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здать устойчивую систему работы с одаренными детьми в рамках общеобразовательного пространства школы на основе современных научных методик и технологий обучения, воспитания и развития личн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        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дачи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оздание условий для выявления, поддержки и развития одаренных детей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беспечение участия одаренных детей в предметных олимпиадах всех уровней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развитие и поддержка классов углубленного  и профильного обучения, призванных работать с одаренными деть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одготовка и повышение квалификации кадров, работающих с одаренными деть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существление необходимых мероприятий по научному, методическому и информационному обеспечению работы с одаренными деть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                                                   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жидаемые результаты: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         обеспечение возможности для 35 учащихся ОУ принять участие во всех (школьном, муниципальном и региональном) этапах Всероссийских предметных олимпиад;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         обеспечить участие до 150 школьников в различных муниципальных, краевых и российских конкурсах исследовательских работ («Интеллектуальный марафон», «Чистая вода», «Русский медвежонок», «Кенгуру для старшеклассников», «Кенгуру для всех» и другие);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         обеспечить ежегодно  участие 30 детей в дистанционных предметных олимпиадах различного уровня;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         проведение конкурса «Ученик года»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         разработать положение о стипендии для одаренных детей в рамках конкурса «Ученик года»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         обеспечение издания методических материалов для педагогов по работе с одаренными дет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4:37:14Z</dcterms:created>
  <dc:creator>Нет</dc:creator>
  <dc:description/>
  <dc:language>en-US</dc:language>
  <cp:lastModifiedBy>Нет</cp:lastModifiedBy>
  <dcterms:modified xsi:type="dcterms:W3CDTF">2013-03-24T12:48:04Z</dcterms:modified>
  <cp:revision>21</cp:revision>
  <dc:subject/>
  <dc:title>Слайд 1</dc:title>
</cp:coreProperties>
</file>