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4D2D-8C13-4ADE-82EC-AA94FAFAD4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E9F0-2789-4F09-921A-8D92D5D84F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E6E-3996-426E-936C-108CF4EA6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F935-1162-4A76-B33B-61E11D11EF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C56-AA6F-4E67-A4BB-E8B4DDF0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AA9-84A4-4A0A-976D-0C441BF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BBD-A59E-4658-A04D-3AE58D76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709-FCC7-4275-8A09-C362489F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9A8-A80A-4E74-A46D-C6B6031B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FED-4188-4649-8FD1-F589B7A3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F62-5F71-48C4-855E-0B148DEE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545-E7D7-4F27-9883-1581C766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B0B-61B8-46C6-A217-46C12E37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436-692C-4FB5-960E-284F5BCD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E1A-FCDA-4382-9F6D-DCCA9A01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07F-8A96-4A24-AAF4-367CD381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3904-C116-4F1C-9202-AC0B78C2AF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на тем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Загрязнения окружающей среды»</a:t>
            </a:r>
            <a:r>
              <a:rPr b="1" lang="ru-RU" sz="4000" spc="-1" strike="noStrike">
                <a:solidFill>
                  <a:srgbClr val="0d0d0d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136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Выполнил</a:t>
            </a:r>
            <a:r>
              <a:rPr b="0" lang="ru-RU" sz="2500" spc="-1" strike="noStrike">
                <a:solidFill>
                  <a:srgbClr val="0d0d0d"/>
                </a:solidFill>
                <a:latin typeface="Arial"/>
              </a:rPr>
              <a:t>и</a:t>
            </a: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:</a:t>
            </a:r>
            <a:r>
              <a:rPr b="0" i="1" lang="ru-RU" sz="25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чащиеся 3 г класса Андреева Нина, Александров Сергей, Грецкая Кристина, Рюткина Маргарита, Хорошилов Юрий,Телитченко Марина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br>
              <a:rPr sz="2500"/>
            </a:b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Классный руководитель:</a:t>
            </a:r>
            <a:r>
              <a:rPr b="0" lang="ru-RU" sz="2500" spc="-1" strike="noStrike">
                <a:solidFill>
                  <a:srgbClr val="0d0d0d"/>
                </a:solidFill>
                <a:latin typeface="Arial"/>
              </a:rPr>
              <a:t> Орлова Юлия Юрь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грязнение бытовым мусо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1___2014.jpeg"/>
          <p:cNvPicPr/>
          <p:nvPr/>
        </p:nvPicPr>
        <p:blipFill>
          <a:blip r:embed="rId2"/>
          <a:stretch/>
        </p:blipFill>
        <p:spPr>
          <a:xfrm>
            <a:off x="4857840" y="1628640"/>
            <a:ext cx="4286160" cy="2571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2268360" y="4292640"/>
            <a:ext cx="31878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539640" y="177480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928800" y="334080"/>
            <a:ext cx="807228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Ты посмотри на шар земной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Такой прекрасный и родной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Душа кричит:  «Тебя  люблю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Я сберегу. Я  сберегу</a:t>
            </a:r>
            <a:r>
              <a:rPr b="1" lang="en-US" sz="3500" spc="-1" strike="noStrike">
                <a:solidFill>
                  <a:srgbClr val="c00000"/>
                </a:solidFill>
                <a:latin typeface="Arial"/>
              </a:rPr>
              <a:t>!»</a:t>
            </a:r>
            <a:r>
              <a:rPr b="0" lang="en-US" sz="35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85756383.jpg"/>
          <p:cNvPicPr/>
          <p:nvPr/>
        </p:nvPicPr>
        <p:blipFill>
          <a:blip r:embed="rId2"/>
          <a:stretch/>
        </p:blipFill>
        <p:spPr>
          <a:xfrm>
            <a:off x="395280" y="1197000"/>
            <a:ext cx="4032360" cy="2550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D:\маринка\проект\мой\море\30.JPG"/>
          <p:cNvPicPr/>
          <p:nvPr/>
        </p:nvPicPr>
        <p:blipFill>
          <a:blip r:embed="rId3"/>
          <a:stretch/>
        </p:blipFill>
        <p:spPr>
          <a:xfrm>
            <a:off x="4500720" y="1197000"/>
            <a:ext cx="4043160" cy="258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фото\море 2010\DSC05327.JPG"/>
          <p:cNvPicPr/>
          <p:nvPr/>
        </p:nvPicPr>
        <p:blipFill>
          <a:blip r:embed="rId4"/>
          <a:stretch/>
        </p:blipFill>
        <p:spPr>
          <a:xfrm>
            <a:off x="2411280" y="3821040"/>
            <a:ext cx="4321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грязнение 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im_18_ExALRm.jpg"/>
          <p:cNvPicPr/>
          <p:nvPr/>
        </p:nvPicPr>
        <p:blipFill>
          <a:blip r:embed="rId2"/>
          <a:stretch/>
        </p:blipFill>
        <p:spPr>
          <a:xfrm>
            <a:off x="2771640" y="3716280"/>
            <a:ext cx="3384720" cy="253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601800" cy="240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4"/>
          <a:stretch/>
        </p:blipFill>
        <p:spPr>
          <a:xfrm>
            <a:off x="4643280" y="907920"/>
            <a:ext cx="3673800" cy="23986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324000" y="33577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ливы нефти в м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788000" y="3357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Сброс химически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916360" y="63507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Загрязнения берега (мусор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ес – «легкие нашей плане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6676.jpg"/>
          <p:cNvPicPr/>
          <p:nvPr/>
        </p:nvPicPr>
        <p:blipFill>
          <a:blip r:embed="rId2"/>
          <a:stretch/>
        </p:blipFill>
        <p:spPr>
          <a:xfrm>
            <a:off x="4788000" y="3897360"/>
            <a:ext cx="357804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маринка\проект\мой\лес\513019.JPG"/>
          <p:cNvPicPr/>
          <p:nvPr/>
        </p:nvPicPr>
        <p:blipFill>
          <a:blip r:embed="rId3"/>
          <a:stretch/>
        </p:blipFill>
        <p:spPr>
          <a:xfrm>
            <a:off x="684360" y="4005360"/>
            <a:ext cx="3817800" cy="255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маринка\проект\мой\лес\GetImage.jpeg"/>
          <p:cNvPicPr/>
          <p:nvPr/>
        </p:nvPicPr>
        <p:blipFill>
          <a:blip r:embed="rId4"/>
          <a:stretch/>
        </p:blipFill>
        <p:spPr>
          <a:xfrm>
            <a:off x="4788000" y="1484280"/>
            <a:ext cx="358596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маринка\проект\мой\лес\0_67c1d_a9299e50_XL.jpeg"/>
          <p:cNvPicPr/>
          <p:nvPr/>
        </p:nvPicPr>
        <p:blipFill>
          <a:blip r:embed="rId5"/>
          <a:stretch/>
        </p:blipFill>
        <p:spPr>
          <a:xfrm>
            <a:off x="611280" y="1424160"/>
            <a:ext cx="3889440" cy="24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Экологические беды л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:\маринка\проект\мой\лес\6078.jpg"/>
          <p:cNvPicPr/>
          <p:nvPr/>
        </p:nvPicPr>
        <p:blipFill>
          <a:blip r:embed="rId2"/>
          <a:stretch/>
        </p:blipFill>
        <p:spPr>
          <a:xfrm>
            <a:off x="611280" y="1062000"/>
            <a:ext cx="330336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D:\маринка\проект\мой\лес\post_3_12951640822457.jpg"/>
          <p:cNvPicPr/>
          <p:nvPr/>
        </p:nvPicPr>
        <p:blipFill>
          <a:blip r:embed="rId3"/>
          <a:stretch/>
        </p:blipFill>
        <p:spPr>
          <a:xfrm>
            <a:off x="4716360" y="949320"/>
            <a:ext cx="3868920" cy="230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:\маринка\проект\мой\лес\86ca44f2fb75.jpg"/>
          <p:cNvPicPr/>
          <p:nvPr/>
        </p:nvPicPr>
        <p:blipFill>
          <a:blip r:embed="rId4"/>
          <a:stretch/>
        </p:blipFill>
        <p:spPr>
          <a:xfrm>
            <a:off x="2598840" y="362412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764280" y="325440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Разведение костров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5003640" y="32446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Захламление мус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3618720" y="64040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Вырубк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тмосфера воздушная оболочк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picture76.jpg"/>
          <p:cNvPicPr/>
          <p:nvPr/>
        </p:nvPicPr>
        <p:blipFill>
          <a:blip r:embed="rId2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2843280" y="414972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4716360" y="1557360"/>
            <a:ext cx="3529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6680" y="-360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грязнение атмосф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POWERN11.jpg"/>
          <p:cNvPicPr/>
          <p:nvPr/>
        </p:nvPicPr>
        <p:blipFill>
          <a:blip r:embed="rId2"/>
          <a:stretch/>
        </p:blipFill>
        <p:spPr>
          <a:xfrm>
            <a:off x="93600" y="765000"/>
            <a:ext cx="3686400" cy="2764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маринка\проект\мой\атмосфера\1316755355_vyhlopnye-gazy.jpg"/>
          <p:cNvPicPr/>
          <p:nvPr/>
        </p:nvPicPr>
        <p:blipFill>
          <a:blip r:embed="rId3"/>
          <a:stretch/>
        </p:blipFill>
        <p:spPr>
          <a:xfrm>
            <a:off x="4551480" y="765000"/>
            <a:ext cx="3692520" cy="27687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4570920" y="363528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бросы выхлопных газов автомоби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06200" y="35481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грязнение атмосферы заводскими выбро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3484440" y="4005360"/>
            <a:ext cx="2695680" cy="2334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3564000" y="634032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жигание   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истота и порядок дело наших р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627280" y="4005360"/>
            <a:ext cx="3889440" cy="2590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4572000" y="1341360"/>
            <a:ext cx="4281480" cy="2522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136440" y="1341360"/>
            <a:ext cx="4276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грязнение бытовым мусо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1___2014.jpeg"/>
          <p:cNvPicPr/>
          <p:nvPr/>
        </p:nvPicPr>
        <p:blipFill>
          <a:blip r:embed="rId2"/>
          <a:stretch/>
        </p:blipFill>
        <p:spPr>
          <a:xfrm>
            <a:off x="4643280" y="1268280"/>
            <a:ext cx="4249800" cy="270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216160" y="4005360"/>
            <a:ext cx="3795840" cy="265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324000" y="11970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7:54:11Z</dcterms:created>
  <dc:creator>игорь</dc:creator>
  <dc:description>Работа учащегося
МБОУ СОШ № 31
г. Новочеркасска
Скачано с сайта www.school31novoch.ucoz.ru</dc:description>
  <dc:language>en-US</dc:language>
  <cp:lastModifiedBy>Орлов</cp:lastModifiedBy>
  <dcterms:modified xsi:type="dcterms:W3CDTF">2013-04-16T16:49:27Z</dcterms:modified>
  <cp:revision>34</cp:revision>
  <dc:subject/>
  <dc:title>Слайд 1</dc:title>
</cp:coreProperties>
</file>