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03F-E371-44C3-B0FB-2906BD34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1DF-7839-40B6-9C6D-2E6CD02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52E-F102-4D4F-970F-B5A3A6E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9F2-CB6A-4FF7-B540-04CDCDB8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6DA-4F4C-4831-BC26-850C8B6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A3E-9900-4BD0-95DC-75E0E80D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6F3-7BE7-49B2-8B0E-EFB905E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621-6E5D-494D-AA62-78820073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400-3629-4C28-B169-4C8DC6D9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B3E-F269-4113-9979-C3956DC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907-D68D-46E5-9890-6CE09DE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680-B121-4E8E-BA03-D7E9658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9E4-3F40-408D-80A8-B402C0B86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нижки\Логопедия\1доделать\Новая папка\foni doc\фон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1371240"/>
            <a:ext cx="6477120" cy="32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чителя-логопеда в группах компенсирующей направленности над просодической стороной реч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14300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фонетическое выделение слога из какого-либо слова, осуществляемое при напряжении органов фонации и речи. Слог, на который оно падает, будет ударным. Оно выполняет различные функции в русском языке. Оно является не последним средством при образовании форм слов либо сами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да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дар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иболее существенное выделение слова, с точки зрения ситуации речи, средство передачи смысловых отношений между словами. К.С. Станиславский называл логическое ударение «указательным пальцем», отмечающим самое главное слово в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разительные движения мышц лица, являющиеся одной из форм проявления тех или иных чувств человека. Мимика позволяет нам лучше понять оппонента, разобраться, какие чувства он испытывает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участвующего в беседе, с одной стороны, важно уметь «расшифро-вывать»,«понимать мимику» собеседника. С другой стороны, необходимо знать, в какой степени он сам владеет мимикой, насколько она выразитель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витию просодических компонентов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льные 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174400"/>
            <a:ext cx="3809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ие мину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ые стих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рифм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аузой, насыщенной речевым содержан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витию высоты голоса и речевого дых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интонац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бальные 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формированию мелкой мотори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тмо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мими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7"/>
          <p:cNvSpPr/>
          <p:nvPr/>
        </p:nvSpPr>
        <p:spPr>
          <a:xfrm flipH="1">
            <a:off x="4570560" y="1601640"/>
            <a:ext cx="2880" cy="472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ие мин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иве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лыве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еж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сп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шь обед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 гляд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шь в след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шалишь? –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тм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1371240"/>
            <a:ext cx="3352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-//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-/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-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-/-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– 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- 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– 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– п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- 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ми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еред зеркал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дивилки" - поднять бров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разилки" - поднять брови, открыть ро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лыбалки" - улыбнуться, показав зубки, и с закрытым р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Хмурилки" - нахмурить бров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рдилки" - нахмурить брови, надуть ще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горчалки" - нахмурить брови, опустить кончики рта вниз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ф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6002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лез на коня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ржусь рукам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мен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ехал к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бычо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енький бочо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ами ступае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й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егодня утром ра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вался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кармаш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и  и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дыхания и голос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: «Эхо», «Дует ветер»,  «Лесен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м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-еле, еле-еле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телись карусели.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, потом, потом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егом, бегом, бегом! - - -(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ыстрей, быстрей, бегом, - - -(очень 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усель кругом, кругом! - - -(очень 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е, тише, не спешите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усель остановите.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раз, два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кончилась игра. - - -(медленный тем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сить с убыстрением или замедлением темпа названия времен года, месяцев (зимних, весенних ...), дней недели, чисел от 1 до 10 и обратно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од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ожный комплекс элементов, включающий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 понижение то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и замедление тем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е характеристи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новку логических удар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ую атаку голоса и сил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звуч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ный речевой выдо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сть дик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овую окрас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сех этих качеств наша речь превратилась бы в речь роб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интонационной выразительност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к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авета, здравствуй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идут дела, голова пока ц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и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и клок — ободрали правый бок, хвост отгрызли в дра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ла, зубастый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ты бы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Что купи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колько взял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то отгрыз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914400" y="76212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вуке голоса, в глазах и во всем облике говорящего заключено не меньше красноречия, чем в выборе с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уа де Ларошфу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онная выраз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380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я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явление сложное, целостное. В ней выделяются следующие компоненты: сила голоса (громкость, логическое ударение), пауза, темп и ритм (темпоритм), мелодика, эмоциональный тон, тембр. Именно интонация фактически организует устную речь в целом, в том числе и чтение. С ее помощью предложениям придается значение вопроса, побуждения, просьбы, сообщения. Интонация позволяет передать эмоционально смысловые оттенки текста, выражая состояние, настроение автора (грусть, тревогу, радость...), его отношение к описываемому (ирония, уважение, гордость...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95400" indent="380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ыхание в процессе речи. Речевое дыхание непосредственно сопровождает процесс порождения речи, являясь основой голосообразования, формирования звуков, мелод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 отличается от обычного дыхания: более быстрым вдохом и замедленным выдохом значительным увеличением дыхательного объема преимущественно ротовым типом дыхания максимальным расхождением голосовых складок на вдохе и сближением их почти до соприкосновения на выдох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ци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ется четкое, ясное и отчетливое произношение всех звуков родного языка с правильной их артикуляцией при четком и внятном произнесении слов и фраз. Четкое и ясное произнесении слов обеспечивается за счет правильной артикуляции каждого звука, и, прежде всего, умения в процессе речи свободно и достаточно широко открывать рот, ибо при плохо открываемом рте звуки произносятся как бы сквозь зуб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36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йственное средство ее художественной выразительности. Использование разнообразных оттенков придает речи особую динамику, живость, богатство выразительного звучания. Если произносимая речь будет иметь один и тот же равномерно звучащий темп, она поблекнет, станет безжизн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равномерное чередование ускорения и замедления, напряжения и ослабления, долготы и краткости речи. Наиболее ощутимо выражение ритма в стихотворной речи, особенно при чередовании ударных и безударных слогов в определенном порядке, через соизмеримые промежутки времени. Ритм ощущается только в единстве с содержанием. Он переплетается с интонационным строением сти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гол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голоса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его громкость, зависящая от активности работы органов дыхания и речи. Человек должен уметь варьировать силу голоса в зависимости от условий коммуникации. Поэтому одинаково необходимо умение говорить как громко, так и тихо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л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294920"/>
            <a:ext cx="7696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лос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его способность к тональным изменениям, то есть его диапазон. Для обычного голоса характерен диапазон в полторы октавы, однако в бытовой речи человек чаще всего использует лишь 3-4 ноты. Расширение диапазона делает речь выразитель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39:03Z</dcterms:created>
  <dc:creator>Лена</dc:creator>
  <dc:description/>
  <dc:language>en-US</dc:language>
  <cp:lastModifiedBy>Drozdova T I</cp:lastModifiedBy>
  <dcterms:modified xsi:type="dcterms:W3CDTF">2011-11-29T13:02:50Z</dcterms:modified>
  <cp:revision>41</cp:revision>
  <dc:subject/>
  <dc:title>Развитие просодической стороны речи  у детей</dc:title>
</cp:coreProperties>
</file>