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731-0DE2-4DBF-BA69-668C23E0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296-3A52-47EB-95CD-255D49F6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64F-5C18-48C4-831F-8647C0B6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39D-7480-48B8-82F2-C954769A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A42-E8BF-4B3E-9D07-932C2ECD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58DE-6DA1-40F1-A0A5-61A71FDD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0F5-1566-4CA7-9557-4108CFAD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104-239D-4262-AE40-4B263168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0D2F-1713-4BEF-A298-255E3BBD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B64-2545-40EB-B179-ED019D40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F16-FD77-4858-B3EB-B34B9B81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739-45F1-4C67-BAA8-F041A870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A789-A136-49FC-B067-9E710A03C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Книжки\Логопедия\1доделать\Новая папка\foni doc\фон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8280" y="1371240"/>
            <a:ext cx="6477120" cy="32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учителя-логопеда в группах компенсирующей направленности над просодической стороной реч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ение в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114300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фонетическое выделение слога из какого-либо слова, осуществляемое при напряжении органов фонации и речи. Слог, на который оно падает, будет ударным. Оно выполняет различные функции в русском языке. Оно является не последним средством при образовании форм слов либо самих с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ое удар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1294920"/>
            <a:ext cx="7848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ое удар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иболее существенное выделение слова, с точки зрения ситуации речи, средство передачи смысловых отношений между словами. К.С. Станиславский называл логическое ударение «указательным пальцем», отмечающим самое главное слово в предлож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12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ика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ыразительные движения мышц лица, являющиеся одной из форм проявления тех или иных чувств человека. Мимика позволяет нам лучше понять оппонента, разобраться, какие чувства он испытывает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участвующего в беседе, с одной стороны, важно уметь «расшифро-вывать»,«понимать мимику» собеседника. С другой стороны, необходимо знать, в какой степени он сам владеет мимикой, насколько она выразитель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развитию просодических компонентов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бальные тренин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1760" y="2174400"/>
            <a:ext cx="38098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ритмические минут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ленные стих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рифм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паузой, насыщенной речевым содержан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развитию высоты голоса и речевого дых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интонаци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рбальные тренин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формированию мелкой моторик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ритмом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развитием мими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7"/>
          <p:cNvSpPr/>
          <p:nvPr/>
        </p:nvSpPr>
        <p:spPr>
          <a:xfrm flipH="1">
            <a:off x="4570560" y="1601640"/>
            <a:ext cx="2880" cy="4724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ритмические мину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живешь? – Вот т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лывешь? – Вот т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бежишь? – Вот т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ты спишь? – Вот т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ешь обед? – Вот т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ль глядишь? – Вот т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ешь в след? – Вот та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шалишь? –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ритм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040" y="1371240"/>
            <a:ext cx="3352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-//-/-//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-//-///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-///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-//-/-/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/-/-//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– 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- 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 – ПА – 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 – па – п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 – па - 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развитием ми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219320"/>
            <a:ext cx="83818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перед зеркал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Удивилки" - поднять бров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оразилки" - поднять брови, открыть ро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Улыбалки" - улыбнуться, показав зубки, и с закрытым рт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Хмурилки" - нахмурить бров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ердилки" - нахмурить брови, надуть щек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Огорчалки" - нахмурить брови, опустить кончики рта вниз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рифм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95280" y="16002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лез на коня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ржусь руками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 на меня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ехал к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ий бычок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женький бочок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жками ступает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ой 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егодня утром ра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ывался 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в кармаш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и  и 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евого дыхания и голос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: «Эхо», «Дует ветер»,  «Лесен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емп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-еле, еле-еле - - -(медленны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телись карусели. - - -(медленны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, потом, потом - - -(средни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бегом, бегом, бегом! - - -(быстры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быстрей, быстрей, бегом, - - -(очень быстры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усель кругом, кругом! - - -(очень быстры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ше, тише, не спешите - - -(средни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усель остановите. - - -(средни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, два, раз, два - - -(медленный темп)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и кончилась игра. - - -(медленный тем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носить с убыстрением или замедлением темпа названия времен года, месяцев (зимних, весенних ...), дней недели, чисел от 1 до 10 и обратно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од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ложный комплекс элементов, включающий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и понижение тон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корение и замедление темп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ические характеристик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новку логических ударений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гкую атаку голоса и сил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ь звуч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вный речевой выдо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сть дикци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онацию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бровую окрас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всех этих качеств наша речь превратилась бы в речь робо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интонационной выразительност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к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завета, здравствуй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чего идут дела, голова пока ц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ын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ни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рсти клок — ободрали правый бок, хвост отгрызли в драк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с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дела, зубастый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ты был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Что купил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Сколько взял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Кто отгрыз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914400" y="762120"/>
            <a:ext cx="77724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вуке голоса, в глазах и во всем облике говорящего заключено не меньше красноречия, чем в выборе сл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суа де Ларошфу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онационная выразитель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380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онация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явление сложное, целостное. В ней выделяются следующие компоненты: сила голоса (громкость, логическое ударение), пауза, темп и ритм (темпоритм), мелодика, эмоциональный тон, тембр. Именно интонация фактически организует устную речь в целом, в том числе и чтение. С ее помощью предложениям придается значение вопроса, побуждения, просьбы, сообщения. Интонация позволяет передать эмоционально смысловые оттенки текста, выражая состояние, настроение автора (грусть, тревогу, радость...), его отношение к описываемому (ирония, уважение, гордость...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95400" indent="380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дых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ыхание в процессе речи. Речевое дыхание непосредственно сопровождает процесс порождения речи, являясь основой голосообразования, формирования звуков, мелод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дыхание отличается от обычного дыхания: более быстрым вдохом и замедленным выдохом значительным увеличением дыхательного объема преимущественно ротовым типом дыхания максимальным расхождением голосовых складок на вдохе и сближением их почти до соприкосновения на выдох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3326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цией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нимается четкое, ясное и отчетливое произношение всех звуков родного языка с правильной их артикуляцией при четком и внятном произнесении слов и фраз. Четкое и ясное произнесении слов обеспечивается за счет правильной артикуляции каждого звука, и, прежде всего, умения в процессе речи свободно и достаточно широко открывать рот, ибо при плохо открываемом рте звуки произносятся как бы сквозь зуб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3808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36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 реч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действенное средство ее художественной выразительности. Использование разнообразных оттенков придает речи особую динамику, живость, богатство выразительного звучания. Если произносимая речь будет иметь один и тот же равномерно звучащий темп, она поблекнет, станет безжизнен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ют равномерное чередование ускорения и замедления, напряжения и ослабления, долготы и краткости речи. Наиболее ощутимо выражение ритма в стихотворной речи, особенно при чередовании ударных и безударных слогов в определенном порядке, через соизмеримые промежутки времени. Ритм ощущается только в единстве с содержанием. Он переплетается с интонационным строением стих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голо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72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голоса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его громкость, зависящая от активности работы органов дыхания и речи. Человек должен уметь варьировать силу голоса в зависимости от условий коммуникации. Поэтому одинаково необходимо умение говорить как громко, так и тихо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4572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Книжки\Логопедия\яРазное (картинки, оформление)\фотошоп\п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голо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294920"/>
            <a:ext cx="76960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голос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его способность к тональным изменениям, то есть его диапазон. Для обычного голоса характерен диапазон в полторы октавы, однако в бытовой речи человек чаще всего использует лишь 3-4 ноты. Расширение диапазона делает речь выразительн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3:39:03Z</dcterms:created>
  <dc:creator>Лена</dc:creator>
  <dc:description/>
  <dc:language>en-US</dc:language>
  <cp:lastModifiedBy>Drozdova T I</cp:lastModifiedBy>
  <dcterms:modified xsi:type="dcterms:W3CDTF">2011-11-29T13:02:50Z</dcterms:modified>
  <cp:revision>41</cp:revision>
  <dc:subject/>
  <dc:title>Развитие просодической стороны речи  у детей</dc:title>
</cp:coreProperties>
</file>