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9C8-53D6-4D57-ACB7-E146ABC0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506-7631-4C8C-A434-85B8E011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2DA0B-13F5-4982-A44E-A8041B56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5590D-FD73-4613-BA3E-AAD17BC6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47FB9-D714-4F6C-939A-4192F381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8244E-7754-479E-93C4-9E86B969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D37D6-8EF7-40AF-9E06-71226C11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1C387-DCB7-4ACB-B40A-FDA0BD85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02B32-A701-4CAE-8519-584BBF74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C10F2-F63F-485F-84EF-80AF14C5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C888A-EDA4-44BB-9047-C4E09A51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8C080-F1D0-4730-9935-6FB58FAC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CFE-0F49-4C9C-B78C-BB7CB5D4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C2058-4104-4C16-A687-BB40314E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B41FC-D0F6-46E6-BFC2-544107E0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348CF-3390-4D81-AC05-832A0CB5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03360-F288-4581-B254-0D5413E2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43A00-29E9-4F44-8D16-4F69AAF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FBF62-FDBB-42EF-808E-0E2ADCED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CCDE5-E399-47B2-928C-9C7AFAB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932E6-649B-4A11-BD5C-93E5266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2CA1F-2706-4349-8C5E-2FC3D95D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73E28-F114-4052-9535-DC4DF3AA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8E6-F656-4BDE-82B0-8BA31ABE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E8613-BDE9-48C6-B48A-A413342A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14F358-989A-4813-8529-F2EE32A5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8CACC3-6BE8-471B-9859-1AF2BA3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765483-26CF-4B48-A5B8-02FE9077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85D3DF-D4FB-4DF9-B24D-C9E9E533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7511A6-6BC6-4AB6-8000-5FDBB7F5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FCAE1D-907F-4D93-909B-CF685CE0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9BF2E7-8018-4ECC-B194-39085A21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7EEE74-7EB8-4306-904B-C478DA96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44640D-9A49-40FE-920C-36843666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4599-CC8B-4FE7-BDA4-6BFC92DA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1ADBB4-E8B7-4706-B01C-B7E2DD3D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2E581C-09D4-406E-B449-449C0399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F72DDC-0B49-4CC0-98C6-6096FEA4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7CDB5-4962-4DBE-98AA-C74E4D7A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16AD0-615B-46B8-A972-61D4C744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7737C-C8A3-407F-8D3D-7FAF8AF5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E9D22-5294-4858-BE99-22E84811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99152-31A4-481B-91BF-AD2CA9A2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3073D-1AF9-4EFB-B75C-5155B4D4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B5894-BA72-48BB-92C1-27EA349A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5F4C-AD4F-4C3C-BA4C-5ADE1378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A3F99-FBA8-4045-B87D-7DC5898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9DDEB-2E74-4687-BBD6-D5EB262B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FD25C-3DD6-4004-ABA6-5043A5AE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2A660-3B39-4018-9C70-CAF775E9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8E432-6B15-4D38-9248-AAC120E3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76AF-5E5F-4A66-BC08-BFDE187B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B4E5-E9DD-400A-8657-73B0C7F1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164F-AF7E-42B9-975A-67124E47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C3B5-D8B6-44AE-A106-46523D42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C407-097D-42A6-95AA-4932BFEB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96B-0B00-4613-A399-AA1FE657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D079-9251-4FD7-B348-194C76E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D359-C40A-4CEA-8AD7-0E48C16C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B622-AC61-43E2-B300-9C21A778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4ED8-A579-4A50-A6C9-C3AB8233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B567-B3E5-4570-B471-CF0CBBDA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722CC-4EC4-4105-A21B-4B7468A5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0B1CE-C945-4760-A189-D129B07D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C44D-C085-4871-81B8-09CEBC8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6882-C7AA-4D7E-98F3-1DA55FEA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51C8-3909-4D5E-A5C8-811D3220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332-639A-42A5-AE33-FC81287A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E179-3CA1-4BC6-8E9C-7D690E24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EBA3-3AAD-4AB0-B806-64488A69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16A8-1983-4AC7-B43E-2C6FC14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4B75-88D4-42D5-9213-C47A5757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A2AE-AEE8-421B-83F0-B045BE16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4146-2DE0-44BA-8DD8-7F7B1EA5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90F7-3414-42B8-8D22-3B11BF23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0243-15A5-41E9-A55D-2EB7BDFA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FD14A-EB55-4320-8D9C-40395BE7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1B5E-5B13-4278-A77E-8712336E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0D1-EEA0-4338-88AB-98B98766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18267-370B-4EAF-928A-DA47BACB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BE3C-3A74-4946-BC7F-E6410861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475BD-4419-42E5-B712-F918FAB7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A68F5-A9FE-4968-BFC4-08B5CFC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04BF2-7DE9-4C1D-8357-52DEE2C4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A04E0-1662-4EAC-B2F2-C656490F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8D875-47D4-479E-B252-A3130D40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350F2-ECD5-4EE7-8A50-EC4E1215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5387-D215-4107-907E-62A1C265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A9F03-E1FC-4CB5-900B-36C1D76B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9E7-8B4E-4A96-9A8B-C5BD9611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07D0-0042-43F5-AD66-9C33370C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C1F4A-C92B-481D-8BF1-27410F9E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821BB-2B3B-42ED-AEE6-07EBF891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501E1-9F9F-4E87-B54F-3E879655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E133C-E559-4C51-B77D-1A10A157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3D10A-28C9-40BB-856E-B37B7251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95E4D-B178-49BB-A5B2-096C22B9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B447-8DCF-49E6-9C5D-B9B1665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F9461-CD61-4066-9D73-D9C5AFE0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A1C2F-11E6-4CF1-ACA5-E3D918F4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D84-821E-4214-9DE6-057ACDFF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72E7-1F7C-4C66-A718-2E2DBA3A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6074F-89A1-46ED-A816-1AB2ADDF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5F97-B857-405C-8072-80BE6908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08FDB-02C7-41FD-A2B5-49F8C20B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2651-6B37-4E38-9885-3AE0DD36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A8A91-924E-4173-BBD5-14F2ECE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A43E2-A355-4577-BC4A-821A888A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7D1BE-96CF-4926-B37B-C6463733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FCA3-6839-4ED5-87F7-4FF91420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177B4-E91C-4453-9F1E-6B37C76A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13F-7D1F-4F91-A6B7-A84A0533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D81F-E47D-405C-B8C4-BBDBFD62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5C1D4-7AAA-4260-AFD3-746B9ED9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EBCC8-6C00-422B-9D40-C86B0BEF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B3E52-035D-4B70-A639-2AACBA78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73420-E56F-4BEF-942F-6A25726C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3BC29-AC7F-4A6D-B6CA-553D2C2F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C1A38-F537-40E7-9172-174245B4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F88D-B352-4E47-BD4A-77519455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DAF93-8008-46E8-A791-FFBDC0E6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940ED-F69F-4B58-82E1-93234092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4446-1A7D-4130-B6D2-C010E8AD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EFFCF-5B3B-4A29-8EDC-B0630E93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CBE60-BC15-49E3-B9B7-4E65FCE6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11E8C-B3D3-46AA-9427-D3382548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F191B-90C3-41D1-A035-124B7EF7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9DDDC-958D-4D86-AC0F-74570B68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617604-2276-44E8-86DA-CEF9897D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5FEA8C-489D-4046-93EC-08C48DC0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3A7B04-A8C5-41B2-97D9-D4C0C088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B7D8A0-92F4-4D53-B2FF-FD2FF041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84450-EEFF-4B64-BF72-8A2B1CFE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5D0-E38D-46D1-AF8E-F8880426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D5B8FF-47EE-4319-A733-1BBB15DF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EB9E4D-F175-4DB7-A156-48C5FDD7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E7B2D7-D669-4A74-9148-ADEF2CA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EFE896-387D-4C4B-BA61-701A90CF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0BD729-31EF-4F24-8A88-6C57CB12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D6819B-9481-4180-BED2-51EB17E4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9006D-DB6B-4434-81EE-98063406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B72B5-7A04-41AE-ADAF-661DB045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87F81-C53B-4421-ADD1-A7B701AF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D3FD3-5914-411C-8144-06ADFEF5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AB74-37C8-4F17-9D7A-36FFBACE0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59F-08D7-42DD-93B5-1F110188DD6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10C-0544-40EE-A45E-719089507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963B-A52A-4AD2-BEE9-E2815A4F06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56BE-C6D5-44F7-9680-A3ADF02ADE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3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7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14C1-2A4D-42EE-BDDC-E31C19860D1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ABE8-71BD-4E14-81F9-1BFD4D596D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F510-3269-4CFB-B25B-0950DEC2B4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705F-FC8B-4ABE-B0DF-AEB55C1E3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0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03CB-77FC-44DF-B397-F1BAD81769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50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54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5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3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DE74-02DA-4EBB-A08E-BD62466A8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1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15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1710-9FCB-46B5-9D24-7474BB2E565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6600"/>
                </a:solidFill>
                <a:latin typeface="Arial"/>
              </a:rPr>
              <a:t>ТЕМА: Влажно-тепловые работ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178920" y="2491920"/>
            <a:ext cx="871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00"/>
                </a:solidFill>
                <a:uFillTx/>
                <a:latin typeface="Arial"/>
              </a:rPr>
              <a:t>ЦЕЛЬ</a:t>
            </a:r>
            <a:r>
              <a:rPr b="0" lang="ru-RU" sz="3600" spc="-1" strike="noStrike">
                <a:solidFill>
                  <a:srgbClr val="009900"/>
                </a:solidFill>
                <a:latin typeface="Arial"/>
              </a:rPr>
              <a:t>: Ознакомить с организацией         рабочего места и правилами техники безопасности; научить терминологии влажно-тепловых работ; развивать      внимательность и наблюдательность в работе; воспитывать культуру т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1619280" y="4762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"/>
              </a:rPr>
              <a:t>ЗАКРЕПЛ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179280" y="2133720"/>
            <a:ext cx="89647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приёмы безопасной работы следует соблюдать при выполнении влажно-тепловой обработ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требования предъявляются к выполнению В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производят декатировку тка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4"/>
          <p:cNvSpPr/>
          <p:nvPr/>
        </p:nvSpPr>
        <p:spPr>
          <a:xfrm>
            <a:off x="250920" y="907920"/>
            <a:ext cx="83930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Я, не хвастая скаж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сех друзей омолож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Идут ко мне унылы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С морщинками и склад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Уходят очень мил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есёлые и гладк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Значит я надёжный друг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Электрический утю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5"/>
          <p:cNvSpPr/>
          <p:nvPr/>
        </p:nvSpPr>
        <p:spPr>
          <a:xfrm>
            <a:off x="642960" y="714240"/>
            <a:ext cx="81439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Влажно-тепловая обработка (ВТО) швейных изделий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работы, предназначенные для придания формы деталям или издел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жно – тепловая обработка может бы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и процесс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отделочно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кончательн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роутюжиль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большой отрез хлопчатобумажной или льняной ткани, предохраняющий обрабатываемую деталь или изделие от дефектов (опала) В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з истории утюг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евние времена до появления утюгов пользовались деревянным прессом для распрямления ткани после стирки. Затем появилась деревянная каталка, на которую наматывали белье, потом раскатывали по доске несколько р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708360" y="404640"/>
            <a:ext cx="53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стали применять деревянную утюжильную машину. Она приводилась в действие зубчатым колесом или конным воротом и имела деревянные валики, двигающиеся по доске.                                                                                                                                                                          Первый утюг появился в нача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Он представлял собой большой, тяжелый корпус, сделанный из латуни, стали или чугуна, с широкой отполированной нижней поверхностью и деревянной ручкой. Нагревали такие утюги на плите, или раскаленным железом, либо уг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i?id=25236460&amp;tov=4"/>
          <p:cNvPicPr/>
          <p:nvPr/>
        </p:nvPicPr>
        <p:blipFill>
          <a:blip r:embed="rId1"/>
          <a:stretch/>
        </p:blipFill>
        <p:spPr>
          <a:xfrm>
            <a:off x="0" y="0"/>
            <a:ext cx="3425760" cy="40766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7" descr="i?id=15312740&amp;tov=2"/>
          <p:cNvPicPr/>
          <p:nvPr/>
        </p:nvPicPr>
        <p:blipFill>
          <a:blip r:embed="rId2"/>
          <a:stretch/>
        </p:blipFill>
        <p:spPr>
          <a:xfrm>
            <a:off x="0" y="4092480"/>
            <a:ext cx="3457440" cy="2765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5"/>
          <p:cNvSpPr/>
          <p:nvPr/>
        </p:nvSpPr>
        <p:spPr>
          <a:xfrm>
            <a:off x="2771640" y="0"/>
            <a:ext cx="6193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тяжении трех последующих веков конструкция утюга менялась незначительно, улучшалось качество и возрастала скорость в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– создание электрического утюга, обязательным элементом которого стал терморегулятор. Затем стали стали применять устройства для увлажнения тканей, а чугунную подошву сменила алюминиевая или с антипригарным покрытием. Ручки стили изготавливать из жаростойких пластм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502000" cy="2879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2520720" cy="18892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8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2498760" cy="30434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" descr=""/>
          <p:cNvPicPr/>
          <p:nvPr/>
        </p:nvPicPr>
        <p:blipFill>
          <a:blip r:embed="rId4"/>
          <a:stretch/>
        </p:blipFill>
        <p:spPr>
          <a:xfrm>
            <a:off x="6659640" y="4737240"/>
            <a:ext cx="2327040" cy="2120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ребования к выполнению влажно-тепловой обработк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Положение терморегулятора установить в соответствии с видом обрабатываемой тка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Начиная утюжить, следует проверить, чистый ли утюг, не перегрелся ли 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После выполнения каждой машинной операции обрабатываемый участок изделия надо увлажнить и приутюжить до полного высых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Изделие утюжат справа на лево, по направлению долевой ни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Tahoma"/>
              </a:rPr>
              <a:t>Отутюженное изделие надо оставить на некоторое время в расправленном или подвешенном вид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7" descr="J0189237"/>
          <p:cNvPicPr/>
          <p:nvPr/>
        </p:nvPicPr>
        <p:blipFill>
          <a:blip r:embed="rId1"/>
          <a:stretch/>
        </p:blipFill>
        <p:spPr>
          <a:xfrm>
            <a:off x="0" y="0"/>
            <a:ext cx="1908000" cy="1363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0" y="2610000"/>
            <a:ext cx="3240000" cy="4248000"/>
          </a:xfrm>
          <a:prstGeom prst="rect">
            <a:avLst/>
          </a:prstGeom>
          <a:ln w="0">
            <a:noFill/>
          </a:ln>
        </p:spPr>
      </p:pic>
      <p:sp>
        <p:nvSpPr>
          <p:cNvPr id="633" name="WordArt 5"/>
          <p:cNvSpPr txBox="1"/>
          <p:nvPr/>
        </p:nvSpPr>
        <p:spPr>
          <a:xfrm>
            <a:off x="468360" y="189000"/>
            <a:ext cx="8280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60000"/>
                    </a:gs>
                    <a:gs pos="50000">
                      <a:srgbClr val="ff0000"/>
                    </a:gs>
                    <a:gs pos="100000">
                      <a:srgbClr val="76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ИЛА ТЕХНИКИ БЕЗОПАСНОСТ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760000"/>
                  </a:gs>
                  <a:gs pos="50000">
                    <a:srgbClr val="ff0000"/>
                  </a:gs>
                  <a:gs pos="100000">
                    <a:srgbClr val="76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3492360" y="1052640"/>
            <a:ext cx="565164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еред работой утюгом проверить  исправность шн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ключать и выключать утюг сухими руками, берясь за корпус ви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тавить утюг на подста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ледить за тем, чтобы подошва утюга не касалась шн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ыполнять влажно-тепловую обработку стоя на резиновом ковр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 окончании работы утюг обязательно   выключать и ставить на огнеупорную подста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4"/>
          <p:cNvSpPr/>
          <p:nvPr/>
        </p:nvSpPr>
        <p:spPr>
          <a:xfrm>
            <a:off x="2771640" y="260280"/>
            <a:ext cx="63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2771640" y="1484280"/>
            <a:ext cx="5761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накомство с терминологией, применяемой при выполнении влажно-тепловы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лажно-тепловая обработка изготовленных образцов ш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28:46Z</dcterms:created>
  <dc:creator>User</dc:creator>
  <dc:description/>
  <dc:language>en-US</dc:language>
  <cp:lastModifiedBy>user</cp:lastModifiedBy>
  <dcterms:modified xsi:type="dcterms:W3CDTF">2013-04-22T02:14:44Z</dcterms:modified>
  <cp:revision>45</cp:revision>
  <dc:subject/>
  <dc:title>ТЕМА: Влажно-тепловая обработка.</dc:title>
</cp:coreProperties>
</file>