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859-9FB8-47C1-98E8-AD260280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22B-D0B0-45D7-BD37-23244A2C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01BB8-0E0D-47BB-B3FC-1F37536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B94B6-F62C-4CB6-83B6-27E807A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6AFC-135B-4222-AD25-45A3A9F8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E4E4-B009-4B35-ACB6-7851413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E1AC-88A6-4E14-9559-95FCD32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86AA-A39A-4531-BFFB-75C1412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D951C-76B0-4BA6-88D3-49009616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0B019-866B-42C9-B90C-9E5B8D46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05720-A5B0-4159-9EFC-C3A78090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544EB-7623-40DB-A5A8-4E17E7E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1BA-8FC5-4C8D-A63E-7B3FC6A3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4BD50-9374-4B31-9B9E-8467CCE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69C8A-CD9A-40EF-A78A-46D41A8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48CBC-6179-48B2-A9D5-DBF69062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6B05-0FFE-4729-88F1-4307CC9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49A0D-6AB8-4D54-8FA7-908AA16A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CF6C0-9CB2-41C0-97E1-02B49A52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15528-0C76-4FA2-A2C2-AF63CE3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B8CDA-0318-4338-B1D1-0A646D4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9B188-5410-4D9A-A4A8-9F13F57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6D8AB-88EC-4161-A0C2-FA0E8177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6F3-FB5A-4502-8C35-1BC9E6BE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90E1-D657-43C4-94A0-0D7730C3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D40807-44D8-46C9-A3DE-9A1B715B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C1A7A-DD67-4E2E-9B02-733965B3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20B28-3470-432D-A3F8-AC996D93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EE339E-6BA5-4136-97A7-3CDEE12B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B7B961-97CB-43FF-A29D-6B7AE90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728147-E1E4-4ADA-B922-8016E34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F3315B-8614-40D2-98A0-A64CBCC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21489C-C1D2-4341-9B2F-195D923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70E65-852F-45E6-84C7-7CA21AF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5A1-93D3-472E-A2B7-616F01CD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E23959-49DB-4247-BD3B-CFD50BF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BC791B-6D3F-4C50-830C-B0FB6B7D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CCA5AF-9651-4A73-BBCA-4495C975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8F13F-5212-4252-8EC3-AD74C21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E787A-DE11-4A3A-A4D1-E6D7E00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F0BA1-21BF-4220-8AC7-B91B2B6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A816-19E3-4E9F-84B1-B7A9EBD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BDAEC-A497-4B54-BBD4-C0D5135E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41779-8E0B-4BD9-B670-63E72D6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B7DB9-956F-4659-AB2C-6034740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E75-627A-48B5-B151-91B57CE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E2413-930F-44BB-9B07-E5ED987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BA4E1-4499-4C01-A46F-6F56C18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9BAD9-D07C-411E-B9D5-2F84681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3A7CC-825D-419E-80B1-636B55A5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22A28-00A6-4DA9-8A14-C2A501E7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E67-86F2-4853-B7FD-DF914E85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525-9823-4D9C-863F-AC1A675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46A-9932-4341-9707-CE48B6E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F15-9373-4AE5-85AF-2F6D833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F619-1E4D-4789-B499-4B9FED1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26A-0CF3-461F-9651-030C56C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9C6-31AF-4497-AF87-C8E8F9D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93F-566F-4D7F-90AF-8045963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6225-49B1-4689-A1E7-6ED701F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D71-BCD7-45E2-9945-01BC02C7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4A50-21E9-45CA-90EC-A308D289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51A8-49CF-4BD1-8C3C-FF7310BF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F79B-1A82-4943-BED0-1A7ABBF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C12F-63DD-448C-9647-9355CCFC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E148-00E2-4A78-A5BF-D7EC810D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5DCE-A12C-4490-BC94-2DF43C8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D5E-62F2-48EF-B4BA-768265C5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AE2C-8B10-4C46-8ABF-6D8C290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5B0E-4A72-40E2-A0F7-FF47F2A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EBB7-6891-4E98-8140-6C8C76F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5101-A394-4940-ABC2-71F8BFF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7D51-213E-4E00-A4B8-680519A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9D54-41F8-4E46-A579-CC5F6086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88E4-099C-4F26-9016-EFEC4898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E401-5691-4B3F-B799-B2F743D1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0AB2-1385-4320-BFD9-2A31A820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9235-2713-44FB-9111-62B670C3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4A4-6EC9-44AF-890B-AF7D802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B1A2-CB70-48D8-A558-349A02AC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2C44-4117-4704-B93F-84DCB3CC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B1CB-A6E4-496A-8D3B-46F43E64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BE57-4EE2-45C5-8457-59AF457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3D88-4484-4035-AE76-11155DB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52AA-F66D-435E-B492-E192ABE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07F7-F19C-497D-86DB-0DACF02F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3F93-7178-4D7A-BC6C-E6C81659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34DA-DF32-4658-BE0F-00DBF027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EEE0-1508-4DCF-B2F5-EFE715D1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721-ED3F-4BE2-8A90-67703E4D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3200-B052-4CF5-BFA9-77E0F9FA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641C-4B2C-4101-A5AC-1744EA0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38B6-40B9-4B71-9C3B-906FAAE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02F5-0657-4E7A-90F1-11DC772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8DB14-43A1-4F60-8305-FD07F28A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94BE-470A-4E43-9C8F-790D73E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84D6-7C78-4D8C-8B4E-9386046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DD7E-7079-497A-A0EE-75C1450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F561-851F-41FB-A011-B854B375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61C3-3D1C-4D1F-BF14-7C22582D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7AA-3D8E-44DC-A31E-996AD57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9AE6-A070-457D-8BFD-E7119855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3176-54F3-4B53-B81A-AC0E80AC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FAC4-CE11-4007-BAD4-2BE5D50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4282-8BB6-446A-AD3C-A6815C2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74D3-F6F3-49CE-9B3E-972746B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0441-27A2-4F01-89A9-02E9579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38CA-F95B-4421-A5FE-E5A09F9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E0F1-303E-448E-B2F3-54C2F33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8901-B0B5-464E-A016-BFDAF9EA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E534-2B05-4AD1-85BE-5DB8B4E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631-71F2-4620-80D3-B6470E6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032E-7BDE-4E61-A25E-341329B4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CC4C-EA33-43F0-80EC-79DB447C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47B0-E579-4027-9C70-0753E4CC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0C98-491C-4267-81EA-B897376D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7402-A5D0-4246-9B0E-D9B1AE5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9572-ADF4-417D-B37C-69590E0C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3FD0-1807-4DEC-887C-258392E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C8C14-6E2F-4044-9EB1-B17316B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4BDF-C756-474A-B9D4-B3FC2051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D4BD-D62E-466D-963A-3FB4BA4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223-5EC8-4EFE-9A56-F9D68AD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1F8B-A44A-49A1-ACED-46A02AA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21F2-5604-459A-AA7B-89A379F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AA24F-76C1-477E-AEDE-EA68E94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53EC-8C3B-4B3D-AB19-0F410D4B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A2EC7-A56C-4E6D-AA88-E1CFB6DF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55BDD-3EB5-4C7C-A89E-3F086483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39EEA-5916-495D-8C2F-19C6BD81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B51ED-B65F-4F4A-A52D-FD47004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52E97-2192-4B76-9BF9-06AF1EB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9DBCB-334B-4ED0-9A3D-620040E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0D2-D5B4-4762-9A80-12A71AC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A1E77-EC6D-480E-AA22-C0A0E30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F216D-DDAF-4CDD-92E3-9808DE3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50FDE-69D8-4FAA-A705-FCAFFE3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DE7AF-9DC7-4CAA-A8AE-8DEC256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DB034-B3B5-43BF-A8C5-8571079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31372-148B-4078-A628-4BE164F6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42CCB-5FE4-4613-B033-23DB3193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CD55E-4066-4CAF-A3D6-4EF9AB84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CAEE6-E18E-4B8E-8BAA-DCCAD8D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261B5-8B1A-4691-919C-1F142B7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3AB-77DD-4D51-88BF-321A57B2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E89-AB75-4CCF-ABBB-07E58C6579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E857-26AF-44DD-9FFD-0568D2AF3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EB43-2E91-4941-AF7D-4FE95AD569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ACFF-B785-4391-BDE0-12EABB043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3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7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D3E-5418-487C-8B3B-6554D2C0ED6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56B-756A-44B0-94F9-E33A6C4473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611-76B3-4F2D-B126-53B279527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2B7-1C6B-4AD0-AB76-7B4707C78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CDF-6E44-4260-A692-DA8F3E99E8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0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54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5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A5A8-9A21-422E-800D-7AF7F53DA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1CA-04A9-4B82-8EAD-FCFA95259C4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ТЕМА: Влажно-тепловые рабо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78920" y="2491920"/>
            <a:ext cx="871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00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: Ознакомить с организацией         рабочего места и правилами техники безопасности; научить терминологии влажно-тепловых работ; развивать      внимательность и наблюдательность в работе; воспитывать культуру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1619280" y="476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ЗАКРЕП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79280" y="2133720"/>
            <a:ext cx="896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ёмы безопасной работы следует соблюдать при выполнении влажно-тепловой обрабо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требования предъявляются к выполнению В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производят декатировку тка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250920" y="907920"/>
            <a:ext cx="83930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Я, не хвастая с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сех друзей омоло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дут ко мне унылы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 морщинками и склад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ходят очень мил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есёлые и глад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Значит я надёжный дру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лектрический утю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5"/>
          <p:cNvSpPr/>
          <p:nvPr/>
        </p:nvSpPr>
        <p:spPr>
          <a:xfrm>
            <a:off x="642960" y="714240"/>
            <a:ext cx="81439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Влажно-тепловая обработка (ВТО) швейных изделий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работы, предназначенные для придания формы деталям или издел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жно – тепловая обработка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 процесс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тделочн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кончательн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утюжиль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большой отрез хлопчатобумажной или льняной ткани, предохраняющий обрабатываемую деталь или изделие от дефектов (опала) В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 истории утюг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евние времена до появления утюгов пользовались деревянным прессом для распрямления ткани после стирки. Затем появилась деревянная каталка, на которую наматывали белье, потом раскатывали по доске нескольк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708360" y="404640"/>
            <a:ext cx="53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стали применять деревянную утюжильную машину. Она приводилась в действие зубчатым колесом или конным воротом и имела деревянные валики, двигающиеся по доске.                                                                                                                                                                          Первый утюг появилс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Он представлял собой большой, тяжелый корпус, сделанный из латуни, стали или чугуна, с широкой отполированной нижней поверхностью и деревянной ручкой. Нагревали такие утюги на плите, или раскаленным железом, либо уг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i?id=25236460&amp;tov=4"/>
          <p:cNvPicPr/>
          <p:nvPr/>
        </p:nvPicPr>
        <p:blipFill>
          <a:blip r:embed="rId1"/>
          <a:stretch/>
        </p:blipFill>
        <p:spPr>
          <a:xfrm>
            <a:off x="0" y="0"/>
            <a:ext cx="3425760" cy="4076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i?id=15312740&amp;tov=2"/>
          <p:cNvPicPr/>
          <p:nvPr/>
        </p:nvPicPr>
        <p:blipFill>
          <a:blip r:embed="rId2"/>
          <a:stretch/>
        </p:blipFill>
        <p:spPr>
          <a:xfrm>
            <a:off x="0" y="4092480"/>
            <a:ext cx="3457440" cy="2765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5"/>
          <p:cNvSpPr/>
          <p:nvPr/>
        </p:nvSpPr>
        <p:spPr>
          <a:xfrm>
            <a:off x="2771640" y="0"/>
            <a:ext cx="6193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трех последующих веков конструкция утюга менялась незначительно, улучшалось качество и возрастала скорость в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– создание электрического утюга, обязательным элементом которого стал терморегулятор. Затем стали стали применять устройства для увлажнения тканей, а чугунную подошву сменила алюминиевая или с антипригарным покрытием. Ручки стили изготавливать из жаростойких пласт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502000" cy="2879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498760" cy="30434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"/>
          <p:cNvPicPr/>
          <p:nvPr/>
        </p:nvPicPr>
        <p:blipFill>
          <a:blip r:embed="rId4"/>
          <a:stretch/>
        </p:blipFill>
        <p:spPr>
          <a:xfrm>
            <a:off x="6659640" y="4737240"/>
            <a:ext cx="2327040" cy="2120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ребования к выполнению влажно-тепловой обработк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Положение терморегулятора установить в соответствии с видом обрабатываем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Начиная утюжить, следует проверить, чистый ли утюг, не перегрелся ли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После выполнения каждой машинной операции обрабатываемый участок изделия надо увлажнить и приутюжить до полного высых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Изделие утюжат справа на лево, по направлению долевой ни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Отутюженное изделие надо оставить на некоторое время в расправленном или подвешенном ви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7" descr="J0189237"/>
          <p:cNvPicPr/>
          <p:nvPr/>
        </p:nvPicPr>
        <p:blipFill>
          <a:blip r:embed="rId1"/>
          <a:stretch/>
        </p:blipFill>
        <p:spPr>
          <a:xfrm>
            <a:off x="0" y="0"/>
            <a:ext cx="1908000" cy="1363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0" y="2610000"/>
            <a:ext cx="3240000" cy="4248000"/>
          </a:xfrm>
          <a:prstGeom prst="rect">
            <a:avLst/>
          </a:prstGeom>
          <a:ln w="0">
            <a:noFill/>
          </a:ln>
        </p:spPr>
      </p:pic>
      <p:sp>
        <p:nvSpPr>
          <p:cNvPr id="633" name="WordArt 5"/>
          <p:cNvSpPr txBox="1"/>
          <p:nvPr/>
        </p:nvSpPr>
        <p:spPr>
          <a:xfrm>
            <a:off x="468360" y="189000"/>
            <a:ext cx="828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ТЕХНИКИ БЕЗОПАС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492360" y="1052640"/>
            <a:ext cx="565164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ед работой утюгом проверить  исправность шн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ключать и выключать утюг сухими руками, берясь за корпус в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вить утюг на под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едить за тем, чтобы подошва утюга не касалась шн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полнять влажно-тепловую обработку стоя на резиновом ков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 окончании работы утюг обязательно   выключать и ставить на огнеупорную под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4"/>
          <p:cNvSpPr/>
          <p:nvPr/>
        </p:nvSpPr>
        <p:spPr>
          <a:xfrm>
            <a:off x="2771640" y="260280"/>
            <a:ext cx="63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2771640" y="1484280"/>
            <a:ext cx="5761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комство с терминологией, применяемой при выполнении влажно-теплов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ажно-тепловая обработка изготовленных образцов ш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28:46Z</dcterms:created>
  <dc:creator>User</dc:creator>
  <dc:description/>
  <dc:language>en-US</dc:language>
  <cp:lastModifiedBy>user</cp:lastModifiedBy>
  <dcterms:modified xsi:type="dcterms:W3CDTF">2013-04-22T02:14:44Z</dcterms:modified>
  <cp:revision>45</cp:revision>
  <dc:subject/>
  <dc:title>ТЕМА: Влажно-тепловая обработка.</dc:title>
</cp:coreProperties>
</file>