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368-5029-41A8-9F60-D7723B08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8EB-0130-4F85-9207-81370CB0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4A0-AD9A-4B0C-AACC-81DADBF6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926-EDE7-40BC-A311-AEB931B7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62BD-B2FE-4508-B909-AA68495F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F29E-3578-4144-87FC-7AC1E749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8123-B778-486F-9477-A65E0CD5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0835-F8C0-422D-889C-C7B6639E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8369-8122-4000-9278-5E4F076A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2ED5-1682-4916-801C-5F164CDF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E0B7-FDD3-4EA3-9AC2-F95A341F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ED8-887D-46CC-9108-5FCA1793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345E-B87E-4AE4-B1BC-104F2251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880D-B828-4001-998C-2B4BF7A2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58CF-E104-4F3B-8F43-07F015DC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DC68-2AEB-4AD2-BE5B-EB8293E0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0D05-F9F1-47CD-AF77-5146450D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355-77F3-4247-A8A3-5E82D056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B64-8CB3-4960-AA7E-22F12973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87B9-92B5-4CD7-B1EA-3B96BD57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788-C8D6-46CA-9FD3-854E6CE1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A21-EEF7-4B5C-91B3-A6A24BB0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8AD-6798-4FDE-8ACE-342B81F0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6A8-2F49-40F1-A0CA-921F79B3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7B29-8ECB-47F7-8935-47F226E3C6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B199-094A-4E17-BC11-5D388C3834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Звездный ча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гра для 5 класса по истории Древнего ми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н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составить как можно больше слов  из букв слова ПИРАМИ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пасибо за участ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просы для размин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384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зовите священных животных, которых почитали древние египтян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к называлось приспособление, при помощи которого в Египте поливали сады и огороды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ким народом написана первая часть Библии - Ветхий Заве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Жители какой страны поклонялись богу Э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какой стране был построен царский дворец Ашшурбанапал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кое племя в древности расселилось на побережье Персидского зали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какой стране впервые начали чеканить золотую монет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какой стране располагались города Библ, Тир, Сидон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907920"/>
            <a:ext cx="40384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 расцветом какой страны связано имя Соломона? (Израильское царств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акой народ впервые создал алфави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к называется вера в существование сверхъестественных сил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 какого материала первобытные люди шили себе одежд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зовите транспортное средство бога Амона в Египт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 собирал в своем дворце царь Ашшурбанапал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ясните, почему египтяне делили весь год на три времени: «половодье», «всходы» и «сухость»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 чего финикийцы получали стекло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хеологи обнаружили, что у некоторых фараонов Египта было по нескольку гробниц: одна настоящая, остальные ложные. Как вы думаете, 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в древнем мире можно было стать рабо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овите имена богов Древнего Егип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звуки не передавались на письме египтянам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 тур: Один из ше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Егип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Двуреч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Финик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Палест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Асси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Пер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утверждаю, что все эти страны находятся в Передней Аз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этой стране основным строительным материалом была гли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этой стране находилась самая богатая библиотека Передней Аз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десь изобрели стекло и пурпурную крас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этой стране жили евреи, сложившие библейские предания о герое Самсоне и красавице Далил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 тур: Знаменитые лю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0384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Тутмос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Шамполь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арий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аммурап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а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лом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0384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ьи это слова: «Работать на хозяина должник должен три года, а потом его следует отпустить на свободу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араон, совершавший походы около 1500 г. до н.э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ранцузский ученый, расшифровавший египетские надпис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то это? «Он был совсем юн и не казался силачом, одет был как простой пастух, а в руках держал лишь посох и пращу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то так говорил? «Я - царь великий, царь царей, царь многоплеменных стран, царь этой земли велико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тур Составь па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Мум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Стату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Сфинк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Саркофа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дбери к ним подходящую по смыслу пар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охшее т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атуя льва с головой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об фара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Иероглиф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Клиноп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Алфав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Папир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82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сьмо Древнего Егип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териал для письма в Древнем Егип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сьмо в Финик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Зак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Запове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Нало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Обря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19640" y="1599840"/>
            <a:ext cx="496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а, обязательные для испол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лата в казну государ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а, по которым должны жить верующие лю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 тур: Четвертое лишн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Перга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Брахм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Н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Солом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Бума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Шуд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Т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Шама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Дали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Папир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Фара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Ган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Ануб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Хаммурап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Трост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Неприкас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Вави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Ишт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Ад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4:56:18Z</dcterms:created>
  <dc:creator>юля</dc:creator>
  <dc:description/>
  <dc:language>en-US</dc:language>
  <cp:lastModifiedBy>юля</cp:lastModifiedBy>
  <dcterms:modified xsi:type="dcterms:W3CDTF">2012-03-13T15:39:00Z</dcterms:modified>
  <cp:revision>2</cp:revision>
  <dc:subject/>
  <dc:title>Звездный час</dc:title>
</cp:coreProperties>
</file>