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DB4-0AE5-418A-AC0D-DA2AF514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168-34D5-447A-A3AB-031AE9E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C0B8-3FAB-41BF-BC56-79FD9C4D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F680-11DB-4E6C-A22A-4185BE66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E434-E773-4850-A953-39DF554C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51C5-B420-455D-AF3F-0B0D5D0F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B549-E3BD-4FD4-8D47-CE878D91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BDC0-8B9C-4C67-BF5A-19341106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D998-CFD2-42FA-B848-BFDF54F3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264E-86E7-46CB-8302-E5572C62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8AB-D0DA-4D93-B333-C1A150C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CF9-25BE-40FF-831F-2D01369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24A-7BD7-45AE-AE42-30EACAEC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763F-FD0B-4A28-A6FE-6F71D3D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AD3C-2850-4FF8-AEDF-0165CA03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E15E-DF8B-4A33-AF76-329DA015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CF0D-256A-483C-9300-0830B10D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982-3DAC-4B15-BBD0-E9501A7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C31-B0D1-4D64-BEA4-5486AE1D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C33-78C3-4B51-8162-69A85AD4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164-8B28-4103-8EED-762C9359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905-29A3-49A1-A543-79BA0BA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859-712D-4264-88DB-7090D21C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1C8-9F81-4642-824C-5B2D6C3B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E40F-1D23-4ED8-8759-6A4C9E2BB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758C-2FF2-4B5D-B474-5747CDA840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Звездный час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гра для 5 класса по истории Древне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н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составить как можно больше слов  из букв слова ПИРАМИ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асибо за участ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просы для размин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овите священных животных, которых почитали древние египтя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 называлось приспособление, при помощи которого в Египте поливали сады и огороды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им народом написана первая часть Библии - Ветхий Заве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Жители какой страны поклонялись богу Э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был построен царский дворец Ашшурбанапал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кое племя в древности расселилось на побережье Персидского зали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впервые начали чеканить золотую монет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какой стране располагались города Библ, Тир, Сидон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 расцветом какой страны связано имя Соломона? (Израильское царст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акой народ впервые создал алфавит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 называется вера в существование сверхъестественных си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какого материала первобытные люди шили себе одежд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овите транспортное средство бога Амона в Египт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собирал в своем дворце царь Ашшурбанапа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е, почему египтяне делили весь год на три времени: «половодье», «всходы» и «сухость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 чего финикийцы получали стекло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хеологи обнаружили, что у некоторых фараонов Египта было по нескольку гробниц: одна настоящая, остальные ложные. Как вы думаете, почем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 древнем мире можно было стать рабо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зовите имена богов Древнего Егип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звуки не передавались на письме египтянами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тур: Один из ш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Егип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Двуреч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Финик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Палест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Асси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Пер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Я утверждаю, что все эти страны находятся в Передней Аз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основным строительным материалом была гли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находилась самая богатая библиотека Передней Аз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десь изобрели стекло и пурпурную краск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этой стране жили евреи, сложившие библейские предания о герое Самсоне и красавице Далил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 тур: Знаменитые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0384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Тутмос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амполь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рий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аммурап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ом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0384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ьи это слова: «Работать на хозяина должник должен три года, а потом его следует отпустить на свободу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араон, совершавший походы около 1500 г. до н.э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ранцузский ученый, расшифровавший египетские надпис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это? «Он был совсем юн и не казался силачом, одет был как простой пастух, а в руках держал лишь посох и пращу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то так говорил? «Я - царь великий, царь царей, царь многоплеменных стран, царь этой земли велик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тур Составь па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Му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Стату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Сфин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Саркофа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дбери к ним подходящую по смыслу пар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сохше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туя льва с головой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об фарао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Иерогли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Клиноп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Алфав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Папиру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2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ьмо Древнего Егип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ериал для письма в Древнем Егип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сьмо в Финик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Зако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Запов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Нало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Обря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19640" y="1599840"/>
            <a:ext cx="496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, обязательные для испол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лата в казну государ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а, по которым должны жить верующие лю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 тур: Четвертое лишн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Перг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Брахм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Н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Солом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Бума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Шуд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Т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Шама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Дал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Папир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Фара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Га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Ануб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Хаммурап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Трост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Неприкаса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Вавил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Иш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А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4:56:18Z</dcterms:created>
  <dc:creator>юля</dc:creator>
  <dc:description/>
  <dc:language>en-US</dc:language>
  <cp:lastModifiedBy>юля</cp:lastModifiedBy>
  <dcterms:modified xsi:type="dcterms:W3CDTF">2012-03-13T15:39:00Z</dcterms:modified>
  <cp:revision>2</cp:revision>
  <dc:subject/>
  <dc:title>Звездный час</dc:title>
</cp:coreProperties>
</file>