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BB1E-1515-4E70-A7AF-759A69E6CB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FE81-D9F7-475B-ADE1-8FBB5C7AC64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9BF1-2AB1-4526-AC51-5EB5820015A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FF69-E7A3-40CE-B94B-F14C052F1F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A018-5E08-4ACB-A43D-66BED12AF1E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AFCC-03A1-4884-B86E-1E5C0A34A64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48B0-5DA7-4BCA-B051-2656BCC1A06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F1D9-027B-4179-BB91-894C6A6613E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E43B-139C-45F8-B8E9-BA43F6606F5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1D79-FB09-42FA-BDF9-E0291DCC0F8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3738-020B-4096-939E-47F09820D77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7FBF-D7A2-42F6-BB8C-F4F50F78D22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A4E1-CCBA-44D0-9B8C-4EA46EB6C05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574-B4EC-41DA-B98F-63E6325E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3E6-E632-4CF0-B918-22F47CC6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FBF-4B76-4EB5-B3CC-94AFFD7E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64A6-1A38-4021-98A0-2895A201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100C-78E5-4F50-9184-98AF221E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DC13-04ED-4A65-B3F7-4E6C99AF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E7AA-63EF-46BF-9F00-A2C3721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90CF-1871-4A34-AB5D-E67224FD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1E48-1EE7-4A52-83AD-18A3560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B318-D029-498D-B2FF-6C37498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628C-BADA-4AC7-BD9E-6267BCD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1D1-3BD5-4DB4-86ED-04D383D0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BCEA-A176-4047-B737-133A92F7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1C86-B801-46EC-A9C8-FC758EDC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CC65-AE99-40D6-96FD-5B677D20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3E4C-8B7A-4586-A53B-7C2F78B2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3C3E-1D0C-4E6C-940C-17FC11D4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13A5-F0FE-41C5-892B-40D78519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C15D-10ED-4A59-BC0A-D16911E9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89D9-0D5B-4355-8E17-748D8A79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C4DE-C723-48E0-AFC6-D62F558A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882F1-8367-43C4-8175-F8990FA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D2A-E131-42B8-8EBA-6427BD52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9327-1CDE-4EC9-8062-668AA441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9B1C-DFB6-4DD8-B986-60C59CA2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9358-8F01-4E94-A6EF-B071F2C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AE029-E774-4BFB-95DC-401887F1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7018-1FAF-43A4-9F5B-C3A4D04F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21634-4C10-40D0-8D31-FF87B14B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051B2-8595-4946-8A12-95147C67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E1C9-25C7-4228-82B3-449A111E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AFA1-E2AD-4483-89CE-5E0FB907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DDD6-4BD5-4B34-9557-FF6A73FB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67E-0CF4-4CC0-9010-B5FE210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72404-3C15-40D7-B8B6-ED85BF42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2F98-13A6-40D0-9B1A-02B70ACD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18ABD-DAD1-42A9-BF17-21BA8446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B2CC-6B96-4294-BCCE-5C3392B9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CD502-1539-40A8-BFED-5377A5C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45339-5814-405A-8A31-10DAAEA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3AC5E-F552-4759-8751-4AF7AF0A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484D-F71B-4C44-AFEC-3CEF1587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A6205-84C5-4674-BF8F-DA645C0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B65-694D-4EB8-BBBA-3C8CF294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2AC-95B3-41C0-90AF-3AFF730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535-A001-4598-BD18-3E4B6A8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DF1-102F-45D9-8049-20DECFFB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1C7-382A-466B-87BA-B8FD321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A489-38CD-49F6-BA3D-C667FDEC33D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0FEE-8DE7-40E9-ACF1-A9DA2DABF5A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15C9-5112-4373-89A5-D4A370AA5C8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7FD3-8A1D-4769-899E-9081029FBED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4;&#1083;&#1100;&#1075;&#1072;%20&#1057;&#1077;&#1088;&#1075;&#1077;&#1077;&#1074;&#1085;&#1072;%20&#1055;&#1072;&#1074;&#1083;&#1080;&#1097;&#1077;&#1074;&#1072;.doc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1;&#1077;&#1074;%20&#1057;&#1077;&#1088;&#1075;&#1077;&#1077;&#1074;&#1080;&#1095;%20&#1055;&#1091;&#1096;&#1082;&#1080;&#1085;.doc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3;&#1072;&#1090;&#1072;&#1083;&#1100;&#1103;%20&#1053;&#1080;&#1082;&#1086;&#1083;&#1072;&#1077;&#1074;&#1085;&#1072;%20&#1055;&#1091;&#1096;&#1082;&#1080;&#1085;&#1072;.doc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40;&#1073;&#1088;&#1072;&#1084;%20&#1055;&#1077;&#1090;&#1088;&#1086;&#1074;&#1080;&#1095;%20&#1043;&#1072;&#1085;&#1085;&#1080;&#1073;&#1072;&#1083;.doc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2;&#1072;&#1088;&#1080;&#1103;%20&#1040;&#1083;&#1077;&#1082;&#1089;&#1077;&#1077;&#1074;&#1085;&#1072;%20&#1043;&#1072;&#1085;&#1085;&#1080;&#1073;&#1072;&#1083;.doc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7;&#1077;&#1088;&#1075;&#1077;&#1081;%20&#1051;&#1100;&#1074;&#1086;&#1074;&#1080;&#1095;%20&#1055;&#1091;&#1096;&#1082;&#1080;&#1085;.doc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89;&#1077;&#1084;&#1100;&#1103;%20&#1055;&#1091;&#1096;&#1082;&#1080;&#1085;&#1072;/&#1053;&#1072;&#1076;&#1077;&#1078;&#1076;&#1072;%20&#1054;&#1089;&#1080;&#1087;&#1086;&#1074;&#1085;&#1072;%20&#1055;&#1091;&#1096;&#1082;&#1080;&#1085;&#1072;.doc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22880" y="1235520"/>
            <a:ext cx="7117200" cy="15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Александр Сергеевич                                          Пушкин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Семья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2735280" cy="3097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4624560" y="52484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авлищева Ольга Сергее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стра  (1797-1868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рожденная Пушкина, была всегда дружна с братом Александром. В 1824г. в ссоре Пушкина с отцом приняла сторону брата. Поэт знал о тайном браке сестры и в 1828г., по поручению матери, встречал и благословлял новобрачны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5364000" y="1600200"/>
            <a:ext cx="3322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 Лев Сергее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ат(1805-1852г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ник Благородного пансиона при Царскосельском Лицее и Благородного пансиона при Главном Педагогическом институте, курса которого не окончил. Участник персидско-турецкой кампании 1827-1829 г.г., затем перешел в Финляндский драгунский полк в чине штабс-капитана. В 1832 г. вышел в отставку в чине капитана. Пушкин нежно любил брата, с примесью родительской строг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5357880" y="1916280"/>
            <a:ext cx="3036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а Наталья Николае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на (1812-1863г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жденная Гончарова, вышла замуж за А.С. Пушкина в 1831г. Между супругами с самого начала сложились сердечные и дружеские отношения. К концу 1831г. Наталья Николаевна знакомится с Дантесом. При всей сдержанности в ее поведении с Дантесом, в светских кругах стала распространяться сплетня о ее, якобы, неверности мужу. Это послужило поводом к дуэли и смерти поэ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468360" y="692280"/>
            <a:ext cx="813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ушкин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cc3399"/>
                </a:solidFill>
                <a:latin typeface="Arial"/>
              </a:rPr>
              <a:t>Пушк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Александр Сергеевич                 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Наталья Николаевна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Мария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  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Александр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Григорий                  Наталь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2268360" y="1341360"/>
            <a:ext cx="11512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3419640" y="1267920"/>
            <a:ext cx="16570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1258920" y="2349360"/>
            <a:ext cx="52578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>
            <a:off x="1042920" y="242100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H="1">
            <a:off x="270000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4356000" y="242100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6516720" y="2421000"/>
            <a:ext cx="71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9" name="Rectangle 5" descr=""/>
          <p:cNvPicPr/>
          <p:nvPr/>
        </p:nvPicPr>
        <p:blipFill>
          <a:blip r:embed="rId4"/>
          <a:stretch/>
        </p:blipFill>
        <p:spPr>
          <a:xfrm>
            <a:off x="250920" y="3716280"/>
            <a:ext cx="1727280" cy="2081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5"/>
          <a:stretch/>
        </p:blipFill>
        <p:spPr>
          <a:xfrm>
            <a:off x="6372360" y="3860640"/>
            <a:ext cx="1579320" cy="16941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6"/>
          <a:stretch/>
        </p:blipFill>
        <p:spPr>
          <a:xfrm>
            <a:off x="4284720" y="3716280"/>
            <a:ext cx="1724040" cy="198108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5" descr=""/>
          <p:cNvPicPr/>
          <p:nvPr/>
        </p:nvPicPr>
        <p:blipFill>
          <a:blip r:embed="rId7"/>
          <a:stretch/>
        </p:blipFill>
        <p:spPr>
          <a:xfrm>
            <a:off x="2268360" y="3716280"/>
            <a:ext cx="1440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а Мария Александро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4" name="Rectangle 5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4038840" cy="45306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1"/>
          <p:cNvSpPr/>
          <p:nvPr/>
        </p:nvSpPr>
        <p:spPr>
          <a:xfrm>
            <a:off x="611280" y="1484280"/>
            <a:ext cx="360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таршая дочь 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(1832-1919г.)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лучила домашнее образов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1852г. - фрейлин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 1860г. замужем з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енерал-майором Л.Н.Гартунго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.Н. Толстой, знавший ее, отрази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которые черты ее внешнего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лика в Анне Каренино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 Александр Александ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7" name="Rectangle 5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743280" cy="43146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9"/>
          <p:cNvSpPr/>
          <p:nvPr/>
        </p:nvSpPr>
        <p:spPr>
          <a:xfrm>
            <a:off x="592200" y="1289160"/>
            <a:ext cx="383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тарший сын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(1833-1914г.)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спитанник 2-ой Петербургской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имназии и Пажеского корпус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агражден золотым Георгиевски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ружием с надписью "За храбрость"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 орденом Святого Владимир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IV степени с мечами и бантом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За 35 лет военной службы ста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валером многих русских 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рех иностранных орденов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1890г. А.А. Пушкин "за отлич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 службе" был произведен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 генерал-лейтенанты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 Григорий Александрович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адший сы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1835-1913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итанник Пажеского корпуса. Корнет, ротмистр лейб-гвардейского Конного полка, переведен в министерство внутренних дел, где дослужился до старшего советника. С 1866 по 1899 годы жил в селе Михайловс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11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ушкина Наталья Александро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адшая доч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(1836-1913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ила домашнее образование. Вышла замуж за М.Л. Дубельта. Во втором браке - Меренберг. Современники называли ее "прекрасной дочерью прекрасной матери". В 1876г. Наталья Александровна предоставила И.С. Тургеневу для публикации письма отца к ее матери. Это вызвало недовольство ее братье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томки Пушки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тория потомков Пушкина также ярка и удивительна, как неповторимо удивителен талант их пращура. Пушкинисты насчитали всего, включая и давно умерших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, 237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томков Александра Сергеевича, из них в живых на начало 2000 года числился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71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томок великого поэ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дьба разбросала их по всему белу свету. Сейчас, например, у нас в России, проживает 82 потомка Пушкина, во Франции 24, в Англии 20, в США 12, Бельгии 10, Швейцарии 6, ФРГ 5, Италии 3. Шестеро живет на Гавайских островах и трое в Марокко. В наше время иметь такое огромное потомство, а также и знать о нем, вероятно, невозможно. Во-первых, у нас сейчас мало таких многодетных семей, какие бывали в пушкинские времена. У самого Пушкина, погибшего очень рано, когда ему шел всего тридцать седьмой год, было четверо детей. У его сына Александра, который был женат дважды, было 13 детей, а у младшей дочери поэта, Натальи, шестеро. У внучки Пушкина Марии Александровны Быковой, урожденной Пушкиной, было 10 дет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18668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Спасибо</a:t>
            </a:r>
            <a:br>
              <a:rPr sz="8800"/>
            </a:b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       за </a:t>
            </a:r>
            <a:br>
              <a:rPr sz="8800"/>
            </a:br>
            <a:r>
              <a:rPr b="0" lang="ru-RU" sz="8800" spc="-1" strike="noStrike">
                <a:solidFill>
                  <a:srgbClr val="006633"/>
                </a:solidFill>
                <a:latin typeface="Arial"/>
              </a:rPr>
              <a:t>  внимание !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…я чрезвычайно дорожу именем моих предков, этим единственным наследством, доставшимся мне от них» 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123640" y="2361960"/>
            <a:ext cx="67690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"Не торговал мой дед блинами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е ваксил царских сапогов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е пел с придворными дьячками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В князья не прыгал из хохлов..."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0"/>
          <p:cNvSpPr/>
          <p:nvPr/>
        </p:nvSpPr>
        <p:spPr>
          <a:xfrm>
            <a:off x="250920" y="423720"/>
            <a:ext cx="84247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0" lang="ru-RU" sz="1600" spc="-1" strike="noStrike">
                <a:solidFill>
                  <a:srgbClr val="d60093"/>
                </a:solidFill>
                <a:latin typeface="Arial"/>
              </a:rPr>
              <a:t>Александр Сергеевич Пушкин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Пушкина                                                                  Пушкин Сергей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Надежда Осиповна                                                         Львович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Ганнибал Осип         Ганнибал Мария                    Пушкин Лев                    Чичерина  Ольг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</a:t>
            </a: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Абрамович                Алексеевна                           Александрович                 Васильевн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                  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Ганнибал     Шеберг              Пушкин        Пушкина           Пушкин          Головина    Чичерин      Приклонская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Абрам          Христина           Алексей        Сарра              Апександр     Евдокия          Василий          Лукерья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d60093"/>
                </a:solidFill>
                <a:latin typeface="Arial"/>
              </a:rPr>
              <a:t>Петрович                               Фёдорович    Юрьевна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31"/>
          <p:cNvSpPr/>
          <p:nvPr/>
        </p:nvSpPr>
        <p:spPr>
          <a:xfrm flipH="1">
            <a:off x="2268360" y="765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>
            <a:off x="4788000" y="765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 flipH="1">
            <a:off x="1619280" y="1773360"/>
            <a:ext cx="50472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2124000" y="1773360"/>
            <a:ext cx="8636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 flipH="1">
            <a:off x="755280" y="299736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 flipV="1">
            <a:off x="1116000" y="29239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1547640" y="2997360"/>
            <a:ext cx="216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 flipH="1">
            <a:off x="2771640" y="2997360"/>
            <a:ext cx="216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>
            <a:off x="3564000" y="2997360"/>
            <a:ext cx="216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H="1">
            <a:off x="5003280" y="170028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>
            <a:off x="6012000" y="177336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Line 42"/>
          <p:cNvSpPr/>
          <p:nvPr/>
        </p:nvSpPr>
        <p:spPr>
          <a:xfrm flipH="1">
            <a:off x="4788000" y="2997360"/>
            <a:ext cx="2887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Line 43"/>
          <p:cNvSpPr/>
          <p:nvPr/>
        </p:nvSpPr>
        <p:spPr>
          <a:xfrm>
            <a:off x="5508720" y="2997360"/>
            <a:ext cx="358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Line 44"/>
          <p:cNvSpPr/>
          <p:nvPr/>
        </p:nvSpPr>
        <p:spPr>
          <a:xfrm flipH="1">
            <a:off x="6732720" y="299736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7380360" y="299736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Picture 46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62856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7" descr=""/>
          <p:cNvPicPr/>
          <p:nvPr/>
        </p:nvPicPr>
        <p:blipFill>
          <a:blip r:embed="rId2"/>
          <a:stretch/>
        </p:blipFill>
        <p:spPr>
          <a:xfrm>
            <a:off x="179280" y="4221000"/>
            <a:ext cx="1008000" cy="1368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8" descr=""/>
          <p:cNvPicPr/>
          <p:nvPr/>
        </p:nvPicPr>
        <p:blipFill>
          <a:blip r:embed="rId3"/>
          <a:stretch/>
        </p:blipFill>
        <p:spPr>
          <a:xfrm>
            <a:off x="2195640" y="4221000"/>
            <a:ext cx="936360" cy="1295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9" descr=""/>
          <p:cNvPicPr/>
          <p:nvPr/>
        </p:nvPicPr>
        <p:blipFill>
          <a:blip r:embed="rId4"/>
          <a:stretch/>
        </p:blipFill>
        <p:spPr>
          <a:xfrm>
            <a:off x="3348000" y="4221000"/>
            <a:ext cx="1079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ерб рода Пушкины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46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ит разделен горизонтально на две части, из коих в верхней в горностаевом поле на пурпуровой подушке с золотыми кистьми положена княжеская шапка. В нижней части в правом голубом поле изображена в серебряных латах правая рука с мечем вверх поднятым; в левом золотом поле голубый орел с распростертыми крыльями, имеющий в когтях меч и державу голубого ж цвета. Щит увенчан обыкновенным дворянскими шлемом с дворянскою на нем короной и тремя страусовыми перьями. Намет на щите голубой, подложен золо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5148360" y="1600200"/>
            <a:ext cx="3538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2592360" cy="2435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ился акварельный рисунок герба Ганнибалов. На нем мы видим слона, несущего на подушке княжескую корону (то же самое было выбито и на печати). Слон указывал на африканское происхождение обладателей герба, а корона — на то, что предки их были князьями . Такой герб украшал личные печати Абрама Петровича и позднее — его сынов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817280" y="463680"/>
            <a:ext cx="610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Герб рода Ганнибалов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aa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Абрам Петрович Ганниб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деду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"Арап Петра Великого", абиссинский князек. Он умер в 1781г. генерал-аншефом и александровским кавалером, оставив 7 человек детей и более 1400 душ. Это была "мягкая, трусливая, но вспыльчивая абиссинская натура", наклонная "к невообразимой, необдуманной решимости"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ctangle 6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39408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fa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Ганнибал Мария Алексее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абушка(1745-1818г.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жденная Пушкина, мать Н.О. Пушкиной. По словам П.И. Бартенева, "...любила вспоминать старину, и от нее А.С. Пушкин наслышался семейных преданий, коими так дорожил впоследствии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>
            <a:off x="493236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  Сергей Львович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ец (1770-1838г.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796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капитан-поручик лейб-гвардейского Егерского полка, с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00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в Комиссариатском штате в Москве, 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11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военный советник, в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24г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- начальник Комиссариатской комиссии резервной армиии в Варшаве, с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817г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в отставке, статский советни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ергей Львович был тесно связан с литературными кругами, знаком с Д.И. Фонвизиным, К.Н. Батюшковым, П.А. Вяземским, В.А. Жуковским, Н.М. Карамзиным и многими другими литераторами. Пушкин-отец писал стихи и даже целые поэмы, оставил краткие воспоминания о сын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5292720" y="1125360"/>
            <a:ext cx="339408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Пушкина Надежда Осипов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ть (1775-1836г.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рожденная Ганнибал, в 1796г. вышла замуж за С.Л. Пушкина, в 1814г. вместе с детьми, Ольгой и Львом, переезжает из Москвы в Петербург, постоянно навещает сына Александра в Лицее. Принимает участие в судьбе ссыльного поэта, с одобрения В.А. Жуковского и Н.М. Карамзина, но без ведома сы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364000" y="1600200"/>
            <a:ext cx="33228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40:04Z</dcterms:created>
  <dc:creator>Dima</dc:creator>
  <dc:description/>
  <dc:language>en-US</dc:language>
  <cp:lastModifiedBy>User</cp:lastModifiedBy>
  <dcterms:modified xsi:type="dcterms:W3CDTF">2013-04-23T18:11:30Z</dcterms:modified>
  <cp:revision>8</cp:revision>
  <dc:subject/>
  <dc:title>Александр Сергеевич                                          Пушкин</dc:title>
</cp:coreProperties>
</file>