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7636-D9B4-4C77-AF7C-075DBF60A0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B527-9A22-4395-BEA6-A632F094431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0C98-947A-482F-A29A-73B40E008EE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C6F7-4F0B-45C9-B4EE-1D0A1F80307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B848-38F4-4A57-89DF-E86460F13D3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0D4D-B327-4421-B1CB-97E69C5FD0B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DE2E-C65B-4AE1-BE16-F69110BAF26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AA32-E625-406F-8E1A-6BF3918ECB9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B8AF-6F21-4818-8287-1492A335599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D51D-6349-4E7B-8E84-78E578130DB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F249-8275-4347-BD55-2E1822FEFA0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DEB6-DADF-4CC5-B536-505542F4D4E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9DC9-9525-435B-BB28-5583A363A3C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2DB-E1F0-4D1A-8DD1-EA920E8D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E24-EF0A-4E05-972D-C27584C0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988-68C7-45E6-B533-92CE1DDD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56D-94AD-4E1A-B2E7-BB0DB7F7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D908-A94E-459F-933B-158A1C84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ADD8-292E-4477-8880-97C3FB4C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7585-0BF4-4A5D-ABDC-6A8014D7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8DED-BD58-40A8-8D2F-8494A1D6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63EF-59E6-4F4F-8C53-05CBD4B6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53D0-60C4-4557-82C9-F1F48DEE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1A33-7EFA-4B15-81D4-5285F509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253-2DCE-46C0-9E31-2C7A79D2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122A-462B-431F-94BD-BAC565EE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7275-2C6D-46C6-8710-2092494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A522-856A-4982-A933-BECE121D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C90B-4D4D-4C5B-BFA4-1F618B99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6224-8C73-4CE5-B60A-D5AD5D1B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3ED4-A290-4A01-B7F3-906B742E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2B30-F853-4D64-88C8-38E27139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8DE1-0C42-4BA8-A5F1-E1DFC835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F8D0-8A77-4898-B2CB-976EE6E0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3323-5C7E-4A01-8779-830D7DB0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1D2-FCB5-4914-8017-AA46B48D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6309-8ED4-423B-A457-D84F5C4B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1612-E4F5-4706-997C-7CFFA95C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CB6EA-4506-4E24-B500-8968178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B6D8-AEA5-4645-9462-82E6D0C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2639-217B-4DCF-80E0-D7CEF555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2B74-5977-482A-980F-6D964B61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6FC2-5AE0-4DCC-BCF0-0BCB94A6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B9E6-509D-47CD-8752-DFC57C5A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2143-1D96-4769-8911-E3238773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3650-2A86-42DD-8017-CB56A849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334-2084-4926-8A51-7C009D23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0E35-356A-463F-A308-576AA428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61F94-B710-43DE-B9D6-77E19FDD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CAD8-7D5C-4F83-BFA2-F6EF1A5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7645B-9E02-4702-B895-9CB3CB76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9F3C-7A7F-4739-824B-8707993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A5C40-2C61-41E7-9AFD-7B7FF685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29DF-B34B-4677-8404-9A34175B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D565-E575-426C-A67B-FD69389E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028C-7F21-431E-8990-CDFDEA6E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3F0-E696-4504-9C31-99225978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D6D-5788-4A8E-87ED-57E973D8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E32-70F1-43C7-ADA6-65A688BE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6B1-1607-452A-9BDE-95345BE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802-113E-4517-823A-054D0E97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161A-A4CD-44BD-A7F6-9269DDFE0C1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99EE-0D8E-454C-A533-E3AE1966489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8919-1629-41F5-AE5C-F6EC1522F14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D019-482B-49FE-A581-2162B2DD8A3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4;&#1083;&#1100;&#1075;&#1072;%20&#1057;&#1077;&#1088;&#1075;&#1077;&#1077;&#1074;&#1085;&#1072;%20&#1055;&#1072;&#1074;&#1083;&#1080;&#1097;&#1077;&#1074;&#1072;.doc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1;&#1077;&#1074;%20&#1057;&#1077;&#1088;&#1075;&#1077;&#1077;&#1074;&#1080;&#1095;%20&#1055;&#1091;&#1096;&#1082;&#1080;&#1085;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3;&#1072;&#1090;&#1072;&#1083;&#1100;&#1103;%20&#1053;&#1080;&#1082;&#1086;&#1083;&#1072;&#1077;&#1074;&#1085;&#1072;%20&#1055;&#1091;&#1096;&#1082;&#1080;&#1085;&#1072;.doc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40;&#1073;&#1088;&#1072;&#1084;%20&#1055;&#1077;&#1090;&#1088;&#1086;&#1074;&#1080;&#1095;%20&#1043;&#1072;&#1085;&#1085;&#1080;&#1073;&#1072;&#1083;.doc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2;&#1072;&#1088;&#1080;&#1103;%20&#1040;&#1083;&#1077;&#1082;&#1089;&#1077;&#1077;&#1074;&#1085;&#1072;%20&#1043;&#1072;&#1085;&#1085;&#1080;&#1073;&#1072;&#1083;.doc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7;&#1077;&#1088;&#1075;&#1077;&#1081;%20&#1051;&#1100;&#1074;&#1086;&#1074;&#1080;&#1095;%20&#1055;&#1091;&#1096;&#1082;&#1080;&#1085;.doc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3;&#1072;&#1076;&#1077;&#1078;&#1076;&#1072;%20&#1054;&#1089;&#1080;&#1087;&#1086;&#1074;&#1085;&#1072;%20&#1055;&#1091;&#1096;&#1082;&#1080;&#1085;&#1072;.doc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22880" y="1235520"/>
            <a:ext cx="7117200" cy="15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Александр Сергеевич                                          Пушкин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Семья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2735280" cy="3097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4624560" y="52484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авлищева Ольга Сергее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стра  (1797-1868г.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рожденная Пушкина, была всегда дружна с братом Александром. В 1824г. в ссоре Пушкина с отцом приняла сторону брата. Поэт знал о тайном браке сестры и в 1828г., по поручению матери, встречал и благословлял новобрачн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5364000" y="1600200"/>
            <a:ext cx="3322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ушкин Лев Серге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ат(1805-1852г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ник Благородного пансиона при Царскосельском Лицее и Благородного пансиона при Главном Педагогическом институте, курса которого не окончил. Участник персидско-турецкой кампании 1827-1829 г.г., затем перешел в Финляндский драгунский полк в чине штабс-капитана. В 1832 г. вышел в отставку в чине капитана. Пушкин нежно любил брата, с примесью родительской строг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5357880" y="1916280"/>
            <a:ext cx="3036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ушкина Наталья Николае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на (1812-1863г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жденная Гончарова, вышла замуж за А.С. Пушкина в 1831г. Между супругами с самого начала сложились сердечные и дружеские отношения. К концу 1831г. Наталья Николаевна знакомится с Дантесом. При всей сдержанности в ее поведении с Дантесом, в светских кругах стала распространяться сплетня о ее, якобы, неверности мужу. Это послужило поводом к дуэли и смерти поэ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468360" y="692280"/>
            <a:ext cx="813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ушкин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ушк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Александр Сергеевич                 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Наталья Николаевна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Мария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   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Александр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     Григорий                  Наталь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2268360" y="1341360"/>
            <a:ext cx="115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3419640" y="1267920"/>
            <a:ext cx="1657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1258920" y="2349360"/>
            <a:ext cx="52578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>
            <a:off x="1042920" y="242100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H="1">
            <a:off x="270000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4356000" y="242100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6516720" y="2421000"/>
            <a:ext cx="71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Rectangle 5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1727280" cy="20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5"/>
          <a:stretch/>
        </p:blipFill>
        <p:spPr>
          <a:xfrm>
            <a:off x="6372360" y="3860640"/>
            <a:ext cx="1579320" cy="1694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6"/>
          <a:stretch/>
        </p:blipFill>
        <p:spPr>
          <a:xfrm>
            <a:off x="4284720" y="3716280"/>
            <a:ext cx="1724040" cy="198108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5" descr=""/>
          <p:cNvPicPr/>
          <p:nvPr/>
        </p:nvPicPr>
        <p:blipFill>
          <a:blip r:embed="rId7"/>
          <a:stretch/>
        </p:blipFill>
        <p:spPr>
          <a:xfrm>
            <a:off x="2268360" y="3716280"/>
            <a:ext cx="1440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шкина Мария Александро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4" name="Rectangle 5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038840" cy="4530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1"/>
          <p:cNvSpPr/>
          <p:nvPr/>
        </p:nvSpPr>
        <p:spPr>
          <a:xfrm>
            <a:off x="611280" y="1484280"/>
            <a:ext cx="360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аршая дочь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1832-1919г.)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лучила домашнее образова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 1852г. - фрейлин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 1860г. замужем з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енерал-майором Л.Н.Гартунго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.Н. Толстой, знавший ее, отрази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которые черты ее внешне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лика в Анне Каренин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шкин Александр Александ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7" name="Rectangle 5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743280" cy="43146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9"/>
          <p:cNvSpPr/>
          <p:nvPr/>
        </p:nvSpPr>
        <p:spPr>
          <a:xfrm>
            <a:off x="592200" y="1289160"/>
            <a:ext cx="383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тарший сын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1833-1914г.)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спитанник 2-ой Петербургско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имназии и Пажеского корпус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гражден золотым Георгиевски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ружием с надписью "За храбрость"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орденом Святого Владими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IV степени с мечами и бантом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 35 лет военной службы ста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валером многих русских 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рех иностранных орден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1890г. А.А. Пушкин "за отлич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 службе" был произведе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генерал-лейтенант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шкин Григорий Александ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ладший сы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1835-1913г.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итанник Пажеского корпуса. Корнет, ротмистр лейб-гвардейского Конного полка, переведен в министерство внутренних дел, где дослужился до старшего советника. С 1866 по 1899 годы жил в селе Михайловс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11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шкина Наталья Александро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ладшая доч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1836-1913г.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ла домашнее образование. Вышла замуж за М.Л. Дубельта. Во втором браке - Меренберг. Современники называли ее "прекрасной дочерью прекрасной матери". В 1876г. Наталья Александровна предоставила И.С. Тургеневу для публикации письма отца к ее матери. Это вызвало недовольство ее братье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томки Пушки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стория потомков Пушкина также ярка и удивительна, как неповторимо удивителен талант их пращура. Пушкинисты насчитали всего, включая и давно умерших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, 237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томков Александра Сергеевича, из них в живых на начало 2000 года числился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71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томок великого поэ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дьба разбросала их по всему белу свету. Сейчас, например, у нас в России, проживает 82 потомка Пушкина, во Франции 24, в Англии 20, в США 12, Бельгии 10, Швейцарии 6, ФРГ 5, Италии 3. Шестеро живет на Гавайских островах и трое в Марокко. В наше время иметь такое огромное потомство, а также и знать о нем, вероятно, невозможно. Во-первых, у нас сейчас мало таких многодетных семей, какие бывали в пушкинские времена. У самого Пушкина, погибшего очень рано, когда ему шел всего тридцать седьмой год, было четверо детей. У его сына Александра, который был женат дважды, было 13 детей, а у младшей дочери поэта, Натальи, шестеро. У внучки Пушкина Марии Александровны Быковой, урожденной Пушкиной, было 10 дет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18668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8800" spc="-1" strike="noStrike">
                <a:solidFill>
                  <a:srgbClr val="006633"/>
                </a:solidFill>
                <a:latin typeface="Arial"/>
              </a:rPr>
              <a:t>Спасибо</a:t>
            </a:r>
            <a:br>
              <a:rPr sz="8800"/>
            </a:br>
            <a:r>
              <a:rPr b="0" lang="ru-RU" sz="8800" spc="-1" strike="noStrike">
                <a:solidFill>
                  <a:srgbClr val="006633"/>
                </a:solidFill>
                <a:latin typeface="Arial"/>
              </a:rPr>
              <a:t>       за </a:t>
            </a:r>
            <a:br>
              <a:rPr sz="8800"/>
            </a:br>
            <a:r>
              <a:rPr b="0" lang="ru-RU" sz="8800" spc="-1" strike="noStrike">
                <a:solidFill>
                  <a:srgbClr val="006633"/>
                </a:solidFill>
                <a:latin typeface="Arial"/>
              </a:rPr>
              <a:t>  внимание !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…я чрезвычайно дорожу именем моих предков, этим единственным наследством, доставшимся мне от них»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23640" y="2361960"/>
            <a:ext cx="676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"Не торговал мой дед блинами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е ваксил царских сапогов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е пел с придворными дьячками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 князья не прыгал из хохлов..."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0"/>
          <p:cNvSpPr/>
          <p:nvPr/>
        </p:nvSpPr>
        <p:spPr>
          <a:xfrm>
            <a:off x="250920" y="423720"/>
            <a:ext cx="84247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d60093"/>
                </a:solidFill>
                <a:latin typeface="Arial"/>
              </a:rPr>
              <a:t>Александр Сергеевич Пушкин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       </a:t>
            </a: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Пушкина                                                                  Пушкин Сергей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     </a:t>
            </a: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Надежда Осиповна                                                         Львович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</a:t>
            </a: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Ганнибал Осип         Ганнибал Мария                    Пушкин Лев                    Чичерина  Ольга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</a:t>
            </a: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Абрамович                Алексеевна                           Александрович                 Васильевна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    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Ганнибал     Шеберг              Пушкин        Пушкина           Пушкин          Головина    Чичерин      Приклонская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Абрам          Христина           Алексей        Сарра              Апександр     Евдокия          Василий          Лукерья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Петрович                               Фёдорович    Юрьевна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31"/>
          <p:cNvSpPr/>
          <p:nvPr/>
        </p:nvSpPr>
        <p:spPr>
          <a:xfrm flipH="1">
            <a:off x="2268360" y="765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>
            <a:off x="4788000" y="765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 flipH="1">
            <a:off x="1619280" y="177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2124000" y="1773360"/>
            <a:ext cx="863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 flipH="1">
            <a:off x="755280" y="2997360"/>
            <a:ext cx="2890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 flipV="1">
            <a:off x="1116000" y="2923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1547640" y="2997360"/>
            <a:ext cx="216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 flipH="1">
            <a:off x="2771640" y="2997360"/>
            <a:ext cx="216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>
            <a:off x="3564000" y="2997360"/>
            <a:ext cx="216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H="1">
            <a:off x="5003280" y="170028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>
            <a:off x="6012000" y="1773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Line 42"/>
          <p:cNvSpPr/>
          <p:nvPr/>
        </p:nvSpPr>
        <p:spPr>
          <a:xfrm flipH="1">
            <a:off x="4788000" y="2997360"/>
            <a:ext cx="2887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3"/>
          <p:cNvSpPr/>
          <p:nvPr/>
        </p:nvSpPr>
        <p:spPr>
          <a:xfrm>
            <a:off x="5508720" y="2997360"/>
            <a:ext cx="3585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44"/>
          <p:cNvSpPr/>
          <p:nvPr/>
        </p:nvSpPr>
        <p:spPr>
          <a:xfrm flipH="1">
            <a:off x="6732720" y="299736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45"/>
          <p:cNvSpPr/>
          <p:nvPr/>
        </p:nvSpPr>
        <p:spPr>
          <a:xfrm>
            <a:off x="7380360" y="299736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Picture 46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62856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7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1008000" cy="136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8" descr=""/>
          <p:cNvPicPr/>
          <p:nvPr/>
        </p:nvPicPr>
        <p:blipFill>
          <a:blip r:embed="rId3"/>
          <a:stretch/>
        </p:blipFill>
        <p:spPr>
          <a:xfrm>
            <a:off x="2195640" y="4221000"/>
            <a:ext cx="936360" cy="1295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9" descr=""/>
          <p:cNvPicPr/>
          <p:nvPr/>
        </p:nvPicPr>
        <p:blipFill>
          <a:blip r:embed="rId4"/>
          <a:stretch/>
        </p:blipFill>
        <p:spPr>
          <a:xfrm>
            <a:off x="3348000" y="4221000"/>
            <a:ext cx="1079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ерб рода Пушкины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ит разделен горизонтально на две части, из коих в верхней в горностаевом поле на пурпуровой подушке с золотыми кистьми положена княжеская шапка. В нижней части в правом голубом поле изображена в серебряных латах правая рука с мечем вверх поднятым; в левом золотом поле голубый орел с распростертыми крыльями, имеющий в когтях меч и державу голубого ж цвета. Щит увенчан обыкновенным дворянскими шлемом с дворянскою на нем короной и тремя страусовыми перьями. Намет на щите голубой, подложен золо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5148360" y="1600200"/>
            <a:ext cx="3538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2592360" cy="2435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ился акварельный рисунок герба Ганнибалов. На нем мы видим слона, несущего на подушке княжескую корону (то же самое было выбито и на печати). Слон указывал на африканское происхождение обладателей герба, а корона — на то, что предки их были князьями . Такой герб украшал личные печати Абрама Петровича и позднее — его сынов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817280" y="463680"/>
            <a:ext cx="610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Arial"/>
              </a:rPr>
              <a:t>Герб рода Ганнибал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a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Абрам Петрович Ганниба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деду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"Арап Петра Великого", абиссинский князек. Он умер в 1781г. генерал-аншефом и александровским кавалером, оставив 7 человек детей и более 1400 душ. Это была "мягкая, трусливая, но вспыльчивая абиссинская натура", наклонная "к невообразимой, необдуманной решимости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Rectangle 6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3940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fa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Ганнибал Мария Алексее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абушка(1745-1818г.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жденная Пушкина, мать Н.О. Пушкиной. По словам П.И. Бартенева, "...любила вспоминать старину, и от нее А.С. Пушкин наслышался семейных преданий, коими так дорожил впоследствии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4932360" y="1600200"/>
            <a:ext cx="375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ушкин  Сергей Львович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ец (1770-1838г.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796г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капитан-поручик лейб-гвардейского Егерского полка, с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800г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в Комиссариатском штате в Москве, в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811г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военный советник, в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824г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- начальник Комиссариатской комиссии резервной армиии в Варшаве, с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817г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в отставке, статский советни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ергей Львович был тесно связан с литературными кругами, знаком с Д.И. Фонвизиным, К.Н. Батюшковым, П.А. Вяземским, В.А. Жуковским, Н.М. Карамзиным и многими другими литераторами. Пушкин-отец писал стихи и даже целые поэмы, оставил краткие воспоминания о сын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394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ушкина Надежда Осипо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ть (1775-1836г.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рожденная Ганнибал, в 1796г. вышла замуж за С.Л. Пушкина, в 1814г. вместе с детьми, Ольгой и Львом, переезжает из Москвы в Петербург, постоянно навещает сына Александра в Лицее. Принимает участие в судьбе ссыльного поэта, с одобрения В.А. Жуковского и Н.М. Карамзина, но без ведома сы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364000" y="1600200"/>
            <a:ext cx="33228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40:04Z</dcterms:created>
  <dc:creator>Dima</dc:creator>
  <dc:description/>
  <dc:language>en-US</dc:language>
  <cp:lastModifiedBy>User</cp:lastModifiedBy>
  <dcterms:modified xsi:type="dcterms:W3CDTF">2013-04-23T18:11:30Z</dcterms:modified>
  <cp:revision>8</cp:revision>
  <dc:subject/>
  <dc:title>Александр Сергеевич                                          Пушкин</dc:title>
</cp:coreProperties>
</file>