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8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26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7197-201A-457F-9B1A-9D8EC824C3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70E5-D807-4975-BAB0-0D86670E4E9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53CE-6A0F-4FA0-A51C-BEA85CCA29E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F345-0C30-49A5-AC22-4FD7C63AFDD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74E-7D31-4C30-8BC6-C57EBA369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8644-2132-445B-8F29-A08015F5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C18-1663-4CB7-BA25-A2823A1F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C5D-94FE-4759-A2FF-40687461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9B7DB-C7BE-4C7F-9610-C8103207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92855-6CBD-4F5F-B320-F8FFA782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13E9B-0770-4133-9CCB-E6329CAD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693AE-2431-443D-8B6D-90451187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6BC2E-7EF1-44EF-BE21-DC602B2B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6F1DA-C434-4093-A5D5-43AAE5FE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D2149-99E4-42FA-8CBF-ABB9C406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A886-BB9D-4E29-A080-778D72C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E3844-848A-4D28-B62D-D02083DE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EB893-B891-4D1F-836A-C47473F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07470-F35B-46E0-8559-D485195D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F6365-AC95-427B-A044-2F834DC0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EF4C9-76A2-481F-ADB7-8F4EDA4D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C8B-9C52-4296-8212-0190667F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53E3-4E60-448D-91CE-53598D4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4F3-AE2A-4FE3-9AFF-1F3240BE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B43-C204-43ED-91AF-1FA6C6E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ACC-6586-488A-B4BA-DB5BA6A6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183-9E94-43C7-BBE1-9BFF8F9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C60-72C9-473D-9E48-9D72AE4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67C-B2FA-4876-8A5B-E0A58A7F3C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34B6-1E44-4A37-A6C4-B2CF16C8A2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28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000680" y="4287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99"/>
                </a:solidFill>
                <a:latin typeface="Tahoma"/>
              </a:rPr>
              <a:t>ENGLAND</a:t>
            </a:r>
            <a:r>
              <a:rPr b="0" lang="ru-RU" sz="60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D:\Документы\Рисунки\83034276_0cc29c81b2d4[1].jpg"/>
          <p:cNvPicPr/>
          <p:nvPr/>
        </p:nvPicPr>
        <p:blipFill>
          <a:blip r:embed="rId2"/>
          <a:stretch/>
        </p:blipFill>
        <p:spPr>
          <a:xfrm>
            <a:off x="0" y="0"/>
            <a:ext cx="3071880" cy="3840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http://im6-tub-ru.yandex.net/i?id=229133804-54-72&amp;n=21"/>
          <p:cNvPicPr/>
          <p:nvPr/>
        </p:nvPicPr>
        <p:blipFill>
          <a:blip r:embed="rId3"/>
          <a:stretch/>
        </p:blipFill>
        <p:spPr>
          <a:xfrm>
            <a:off x="3203640" y="3068640"/>
            <a:ext cx="240516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:\Документы\Рисунки\buckingham%20palace[1].jpg"/>
          <p:cNvPicPr/>
          <p:nvPr/>
        </p:nvPicPr>
        <p:blipFill>
          <a:blip r:embed="rId4"/>
          <a:stretch/>
        </p:blipFill>
        <p:spPr>
          <a:xfrm>
            <a:off x="5508720" y="14130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3276720" y="148428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79280" y="4005360"/>
            <a:ext cx="2808360" cy="2106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2000" y="5084640"/>
            <a:ext cx="291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Учитель английс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ГБОУ СОШ №2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Тишинин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0808"/>
                </a:solidFill>
                <a:latin typeface="Tahoma"/>
              </a:rPr>
              <a:t>Санкт-Петербу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9"/>
          <p:cNvSpPr txBox="1"/>
          <p:nvPr/>
        </p:nvSpPr>
        <p:spPr>
          <a:xfrm>
            <a:off x="611280" y="765000"/>
            <a:ext cx="2514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WordArt 14"/>
          <p:cNvSpPr txBox="1"/>
          <p:nvPr/>
        </p:nvSpPr>
        <p:spPr>
          <a:xfrm>
            <a:off x="1071720" y="214200"/>
            <a:ext cx="73818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1332000" y="4005360"/>
            <a:ext cx="21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19"/>
          <p:cNvSpPr/>
          <p:nvPr/>
        </p:nvSpPr>
        <p:spPr>
          <a:xfrm flipH="1">
            <a:off x="4788000" y="4005360"/>
            <a:ext cx="288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7164360" y="162864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480" y="121392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23" descr="Рисунок8"/>
          <p:cNvPicPr/>
          <p:nvPr/>
        </p:nvPicPr>
        <p:blipFill>
          <a:blip r:embed="rId2"/>
          <a:stretch/>
        </p:blipFill>
        <p:spPr>
          <a:xfrm>
            <a:off x="3143160" y="1214280"/>
            <a:ext cx="274320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Рисунок9"/>
          <p:cNvPicPr/>
          <p:nvPr/>
        </p:nvPicPr>
        <p:blipFill>
          <a:blip r:embed="rId3"/>
          <a:stretch/>
        </p:blipFill>
        <p:spPr>
          <a:xfrm>
            <a:off x="285840" y="335772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Рисунок21"/>
          <p:cNvPicPr/>
          <p:nvPr/>
        </p:nvPicPr>
        <p:blipFill>
          <a:blip r:embed="rId4"/>
          <a:stretch/>
        </p:blipFill>
        <p:spPr>
          <a:xfrm>
            <a:off x="3143160" y="3357720"/>
            <a:ext cx="2737080" cy="2219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Рисунок19"/>
          <p:cNvPicPr/>
          <p:nvPr/>
        </p:nvPicPr>
        <p:blipFill>
          <a:blip r:embed="rId5"/>
          <a:stretch/>
        </p:blipFill>
        <p:spPr>
          <a:xfrm>
            <a:off x="6072120" y="1785960"/>
            <a:ext cx="2894040" cy="3589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Рисунок7"/>
          <p:cNvPicPr/>
          <p:nvPr/>
        </p:nvPicPr>
        <p:blipFill>
          <a:blip r:embed="rId6"/>
          <a:stretch/>
        </p:blipFill>
        <p:spPr>
          <a:xfrm>
            <a:off x="285840" y="1214280"/>
            <a:ext cx="2770200" cy="20718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0"/>
          <p:cNvSpPr/>
          <p:nvPr/>
        </p:nvSpPr>
        <p:spPr>
          <a:xfrm>
            <a:off x="1285920" y="28584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ay what parts of England the pictures show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428400" y="1357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428400" y="3571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3428640" y="1285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3357360" y="350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6286320" y="20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оугольник 18"/>
          <p:cNvSpPr/>
          <p:nvPr/>
        </p:nvSpPr>
        <p:spPr>
          <a:xfrm>
            <a:off x="2577600" y="32446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ext “Discover Britain: England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оугольник 20"/>
          <p:cNvSpPr/>
          <p:nvPr/>
        </p:nvSpPr>
        <p:spPr>
          <a:xfrm>
            <a:off x="2631600" y="324468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ext “Discover Britain:d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22"/>
          <p:cNvSpPr/>
          <p:nvPr/>
        </p:nvSpPr>
        <p:spPr>
          <a:xfrm>
            <a:off x="2641680" y="3244680"/>
            <a:ext cx="38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ext “Discover Britain: Eng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Прямоугольник 23"/>
          <p:cNvSpPr/>
          <p:nvPr/>
        </p:nvSpPr>
        <p:spPr>
          <a:xfrm>
            <a:off x="2649240" y="324468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143000" y="867600"/>
            <a:ext cx="657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) What are the principal cities in the Southeas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)What county is called the “garden of England”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) Why do people find the Southwest attracti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) Why do you think tourists often come to Cambridg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) What is Stratford-upon-Avon famous f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) What are the main attractions of the North of Englan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500040" y="1397160"/>
          <a:ext cx="8072640" cy="3103560"/>
        </p:xfrm>
        <a:graphic>
          <a:graphicData uri="http://schemas.openxmlformats.org/drawingml/2006/table">
            <a:tbl>
              <a:tblPr/>
              <a:tblGrid>
                <a:gridCol w="3143160"/>
                <a:gridCol w="4929480"/>
              </a:tblGrid>
              <a:tr h="31035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)  Lond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)  the Lake Distri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)  Oxford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)  Hadrian's W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)  Heathr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)  the F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)   the  biggest   airport  in  Engl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)  the fact that  it was built by Rom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)  its places of inter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)   the  fact  that  Oliver  Cromwell was born the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)  its 12th century univers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)   its lakes  and beautiful  sce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5"/>
          <p:cNvSpPr/>
          <p:nvPr/>
        </p:nvSpPr>
        <p:spPr>
          <a:xfrm>
            <a:off x="785880" y="714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35520" y="714240"/>
            <a:ext cx="90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oft Tai Le"/>
              </a:rPr>
              <a:t>Match the words in the two columns to say what these places are famous fo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28195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Midl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86240" y="428760"/>
            <a:ext cx="345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eart of Engl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largest industrial part of Engla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iggest industrial citi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chester, Sheffield, Liverpo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10" descr="{01E9FF19-E994-4C31-A938-3E2ECFE2BAE0}"/>
          <p:cNvPicPr/>
          <p:nvPr/>
        </p:nvPicPr>
        <p:blipFill>
          <a:blip r:embed="rId2"/>
          <a:stretch/>
        </p:blipFill>
        <p:spPr>
          <a:xfrm>
            <a:off x="4498920" y="3500280"/>
            <a:ext cx="4467240" cy="300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Рисунок7"/>
          <p:cNvPicPr/>
          <p:nvPr/>
        </p:nvPicPr>
        <p:blipFill>
          <a:blip r:embed="rId3"/>
          <a:stretch/>
        </p:blipFill>
        <p:spPr>
          <a:xfrm>
            <a:off x="0" y="2500200"/>
            <a:ext cx="4276800" cy="3467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785880" y="121428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/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374328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ast Anglia</a:t>
            </a:r>
            <a:br>
              <a:rPr sz="44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/ar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/are calle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ere  is/are</a:t>
            </a:r>
            <a:br>
              <a:rPr sz="20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360" y="3645000"/>
            <a:ext cx="403848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y fl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autiful cities with historical build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lated from the rest  of Brit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Fe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8" descr="{AB921EF8-7B0A-4C86-B9AC-052CB2957441}"/>
          <p:cNvPicPr/>
          <p:nvPr/>
        </p:nvPicPr>
        <p:blipFill>
          <a:blip r:embed="rId2"/>
          <a:stretch/>
        </p:blipFill>
        <p:spPr>
          <a:xfrm>
            <a:off x="4284720" y="260280"/>
            <a:ext cx="4681440" cy="3260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9" descr="Рисунок9"/>
          <p:cNvPicPr/>
          <p:nvPr/>
        </p:nvPicPr>
        <p:blipFill>
          <a:blip r:embed="rId3"/>
          <a:stretch/>
        </p:blipFill>
        <p:spPr>
          <a:xfrm>
            <a:off x="142920" y="3214800"/>
            <a:ext cx="3643200" cy="3214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9600" y="725400"/>
            <a:ext cx="3620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Southwe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8" descr="{8CAD5400-4873-4540-88ED-3EA1D3E0B6D3}"/>
          <p:cNvPicPr/>
          <p:nvPr/>
        </p:nvPicPr>
        <p:blipFill>
          <a:blip r:embed="rId2"/>
          <a:stretch/>
        </p:blipFill>
        <p:spPr>
          <a:xfrm>
            <a:off x="4572000" y="357120"/>
            <a:ext cx="3571920" cy="2289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9"/>
          <p:cNvSpPr/>
          <p:nvPr/>
        </p:nvSpPr>
        <p:spPr>
          <a:xfrm>
            <a:off x="4786200" y="2714760"/>
            <a:ext cx="43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region with farm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nown for pirat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place for artists, writers,      holidaymak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remarkable historic pla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Stonehen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dairy product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2" descr="{D11175AA-5605-4E9D-A72D-94E6B6C044AE}"/>
          <p:cNvPicPr/>
          <p:nvPr/>
        </p:nvPicPr>
        <p:blipFill>
          <a:blip r:embed="rId3"/>
          <a:stretch/>
        </p:blipFill>
        <p:spPr>
          <a:xfrm>
            <a:off x="4572000" y="4786200"/>
            <a:ext cx="3600360" cy="207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3" descr="Рисунок8"/>
          <p:cNvPicPr/>
          <p:nvPr/>
        </p:nvPicPr>
        <p:blipFill>
          <a:blip r:embed="rId4"/>
          <a:stretch/>
        </p:blipFill>
        <p:spPr>
          <a:xfrm>
            <a:off x="285840" y="3352680"/>
            <a:ext cx="4048200" cy="35053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428760" y="1571760"/>
            <a:ext cx="37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/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s/are famous f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6800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North of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0" y="3644640"/>
            <a:ext cx="4038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wildest and the loneliest part of Englan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lot of busy industrial c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ich in co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ake Distri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autiful valleys, rivers, waterfalls and mountai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0" descr="{9B291369-8823-48A2-B636-4534F54E434D}"/>
          <p:cNvPicPr/>
          <p:nvPr/>
        </p:nvPicPr>
        <p:blipFill>
          <a:blip r:embed="rId2"/>
          <a:stretch/>
        </p:blipFill>
        <p:spPr>
          <a:xfrm>
            <a:off x="5364000" y="765000"/>
            <a:ext cx="3232440" cy="2378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/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is/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/are famous f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12" descr="Рисунок19"/>
          <p:cNvPicPr/>
          <p:nvPr/>
        </p:nvPicPr>
        <p:blipFill>
          <a:blip r:embed="rId3"/>
          <a:stretch/>
        </p:blipFill>
        <p:spPr>
          <a:xfrm>
            <a:off x="357120" y="3259080"/>
            <a:ext cx="3357720" cy="342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91600"/>
            <a:ext cx="303516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Southe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2920" y="507168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highly populated region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lot of industry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capital of the UK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 main passenger ports and airpor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1" descr="j0293234"/>
          <p:cNvPicPr/>
          <p:nvPr/>
        </p:nvPicPr>
        <p:blipFill>
          <a:blip r:embed="rId2"/>
          <a:stretch/>
        </p:blipFill>
        <p:spPr>
          <a:xfrm>
            <a:off x="6084720" y="4724280"/>
            <a:ext cx="2590920" cy="191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{DDA848FB-A1EA-4C28-A740-81564B71F509}"/>
          <p:cNvPicPr/>
          <p:nvPr/>
        </p:nvPicPr>
        <p:blipFill>
          <a:blip r:embed="rId3"/>
          <a:stretch/>
        </p:blipFill>
        <p:spPr>
          <a:xfrm>
            <a:off x="5508720" y="404640"/>
            <a:ext cx="3384360" cy="411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Рисунок21"/>
          <p:cNvPicPr/>
          <p:nvPr/>
        </p:nvPicPr>
        <p:blipFill>
          <a:blip r:embed="rId4"/>
          <a:stretch/>
        </p:blipFill>
        <p:spPr>
          <a:xfrm>
            <a:off x="357120" y="1214280"/>
            <a:ext cx="2995560" cy="242892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6"/>
          <p:cNvSpPr/>
          <p:nvPr/>
        </p:nvSpPr>
        <p:spPr>
          <a:xfrm>
            <a:off x="571680" y="38577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/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re is/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/are famous f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s/are situate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643040" y="1652040"/>
            <a:ext cx="6429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Have you ever been to England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An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No, I hav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Lucida Sans Unicode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t been there y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Where would you like to go the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the Southwes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 I thin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But wh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4572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-I want to se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Lucida Sans Unicode"/>
              </a:rPr>
              <a:t>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Land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Lucida Sans Unicode"/>
              </a:rPr>
              <a:t>’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s End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Lucida Sans Unicode"/>
              </a:rPr>
              <a:t>”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Lucida Sans Unicode"/>
              </a:rPr>
              <a:t>, the most westerly point of Great Brita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360" y="142560"/>
            <a:ext cx="44593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1.Great Britain is separated from the continent by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The Pacific ocean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The Irish Se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The Bristol Chann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The English channel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2.</a:t>
            </a:r>
            <a:r>
              <a:rPr b="1" lang="ru-RU" sz="16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England’s population is more than  …million peop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b)5.6 c)560 d)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ahoma"/>
              </a:rPr>
              <a:t>3.</a:t>
            </a: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The head of the state in Britain is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the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ime Mini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the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esid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the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Que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the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peake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.The Lake District is situated in…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the North of Eng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East Angl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the Mid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the Southwes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5.What famous person was born in the Fens area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William Shakespear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Hadri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Oliver Cromwe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Peter the Grea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3280" y="142920"/>
            <a:ext cx="431640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6.Heathrow is one of the busiest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librari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air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supermarke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7.Brighton is a …in the Southea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historical build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reso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region  of Eng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riv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8. The Midlands is known as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Home of the que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the heart of Scot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the heart of Eng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a highly populated region of Engl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9.The birthplace of William Shakespeare is 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The County of Ken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Bright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Stratford-upon-Av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Liverpo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10.England consists of …main par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) 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)  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) 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)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5292720" y="836640"/>
            <a:ext cx="2381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14680" y="1528920"/>
            <a:ext cx="5715000" cy="3800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000680" y="4287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99"/>
                </a:solidFill>
                <a:latin typeface="Tahoma"/>
              </a:rPr>
              <a:t>ENGLAND</a:t>
            </a:r>
            <a:r>
              <a:rPr b="0" lang="ru-RU" sz="60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5" descr="D:\Документы\Рисунки\83034276_0cc29c81b2d4[1].jpg"/>
          <p:cNvPicPr/>
          <p:nvPr/>
        </p:nvPicPr>
        <p:blipFill>
          <a:blip r:embed="rId2"/>
          <a:stretch/>
        </p:blipFill>
        <p:spPr>
          <a:xfrm>
            <a:off x="0" y="0"/>
            <a:ext cx="3071880" cy="384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:\Документы\Рисунки\buckingham%20palace[1].jpg"/>
          <p:cNvPicPr/>
          <p:nvPr/>
        </p:nvPicPr>
        <p:blipFill>
          <a:blip r:embed="rId3"/>
          <a:stretch/>
        </p:blipFill>
        <p:spPr>
          <a:xfrm>
            <a:off x="250020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D:\Документы\Рисунки\66419[1].jpg"/>
          <p:cNvPicPr/>
          <p:nvPr/>
        </p:nvPicPr>
        <p:blipFill>
          <a:blip r:embed="rId4"/>
          <a:stretch/>
        </p:blipFill>
        <p:spPr>
          <a:xfrm>
            <a:off x="5357880" y="1500120"/>
            <a:ext cx="3429000" cy="321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http://im6-tub-ru.yandex.net/i?id=229133804-54-72&amp;n=21"/>
          <p:cNvPicPr/>
          <p:nvPr/>
        </p:nvPicPr>
        <p:blipFill>
          <a:blip r:embed="rId5"/>
          <a:stretch/>
        </p:blipFill>
        <p:spPr>
          <a:xfrm>
            <a:off x="0" y="4286160"/>
            <a:ext cx="24051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1.Изображение королевы Елизаветы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librarising.com/astrology/celebs/images2/QR/queenelizabethii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Изображение Тауэрского моста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img-2007-06.photosight.ru/16/2148248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Изображение Вестминстерского аббатства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upload.wikimedia.org/wikipedia/commons/c/cc/Westminster_abbey_west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Изображение Бэкингемского дворца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http://d2om8tvz4lgco4.cloudfront.net/archive/x12740a4f435a72a4d152c32546dc4eec7dc862a70d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. Карта Великобритании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global-class.ru/edu/countries/uk/uk-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. Изображение розы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kissdesign.org/postoffice/images/postales_roses/carte_rose0026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. Изображение Св. Георгия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hawkhurst.freeserve.co.uk/fmcmag/archives/saints/george/st_georg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. Изображение креста Св. Георгия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st-fashiony.ru/pic/style/pic/10156/28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9. Изображение частей Англии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michellehenry.fr/uk_colour_map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0. Изображение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Midlands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userserve-ak.last.fm/serve/64s/45423623.gi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1. Изображение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East Angli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encyclopedia.com/utility/image.aspx%3Fid%3D469757%26ima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2. Изображение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the Southwest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wraparoundchildcare.moonfruit.com//images/454155_pr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3. Изображение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the North of England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www.katequinnauthor.com/images/Yorkshire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4. Изображение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the Southeast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img1.liveinternet.ru/images/attach/c/1/63/768/63768007_8.jp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47280" y="4000680"/>
            <a:ext cx="7985160" cy="15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t-EE" sz="2800" spc="-1" strike="noStrike">
                <a:solidFill>
                  <a:srgbClr val="ffffff"/>
                </a:solidFill>
                <a:latin typeface="Tahoma"/>
              </a:rPr>
              <a:t>The red rose became the emblem of England after the War of the Roses (1455-1485) which was the war for the English thro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2808000" cy="2789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Содержимое 2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File:Saint George - Carlo Crivelli.jpg"/>
          <p:cNvPicPr/>
          <p:nvPr/>
        </p:nvPicPr>
        <p:blipFill>
          <a:blip r:embed="rId3"/>
          <a:stretch/>
        </p:blipFill>
        <p:spPr>
          <a:xfrm>
            <a:off x="857160" y="714240"/>
            <a:ext cx="2038320" cy="5705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3357720" y="1785960"/>
            <a:ext cx="507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int George, a soldier in the Roman army, saved a princess, killed a drag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7380360" y="260280"/>
            <a:ext cx="1552680" cy="1428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47280" y="3668760"/>
            <a:ext cx="793116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Tahoma"/>
              </a:rPr>
              <a:t>The Saint George´s cross is the English fla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" descr="D:\Документы\Рисунки\iCA1T0A0N.jpg"/>
          <p:cNvPicPr/>
          <p:nvPr/>
        </p:nvPicPr>
        <p:blipFill>
          <a:blip r:embed="rId2"/>
          <a:stretch/>
        </p:blipFill>
        <p:spPr>
          <a:xfrm>
            <a:off x="2857680" y="714240"/>
            <a:ext cx="3028680" cy="21434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214280"/>
            <a:ext cx="82580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England does not have an official national anthem, there are many songs which are considered to fill such a role. In most of the national sporting fixtures ‘God Save the Queen’ is us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1.God save our gracious quee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God save our noble quee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God save the que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99"/>
                </a:solidFill>
                <a:uFillTx/>
                <a:latin typeface="Tahoma"/>
              </a:rPr>
              <a:t>Refrai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Send her victoriou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Happy and gloriou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Long live to reign over 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God save the que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2.Oh, lord our god aris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Scatter her anem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And make them f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cc99"/>
                </a:solidFill>
                <a:uFillTx/>
                <a:latin typeface="Tahoma"/>
              </a:rPr>
              <a:t>Refrai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Confound their politic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Frustrate their knowrish tric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On Thee our hopes we f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God save us a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2050920" y="260280"/>
            <a:ext cx="47628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od save the queen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gimn_velikobritanii_-_god_save_the_queen_(zaycev.net).mp3" descr=""/>
          <p:cNvPicPr/>
          <p:nvPr/>
        </p:nvPicPr>
        <p:blipFill>
          <a:blip r:embed="rId4"/>
          <a:stretch/>
        </p:blipFill>
        <p:spPr>
          <a:xfrm>
            <a:off x="78588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57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geographical names and read them after the announcer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79240" y="1940040"/>
            <a:ext cx="788796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ath, Birmingham, Brighton, Bristol, Cambridge, the County of Kent, Dover, the Fens (area), Hadrian's Wall, Heathrow (airport), the Lake District, Land's End, Liverpool, Manchester, the Midlands, Newcastle-upon-Tyne, Northern Ireland, Oxford, Sheffield, the Southeast, the Southwest, Stonehenge, Stratford-upon-Avon, the Thames, Wales, Y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02 - No. 29, Ex.18  No. 30, Ex. 20 pp.104-105.mp3" descr=""/>
          <p:cNvPicPr/>
          <p:nvPr/>
        </p:nvPicPr>
        <p:blipFill>
          <a:blip r:embed="rId2"/>
          <a:stretch/>
        </p:blipFill>
        <p:spPr>
          <a:xfrm>
            <a:off x="1071720" y="471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925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785880"/>
            <a:ext cx="82296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_______ Lake Distri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________ North of Eng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_________ Midla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_________Newcast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_________ Northern Ire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_________ Winds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_________ Tha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________ Southw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________ East Ang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__________ Heathrow Air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5:44:10Z</dcterms:created>
  <dc:creator>Женя</dc:creator>
  <dc:description/>
  <dc:language>en-US</dc:language>
  <cp:lastModifiedBy>Admin</cp:lastModifiedBy>
  <dcterms:modified xsi:type="dcterms:W3CDTF">2013-04-21T22:04:11Z</dcterms:modified>
  <cp:revision>179</cp:revision>
  <dc:subject/>
  <dc:title>Слайд 1</dc:title>
</cp:coreProperties>
</file>