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907B-23F4-4E10-B490-E1478AE7AA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BFDD-C088-4234-9F75-8E38D854B87D}" type="slidenum">
              <a:rPr b="0" lang="ru-RU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grpSp>
        <p:nvGrpSpPr>
          <p:cNvPr id="84" name="TextBox 2"/>
          <p:cNvGrpSpPr/>
          <p:nvPr/>
        </p:nvGrpSpPr>
        <p:grpSpPr>
          <a:xfrm>
            <a:off x="-115920" y="579600"/>
            <a:ext cx="8705880" cy="2846160"/>
            <a:chOff x="-115920" y="579600"/>
            <a:chExt cx="8705880" cy="2846160"/>
          </a:xfrm>
        </p:grpSpPr>
        <p:pic>
          <p:nvPicPr>
            <p:cNvPr id="85" name="TextBox 2" descr=""/>
            <p:cNvPicPr/>
            <p:nvPr/>
          </p:nvPicPr>
          <p:blipFill>
            <a:blip r:embed="rId2"/>
            <a:stretch/>
          </p:blipFill>
          <p:spPr>
            <a:xfrm>
              <a:off x="-115920" y="579600"/>
              <a:ext cx="8705880" cy="28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57120" y="714240"/>
              <a:ext cx="8215560" cy="20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ru-RU" sz="43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КУЛЬТУРА</a:t>
              </a:r>
              <a:endParaRPr b="0" lang="en-US" sz="43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3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43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И  ДУХОВНАЯ  ЖИЗНЬ</a:t>
              </a:r>
              <a:endParaRPr b="0" lang="en-US" sz="43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3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43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ОБЩЕСТВА</a:t>
              </a:r>
              <a:endParaRPr b="0" lang="en-US" sz="43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7" name="Заголовок 4"/>
          <p:cNvGrpSpPr/>
          <p:nvPr/>
        </p:nvGrpSpPr>
        <p:grpSpPr>
          <a:xfrm>
            <a:off x="3828960" y="5486400"/>
            <a:ext cx="4675320" cy="1859040"/>
            <a:chOff x="3828960" y="5486400"/>
            <a:chExt cx="4675320" cy="1859040"/>
          </a:xfrm>
        </p:grpSpPr>
        <p:pic>
          <p:nvPicPr>
            <p:cNvPr id="88" name="Заголовок 4" descr=""/>
            <p:cNvPicPr/>
            <p:nvPr/>
          </p:nvPicPr>
          <p:blipFill>
            <a:blip r:embed="rId3"/>
            <a:stretch/>
          </p:blipFill>
          <p:spPr>
            <a:xfrm>
              <a:off x="3828960" y="5486400"/>
              <a:ext cx="467532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286160" y="5500800"/>
              <a:ext cx="407196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cc00"/>
                  </a:solidFill>
                  <a:latin typeface="Arial"/>
                </a:rPr>
                <a:t>Подготовил учитель истории МАОУ сош №12 Бузин А. М.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ransition spd="med" advTm="4000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Прямоугольник 2"/>
          <p:cNvGrpSpPr/>
          <p:nvPr/>
        </p:nvGrpSpPr>
        <p:grpSpPr>
          <a:xfrm>
            <a:off x="2425680" y="701640"/>
            <a:ext cx="3951360" cy="1481040"/>
            <a:chOff x="2425680" y="701640"/>
            <a:chExt cx="3951360" cy="1481040"/>
          </a:xfrm>
        </p:grpSpPr>
        <p:pic>
          <p:nvPicPr>
            <p:cNvPr id="91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2425680" y="701640"/>
              <a:ext cx="395136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786040" y="714240"/>
              <a:ext cx="3576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КУЛЬТУРА 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(более 200 определений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3" name="Стрелка вниз 3"/>
          <p:cNvGrpSpPr/>
          <p:nvPr/>
        </p:nvGrpSpPr>
        <p:grpSpPr>
          <a:xfrm>
            <a:off x="4175280" y="1908000"/>
            <a:ext cx="615960" cy="1127160"/>
            <a:chOff x="4175280" y="1908000"/>
            <a:chExt cx="615960" cy="1127160"/>
          </a:xfrm>
        </p:grpSpPr>
        <p:pic>
          <p:nvPicPr>
            <p:cNvPr id="94" name="Стрелка вниз 3" descr=""/>
            <p:cNvPicPr/>
            <p:nvPr/>
          </p:nvPicPr>
          <p:blipFill>
            <a:blip r:embed="rId2"/>
            <a:stretch/>
          </p:blipFill>
          <p:spPr>
            <a:xfrm>
              <a:off x="4175280" y="1908000"/>
              <a:ext cx="61596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335480" y="2000160"/>
              <a:ext cx="243000" cy="8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6" name="Прямоугольник 4"/>
          <p:cNvGrpSpPr/>
          <p:nvPr/>
        </p:nvGrpSpPr>
        <p:grpSpPr>
          <a:xfrm>
            <a:off x="-73080" y="3024360"/>
            <a:ext cx="4383000" cy="3943080"/>
            <a:chOff x="-73080" y="3024360"/>
            <a:chExt cx="4383000" cy="3943080"/>
          </a:xfrm>
        </p:grpSpPr>
        <p:pic>
          <p:nvPicPr>
            <p:cNvPr id="97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-73080" y="3024360"/>
              <a:ext cx="4383000" cy="39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85840" y="3071880"/>
              <a:ext cx="3909960" cy="34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4d4d4d"/>
                  </a:solidFill>
                  <a:latin typeface="Arial"/>
                </a:rPr>
                <a:t>В самом широком смысле </a:t>
              </a: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 культура  </a:t>
              </a:r>
              <a:r>
                <a:rPr b="1" i="1" lang="ru-RU" sz="2000" spc="-1" strike="noStrike">
                  <a:solidFill>
                    <a:srgbClr val="4d4d4d"/>
                  </a:solidFill>
                  <a:latin typeface="Arial"/>
                </a:rPr>
                <a:t>представляет  собой совокупность внебиологических средств и механизмов  деятельности, посредством  которой  человек  осваивает окружающий мир, осуществляет  регуляцию  общественной жизни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9" name="Прямоугольник 5"/>
          <p:cNvGrpSpPr/>
          <p:nvPr/>
        </p:nvGrpSpPr>
        <p:grpSpPr>
          <a:xfrm>
            <a:off x="4290840" y="3024360"/>
            <a:ext cx="4834080" cy="3943080"/>
            <a:chOff x="4290840" y="3024360"/>
            <a:chExt cx="4834080" cy="3943080"/>
          </a:xfrm>
        </p:grpSpPr>
        <p:pic>
          <p:nvPicPr>
            <p:cNvPr id="100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4290840" y="3024360"/>
              <a:ext cx="4834080" cy="39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714920" y="3071880"/>
              <a:ext cx="4214880" cy="34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Культура  исключительно человеческий по своему происхождению  и  назначению механизм. </a:t>
              </a:r>
              <a:r>
                <a:rPr b="1" i="1" lang="ru-RU" sz="2000" spc="-1" strike="noStrike">
                  <a:solidFill>
                    <a:srgbClr val="4d4d4d"/>
                  </a:solidFill>
                  <a:latin typeface="Arial"/>
                </a:rPr>
                <a:t>Культура  является  универсальной формой  человеческих коммуникаций , её функционирование обеспечивает  преемственность развития  общества, взаимодействие  отдельных подсистем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02" name="Picture 2" descr="C:\Documents and Settings\Admin\Рабочий стол\Новая папка (4)\interest240_d85.jpg"/>
          <p:cNvPicPr/>
          <p:nvPr/>
        </p:nvPicPr>
        <p:blipFill>
          <a:blip r:embed="rId5"/>
          <a:stretch/>
        </p:blipFill>
        <p:spPr>
          <a:xfrm>
            <a:off x="79200" y="487440"/>
            <a:ext cx="2303640" cy="260964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Documents and Settings\Admin\Рабочий стол\Новая папка (4)\c67761074474840086303ed0c00_prev.jpg"/>
          <p:cNvPicPr/>
          <p:nvPr/>
        </p:nvPicPr>
        <p:blipFill>
          <a:blip r:embed="rId1"/>
          <a:stretch/>
        </p:blipFill>
        <p:spPr>
          <a:xfrm>
            <a:off x="2944800" y="3468600"/>
            <a:ext cx="2816280" cy="2273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0560" y="142560"/>
            <a:ext cx="65530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МАТЕРИАЛЬНАЯ И ДУХОВНАЯ</a:t>
            </a:r>
            <a:br>
              <a:rPr sz="2600"/>
            </a:br>
            <a:r>
              <a:rPr b="1" i="1" lang="ru-RU" sz="2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               КУЛЬТУРА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05" name="Прямоугольник 2"/>
          <p:cNvGrpSpPr/>
          <p:nvPr/>
        </p:nvGrpSpPr>
        <p:grpSpPr>
          <a:xfrm>
            <a:off x="768240" y="1200240"/>
            <a:ext cx="8674200" cy="2249280"/>
            <a:chOff x="768240" y="1200240"/>
            <a:chExt cx="8674200" cy="2249280"/>
          </a:xfrm>
        </p:grpSpPr>
        <p:pic>
          <p:nvPicPr>
            <p:cNvPr id="106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768240" y="1200240"/>
              <a:ext cx="8674200" cy="22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57160" y="1214280"/>
              <a:ext cx="7715520" cy="21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900" spc="-1" strike="noStrike">
                  <a:solidFill>
                    <a:srgbClr val="ff0000"/>
                  </a:solidFill>
                  <a:latin typeface="Arial"/>
                </a:rPr>
                <a:t>КУЛЬТУРА </a:t>
              </a:r>
              <a:r>
                <a:rPr b="1" i="1" lang="ru-RU" sz="1900" spc="-1" strike="noStrike">
                  <a:solidFill>
                    <a:srgbClr val="3a3a3a"/>
                  </a:solidFill>
                  <a:latin typeface="Arial"/>
                </a:rPr>
                <a:t>– ЭТО СПЕЦИФИКА  ЧЕЛОВЕЧЕСКОЙ   ДЕЯТЕЛЬНОСТИ, ЧТО ХАРАКТЕРИЗУЕТ ЧЕЛОВЕКА КАК ВИД. НАПРАСНЫ ПОИСКИ  ЧЕЛОВЕКА ДО КУЛЬТУРЫ, ПОЯВЛЕНИЕ  ЕГО НА АРЕНЕ ИСТОРИИ  НАДЛЕЖИТ РАССМАТРИВАТЬ КАК ФЕНОМЕН КУЛЬТУРЫ.</a:t>
              </a:r>
              <a:endParaRPr b="0" lang="en-US" sz="19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900" spc="-1" strike="noStrike">
                  <a:solidFill>
                    <a:srgbClr val="3a3a3a"/>
                  </a:solidFill>
                  <a:latin typeface="Arial"/>
                </a:rPr>
                <a:t>                     </a:t>
              </a:r>
              <a:r>
                <a:rPr b="1" i="1" lang="ru-RU" sz="1900" spc="-1" strike="noStrike">
                  <a:solidFill>
                    <a:srgbClr val="3a3a3a"/>
                  </a:solidFill>
                  <a:latin typeface="Arial"/>
                </a:rPr>
                <a:t>( А. де  БЕНУА)</a:t>
              </a:r>
              <a:endParaRPr b="0" lang="en-US" sz="19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" name="Стрелка вниз 3"/>
          <p:cNvGrpSpPr/>
          <p:nvPr/>
        </p:nvGrpSpPr>
        <p:grpSpPr>
          <a:xfrm>
            <a:off x="1700280" y="3486240"/>
            <a:ext cx="780840" cy="963360"/>
            <a:chOff x="1700280" y="3486240"/>
            <a:chExt cx="780840" cy="963360"/>
          </a:xfrm>
        </p:grpSpPr>
        <p:pic>
          <p:nvPicPr>
            <p:cNvPr id="109" name="Стрелка вниз 3" descr=""/>
            <p:cNvPicPr/>
            <p:nvPr/>
          </p:nvPicPr>
          <p:blipFill>
            <a:blip r:embed="rId3"/>
            <a:stretch/>
          </p:blipFill>
          <p:spPr>
            <a:xfrm>
              <a:off x="1700280" y="3486240"/>
              <a:ext cx="78084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835280" y="3500280"/>
              <a:ext cx="242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" name="Стрелка вниз 4"/>
          <p:cNvGrpSpPr/>
          <p:nvPr/>
        </p:nvGrpSpPr>
        <p:grpSpPr>
          <a:xfrm>
            <a:off x="6626160" y="3486240"/>
            <a:ext cx="785880" cy="963360"/>
            <a:chOff x="6626160" y="3486240"/>
            <a:chExt cx="785880" cy="963360"/>
          </a:xfrm>
        </p:grpSpPr>
        <p:pic>
          <p:nvPicPr>
            <p:cNvPr id="112" name="Стрелка вниз 4" descr=""/>
            <p:cNvPicPr/>
            <p:nvPr/>
          </p:nvPicPr>
          <p:blipFill>
            <a:blip r:embed="rId4"/>
            <a:stretch/>
          </p:blipFill>
          <p:spPr>
            <a:xfrm>
              <a:off x="6626160" y="3486240"/>
              <a:ext cx="78588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764400" y="3500280"/>
              <a:ext cx="243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14" name="Скругленный прямоугольник 5"/>
          <p:cNvSpPr/>
          <p:nvPr/>
        </p:nvSpPr>
        <p:spPr>
          <a:xfrm>
            <a:off x="428760" y="4500720"/>
            <a:ext cx="3286080" cy="171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a9c5"/>
              </a:gs>
              <a:gs pos="100000">
                <a:srgbClr val="a7deff"/>
              </a:gs>
            </a:gsLst>
            <a:lin ang="16200000"/>
          </a:gradFill>
          <a:ln w="9360">
            <a:solidFill>
              <a:srgbClr val="b2ddfb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a3a3a"/>
                </a:solidFill>
                <a:latin typeface="Arial"/>
              </a:rPr>
              <a:t>МАТЕРИАЛЬНАЯ КУЛЬТУРА ОБЫЧНО СВЯЗЫВАЕТСЯ  С ПРАКТИЧЕСКОЙ ДЕЯТЕЛЬНОСТЬЮ  ОБЩЕСТВА И ЧЕЛОВЕКА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Скругленный прямоугольник 6"/>
          <p:cNvSpPr/>
          <p:nvPr/>
        </p:nvSpPr>
        <p:spPr>
          <a:xfrm>
            <a:off x="5357880" y="4500720"/>
            <a:ext cx="3276360" cy="171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a9c5"/>
              </a:gs>
              <a:gs pos="100000">
                <a:srgbClr val="a7deff"/>
              </a:gs>
            </a:gsLst>
            <a:lin ang="16200000"/>
          </a:gradFill>
          <a:ln w="9360">
            <a:solidFill>
              <a:srgbClr val="b2ddfb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a3a3a"/>
                </a:solidFill>
                <a:latin typeface="Arial"/>
              </a:rPr>
              <a:t>ДУХОВНАЯ КУЛЬТУРА СВЯЗЫВАЕТСЯ  С РЕЗУЛЬТАТАМИ  ДУХОВНОЙ ДЕЯТЕЛЬНОСТИ 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 advTm="14000">
    <p:pull dir="r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14720" y="142560"/>
            <a:ext cx="7215120" cy="8571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ДУХОВНАЯ ЖИЗНЬ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Скругленный прямоугольник 2"/>
          <p:cNvSpPr/>
          <p:nvPr/>
        </p:nvSpPr>
        <p:spPr>
          <a:xfrm>
            <a:off x="142920" y="1500120"/>
            <a:ext cx="2857320" cy="5000760"/>
          </a:xfrm>
          <a:custGeom>
            <a:avLst/>
            <a:gdLst>
              <a:gd name="textAreaLeft" fmla="*/ 139320 w 2857320"/>
              <a:gd name="textAreaRight" fmla="*/ 2718000 w 2857320"/>
              <a:gd name="textAreaTop" fmla="*/ 139320 h 5000760"/>
              <a:gd name="textAreaBottom" fmla="*/ 4861440 h 5000760"/>
            </a:gdLst>
            <a:ahLst/>
            <a:rect l="textAreaLeft" t="textAreaTop" r="textAreaRight" b="textAreaBottom"/>
            <a:pathLst>
              <a:path w="21600" h="37801">
                <a:moveTo>
                  <a:pt x="3600" y="0"/>
                </a:moveTo>
                <a:arcTo wR="3600" hR="3600" stAng="16200000" swAng="-5400000"/>
                <a:lnTo>
                  <a:pt x="0" y="34201"/>
                </a:lnTo>
                <a:arcTo wR="3600" hR="3600" stAng="10800000" swAng="-5400000"/>
                <a:lnTo>
                  <a:pt x="18000" y="378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ff5ff"/>
              </a:gs>
              <a:gs pos="100000">
                <a:srgbClr val="ebfcff"/>
              </a:gs>
            </a:gsLst>
            <a:lin ang="16200000"/>
          </a:gradFill>
          <a:ln w="9360">
            <a:solidFill>
              <a:srgbClr val="b2ddfb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ДУХОВНАЯ  ЖИЗНЬ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 - </a:t>
            </a:r>
            <a:r>
              <a:rPr b="1" i="1" lang="ru-RU" sz="1700" spc="-1" strike="noStrike">
                <a:solidFill>
                  <a:srgbClr val="3a3a3a"/>
                </a:solidFill>
                <a:latin typeface="Arial"/>
                <a:ea typeface="Times New Roman"/>
              </a:rPr>
              <a:t>ЭТО СФЕРА  ДЕЯТЕЛЬНОСТИ ЧЕЛОВЕКА И ОБЩЕСТВА, КОТОРАЯ ОХВАТЫВАЕТ  БОГАТСТВО ЧЕЛОВЕЧЕСКИХ ЧУВСТВ И ДОСТИЖЕНИЙ РАЗУМА, ОБЪЕДИНЯЕТ КАК УСВОЕНИЕ   ДУХОВНЫХ ЦЕННОСТЕЙ, ТАК И СОЗДАНИЕ  НОВЫХ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18" name="Стрелка вправо 3"/>
          <p:cNvGrpSpPr/>
          <p:nvPr/>
        </p:nvGrpSpPr>
        <p:grpSpPr>
          <a:xfrm>
            <a:off x="3193920" y="1536840"/>
            <a:ext cx="1274760" cy="609480"/>
            <a:chOff x="3193920" y="1536840"/>
            <a:chExt cx="1274760" cy="609480"/>
          </a:xfrm>
        </p:grpSpPr>
        <p:pic>
          <p:nvPicPr>
            <p:cNvPr id="119" name="Стрелка вправо 3" descr=""/>
            <p:cNvPicPr/>
            <p:nvPr/>
          </p:nvPicPr>
          <p:blipFill>
            <a:blip r:embed="rId1"/>
            <a:stretch/>
          </p:blipFill>
          <p:spPr>
            <a:xfrm>
              <a:off x="3193920" y="1536840"/>
              <a:ext cx="12747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286080" y="1692360"/>
              <a:ext cx="10224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21" name="Прямоугольник 4"/>
          <p:cNvSpPr/>
          <p:nvPr/>
        </p:nvSpPr>
        <p:spPr>
          <a:xfrm>
            <a:off x="4786200" y="1000080"/>
            <a:ext cx="4071960" cy="1285920"/>
          </a:xfrm>
          <a:prstGeom prst="rect">
            <a:avLst/>
          </a:prstGeom>
          <a:gradFill rotWithShape="0">
            <a:gsLst>
              <a:gs pos="0">
                <a:srgbClr val="bff5ff"/>
              </a:gs>
              <a:gs pos="100000">
                <a:srgbClr val="ebfcff"/>
              </a:gs>
            </a:gsLst>
            <a:lin ang="16200000"/>
          </a:gradFill>
          <a:ln w="9360">
            <a:solidFill>
              <a:srgbClr val="b2ddfb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a3a3a"/>
                </a:solidFill>
                <a:latin typeface="Arial"/>
              </a:rPr>
              <a:t>УЧЕНЫЕ  ЧАСТО РАССМАТРИВАЮТ  ОТДЕЛЬНО  ДУХОВНУЮ ЖИЗНЬ ОБЩЕСТВА  И ДУХОВНУЮ  ЖИЗНЬ ЛИЧНОСТИ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22" name="Стрелка вниз 5"/>
          <p:cNvGrpSpPr/>
          <p:nvPr/>
        </p:nvGrpSpPr>
        <p:grpSpPr>
          <a:xfrm>
            <a:off x="6692760" y="2322360"/>
            <a:ext cx="615960" cy="628920"/>
            <a:chOff x="6692760" y="2322360"/>
            <a:chExt cx="615960" cy="628920"/>
          </a:xfrm>
        </p:grpSpPr>
        <p:pic>
          <p:nvPicPr>
            <p:cNvPr id="123" name="Стрелка вниз 5" descr=""/>
            <p:cNvPicPr/>
            <p:nvPr/>
          </p:nvPicPr>
          <p:blipFill>
            <a:blip r:embed="rId2"/>
            <a:stretch/>
          </p:blipFill>
          <p:spPr>
            <a:xfrm>
              <a:off x="6692760" y="2322360"/>
              <a:ext cx="61596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907320" y="2357280"/>
              <a:ext cx="24264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25" name="Прямоугольник 6"/>
          <p:cNvSpPr/>
          <p:nvPr/>
        </p:nvSpPr>
        <p:spPr>
          <a:xfrm>
            <a:off x="3357720" y="2643120"/>
            <a:ext cx="2643120" cy="4000680"/>
          </a:xfrm>
          <a:prstGeom prst="rect">
            <a:avLst/>
          </a:prstGeom>
          <a:gradFill rotWithShape="0">
            <a:gsLst>
              <a:gs pos="0">
                <a:srgbClr val="bff5ff"/>
              </a:gs>
              <a:gs pos="100000">
                <a:srgbClr val="ebfcff"/>
              </a:gs>
            </a:gsLst>
            <a:lin ang="16200000"/>
          </a:gradFill>
          <a:ln w="9360">
            <a:solidFill>
              <a:srgbClr val="b2ddfb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a3a3a"/>
                </a:solidFill>
                <a:latin typeface="Arial"/>
              </a:rPr>
              <a:t>ДУХОВНАЯ ЖИЗНЬ ЛИЧНОСТИ (ДУХОВНЫЙ МИР) 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a3a3a"/>
                </a:solidFill>
                <a:latin typeface="Arial"/>
              </a:rPr>
              <a:t>ОТНОСЯТ  ЗНАНИЯ, ВЕРА ПОТРЕБНОСТИ, СПОСОБНОСТИ, ЭМОЦИИ И ПЕРЕЖИВАНИЯ.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a3a3a"/>
                </a:solidFill>
                <a:latin typeface="Arial"/>
              </a:rPr>
              <a:t>ОДНИМ ИЗ ГЛАВНЫХ УСЛОВИЙ  ЛИЧНОСТИ-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a3a3a"/>
                </a:solidFill>
                <a:latin typeface="Arial"/>
              </a:rPr>
              <a:t>ОСВОЕНИЕ КУЛЬТУРЫ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6357960" y="2857680"/>
            <a:ext cx="2643120" cy="4000320"/>
          </a:xfrm>
          <a:prstGeom prst="rect">
            <a:avLst/>
          </a:prstGeom>
          <a:gradFill rotWithShape="0">
            <a:gsLst>
              <a:gs pos="0">
                <a:srgbClr val="bff5ff"/>
              </a:gs>
              <a:gs pos="100000">
                <a:srgbClr val="ebfcff"/>
              </a:gs>
            </a:gsLst>
            <a:lin ang="16200000"/>
          </a:gradFill>
          <a:ln w="9360">
            <a:solidFill>
              <a:srgbClr val="b2ddfb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ДУХОВНАЯ ЖИЗНЬ  </a:t>
            </a:r>
            <a:r>
              <a:rPr b="1" i="1" lang="ru-RU" sz="1700" spc="-1" strike="noStrike">
                <a:solidFill>
                  <a:srgbClr val="4d4d4d"/>
                </a:solidFill>
                <a:latin typeface="Arial"/>
              </a:rPr>
              <a:t>ОБЩЕСТВА ( СФЕРА) -  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4d4d4d"/>
                </a:solidFill>
                <a:latin typeface="Arial"/>
              </a:rPr>
              <a:t>НАУКА, НРАВСТВЕННОСТЬ, РЕЛИГИЯ, ФИЛОСОФИЯ, ОРГАНИЗАЦИИ.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4d4d4d"/>
                </a:solidFill>
                <a:latin typeface="Arial"/>
              </a:rPr>
              <a:t>ДВА ВИДА ДЕЯТЕЛЬНОСТИ: </a:t>
            </a:r>
            <a:r>
              <a:rPr b="1" i="1" lang="ru-RU" sz="1700" spc="-1" strike="noStrike">
                <a:solidFill>
                  <a:srgbClr val="202020"/>
                </a:solidFill>
                <a:latin typeface="Arial"/>
              </a:rPr>
              <a:t>ДУХОВНО- ТЕОРЕТИЧЕСКОЕ И  ДУХОВНО- ПРАКТИЧЕСКАЯ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 advTm="16000">
    <p:pull dir="r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3T11:03:51Z</dcterms:modified>
  <cp:revision>48</cp:revision>
  <dc:subject/>
  <dc:title>Слайд 1</dc:title>
</cp:coreProperties>
</file>