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16.png" ContentType="image/png"/>
  <Override PartName="/ppt/media/chimes.wav" ContentType="audio/x-wav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9E70718-271A-4F4B-8477-6B7132048BBD}" type="datetime13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3:25:35 P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A7A3-35BF-407C-B4EF-7D0623E1A7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0315-8A59-4674-8B05-1879B9A74BF6}" type="datetime13">
              <a:rPr b="0" lang="ru-RU" sz="1200" spc="-1" strike="noStrike">
                <a:solidFill>
                  <a:srgbClr val="eae8e2"/>
                </a:solidFill>
                <a:latin typeface="Times New Roman"/>
              </a:rPr>
              <a:t>03:25:36 PM</a:t>
            </a:fld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4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6263-05EE-4D0A-AE25-B870AF53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340-CA14-4790-9146-7A143A97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8B3-6C84-469D-BB41-7D0FC9F0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0EE-2C5E-408D-B484-5633FCFA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13FC-1E33-4E5C-A946-F2749A31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983E-1DED-4515-AB93-50983206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8FBD-E3E0-4DCB-957F-C6D2B1CA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2656-2FA7-4335-9AAE-E72C6543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C6EB-304F-42BA-AE7E-CFF76847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138A-1FB0-4F87-B6FA-E5EC209E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78C9-F348-4127-B911-DE5A91FB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5BD-3D43-47D9-BD6E-2251FAA3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CDD2-5033-4A6D-BC2E-4AC9C2CC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8A3D-B9D2-4BC4-972F-08696661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25A3-5DA8-4832-929A-3853A36F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2E00-1FF6-4696-8CD4-8207C8CE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C273-CD30-4DD8-861F-C312E0FD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FD7-AF5E-4804-A1C7-A8A5547A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88F-62C1-44CD-A35F-EDE58A27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BECD-5876-4BBC-A586-FC78AE20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2F2-9741-49C3-AB26-3DE4AC30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EC9-7470-4723-8CBA-1E5E3385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46F8-A51B-403C-986D-0A022209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177F-839C-4170-9924-1BDD99B6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Picture 5" descr="D:\FRONTPAGE THEMES\CONSTRUC\URBBANND.PNG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08DF-4E54-412E-B0CA-E6FDCFFE076F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Picture 5" descr="D:\FRONTPAGE THEMES\CONSTRUC\URBBANND.PNG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4F8A-D2E8-4B10-A9F1-684E9F66D191}" type="slidenum">
              <a:rPr b="0" lang="ru-RU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5120" y="43920"/>
            <a:ext cx="7778880" cy="98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bc03"/>
                </a:solidFill>
                <a:latin typeface="Impact"/>
              </a:rPr>
              <a:t>Электронные таблицы          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49"/>
              </a:spcBef>
              <a:buClr>
                <a:srgbClr val="a7c1cb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Каково основное назначение ЭТ?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443160" indent="-443160">
              <a:spcBef>
                <a:spcPts val="649"/>
              </a:spcBef>
              <a:buClr>
                <a:srgbClr val="a7c1cb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Как именуются ячейки таблицы?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443160" indent="-443160">
              <a:spcBef>
                <a:spcPts val="649"/>
              </a:spcBef>
              <a:buClr>
                <a:srgbClr val="a7c1cb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Какая информация может хранится в ячейках?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443160" indent="-443160">
              <a:spcBef>
                <a:spcPts val="649"/>
              </a:spcBef>
              <a:buClr>
                <a:srgbClr val="a7c1cb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Какие 2 способа записи чисел используются в ЭТ?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443160" indent="-443160">
              <a:spcBef>
                <a:spcPts val="649"/>
              </a:spcBef>
              <a:buClr>
                <a:srgbClr val="a7c1cb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Как  записать  число 200 000 000 в ЭТ в экспоненциальной форме?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443160" indent="-443160">
              <a:spcBef>
                <a:spcPts val="649"/>
              </a:spcBef>
              <a:buClr>
                <a:srgbClr val="a7c1cb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Как выглядит стандартная запись числа?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443160" indent="-443160">
              <a:spcBef>
                <a:spcPts val="649"/>
              </a:spcBef>
              <a:buClr>
                <a:srgbClr val="a7c1cb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Что такое диапазон ячеек?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443160" indent="-443160">
              <a:spcBef>
                <a:spcPts val="649"/>
              </a:spcBef>
              <a:buClr>
                <a:srgbClr val="a7c1cb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С чего начинается запись формулы в ячейке?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443160" indent="-443160">
              <a:spcBef>
                <a:spcPts val="649"/>
              </a:spcBef>
              <a:buClr>
                <a:srgbClr val="a7c1cb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В чем заключается принцип относительной адресации в ЭТ?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443160" indent="-443160">
              <a:spcBef>
                <a:spcPts val="649"/>
              </a:spcBef>
              <a:buClr>
                <a:srgbClr val="a7c1cb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Какие функции называются статистическими? Назовите некоторые из них.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9" name="Дата 3"/>
          <p:cNvSpPr/>
          <p:nvPr/>
        </p:nvSpPr>
        <p:spPr>
          <a:xfrm>
            <a:off x="95400" y="500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D272-110C-480F-B5AD-ED4202717602}" type="datetime">
              <a:rPr b="1" lang="ru-RU" sz="3200" spc="-1" strike="noStrike">
                <a:solidFill>
                  <a:srgbClr val="eae8e2"/>
                </a:solidFill>
                <a:latin typeface="Arial Narrow"/>
              </a:rPr>
              <a:t>30.07.26</a:t>
            </a:fld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7120" y="371520"/>
            <a:ext cx="24386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Графики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отобража</a:t>
            </a:r>
            <a:r>
              <a:rPr b="0" lang="ru-RU" sz="2400" spc="-1" strike="noStrike">
                <a:solidFill>
                  <a:srgbClr val="eae8e2"/>
                </a:solidFill>
                <a:latin typeface="Arial Narrow"/>
              </a:rPr>
              <a:t>ю</a:t>
            </a:r>
            <a:r>
              <a:rPr b="0" lang="ru-RU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т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тенденцию изменения данных за равные промежутки времени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29" name="Object 6"/>
          <p:cNvGraphicFramePr/>
          <p:nvPr/>
        </p:nvGraphicFramePr>
        <p:xfrm>
          <a:off x="3276720" y="395280"/>
          <a:ext cx="5667120" cy="35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95280"/>
                    <a:ext cx="566712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7"/>
          <p:cNvGraphicFramePr/>
          <p:nvPr/>
        </p:nvGraphicFramePr>
        <p:xfrm>
          <a:off x="304920" y="3505320"/>
          <a:ext cx="5105160" cy="328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05320"/>
                    <a:ext cx="5105160" cy="32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bdf39"/>
                </a:solidFill>
                <a:latin typeface="Arial Narrow"/>
                <a:ea typeface="Times New Roman"/>
              </a:rPr>
              <a:t>С областями</a:t>
            </a:r>
            <a:r>
              <a:rPr b="0" lang="ru-RU" sz="2400" spc="-1" strike="noStrike">
                <a:solidFill>
                  <a:srgbClr val="fbdf39"/>
                </a:solidFill>
                <a:latin typeface="Arial Narrow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показывают изменение общего количества в течение какого-то периода времени, отображая сумму введенных значений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34" name="Object 7"/>
          <p:cNvGraphicFramePr/>
          <p:nvPr/>
        </p:nvGraphicFramePr>
        <p:xfrm>
          <a:off x="1071720" y="1928880"/>
          <a:ext cx="72007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928880"/>
                    <a:ext cx="72007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bc03"/>
                </a:solidFill>
                <a:latin typeface="Impact"/>
              </a:rPr>
              <a:t>Обоснуйте выбор типа диаграммы для представления: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4920" y="184464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8e2"/>
                </a:solidFill>
                <a:latin typeface="Arial Narrow"/>
              </a:rPr>
              <a:t>площадей водной поверхности крупнейших озёр нашей страны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8e2"/>
                </a:solidFill>
                <a:latin typeface="Arial Narrow"/>
              </a:rPr>
              <a:t>результатов контрольной работы по математике в 9 а и 9 б классах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8e2"/>
                </a:solidFill>
                <a:latin typeface="Arial Narrow"/>
              </a:rPr>
              <a:t>динамики изменения температуры в течение месяца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8e2"/>
                </a:solidFill>
                <a:latin typeface="Arial Narrow"/>
              </a:rPr>
              <a:t>доли федеральных округов РФ в общем объёме промышленного производства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bc03"/>
                </a:solidFill>
                <a:latin typeface="Impact"/>
              </a:rPr>
              <a:t>Построение диаграмм в ЭТ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28600" y="1981080"/>
            <a:ext cx="8534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Для того, чтобы построить диаграмму надо в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таблице с данными </a:t>
            </a:r>
            <a:r>
              <a:rPr b="0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выделит</a:t>
            </a:r>
            <a:r>
              <a:rPr b="0" lang="ru-RU" sz="2400" spc="-1" strike="noStrike">
                <a:solidFill>
                  <a:srgbClr val="fbdf39"/>
                </a:solidFill>
                <a:latin typeface="Times New Roman"/>
              </a:rPr>
              <a:t>ь</a:t>
            </a:r>
            <a:r>
              <a:rPr b="0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  столбц</a:t>
            </a:r>
            <a:r>
              <a:rPr b="0" lang="ru-RU" sz="2400" spc="-1" strike="noStrike">
                <a:solidFill>
                  <a:srgbClr val="fbdf39"/>
                </a:solidFill>
                <a:latin typeface="Times New Roman"/>
              </a:rPr>
              <a:t>ы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содержащие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 необходимые значения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. Для выделения несмежных ячеек, удержива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ть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нажатой клавишу </a:t>
            </a:r>
            <a:r>
              <a:rPr b="0" lang="en-US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Ctrl</a:t>
            </a:r>
            <a:r>
              <a:rPr b="0" lang="tt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graphicFrame>
        <p:nvGraphicFramePr>
          <p:cNvPr id="140" name="Object 6"/>
          <p:cNvGraphicFramePr/>
          <p:nvPr/>
        </p:nvGraphicFramePr>
        <p:xfrm>
          <a:off x="380880" y="4267080"/>
          <a:ext cx="4038840" cy="17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267080"/>
                    <a:ext cx="403884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7"/>
          <p:cNvGraphicFramePr/>
          <p:nvPr/>
        </p:nvGraphicFramePr>
        <p:xfrm>
          <a:off x="4876920" y="4267080"/>
          <a:ext cx="4010040" cy="17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4267080"/>
                    <a:ext cx="401004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Д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алее запустить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Мастера диаграмм командой </a:t>
            </a:r>
            <a:r>
              <a:rPr b="0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Диаграмма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из пункта меню </a:t>
            </a:r>
            <a:r>
              <a:rPr b="0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Вставка</a:t>
            </a:r>
            <a:r>
              <a:rPr b="0" lang="ru-RU" sz="2400" spc="-1" strike="noStrike">
                <a:solidFill>
                  <a:srgbClr val="fbdf3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или кнопкой на </a:t>
            </a:r>
            <a:r>
              <a:rPr b="0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Панели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инструментов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.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  На 1 шаге выбирают тип диаграммы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45" name="Object 7"/>
          <p:cNvGraphicFramePr/>
          <p:nvPr/>
        </p:nvGraphicFramePr>
        <p:xfrm>
          <a:off x="1486080" y="1828800"/>
          <a:ext cx="56768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6080" y="1828800"/>
                    <a:ext cx="56768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8e2"/>
                </a:solidFill>
                <a:latin typeface="Times New Roman"/>
              </a:rPr>
              <a:t>На 2 шаге целесообразно переименовать ряды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2514600" y="1371600"/>
          <a:ext cx="394344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371600"/>
                    <a:ext cx="39434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На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следующем шаге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надо ввести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Название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диаграммы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 на вкладке </a:t>
            </a:r>
            <a:r>
              <a:rPr b="1" lang="ru-RU" sz="2400" spc="-1" strike="noStrike">
                <a:solidFill>
                  <a:srgbClr val="fbdf39"/>
                </a:solidFill>
                <a:latin typeface="Times New Roman"/>
              </a:rPr>
              <a:t>Заголовки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на вкладке </a:t>
            </a:r>
            <a:r>
              <a:rPr b="1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Легенда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выб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рать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расположение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 (например </a:t>
            </a:r>
            <a:r>
              <a:rPr b="0" i="1" lang="ru-RU" sz="2400" spc="-1" strike="noStrike">
                <a:solidFill>
                  <a:srgbClr val="eae8e2"/>
                </a:solidFill>
                <a:latin typeface="Times New Roman"/>
              </a:rPr>
              <a:t>внизу)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, на вкладке </a:t>
            </a:r>
            <a:r>
              <a:rPr b="1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Подписи данных</a:t>
            </a:r>
            <a:r>
              <a:rPr b="1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установит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ь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переключатель на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нужной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кнопке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(например, </a:t>
            </a:r>
            <a:r>
              <a:rPr b="0" i="1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значение</a:t>
            </a:r>
            <a:r>
              <a:rPr b="0" i="1" lang="ru-RU" sz="2400" spc="-1" strike="noStrike">
                <a:solidFill>
                  <a:srgbClr val="eae8e2"/>
                </a:solidFill>
                <a:latin typeface="Times New Roman"/>
              </a:rPr>
              <a:t>)</a:t>
            </a:r>
            <a:r>
              <a:rPr b="0" i="1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762120" y="2209680"/>
          <a:ext cx="566712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566712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Line 6"/>
          <p:cNvSpPr/>
          <p:nvPr/>
        </p:nvSpPr>
        <p:spPr>
          <a:xfrm flipH="1" flipV="1">
            <a:off x="5257800" y="5333760"/>
            <a:ext cx="1828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7086600" y="5867280"/>
            <a:ext cx="12952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генда 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8e2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          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В следующем окне Вы можете выбрать размещение диаграммы : на </a:t>
            </a:r>
            <a:r>
              <a:rPr b="1" i="1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имеющемся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 листе или на </a:t>
            </a:r>
            <a:r>
              <a:rPr b="1" i="1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отдельном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,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остается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наж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ать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кнопку </a:t>
            </a:r>
            <a:r>
              <a:rPr b="1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Готово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56" name="Object 6"/>
          <p:cNvGraphicFramePr/>
          <p:nvPr/>
        </p:nvGraphicFramePr>
        <p:xfrm>
          <a:off x="1600200" y="1905120"/>
          <a:ext cx="5791320" cy="45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5791320" cy="45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8e2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   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Заметно, что внешний вид диаграммы оставляет желать лучшего. Выделяя определенные участки диаграммы можно изменять её оформление через контекстное меню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1219320" y="1676520"/>
          <a:ext cx="6705360" cy="48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76520"/>
                    <a:ext cx="670536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228600" y="3049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Можно изменить цвет и способ заливки как области построения, так и области диаграммы, рядов данных; добавить метки значений в виде числовых значений или процентных соотношений; изменить тип диаграммы и т.д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graphicFrame>
        <p:nvGraphicFramePr>
          <p:cNvPr id="162" name="Object 6"/>
          <p:cNvGraphicFramePr/>
          <p:nvPr/>
        </p:nvGraphicFramePr>
        <p:xfrm>
          <a:off x="1371600" y="2209680"/>
          <a:ext cx="6629400" cy="42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6629400" cy="42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700560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bc03"/>
                </a:solidFill>
                <a:latin typeface="Impact"/>
              </a:rPr>
              <a:t>Проверочная работа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1 вариант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4920" y="23241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1.  а) 0,7е4 = 7000 ;     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б) 3,8е-10 = 0,000 000 000 38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2. Числа – А2, А3, В2, В3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Формулы – С2, С3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8e2"/>
                </a:solidFill>
                <a:latin typeface="Arial Narrow"/>
              </a:rPr>
              <a:t>С2 = (А2 + В2)*2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8e2"/>
                </a:solidFill>
                <a:latin typeface="Arial Narrow"/>
              </a:rPr>
              <a:t>С3 = (А3 + В3)*2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   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3.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5 = С5 – В5*А5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4720" y="12855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2 вариант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4720" y="23241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1.  а) 0,000 000 5 = 5е-7 ;     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б) 12 000 000 000 = 1,2е10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2. Числа – А2, А3, В2, В3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Формулы – С2, С3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eae8e2"/>
                </a:solidFill>
                <a:latin typeface="Arial Narrow"/>
              </a:rPr>
              <a:t>С2 = А2*В2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eae8e2"/>
                </a:solidFill>
                <a:latin typeface="Arial Narrow"/>
              </a:rPr>
              <a:t>С3 = А3*В3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   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3.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6 = В6/А6 + С6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05" name="Дата 9"/>
          <p:cNvSpPr/>
          <p:nvPr/>
        </p:nvSpPr>
        <p:spPr>
          <a:xfrm>
            <a:off x="380880" y="614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F613-FBEA-42ED-B269-C9F90CAF06CF}" type="datetime10"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:25</a:t>
            </a:fld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20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bc03"/>
                </a:solidFill>
                <a:latin typeface="Impact"/>
              </a:rPr>
              <a:t>Домашнее задание: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8e2"/>
                </a:solidFill>
                <a:latin typeface="Arial Narrow"/>
              </a:rPr>
              <a:t>§</a:t>
            </a:r>
            <a:r>
              <a:rPr b="1" lang="ru-RU" sz="4000" spc="-1" strike="noStrike">
                <a:solidFill>
                  <a:srgbClr val="eae8e2"/>
                </a:solidFill>
                <a:latin typeface="Arial Narrow"/>
              </a:rPr>
              <a:t> 21 (с.118-119), </a:t>
            </a:r>
            <a:endParaRPr b="0" lang="en-US" sz="4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8e2"/>
                </a:solidFill>
                <a:latin typeface="Arial Narrow"/>
              </a:rPr>
              <a:t>ответить на 1 вопрос,</a:t>
            </a:r>
            <a:endParaRPr b="0" lang="en-US" sz="4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8e2"/>
                </a:solidFill>
                <a:latin typeface="Arial Narrow"/>
              </a:rPr>
              <a:t>№ </a:t>
            </a:r>
            <a:r>
              <a:rPr b="1" lang="ru-RU" sz="4000" spc="-1" strike="noStrike">
                <a:solidFill>
                  <a:srgbClr val="eae8e2"/>
                </a:solidFill>
                <a:latin typeface="Arial Narrow"/>
              </a:rPr>
              <a:t>3, 4  </a:t>
            </a:r>
            <a:endParaRPr b="0" lang="en-US" sz="4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8e2"/>
                </a:solidFill>
                <a:latin typeface="Arial Narrow"/>
              </a:rPr>
              <a:t>(проект «Оплата электричества»)</a:t>
            </a:r>
            <a:endParaRPr b="0" lang="en-US" sz="4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8e2"/>
                </a:solidFill>
                <a:latin typeface="Arial Narrow"/>
              </a:rPr>
              <a:t>в электронном виде</a:t>
            </a:r>
            <a:endParaRPr b="0" lang="en-US" sz="4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3"/>
          <p:cNvSpPr/>
          <p:nvPr/>
        </p:nvSpPr>
        <p:spPr>
          <a:xfrm>
            <a:off x="216000" y="1341360"/>
            <a:ext cx="8353440" cy="5112000"/>
          </a:xfrm>
          <a:prstGeom prst="rect">
            <a:avLst/>
          </a:prstGeom>
          <a:noFill/>
          <a:ln w="57240">
            <a:solidFill>
              <a:srgbClr val="35ef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7" name="Улыбающееся лицо 4"/>
          <p:cNvSpPr/>
          <p:nvPr/>
        </p:nvSpPr>
        <p:spPr>
          <a:xfrm>
            <a:off x="0" y="1125360"/>
            <a:ext cx="720720" cy="809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8000" y="-360"/>
            <a:ext cx="72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dbc03"/>
                </a:solidFill>
                <a:latin typeface="Impact"/>
              </a:rPr>
              <a:t>Физкультминутка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7341E-007 L 0.88975 -1.7341E-007 L 0.88975 0.69595 L 2.22222E-006 0.69595 L 2.22222E-006 -1.7341E-007 Z">
                                      <p:cBhvr>
                                        <p:cTn id="181" dur="3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7341E-007 L 0.88975 -1.7341E-007 L 0.88975 0.69595 L 2.22222E-006 0.69595 L 2.22222E-006 -1.7341E-007 Z">
                                      <p:cBhvr>
                                        <p:cTn id="184" dur="3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975 0 E">
                                      <p:cBhvr>
                                        <p:cTn id="18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8975 4.56647E-006 L 0.00781 0.68161 E">
                                      <p:cBhvr>
                                        <p:cTn id="19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69595 L 0.89757 0.69595 E">
                                      <p:cBhvr>
                                        <p:cTn id="193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7341E-007 L 0.88975 0.69595 E">
                                      <p:cBhvr>
                                        <p:cTn id="196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7341E-007 L 2.22222E-006 0.70659 E">
                                      <p:cBhvr>
                                        <p:cTn id="199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68162 L 0.88194 0.00393 E">
                                      <p:cBhvr>
                                        <p:cTn id="20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8975 -1.7341E-007 L 0.00781 0.00393 E">
                                      <p:cBhvr>
                                        <p:cTn id="205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7341E-007 L 0.89774 0.70659 E">
                                      <p:cBhvr>
                                        <p:cTn id="208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bc03"/>
                </a:solidFill>
                <a:latin typeface="Impact"/>
              </a:rPr>
              <a:t>Практическая работа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8e2"/>
                </a:solidFill>
                <a:latin typeface="Arial Narrow"/>
              </a:rPr>
              <a:t>Мои документы\ 9 а (б) класс\ № группы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8e2"/>
                </a:solidFill>
                <a:latin typeface="Arial Narrow"/>
              </a:rPr>
              <a:t>Использование времени.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xl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772400" cy="91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bc03"/>
                </a:solidFill>
                <a:latin typeface="Impact"/>
              </a:rPr>
              <a:t>Погода в мае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197000"/>
          <a:ext cx="8661240" cy="4403880"/>
        </p:xfrm>
        <a:graphic>
          <a:graphicData uri="http://schemas.openxmlformats.org/drawingml/2006/table">
            <a:tbl>
              <a:tblPr/>
              <a:tblGrid>
                <a:gridCol w="689040"/>
                <a:gridCol w="1527120"/>
                <a:gridCol w="1263600"/>
                <a:gridCol w="1031760"/>
                <a:gridCol w="117360"/>
                <a:gridCol w="935280"/>
                <a:gridCol w="880920"/>
                <a:gridCol w="1069920"/>
                <a:gridCol w="11462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Температура, </a:t>
                      </a:r>
                      <a:r>
                        <a:rPr b="0" lang="en-US" sz="1400" spc="-1" strike="noStrike">
                          <a:solidFill>
                            <a:srgbClr val="303030"/>
                          </a:solidFill>
                          <a:latin typeface="Arial"/>
                          <a:ea typeface="Arial"/>
                        </a:rPr>
                        <a:t>º</a:t>
                      </a:r>
                      <a:r>
                        <a:rPr b="0" lang="ru-RU" sz="1400" spc="-1" strike="noStrike">
                          <a:solidFill>
                            <a:srgbClr val="303030"/>
                          </a:solidFill>
                          <a:latin typeface="Arial"/>
                          <a:ea typeface="Arial"/>
                        </a:rPr>
                        <a:t>С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Влажность, %</a:t>
                      </a: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Давление, мм</a:t>
                      </a: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Ветер</a:t>
                      </a: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Облач-ность</a:t>
                      </a: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Направ-ление</a:t>
                      </a: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Градус</a:t>
                      </a: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Скорость, м/с</a:t>
                      </a: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+16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Ю-В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3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ясно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+19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С-З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2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ясно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+2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С-В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ясно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+2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0-30%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+2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6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С-В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90%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+2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0-80%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</a:tr>
              <a:tr h="45972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+17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44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Ю-В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</a:tr>
            </a:tbl>
          </a:graphicData>
        </a:graphic>
      </p:graphicFrame>
      <p:sp>
        <p:nvSpPr>
          <p:cNvPr id="108" name="TextBox 4"/>
          <p:cNvSpPr/>
          <p:nvPr/>
        </p:nvSpPr>
        <p:spPr>
          <a:xfrm>
            <a:off x="395280" y="6021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какие дни влажность была больше 30 % ?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bc03"/>
                </a:solidFill>
                <a:latin typeface="Impact"/>
              </a:rPr>
              <a:t>Визуализация  данных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110" name="Object 48"/>
          <p:cNvGraphicFramePr/>
          <p:nvPr/>
        </p:nvGraphicFramePr>
        <p:xfrm>
          <a:off x="539640" y="2133720"/>
          <a:ext cx="7989840" cy="36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33720"/>
                    <a:ext cx="7989840" cy="3662280"/>
                  </a:xfrm>
                  <a:prstGeom prst="rect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2" name="Прямоугольник 5"/>
          <p:cNvSpPr/>
          <p:nvPr/>
        </p:nvSpPr>
        <p:spPr>
          <a:xfrm>
            <a:off x="6084720" y="2276640"/>
            <a:ext cx="790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dbc03"/>
                </a:solidFill>
                <a:latin typeface="Impact"/>
              </a:rPr>
              <a:t>Деловая   графика</a:t>
            </a:r>
            <a:endParaRPr b="0" lang="en-US" sz="5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43000" y="40384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eae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8e2"/>
                </a:solidFill>
                <a:latin typeface="Arial Narrow"/>
              </a:rPr>
              <a:t>Типы диаграмм в ЭТ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eae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8e2"/>
                </a:solidFill>
                <a:latin typeface="Arial Narrow"/>
              </a:rPr>
              <a:t>Построение диаграмм в ЭТ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eae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8e2"/>
                </a:solidFill>
                <a:latin typeface="Arial Narrow"/>
              </a:rPr>
              <a:t>Форматирование диаграмм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bc03"/>
                </a:solidFill>
                <a:latin typeface="Impact"/>
              </a:rPr>
              <a:t>Типы диаграмм в ЭТ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df39"/>
                </a:solidFill>
                <a:latin typeface="Arial Narrow"/>
                <a:ea typeface="Times New Roman"/>
              </a:rPr>
              <a:t>Диаграмма</a:t>
            </a:r>
            <a:r>
              <a:rPr b="0" lang="ru-RU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– это </a:t>
            </a:r>
            <a:r>
              <a:rPr b="0" i="1" lang="ru-RU" sz="3200" spc="-1" strike="noStrike">
                <a:solidFill>
                  <a:srgbClr val="fbdf39"/>
                </a:solidFill>
                <a:latin typeface="Arial Narrow"/>
                <a:ea typeface="Times New Roman"/>
              </a:rPr>
              <a:t>графическое представление</a:t>
            </a:r>
            <a:r>
              <a:rPr b="0" lang="ru-RU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fbdf39"/>
                </a:solidFill>
                <a:latin typeface="Arial Narrow"/>
                <a:ea typeface="Times New Roman"/>
              </a:rPr>
              <a:t>данных</a:t>
            </a:r>
            <a:r>
              <a:rPr b="0" lang="ru-RU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рабочего листа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Диаграммы группируются по нескольким основным типам: линейчатая, гистограмма, график, круговая,  с областями, и т. д . Каждый тип диаграммы имеет, по крайней мере, один подтип, являющийся вариацией какого-то исходного типа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bc03"/>
                </a:solidFill>
                <a:latin typeface="Impact"/>
                <a:ea typeface="Times New Roman"/>
              </a:rPr>
              <a:t>В каждом случае важно правильно подобрать тип создаваемой диаграммы. </a:t>
            </a:r>
            <a:endParaRPr b="0" lang="en-US" sz="28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773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bdf39"/>
                </a:solidFill>
                <a:latin typeface="Arial Narrow"/>
                <a:ea typeface="Times New Roman"/>
              </a:rPr>
              <a:t>Линейчатая,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bdf39"/>
                </a:solidFill>
                <a:latin typeface="Arial Narrow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bdf39"/>
                </a:solidFill>
                <a:latin typeface="Arial Narrow"/>
                <a:ea typeface="Times New Roman"/>
              </a:rPr>
              <a:t>гистограмма</a:t>
            </a:r>
            <a:r>
              <a:rPr b="0" lang="ru-RU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–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отражают соотношение величин.</a:t>
            </a:r>
            <a:r>
              <a:rPr b="0" lang="ru-RU" sz="2800" spc="-1" strike="noStrike">
                <a:solidFill>
                  <a:srgbClr val="eae8e2"/>
                </a:solidFill>
                <a:latin typeface="Arial Narrow"/>
              </a:rPr>
              <a:t> По таким диаграммам удобно проводить сравнительный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8e2"/>
                </a:solidFill>
                <a:latin typeface="Arial Narrow"/>
              </a:rPr>
              <a:t>     </a:t>
            </a:r>
            <a:r>
              <a:rPr b="0" lang="ru-RU" sz="2800" spc="-1" strike="noStrike">
                <a:solidFill>
                  <a:srgbClr val="eae8e2"/>
                </a:solidFill>
                <a:latin typeface="Arial Narrow"/>
              </a:rPr>
              <a:t>анализ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4572000" y="1324080"/>
          <a:ext cx="4419720" cy="26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24080"/>
                    <a:ext cx="441972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9"/>
          <p:cNvGraphicFramePr/>
          <p:nvPr/>
        </p:nvGraphicFramePr>
        <p:xfrm>
          <a:off x="3879720" y="4124160"/>
          <a:ext cx="4624560" cy="251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79720" y="4124160"/>
                    <a:ext cx="4624560" cy="2516400"/>
                  </a:xfrm>
                  <a:prstGeom prst="rect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40464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 Narrow"/>
              </a:rPr>
              <a:t>    </a:t>
            </a:r>
            <a:r>
              <a:rPr b="0" i="1" lang="ru-RU" sz="2800" spc="-1" strike="noStrike">
                <a:solidFill>
                  <a:srgbClr val="ffff00"/>
                </a:solidFill>
                <a:latin typeface="Arial Narrow"/>
              </a:rPr>
              <a:t>Ярусные диаграммы </a:t>
            </a:r>
            <a:r>
              <a:rPr b="0" lang="ru-RU" sz="2800" spc="-1" strike="noStrike">
                <a:solidFill>
                  <a:srgbClr val="eae8e2"/>
                </a:solidFill>
                <a:latin typeface="Arial Narrow"/>
              </a:rPr>
              <a:t>(гистограмма с накоплением) дают представление о вкладе каждой из нескольких величин в общую сумму; в них значения нескольких величин изображаются объединёнными в одном столбце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01680" indent="-3016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24" name="Picture 21" descr=""/>
          <p:cNvPicPr/>
          <p:nvPr/>
        </p:nvPicPr>
        <p:blipFill>
          <a:blip r:embed="rId1"/>
          <a:srcRect l="0" t="0" r="8622" b="21825"/>
          <a:stretch/>
        </p:blipFill>
        <p:spPr>
          <a:xfrm>
            <a:off x="9360" y="2421000"/>
            <a:ext cx="9134640" cy="4155840"/>
          </a:xfrm>
          <a:prstGeom prst="rect">
            <a:avLst/>
          </a:prstGeom>
          <a:ln w="76320">
            <a:solidFill>
              <a:srgbClr val="005ab4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bdf39"/>
                </a:solidFill>
                <a:latin typeface="Arial Narrow"/>
                <a:ea typeface="Times New Roman"/>
              </a:rPr>
              <a:t>Круговая</a:t>
            </a:r>
            <a:r>
              <a:rPr b="0" lang="ru-RU" sz="2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отражает соотношение частей одного целого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!</a:t>
            </a:r>
            <a:r>
              <a:rPr b="0" lang="ru-RU" sz="2800" spc="-1" strike="noStrike">
                <a:solidFill>
                  <a:srgbClr val="eae8e2"/>
                </a:solidFill>
                <a:latin typeface="Arial Narrow"/>
              </a:rPr>
              <a:t>  </a:t>
            </a:r>
            <a:r>
              <a:rPr b="0" lang="ru-RU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Можно показать только один ряд значений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26" name="Object 5"/>
          <p:cNvGraphicFramePr/>
          <p:nvPr/>
        </p:nvGraphicFramePr>
        <p:xfrm>
          <a:off x="566640" y="1657440"/>
          <a:ext cx="8077320" cy="49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657440"/>
                    <a:ext cx="807732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8:44:45Z</dcterms:created>
  <dc:creator>User</dc:creator>
  <dc:description/>
  <dc:language>en-US</dc:language>
  <cp:lastModifiedBy>Венера</cp:lastModifiedBy>
  <dcterms:modified xsi:type="dcterms:W3CDTF">2013-02-03T13:17:21Z</dcterms:modified>
  <cp:revision>38</cp:revision>
  <dc:subject/>
  <dc:title>Правила заполнения ЭТ</dc:title>
</cp:coreProperties>
</file>