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2.png" ContentType="image/png"/>
  <Override PartName="/ppt/media/image16.png" ContentType="image/png"/>
  <Override PartName="/ppt/media/chimes.wav" ContentType="audio/x-wav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2437552F-C2BD-47AE-B3CF-485D384C4A3C}" type="datetime13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05:24:15 PM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6342-1337-4524-A4A0-51A53CEF89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Дата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2AA0-B969-45AB-992B-9808FCED5CBB}" type="datetime13">
              <a:rPr b="0" lang="ru-RU" sz="1200" spc="-1" strike="noStrike">
                <a:solidFill>
                  <a:srgbClr val="eae8e2"/>
                </a:solidFill>
                <a:latin typeface="Times New Roman"/>
              </a:rPr>
              <a:t>05:24:17 PM</a:t>
            </a:fld>
            <a:endParaRPr b="0" lang="en-US" sz="1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74" name="Верхний колонтитул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4BB5-3CC1-4733-A7D6-C6677A386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36F6-5ABA-46D8-9428-6B3455B2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258E-3F7A-4637-A531-18D1CAC60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F7D1-9E14-4C99-9FA6-FE8C58292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01B8-925E-49DD-9D45-635E5B893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F62E-1CEF-4231-9F99-5F7E688D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67E6-E028-471B-9A8D-788BBD28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D386-14D8-4444-A6BB-7F529325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88C6-62E4-4D96-B1DB-679E1B1D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32E7-930B-4BCB-BFEE-F7177CFE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97AA-7869-439D-9376-6A48BA7F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02FF-1A96-40D7-A2C0-50184A87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EA09-D007-4429-8EE9-C05225AF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9962-9237-4F29-9FFF-7FC167A9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6655-DA5C-423E-A464-AA833940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5C39-5827-470A-BBAC-F9A122391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484C-3221-4204-85A8-5E74415AA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4670-39F0-482C-B866-14FEB300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A1C9-6703-47AE-8E99-6EAB74FF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F9DE-5D64-4F3D-AAA5-E57B17CE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BEF7-8E64-4C41-AA06-38C0D03E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C570-3253-48AB-A145-1F476A89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8504-C87E-4D5B-9730-24BC2BEC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FB11-EC97-4D86-A562-BB37414C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pic>
          <p:nvPicPr>
            <p:cNvPr id="3" name="Picture 5" descr="D:\FRONTPAGE THEMES\CONSTRUC\URBBANND.PNG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D71C-2504-469A-9258-3114FC4A10C7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pic>
          <p:nvPicPr>
            <p:cNvPr id="48" name="Picture 5" descr="D:\FRONTPAGE THEMES\CONSTRUC\URBBANND.PNG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8442-E8EF-430F-9D19-B51CAF95EBDB}" type="slidenum">
              <a:rPr b="0" lang="ru-RU" sz="1400" spc="-1" strike="noStrike">
                <a:solidFill>
                  <a:srgbClr val="eae8e2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5120" y="43920"/>
            <a:ext cx="7778880" cy="98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dbc03"/>
                </a:solidFill>
                <a:latin typeface="Impact"/>
              </a:rPr>
              <a:t>Электронные таблицы          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49"/>
              </a:spcBef>
              <a:buClr>
                <a:srgbClr val="a7c1cb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 Narrow"/>
              </a:rPr>
              <a:t>Каково основное назначение ЭТ?</a:t>
            </a:r>
            <a:endParaRPr b="0" lang="en-US" sz="2600" spc="-1" strike="noStrike">
              <a:solidFill>
                <a:srgbClr val="eae8e2"/>
              </a:solidFill>
              <a:latin typeface="Arial Narrow"/>
            </a:endParaRPr>
          </a:p>
          <a:p>
            <a:pPr marL="443160" indent="-443160">
              <a:spcBef>
                <a:spcPts val="649"/>
              </a:spcBef>
              <a:buClr>
                <a:srgbClr val="a7c1cb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 Narrow"/>
              </a:rPr>
              <a:t>Как именуются ячейки таблицы?</a:t>
            </a:r>
            <a:endParaRPr b="0" lang="en-US" sz="2600" spc="-1" strike="noStrike">
              <a:solidFill>
                <a:srgbClr val="eae8e2"/>
              </a:solidFill>
              <a:latin typeface="Arial Narrow"/>
            </a:endParaRPr>
          </a:p>
          <a:p>
            <a:pPr marL="443160" indent="-443160">
              <a:spcBef>
                <a:spcPts val="649"/>
              </a:spcBef>
              <a:buClr>
                <a:srgbClr val="a7c1cb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 Narrow"/>
              </a:rPr>
              <a:t>Какая информация может хранится в ячейках?</a:t>
            </a:r>
            <a:endParaRPr b="0" lang="en-US" sz="2600" spc="-1" strike="noStrike">
              <a:solidFill>
                <a:srgbClr val="eae8e2"/>
              </a:solidFill>
              <a:latin typeface="Arial Narrow"/>
            </a:endParaRPr>
          </a:p>
          <a:p>
            <a:pPr marL="443160" indent="-443160">
              <a:spcBef>
                <a:spcPts val="649"/>
              </a:spcBef>
              <a:buClr>
                <a:srgbClr val="a7c1cb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 Narrow"/>
              </a:rPr>
              <a:t>Какие 2 способа записи чисел используются в ЭТ?</a:t>
            </a:r>
            <a:endParaRPr b="0" lang="en-US" sz="2600" spc="-1" strike="noStrike">
              <a:solidFill>
                <a:srgbClr val="eae8e2"/>
              </a:solidFill>
              <a:latin typeface="Arial Narrow"/>
            </a:endParaRPr>
          </a:p>
          <a:p>
            <a:pPr marL="443160" indent="-443160">
              <a:spcBef>
                <a:spcPts val="649"/>
              </a:spcBef>
              <a:buClr>
                <a:srgbClr val="a7c1cb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 Narrow"/>
              </a:rPr>
              <a:t>Как  записать  число 200 000 000 в ЭТ в экспоненциальной форме?</a:t>
            </a:r>
            <a:endParaRPr b="0" lang="en-US" sz="2600" spc="-1" strike="noStrike">
              <a:solidFill>
                <a:srgbClr val="eae8e2"/>
              </a:solidFill>
              <a:latin typeface="Arial Narrow"/>
            </a:endParaRPr>
          </a:p>
          <a:p>
            <a:pPr marL="443160" indent="-443160">
              <a:spcBef>
                <a:spcPts val="649"/>
              </a:spcBef>
              <a:buClr>
                <a:srgbClr val="a7c1cb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 Narrow"/>
              </a:rPr>
              <a:t>Как выглядит стандартная запись числа?</a:t>
            </a:r>
            <a:endParaRPr b="0" lang="en-US" sz="2600" spc="-1" strike="noStrike">
              <a:solidFill>
                <a:srgbClr val="eae8e2"/>
              </a:solidFill>
              <a:latin typeface="Arial Narrow"/>
            </a:endParaRPr>
          </a:p>
          <a:p>
            <a:pPr marL="443160" indent="-443160">
              <a:spcBef>
                <a:spcPts val="649"/>
              </a:spcBef>
              <a:buClr>
                <a:srgbClr val="a7c1cb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 Narrow"/>
              </a:rPr>
              <a:t>Что такое диапазон ячеек?</a:t>
            </a:r>
            <a:endParaRPr b="0" lang="en-US" sz="2600" spc="-1" strike="noStrike">
              <a:solidFill>
                <a:srgbClr val="eae8e2"/>
              </a:solidFill>
              <a:latin typeface="Arial Narrow"/>
            </a:endParaRPr>
          </a:p>
          <a:p>
            <a:pPr marL="443160" indent="-443160">
              <a:spcBef>
                <a:spcPts val="649"/>
              </a:spcBef>
              <a:buClr>
                <a:srgbClr val="a7c1cb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 Narrow"/>
              </a:rPr>
              <a:t>С чего начинается запись формулы в ячейке?</a:t>
            </a:r>
            <a:endParaRPr b="0" lang="en-US" sz="2600" spc="-1" strike="noStrike">
              <a:solidFill>
                <a:srgbClr val="eae8e2"/>
              </a:solidFill>
              <a:latin typeface="Arial Narrow"/>
            </a:endParaRPr>
          </a:p>
          <a:p>
            <a:pPr marL="443160" indent="-443160">
              <a:spcBef>
                <a:spcPts val="649"/>
              </a:spcBef>
              <a:buClr>
                <a:srgbClr val="a7c1cb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 Narrow"/>
              </a:rPr>
              <a:t>В чем заключается принцип относительной адресации в ЭТ?</a:t>
            </a:r>
            <a:endParaRPr b="0" lang="en-US" sz="2600" spc="-1" strike="noStrike">
              <a:solidFill>
                <a:srgbClr val="eae8e2"/>
              </a:solidFill>
              <a:latin typeface="Arial Narrow"/>
            </a:endParaRPr>
          </a:p>
          <a:p>
            <a:pPr marL="443160" indent="-443160">
              <a:spcBef>
                <a:spcPts val="649"/>
              </a:spcBef>
              <a:buClr>
                <a:srgbClr val="a7c1cb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 Narrow"/>
              </a:rPr>
              <a:t>Какие функции называются статистическими? Назовите некоторые из них.</a:t>
            </a:r>
            <a:endParaRPr b="0" lang="en-US" sz="26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9" name="Дата 3"/>
          <p:cNvSpPr/>
          <p:nvPr/>
        </p:nvSpPr>
        <p:spPr>
          <a:xfrm>
            <a:off x="95400" y="5000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B884-CA0C-43E5-9FFE-60EF6BF0A3EF}" type="datetime">
              <a:rPr b="1" lang="ru-RU" sz="3200" spc="-1" strike="noStrike">
                <a:solidFill>
                  <a:srgbClr val="eae8e2"/>
                </a:solidFill>
                <a:latin typeface="Arial Narrow"/>
              </a:rPr>
              <a:t>28.07.26</a:t>
            </a:fld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57120" y="371520"/>
            <a:ext cx="24386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bdf39"/>
                </a:solidFill>
                <a:latin typeface="Times New Roman"/>
                <a:ea typeface="Times New Roman"/>
              </a:rPr>
              <a:t>Графики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 – </a:t>
            </a:r>
            <a:r>
              <a:rPr b="0" lang="ru-RU" sz="24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отобража</a:t>
            </a:r>
            <a:r>
              <a:rPr b="0" lang="ru-RU" sz="2400" spc="-1" strike="noStrike">
                <a:solidFill>
                  <a:srgbClr val="eae8e2"/>
                </a:solidFill>
                <a:latin typeface="Arial Narrow"/>
              </a:rPr>
              <a:t>ю</a:t>
            </a:r>
            <a:r>
              <a:rPr b="0" lang="ru-RU" sz="24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т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 тенденцию изменения данных за равные промежутки времени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  <p:graphicFrame>
        <p:nvGraphicFramePr>
          <p:cNvPr id="129" name="Object 6"/>
          <p:cNvGraphicFramePr/>
          <p:nvPr/>
        </p:nvGraphicFramePr>
        <p:xfrm>
          <a:off x="3276720" y="395280"/>
          <a:ext cx="5667120" cy="353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95280"/>
                    <a:ext cx="5667120" cy="35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7"/>
          <p:cNvGraphicFramePr/>
          <p:nvPr/>
        </p:nvGraphicFramePr>
        <p:xfrm>
          <a:off x="304920" y="3505320"/>
          <a:ext cx="5105160" cy="328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505320"/>
                    <a:ext cx="5105160" cy="32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bdf39"/>
                </a:solidFill>
                <a:latin typeface="Arial Narrow"/>
                <a:ea typeface="Times New Roman"/>
              </a:rPr>
              <a:t>С областями</a:t>
            </a:r>
            <a:r>
              <a:rPr b="0" lang="ru-RU" sz="2400" spc="-1" strike="noStrike">
                <a:solidFill>
                  <a:srgbClr val="fbdf39"/>
                </a:solidFill>
                <a:latin typeface="Arial Narrow"/>
                <a:ea typeface="Times New Roman"/>
              </a:rPr>
              <a:t> – </a:t>
            </a:r>
            <a:r>
              <a:rPr b="0" lang="ru-RU" sz="24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показывают изменение общего количества в течение какого-то периода времени, отображая сумму введенных значений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  <p:graphicFrame>
        <p:nvGraphicFramePr>
          <p:cNvPr id="134" name="Object 7"/>
          <p:cNvGraphicFramePr/>
          <p:nvPr/>
        </p:nvGraphicFramePr>
        <p:xfrm>
          <a:off x="1071720" y="1928880"/>
          <a:ext cx="7200720" cy="449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1928880"/>
                    <a:ext cx="720072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dbc03"/>
                </a:solidFill>
                <a:latin typeface="Impact"/>
              </a:rPr>
              <a:t>Обоснуйте выбор типа диаграммы для представления:</a:t>
            </a:r>
            <a:endParaRPr b="0" lang="en-US" sz="36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94920" y="184464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8e2"/>
                </a:solidFill>
                <a:latin typeface="Arial Narrow"/>
              </a:rPr>
              <a:t>площадей водной поверхности крупнейших озёр нашей страны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25800" indent="-32580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8e2"/>
                </a:solidFill>
                <a:latin typeface="Arial Narrow"/>
              </a:rPr>
              <a:t>результатов контрольной работы по математике в 9 а и 9 б классах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25800" indent="-32580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8e2"/>
                </a:solidFill>
                <a:latin typeface="Arial Narrow"/>
              </a:rPr>
              <a:t>динамики изменения температуры в течение месяца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25800" indent="-32580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8e2"/>
                </a:solidFill>
                <a:latin typeface="Arial Narrow"/>
              </a:rPr>
              <a:t>доли федеральных округов РФ в общем объёме промышленного производства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dbc03"/>
                </a:solidFill>
                <a:latin typeface="Impact"/>
              </a:rPr>
              <a:t>Построение диаграмм в ЭТ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228600" y="1981080"/>
            <a:ext cx="85345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8e2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   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</a:rPr>
              <a:t>Для того, чтобы построить диаграмму надо в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 таблице с данными </a:t>
            </a:r>
            <a:r>
              <a:rPr b="0" lang="ru-RU" sz="2400" spc="-1" strike="noStrike">
                <a:solidFill>
                  <a:srgbClr val="fbdf39"/>
                </a:solidFill>
                <a:latin typeface="Times New Roman"/>
                <a:ea typeface="Times New Roman"/>
              </a:rPr>
              <a:t>выделит</a:t>
            </a:r>
            <a:r>
              <a:rPr b="0" lang="ru-RU" sz="2400" spc="-1" strike="noStrike">
                <a:solidFill>
                  <a:srgbClr val="fbdf39"/>
                </a:solidFill>
                <a:latin typeface="Times New Roman"/>
              </a:rPr>
              <a:t>ь</a:t>
            </a:r>
            <a:r>
              <a:rPr b="0" lang="ru-RU" sz="2400" spc="-1" strike="noStrike">
                <a:solidFill>
                  <a:srgbClr val="fbdf39"/>
                </a:solidFill>
                <a:latin typeface="Times New Roman"/>
                <a:ea typeface="Times New Roman"/>
              </a:rPr>
              <a:t>  столбц</a:t>
            </a:r>
            <a:r>
              <a:rPr b="0" lang="ru-RU" sz="2400" spc="-1" strike="noStrike">
                <a:solidFill>
                  <a:srgbClr val="fbdf39"/>
                </a:solidFill>
                <a:latin typeface="Times New Roman"/>
              </a:rPr>
              <a:t>ы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 содержащие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</a:rPr>
              <a:t> необходимые значения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. Для выделения несмежных ячеек, удержива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</a:rPr>
              <a:t>ть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 нажатой клавишу </a:t>
            </a:r>
            <a:r>
              <a:rPr b="0" lang="en-US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Ctrl</a:t>
            </a:r>
            <a:r>
              <a:rPr b="0" lang="tt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graphicFrame>
        <p:nvGraphicFramePr>
          <p:cNvPr id="140" name="Object 6"/>
          <p:cNvGraphicFramePr/>
          <p:nvPr/>
        </p:nvGraphicFramePr>
        <p:xfrm>
          <a:off x="380880" y="4267080"/>
          <a:ext cx="4038840" cy="17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267080"/>
                    <a:ext cx="4038840" cy="17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7"/>
          <p:cNvGraphicFramePr/>
          <p:nvPr/>
        </p:nvGraphicFramePr>
        <p:xfrm>
          <a:off x="4876920" y="4267080"/>
          <a:ext cx="4010040" cy="17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4267080"/>
                    <a:ext cx="401004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51920" y="380880"/>
            <a:ext cx="899172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Д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</a:rPr>
              <a:t>алее запустить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 Мастера диаграмм командой </a:t>
            </a:r>
            <a:r>
              <a:rPr b="0" lang="ru-RU" sz="2400" spc="-1" strike="noStrike">
                <a:solidFill>
                  <a:srgbClr val="fbdf39"/>
                </a:solidFill>
                <a:latin typeface="Times New Roman"/>
                <a:ea typeface="Times New Roman"/>
              </a:rPr>
              <a:t>Диаграмма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</a:rPr>
              <a:t>из пункта меню </a:t>
            </a:r>
            <a:r>
              <a:rPr b="0" lang="ru-RU" sz="2400" spc="-1" strike="noStrike">
                <a:solidFill>
                  <a:srgbClr val="fbdf39"/>
                </a:solidFill>
                <a:latin typeface="Times New Roman"/>
                <a:ea typeface="Times New Roman"/>
              </a:rPr>
              <a:t>Вставка</a:t>
            </a:r>
            <a:r>
              <a:rPr b="0" lang="ru-RU" sz="2400" spc="-1" strike="noStrike">
                <a:solidFill>
                  <a:srgbClr val="fbdf3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или кнопкой на </a:t>
            </a:r>
            <a:r>
              <a:rPr b="0" lang="ru-RU" sz="2400" spc="-1" strike="noStrike">
                <a:solidFill>
                  <a:srgbClr val="fbdf39"/>
                </a:solidFill>
                <a:latin typeface="Times New Roman"/>
                <a:ea typeface="Times New Roman"/>
              </a:rPr>
              <a:t>Панели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bdf39"/>
                </a:solidFill>
                <a:latin typeface="Times New Roman"/>
                <a:ea typeface="Times New Roman"/>
              </a:rPr>
              <a:t>инструментов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 .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</a:rPr>
              <a:t>  На 1 шаге выбирают тип диаграммы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  <p:graphicFrame>
        <p:nvGraphicFramePr>
          <p:cNvPr id="145" name="Object 7"/>
          <p:cNvGraphicFramePr/>
          <p:nvPr/>
        </p:nvGraphicFramePr>
        <p:xfrm>
          <a:off x="1486080" y="1828800"/>
          <a:ext cx="5676840" cy="487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6080" y="1828800"/>
                    <a:ext cx="5676840" cy="48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51920" y="380880"/>
            <a:ext cx="899172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8e2"/>
                </a:solidFill>
                <a:latin typeface="Times New Roman"/>
              </a:rPr>
              <a:t>На 2 шаге целесообразно переименовать ряды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  <p:graphicFrame>
        <p:nvGraphicFramePr>
          <p:cNvPr id="148" name="Object 4"/>
          <p:cNvGraphicFramePr/>
          <p:nvPr/>
        </p:nvGraphicFramePr>
        <p:xfrm>
          <a:off x="2514600" y="1371600"/>
          <a:ext cx="3943440" cy="43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371600"/>
                    <a:ext cx="394344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51920" y="380880"/>
            <a:ext cx="899172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8e2"/>
                </a:solidFill>
                <a:latin typeface="Times New Roman"/>
              </a:rPr>
              <a:t>На 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 следующем шаге 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</a:rPr>
              <a:t>надо ввести 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Название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 диаграммы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</a:rPr>
              <a:t> на вкладке </a:t>
            </a:r>
            <a:r>
              <a:rPr b="1" lang="ru-RU" sz="2400" spc="-1" strike="noStrike">
                <a:solidFill>
                  <a:srgbClr val="fbdf39"/>
                </a:solidFill>
                <a:latin typeface="Times New Roman"/>
              </a:rPr>
              <a:t>Заголовки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на вкладке </a:t>
            </a:r>
            <a:r>
              <a:rPr b="1" lang="ru-RU" sz="2400" spc="-1" strike="noStrike">
                <a:solidFill>
                  <a:srgbClr val="fbdf39"/>
                </a:solidFill>
                <a:latin typeface="Times New Roman"/>
                <a:ea typeface="Times New Roman"/>
              </a:rPr>
              <a:t>Легенда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 выб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</a:rPr>
              <a:t>рать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 расположение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</a:rPr>
              <a:t> (например </a:t>
            </a:r>
            <a:r>
              <a:rPr b="0" i="1" lang="ru-RU" sz="2400" spc="-1" strike="noStrike">
                <a:solidFill>
                  <a:srgbClr val="eae8e2"/>
                </a:solidFill>
                <a:latin typeface="Times New Roman"/>
              </a:rPr>
              <a:t>внизу)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 , на вкладке </a:t>
            </a:r>
            <a:r>
              <a:rPr b="1" lang="ru-RU" sz="2400" spc="-1" strike="noStrike">
                <a:solidFill>
                  <a:srgbClr val="fbdf39"/>
                </a:solidFill>
                <a:latin typeface="Times New Roman"/>
                <a:ea typeface="Times New Roman"/>
              </a:rPr>
              <a:t>Подписи данных</a:t>
            </a:r>
            <a:r>
              <a:rPr b="1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установит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</a:rPr>
              <a:t>ь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 переключатель на 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</a:rPr>
              <a:t>нужной 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кнопке 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</a:rPr>
              <a:t>(например, </a:t>
            </a:r>
            <a:r>
              <a:rPr b="0" i="1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значение</a:t>
            </a:r>
            <a:r>
              <a:rPr b="0" i="1" lang="ru-RU" sz="2400" spc="-1" strike="noStrike">
                <a:solidFill>
                  <a:srgbClr val="eae8e2"/>
                </a:solidFill>
                <a:latin typeface="Times New Roman"/>
              </a:rPr>
              <a:t>)</a:t>
            </a:r>
            <a:r>
              <a:rPr b="0" i="1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762120" y="2209680"/>
          <a:ext cx="5667120" cy="389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09680"/>
                    <a:ext cx="5667120" cy="38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Line 6"/>
          <p:cNvSpPr/>
          <p:nvPr/>
        </p:nvSpPr>
        <p:spPr>
          <a:xfrm flipH="1" flipV="1">
            <a:off x="5257800" y="5333760"/>
            <a:ext cx="1828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7086600" y="5867280"/>
            <a:ext cx="129528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егенда </a:t>
            </a:r>
            <a:endParaRPr b="0" lang="en-US" sz="20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51920" y="380880"/>
            <a:ext cx="899172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8e2"/>
                </a:solidFill>
                <a:latin typeface="Wingdings"/>
                <a:ea typeface="Wingdings"/>
              </a:rPr>
              <a:t>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           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В следующем окне Вы можете выбрать размещение диаграммы : на </a:t>
            </a:r>
            <a:r>
              <a:rPr b="1" i="1" lang="ru-RU" sz="2400" spc="-1" strike="noStrike">
                <a:solidFill>
                  <a:srgbClr val="fbdf39"/>
                </a:solidFill>
                <a:latin typeface="Times New Roman"/>
                <a:ea typeface="Times New Roman"/>
              </a:rPr>
              <a:t>имеющемся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  листе или на </a:t>
            </a:r>
            <a:r>
              <a:rPr b="1" i="1" lang="ru-RU" sz="2400" spc="-1" strike="noStrike">
                <a:solidFill>
                  <a:srgbClr val="fbdf39"/>
                </a:solidFill>
                <a:latin typeface="Times New Roman"/>
                <a:ea typeface="Times New Roman"/>
              </a:rPr>
              <a:t>отдельном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 , 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</a:rPr>
              <a:t>остается 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наж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</a:rPr>
              <a:t>ать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 кнопку </a:t>
            </a:r>
            <a:r>
              <a:rPr b="1" lang="ru-RU" sz="2400" spc="-1" strike="noStrike">
                <a:solidFill>
                  <a:srgbClr val="fbdf39"/>
                </a:solidFill>
                <a:latin typeface="Times New Roman"/>
                <a:ea typeface="Times New Roman"/>
              </a:rPr>
              <a:t>Готово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  <p:graphicFrame>
        <p:nvGraphicFramePr>
          <p:cNvPr id="156" name="Object 6"/>
          <p:cNvGraphicFramePr/>
          <p:nvPr/>
        </p:nvGraphicFramePr>
        <p:xfrm>
          <a:off x="1600200" y="1905120"/>
          <a:ext cx="5791320" cy="45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905120"/>
                    <a:ext cx="5791320" cy="45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51920" y="380880"/>
            <a:ext cx="899172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8e2"/>
                </a:solidFill>
                <a:latin typeface="Wingdings"/>
                <a:ea typeface="Wingdings"/>
              </a:rPr>
              <a:t>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    </a:t>
            </a:r>
            <a:r>
              <a:rPr b="0" lang="ru-RU" sz="2400" spc="-1" strike="noStrike">
                <a:solidFill>
                  <a:srgbClr val="eae8e2"/>
                </a:solidFill>
                <a:latin typeface="Times New Roman"/>
              </a:rPr>
              <a:t>Заметно, что внешний вид диаграммы оставляет желать лучшего. Выделяя определенные участки диаграммы можно изменять её оформление через контекстное меню.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  <p:graphicFrame>
        <p:nvGraphicFramePr>
          <p:cNvPr id="159" name="Object 6"/>
          <p:cNvGraphicFramePr/>
          <p:nvPr/>
        </p:nvGraphicFramePr>
        <p:xfrm>
          <a:off x="1219320" y="1676520"/>
          <a:ext cx="6705360" cy="48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76520"/>
                    <a:ext cx="6705360" cy="48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228600" y="30492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8e2"/>
                </a:solidFill>
                <a:latin typeface="Times New Roman"/>
              </a:rPr>
              <a:t>Можно изменить цвет и способ заливки как области построения, так и области диаграммы, рядов данных; добавить метки значений в виде числовых значений или процентных соотношений; изменить тип диаграммы и т.д.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graphicFrame>
        <p:nvGraphicFramePr>
          <p:cNvPr id="162" name="Object 6"/>
          <p:cNvGraphicFramePr/>
          <p:nvPr/>
        </p:nvGraphicFramePr>
        <p:xfrm>
          <a:off x="1371600" y="2209680"/>
          <a:ext cx="6629400" cy="428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09680"/>
                    <a:ext cx="6629400" cy="42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92360" y="188640"/>
            <a:ext cx="700560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dbc03"/>
                </a:solidFill>
                <a:latin typeface="Impact"/>
              </a:rPr>
              <a:t>Проверочная работа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1 вариант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94920" y="23241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1.  а) 0,7е4 = 7000 ;      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б) 3,8е-10 = 0,000 000 000 38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2. Числа – А2, А3, В2, В3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Формулы – С2, С3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8e2"/>
                </a:solidFill>
                <a:latin typeface="Arial Narrow"/>
              </a:rPr>
              <a:t>С2 = (А2 + В2)*2 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8e2"/>
                </a:solidFill>
                <a:latin typeface="Arial Narrow"/>
              </a:rPr>
              <a:t>С3 = (А3 + В3)*2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     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3.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5 = С5 – В5*А5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4720" y="12855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2 вариант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44720" y="23241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1.  а) 0,000 000 5 = 5е-7 ;      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б) 12 000 000 000 = 1,2е10 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2. Числа – А2, А3, В2, В3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Формулы – С2, С3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8e2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eae8e2"/>
                </a:solidFill>
                <a:latin typeface="Arial Narrow"/>
              </a:rPr>
              <a:t>С2 = А2*В2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8e2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eae8e2"/>
                </a:solidFill>
                <a:latin typeface="Arial Narrow"/>
              </a:rPr>
              <a:t>С3 = А3*В3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     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3.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6 = В6/А6 + С6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05" name="Дата 9"/>
          <p:cNvSpPr/>
          <p:nvPr/>
        </p:nvSpPr>
        <p:spPr>
          <a:xfrm>
            <a:off x="380880" y="614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FE27-1323-4FEC-8CAE-FBB2B9825A90}" type="datetime10"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7:24</a:t>
            </a:fld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20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1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dbc03"/>
                </a:solidFill>
                <a:latin typeface="Impact"/>
              </a:rPr>
              <a:t>Домашнее задание: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8e2"/>
                </a:solidFill>
                <a:latin typeface="Arial Narrow"/>
              </a:rPr>
              <a:t>§</a:t>
            </a:r>
            <a:r>
              <a:rPr b="1" lang="ru-RU" sz="4000" spc="-1" strike="noStrike">
                <a:solidFill>
                  <a:srgbClr val="eae8e2"/>
                </a:solidFill>
                <a:latin typeface="Arial Narrow"/>
              </a:rPr>
              <a:t> 21 (с.118-119), </a:t>
            </a:r>
            <a:endParaRPr b="0" lang="en-US" sz="4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8e2"/>
                </a:solidFill>
                <a:latin typeface="Arial Narrow"/>
              </a:rPr>
              <a:t>ответить на 1 вопрос,</a:t>
            </a:r>
            <a:endParaRPr b="0" lang="en-US" sz="4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8e2"/>
                </a:solidFill>
                <a:latin typeface="Arial Narrow"/>
              </a:rPr>
              <a:t>№ </a:t>
            </a:r>
            <a:r>
              <a:rPr b="1" lang="ru-RU" sz="4000" spc="-1" strike="noStrike">
                <a:solidFill>
                  <a:srgbClr val="eae8e2"/>
                </a:solidFill>
                <a:latin typeface="Arial Narrow"/>
              </a:rPr>
              <a:t>3, 4  </a:t>
            </a:r>
            <a:endParaRPr b="0" lang="en-US" sz="4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8e2"/>
                </a:solidFill>
                <a:latin typeface="Arial Narrow"/>
              </a:rPr>
              <a:t>(проект «Оплата электричества»)</a:t>
            </a:r>
            <a:endParaRPr b="0" lang="en-US" sz="4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8e2"/>
                </a:solidFill>
                <a:latin typeface="Arial Narrow"/>
              </a:rPr>
              <a:t>в электронном виде</a:t>
            </a:r>
            <a:endParaRPr b="0" lang="en-US" sz="4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ольник 3"/>
          <p:cNvSpPr/>
          <p:nvPr/>
        </p:nvSpPr>
        <p:spPr>
          <a:xfrm>
            <a:off x="216000" y="1341360"/>
            <a:ext cx="8353440" cy="5112000"/>
          </a:xfrm>
          <a:prstGeom prst="rect">
            <a:avLst/>
          </a:prstGeom>
          <a:noFill/>
          <a:ln w="57240">
            <a:solidFill>
              <a:srgbClr val="35ef3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67" name="Улыбающееся лицо 4"/>
          <p:cNvSpPr/>
          <p:nvPr/>
        </p:nvSpPr>
        <p:spPr>
          <a:xfrm>
            <a:off x="0" y="1125360"/>
            <a:ext cx="720720" cy="8096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08000" y="-360"/>
            <a:ext cx="72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dbc03"/>
                </a:solidFill>
                <a:latin typeface="Impact"/>
              </a:rPr>
              <a:t>Физкультминутка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7341E-007 L 0.88975 -1.7341E-007 L 0.88975 0.69595 L 2.22222E-006 0.69595 L 2.22222E-006 -1.7341E-007 Z">
                                      <p:cBhvr>
                                        <p:cTn id="181" dur="3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6000"/>
                            </p:stCondLst>
                            <p:childTnLst>
                              <p:par>
                                <p:cTn id="183" nodeType="afterEffect" fill="hold" presetClass="path" presetID="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7341E-007 L 0.88975 -1.7341E-007 L 0.88975 0.69595 L 2.22222E-006 0.69595 L 2.22222E-006 -1.7341E-007 Z">
                                      <p:cBhvr>
                                        <p:cTn id="184" dur="3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975 0 E">
                                      <p:cBhvr>
                                        <p:cTn id="187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8975 4.56647E-006 L 0.00781 0.68161 E">
                                      <p:cBhvr>
                                        <p:cTn id="19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69595 L 0.89757 0.69595 E">
                                      <p:cBhvr>
                                        <p:cTn id="193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9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7341E-007 L 0.88975 0.69595 E">
                                      <p:cBhvr>
                                        <p:cTn id="196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7341E-007 L 2.22222E-006 0.70659 E">
                                      <p:cBhvr>
                                        <p:cTn id="199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2000"/>
                            </p:stCondLst>
                            <p:childTnLst>
                              <p:par>
                                <p:cTn id="201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68162 L 0.88194 0.00393 E">
                                      <p:cBhvr>
                                        <p:cTn id="202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4000"/>
                            </p:stCondLst>
                            <p:childTnLst>
                              <p:par>
                                <p:cTn id="20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8975 -1.7341E-007 L 0.00781 0.00393 E">
                                      <p:cBhvr>
                                        <p:cTn id="205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6000"/>
                            </p:stCondLst>
                            <p:childTnLst>
                              <p:par>
                                <p:cTn id="20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7341E-007 L 0.89774 0.70659 E">
                                      <p:cBhvr>
                                        <p:cTn id="208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dbc03"/>
                </a:solidFill>
                <a:latin typeface="Impact"/>
              </a:rPr>
              <a:t>Практическая работа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8e2"/>
                </a:solidFill>
                <a:latin typeface="Arial Narrow"/>
              </a:rPr>
              <a:t>Мои документы\ 9 а (б) класс\ № группы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8e2"/>
                </a:solidFill>
                <a:latin typeface="Arial Narrow"/>
              </a:rPr>
              <a:t>Использование времени.</a:t>
            </a: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xl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44280"/>
            <a:ext cx="7772400" cy="91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dbc03"/>
                </a:solidFill>
                <a:latin typeface="Impact"/>
              </a:rPr>
              <a:t>Погода в мае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50920" y="1197000"/>
          <a:ext cx="8661240" cy="4403880"/>
        </p:xfrm>
        <a:graphic>
          <a:graphicData uri="http://schemas.openxmlformats.org/drawingml/2006/table">
            <a:tbl>
              <a:tblPr/>
              <a:tblGrid>
                <a:gridCol w="689040"/>
                <a:gridCol w="1527120"/>
                <a:gridCol w="1263600"/>
                <a:gridCol w="1031760"/>
                <a:gridCol w="117360"/>
                <a:gridCol w="935280"/>
                <a:gridCol w="880920"/>
                <a:gridCol w="1069920"/>
                <a:gridCol w="114624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Дата</a:t>
                      </a:r>
                      <a:endParaRPr b="0" lang="en-US" sz="1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Температура, </a:t>
                      </a:r>
                      <a:r>
                        <a:rPr b="0" lang="en-US" sz="1400" spc="-1" strike="noStrike">
                          <a:solidFill>
                            <a:srgbClr val="303030"/>
                          </a:solidFill>
                          <a:latin typeface="Arial"/>
                          <a:ea typeface="Arial"/>
                        </a:rPr>
                        <a:t>º</a:t>
                      </a:r>
                      <a:r>
                        <a:rPr b="0" lang="ru-RU" sz="1400" spc="-1" strike="noStrike">
                          <a:solidFill>
                            <a:srgbClr val="303030"/>
                          </a:solidFill>
                          <a:latin typeface="Arial"/>
                          <a:ea typeface="Arial"/>
                        </a:rPr>
                        <a:t>С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Влажность, %</a:t>
                      </a:r>
                      <a:endParaRPr b="0" lang="en-US" sz="1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Давление, мм</a:t>
                      </a:r>
                      <a:endParaRPr b="0" lang="en-US" sz="1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Ветер</a:t>
                      </a:r>
                      <a:endParaRPr b="0" lang="en-US" sz="1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Облач-ность</a:t>
                      </a:r>
                      <a:endParaRPr b="0" lang="en-US" sz="1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Направ-ление</a:t>
                      </a:r>
                      <a:endParaRPr b="0" lang="en-US" sz="1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Градус</a:t>
                      </a:r>
                      <a:endParaRPr b="0" lang="en-US" sz="1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Скорость, м/с</a:t>
                      </a:r>
                      <a:endParaRPr b="0" lang="en-US" sz="1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+16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759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Ю-В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30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ясно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+19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759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С-З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320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ясно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+20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759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С-В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ясно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+22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759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С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350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20-30%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+21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760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С-В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90%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+22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759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В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70-80%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</a:tr>
              <a:tr h="45972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…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+17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51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744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Ю-В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30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0303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e2b7"/>
                    </a:solidFill>
                  </a:tcPr>
                </a:tc>
              </a:tr>
            </a:tbl>
          </a:graphicData>
        </a:graphic>
      </p:graphicFrame>
      <p:sp>
        <p:nvSpPr>
          <p:cNvPr id="108" name="TextBox 4"/>
          <p:cNvSpPr/>
          <p:nvPr/>
        </p:nvSpPr>
        <p:spPr>
          <a:xfrm>
            <a:off x="395280" y="602136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какие дни влажность была больше 30 % ?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dbc03"/>
                </a:solidFill>
                <a:latin typeface="Impact"/>
              </a:rPr>
              <a:t>Визуализация  данных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graphicFrame>
        <p:nvGraphicFramePr>
          <p:cNvPr id="110" name="Object 48"/>
          <p:cNvGraphicFramePr/>
          <p:nvPr/>
        </p:nvGraphicFramePr>
        <p:xfrm>
          <a:off x="539640" y="2133720"/>
          <a:ext cx="7989840" cy="366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Object 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133720"/>
                    <a:ext cx="7989840" cy="3662280"/>
                  </a:xfrm>
                  <a:prstGeom prst="rect">
                    <a:avLst/>
                  </a:prstGeom>
                  <a:ln w="38160">
                    <a:solidFill>
                      <a:srgbClr val="ff33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2" name="Прямоугольник 5"/>
          <p:cNvSpPr/>
          <p:nvPr/>
        </p:nvSpPr>
        <p:spPr>
          <a:xfrm>
            <a:off x="6084720" y="2276640"/>
            <a:ext cx="790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640" y="18442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dbc03"/>
                </a:solidFill>
                <a:latin typeface="Impact"/>
              </a:rPr>
              <a:t>Деловая   графика</a:t>
            </a:r>
            <a:endParaRPr b="0" lang="en-US" sz="5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143000" y="40384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eae8e2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8e2"/>
                </a:solidFill>
                <a:latin typeface="Arial Narrow"/>
              </a:rPr>
              <a:t>Типы диаграмм в ЭТ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>
              <a:spcBef>
                <a:spcPts val="700"/>
              </a:spcBef>
              <a:buClr>
                <a:srgbClr val="eae8e2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8e2"/>
                </a:solidFill>
                <a:latin typeface="Arial Narrow"/>
              </a:rPr>
              <a:t>Построение диаграмм в ЭТ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>
              <a:spcBef>
                <a:spcPts val="700"/>
              </a:spcBef>
              <a:buClr>
                <a:srgbClr val="eae8e2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8e2"/>
                </a:solidFill>
                <a:latin typeface="Arial Narrow"/>
              </a:rPr>
              <a:t>Форматирование диаграмм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dbc03"/>
                </a:solidFill>
                <a:latin typeface="Impact"/>
              </a:rPr>
              <a:t>Типы диаграмм в ЭТ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bdf39"/>
                </a:solidFill>
                <a:latin typeface="Arial Narrow"/>
                <a:ea typeface="Times New Roman"/>
              </a:rPr>
              <a:t>Диаграмма</a:t>
            </a:r>
            <a:r>
              <a:rPr b="0" lang="ru-RU" sz="32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 – это </a:t>
            </a:r>
            <a:r>
              <a:rPr b="0" i="1" lang="ru-RU" sz="3200" spc="-1" strike="noStrike">
                <a:solidFill>
                  <a:srgbClr val="fbdf39"/>
                </a:solidFill>
                <a:latin typeface="Arial Narrow"/>
                <a:ea typeface="Times New Roman"/>
              </a:rPr>
              <a:t>графическое представление</a:t>
            </a:r>
            <a:r>
              <a:rPr b="0" lang="ru-RU" sz="32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fbdf39"/>
                </a:solidFill>
                <a:latin typeface="Arial Narrow"/>
                <a:ea typeface="Times New Roman"/>
              </a:rPr>
              <a:t>данных</a:t>
            </a:r>
            <a:r>
              <a:rPr b="0" lang="ru-RU" sz="32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 рабочего листа.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Диаграммы группируются по нескольким основным типам: линейчатая, гистограмма, график, круговая,  с областями, и т. д . Каждый тип диаграммы имеет, по крайней мере, один подтип, являющийся вариацией какого-то исходного типа.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dbc03"/>
                </a:solidFill>
                <a:latin typeface="Impact"/>
                <a:ea typeface="Times New Roman"/>
              </a:rPr>
              <a:t>В каждом случае важно правильно подобрать тип создаваемой диаграммы. </a:t>
            </a:r>
            <a:endParaRPr b="0" lang="en-US" sz="28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280" y="17733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bdf39"/>
                </a:solidFill>
                <a:latin typeface="Arial Narrow"/>
                <a:ea typeface="Times New Roman"/>
              </a:rPr>
              <a:t>Линейчатая,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bdf39"/>
                </a:solidFill>
                <a:latin typeface="Arial Narrow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bdf39"/>
                </a:solidFill>
                <a:latin typeface="Arial Narrow"/>
                <a:ea typeface="Times New Roman"/>
              </a:rPr>
              <a:t>гистограмма</a:t>
            </a:r>
            <a:r>
              <a:rPr b="0" lang="ru-RU" sz="24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 –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отражают соотношение величин.</a:t>
            </a:r>
            <a:r>
              <a:rPr b="0" lang="ru-RU" sz="2800" spc="-1" strike="noStrike">
                <a:solidFill>
                  <a:srgbClr val="eae8e2"/>
                </a:solidFill>
                <a:latin typeface="Arial Narrow"/>
              </a:rPr>
              <a:t> По таким диаграммам удобно проводить сравнительный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8e2"/>
                </a:solidFill>
                <a:latin typeface="Arial Narrow"/>
              </a:rPr>
              <a:t>     </a:t>
            </a:r>
            <a:r>
              <a:rPr b="0" lang="ru-RU" sz="2800" spc="-1" strike="noStrike">
                <a:solidFill>
                  <a:srgbClr val="eae8e2"/>
                </a:solidFill>
                <a:latin typeface="Arial Narrow"/>
              </a:rPr>
              <a:t>анализ.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  <p:graphicFrame>
        <p:nvGraphicFramePr>
          <p:cNvPr id="119" name="Object 6"/>
          <p:cNvGraphicFramePr/>
          <p:nvPr/>
        </p:nvGraphicFramePr>
        <p:xfrm>
          <a:off x="4572000" y="1324080"/>
          <a:ext cx="4419720" cy="268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24080"/>
                    <a:ext cx="4419720" cy="26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9"/>
          <p:cNvGraphicFramePr/>
          <p:nvPr/>
        </p:nvGraphicFramePr>
        <p:xfrm>
          <a:off x="3879720" y="4124160"/>
          <a:ext cx="4624560" cy="251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79720" y="4124160"/>
                    <a:ext cx="4624560" cy="2516400"/>
                  </a:xfrm>
                  <a:prstGeom prst="rect">
                    <a:avLst/>
                  </a:prstGeom>
                  <a:ln w="38160">
                    <a:solidFill>
                      <a:srgbClr val="ff3399"/>
                    </a:solidFill>
                    <a:miter/>
                  </a:ln>
                </p:spPr>
              </p:pic>
            </p:oleObj>
          </a:graphicData>
        </a:graphic>
      </p:graphicFrame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0" y="40464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Arial Narrow"/>
              </a:rPr>
              <a:t>    </a:t>
            </a:r>
            <a:r>
              <a:rPr b="0" i="1" lang="ru-RU" sz="2800" spc="-1" strike="noStrike">
                <a:solidFill>
                  <a:srgbClr val="ffff00"/>
                </a:solidFill>
                <a:latin typeface="Arial Narrow"/>
              </a:rPr>
              <a:t>Ярусные диаграммы </a:t>
            </a:r>
            <a:r>
              <a:rPr b="0" lang="ru-RU" sz="2800" spc="-1" strike="noStrike">
                <a:solidFill>
                  <a:srgbClr val="eae8e2"/>
                </a:solidFill>
                <a:latin typeface="Arial Narrow"/>
              </a:rPr>
              <a:t>(гистограмма с накоплением) дают представление о вкладе каждой из нескольких величин в общую сумму; в них значения нескольких величин изображаются объединёнными в одном столбце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01680" indent="-301680"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24" name="Picture 21" descr=""/>
          <p:cNvPicPr/>
          <p:nvPr/>
        </p:nvPicPr>
        <p:blipFill>
          <a:blip r:embed="rId1"/>
          <a:srcRect l="0" t="0" r="8622" b="21825"/>
          <a:stretch/>
        </p:blipFill>
        <p:spPr>
          <a:xfrm>
            <a:off x="9360" y="2421000"/>
            <a:ext cx="9134640" cy="4155840"/>
          </a:xfrm>
          <a:prstGeom prst="rect">
            <a:avLst/>
          </a:prstGeom>
          <a:ln w="76320">
            <a:solidFill>
              <a:srgbClr val="005ab4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bdf39"/>
                </a:solidFill>
                <a:latin typeface="Arial Narrow"/>
                <a:ea typeface="Times New Roman"/>
              </a:rPr>
              <a:t>Круговая</a:t>
            </a:r>
            <a:r>
              <a:rPr b="0" lang="ru-RU" sz="2800" spc="-1" strike="noStrike">
                <a:solidFill>
                  <a:srgbClr val="ffffcc"/>
                </a:solidFill>
                <a:latin typeface="Arial Narrow"/>
                <a:ea typeface="Times New Roman"/>
              </a:rPr>
              <a:t> – </a:t>
            </a:r>
            <a:r>
              <a:rPr b="0" lang="ru-RU" sz="28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отражает соотношение частей одного целого.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 Narrow"/>
              </a:rPr>
              <a:t>!</a:t>
            </a:r>
            <a:r>
              <a:rPr b="0" lang="ru-RU" sz="2800" spc="-1" strike="noStrike">
                <a:solidFill>
                  <a:srgbClr val="eae8e2"/>
                </a:solidFill>
                <a:latin typeface="Arial Narrow"/>
              </a:rPr>
              <a:t>  </a:t>
            </a:r>
            <a:r>
              <a:rPr b="0" lang="ru-RU" sz="28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Можно показать только один ряд значений.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  <p:graphicFrame>
        <p:nvGraphicFramePr>
          <p:cNvPr id="126" name="Object 5"/>
          <p:cNvGraphicFramePr/>
          <p:nvPr/>
        </p:nvGraphicFramePr>
        <p:xfrm>
          <a:off x="566640" y="1657440"/>
          <a:ext cx="8077320" cy="4971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640" y="1657440"/>
                    <a:ext cx="807732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8:44:45Z</dcterms:created>
  <dc:creator>User</dc:creator>
  <dc:description/>
  <dc:language>en-US</dc:language>
  <cp:lastModifiedBy>Венера</cp:lastModifiedBy>
  <dcterms:modified xsi:type="dcterms:W3CDTF">2013-02-03T13:17:21Z</dcterms:modified>
  <cp:revision>38</cp:revision>
  <dc:subject/>
  <dc:title>Правила заполнения ЭТ</dc:title>
</cp:coreProperties>
</file>