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2B5-E892-47C3-937A-9B441494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B6B-335D-4E34-8C2D-E22CDBB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FB0-6E4F-4792-BD97-BFE4BB3A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24B-B8EF-4910-9954-49BB280E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0B42-1398-4A5A-BA1C-223C8EB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B3E5-52B4-470E-BDD9-8C90D11E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AD2-2915-4A99-B63A-D2F12F9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7B9B-9DE3-4C9E-94B5-22931FB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C00-32DB-44F4-9050-3E415273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DA7-8E56-4BDB-8FCB-E4CB19D1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FBED-F1F2-4A2A-AADA-37EBDD5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90E-CE03-4660-ACC7-2F4AECE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E6DC-49D0-460C-B6A2-485ED29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8AF7-987A-400D-BE0D-42CF365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D259-5B3C-46BA-B661-3014E86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6D79-CC91-446B-9C58-55228DD8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0F8A-2F71-4D4C-89C4-4B0BF145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C56E-751B-4BAB-BED6-572DF39E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8B1B-432F-4AAA-BD8A-45C1074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57B8-3DAB-4201-9907-B31B99E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6AF8-F6C3-4C4B-856E-FAE65B2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C8F3-767A-45BB-AC1B-FE9F38D3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D6A-FBE2-4907-AA6B-5429455C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2AF9-9A8F-4B17-AE17-6591349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DE72-8587-4427-9FAF-03FD123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9EDE-79B6-4121-94C5-BE69D0B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DBF8-24C7-42BE-9EBD-1A48E5A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0423-6121-40A1-B605-E226BB3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911E-B7A2-477E-8A90-B959A2AE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927C-A9D4-450E-B304-FFCE773C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521C-776A-4569-BCD5-3D6F7732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C888-95DE-42C4-A92E-BC335BB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5075-8E0C-43A1-93C1-B32454D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7D0-66A5-4F62-BD37-27C3D795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A595-1E59-4728-8EA1-9115EF0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ECA8-6B6E-486A-9096-E91336C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2493-7DF3-491A-ABC2-26406B6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15B9-1760-4B1B-BDFE-1107ECB6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D737-4371-4E48-AE71-91A7C66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6837-AEA5-4F32-9149-7395985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DB6C-B17F-4FD5-A800-CEA09D9E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5D07-77DB-4CBC-8DB7-2F773A0C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4643-2168-4C05-8BE2-C212DB7F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7447-2979-4621-8091-A0BDD7A9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454-1A24-4AB2-8426-CDC994B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C9DF-52F3-42A1-B9CB-E3945B29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8615-4CD7-49B3-A1CB-628A439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5250-7D81-4D18-9BD2-6BE2DA1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9E58-F6DA-41F5-8E39-1AC5CD7F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BF07-EDF0-41FF-9292-4E54E784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DBD1-93EB-4CBA-8DF1-66E0745E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46A04-C796-483E-8394-B79ABFF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FF88-8457-47BD-8ED7-532AB64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5F1D-3463-4449-B44A-2F11F0E7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F8ED-393E-4965-BCE7-F6FEB489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B88-C8ED-42DC-BEEC-948516F1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9466-269E-455A-A81B-EE165DDF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98AE-7529-492F-9EFD-C0AE2DC0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4F05-0B0E-4CFB-8BC0-7F88AD9F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E5E1-0D78-4835-B1A8-112BA2A2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45BA-30D8-469B-9C78-326837E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B8C5-DA48-4C4A-8EBF-BB81821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B7C4-4E64-4B00-ACA0-C5628FC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9A5B-78B4-4169-9BE0-1F6E96B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3ED0-13A6-4F21-B45A-2D9827D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6718-41EB-4CC4-9D6A-BBFD378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0C0-32A9-4925-A73A-CE021F52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449F-AF54-4FFE-9F81-715E18D2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376E-74E9-4832-864E-4D7A2A79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5EF8-F470-41F2-9607-76625350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9315-442E-4F79-91BE-64B122D0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943D-5008-4291-9089-B1FEB6C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3558-71C1-40D0-88F7-91DCDA90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B514-151B-4A25-9804-CF345E3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1F96A-2679-43A4-80BB-52DB4FB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34CD-9A10-4D34-9D09-0D8CA8B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B075E-0C8F-459E-A945-903FFD93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26A-2FEF-41A3-A5CA-D1491B6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F652-AAFC-4C46-BFD9-0C715C7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A34B-98A0-4EF1-8BF9-7F57421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63077-28E6-4A74-ABE4-781991B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8346-6234-47B7-9801-7B92644B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0823-0CE1-4BE7-91EE-2F2C8D9C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E18-3C1D-41AE-8C46-F4D1F2A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041-AAF5-43AC-BD50-96F6E5046D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C2A-E6C9-4FC6-909E-75E8D3A072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C7F4-1727-472B-BF29-C273626362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C63-DD62-4042-9654-9A24F9D4C6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04E4-42FB-413D-9D98-F5A2DFADD9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E6BF-77B3-480C-B1F0-285C4BA56B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3D9-5C63-4114-98A7-6E1BC080AA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9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ременные электронные образовательные ресурсы в образовательной практике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формационные образовательные ресурсы (ИОР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2600" y="2017440"/>
            <a:ext cx="77724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чатные изд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графические объекты на печатной основ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лектронные образовательные 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фровые образовательные 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1785960" y="537372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Информационные ОР объединяют электронные и цифровые 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6920" y="907560"/>
            <a:ext cx="66978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лектронные образовательные ресурсы (ЭОР)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55640" y="2017800"/>
            <a:ext cx="81993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ОР - это представленные в цифровой форме фотографии, видеофрагменты, статические и динамические модели, объекты виртуальной реальности и интерактивного моделирования, картографические материалы, звукозаписи, символьные объекты и деловая графика, текстовые документы и иные учебные материалы(электронные приложения), необходимые для организации учебного процесс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53964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Электронные ОР  включают  в себя цифровые 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ифровые образовательные 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(ЦОР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ОР - образовательный ресурс  представляет собой законченный интерактивный мультимедиа продукт, направленный на достижение дидактической цели или на решение определенных учебных задач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071720" y="5157720"/>
            <a:ext cx="77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Главное качество ЦОР, отличающее его от других ИОР и ЭОР, заключается в интерактивном характере. ЦОР предусматривает активное участие обучающегося в процессе использования рес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2124000" y="152280"/>
            <a:ext cx="55436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071720" y="322560"/>
            <a:ext cx="7786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зве раньше никто из вас не предлагал учащимся рассмотреть картину, иллюстрацию, портрет или таблицу, не включал музыку, различные звук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все это более широко предлагают электронные и цифровые образовательные ресур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лектронными образовательными ресурсами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зывают учебные материалы, для воспроизведения которых используются электронные устро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самом общем случае к ЭОР относят учебные видеофильмы и звукозаписи, для воспроизведения которых достаточно бытового магнитофона или CD-пле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иболее современные и эффективные для образования ЭОР воспроизводятся на компьютере. Именно на таких ресурсах мы сосредоточим свое вним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, чтобы выделить данное подмножество ЭОР, их называют цифровыми образовательными ресурсами (ЦОР), подразумевая, что компьютер использует цифровые способы записи/воспроизведения. Однако аудио/видео компакт-диски (CD) также содержат записи в цифровых форматах, так что введение отдельного термина и аббревиатуры ЦОР не даёт заметных преимуществ. Поэтому, следуя межгосударственному стандарту ГОСТ 7.23-2001, лучше использовать общий термин «электронные» и аббревиатуру Э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десь и далее мы рассматриваем электронные образовательные ресурсы, для воспроизведения которых требуется компью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ссификация ЭОР может быть проведена по нескольким направлениям:</a:t>
            </a:r>
            <a:endParaRPr b="0" lang="en-US" sz="3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00080" y="1600200"/>
            <a:ext cx="7229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создания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графически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ы –  отличаются от книг в основном базой предъявления текстов и иллюстраций – материал представляется на экране компьютера, а не на бумаге, также они  имеют существенные отличия в навигации по тексту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 ЭОР 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урсы, состоящие из визуального или звукового содержания. Принципиальные отличия от книги здесь очевидны: ни кино, ни анимация (мультфильм), ни звук для полиграфического издания невозможн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содержимого – электронные справочники, викторины, словари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, лабораторные работы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среды распространения и использования – Интернет-ресурсы, оффлайн-ресурсы, ресурсы для электронных досок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ализационному принципу – мультимедиа-ресурсы, презентационные ресурсы, системы обучения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ляющим – лекционные ресурсы, практические ресурсы, ресурсы-имитаторы (тренажеры), контрольно-измерительные материалы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по типу применения - для работы как непосредственно на занятиях в классе, так и для самостоятельной работы учащихс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бования к современным ЭО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71720" y="1143000"/>
            <a:ext cx="78832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овать содержанию действующего ФГО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иентироваться на современные формы обучения, обеспечивать высокую интерактивность и мультимедийность обучени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ганизовывать виды учебной деятельности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спечивать использование самостоятельной - индивидуальной и групповой работ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ываться на достоверных материалах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вышать по объему соответствующие разделы учебни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ноценно воспроизводиться на заявленных технических платформах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еть удобный интерфейс и средства навигаци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71720" y="356760"/>
            <a:ext cx="788328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образовательные ресурс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rbel"/>
                <a:ea typeface="Times New Roman"/>
              </a:rPr>
              <a:t>http://fcior.edu.ru/catalog/meta/3/p/page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rbel"/>
                <a:ea typeface="Times New Roman"/>
              </a:rPr>
              <a:t>http://katalog.iot.ru/pdf/Catalog_vol1.pd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ttp://eor-np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ttp://www.openclass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Gill Sans MT"/>
                <a:ea typeface="Times New Roman"/>
              </a:rPr>
              <a:t>http://school-collection.edu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interaktiveboard.ru/load/1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delight2000.com/succes.html?id_rub=423716&amp;obj=catalo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nsportal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edcommunity.ru/teachers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4064040" y="1962000"/>
          <a:ext cx="4570200" cy="3427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1962000"/>
                    <a:ext cx="45702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15:27Z</dcterms:created>
  <dc:creator>Домашняя бухгалтерия</dc:creator>
  <dc:description/>
  <dc:language>en-US</dc:language>
  <cp:lastModifiedBy>Юровская школа</cp:lastModifiedBy>
  <dcterms:modified xsi:type="dcterms:W3CDTF">2013-04-22T12:08:54Z</dcterms:modified>
  <cp:revision>26</cp:revision>
  <dc:subject/>
  <dc:title>Современные электронные образовательные ресурсы в образовательной практике</dc:title>
</cp:coreProperties>
</file>