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477-24A9-4BC0-A49E-87017624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632-03E6-4640-B32E-A91E4DFC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DBD-D5B8-414B-B9C3-01AC6B5D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9B8-206E-4E1C-AEFC-6B14FFF3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2F9E-F09F-475D-88E2-C9C2B266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B600-9B65-41EB-A8B9-561DD49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A751-8C1D-4458-9845-2169A9C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6ABE-868E-42ED-8280-D93D870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7126-C972-4926-933A-EB4BF46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911B-144D-4F9C-A3C6-BB8B720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9A52-7012-460F-A761-6DCA4AC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1D2-6773-4037-9C61-86C651C9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1949-E33B-45C3-A272-1576886B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92DF-0938-4E24-AC9A-574E3EC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07C8-7871-4F5D-8C4D-6EA4E3C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D34-9169-4D49-ABAB-DCCBA86A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19B8-2CB0-4991-9632-D2331B37A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074A3-6679-4D62-9C5B-A269283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67F63-B054-46AB-BBD0-E118C7CA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8955-A5A8-433A-BAE1-EA5DC94C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1424E-EE66-4D6A-B85D-7E10D0E6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89CE-7751-42A2-9A04-2CA2FC9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73E-8119-453D-8A44-B09F723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8A3FB-E4D4-4C66-992E-DC122884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BA4C-1280-4C03-9281-A5081B5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93EA-C56C-496B-9625-35E06E6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ADD71-88DB-4ED8-8B1C-A66A2D45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0E39-442B-496A-8CBE-0CCCBDAF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9B18-DED9-43FC-8A3B-6EC32AF1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DC2DB-C0D4-49E6-AF32-400EECEB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8DE9-DA99-4F28-9DA8-1D696C5D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2DC0E-8134-413E-B6C9-49F6C58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35AA-A2A1-4B4D-A1C6-3B7762A1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F9A-EC76-4FFE-B086-357A0A54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0822-E7FE-4585-8C18-16C82320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E6328-7120-46D2-AD51-17A80D9F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67AA4-7004-430B-BE86-8E363BC7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FE4F-DD93-481D-A7AA-009EA8B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B7F96-E71C-4B7C-851A-3CF90F7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A1F7-DACB-430A-8109-096A63D1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85D9-5A9C-4855-871E-D1A6FE6E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F1DC-00A1-4133-9FF0-818CC648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A844-23F9-4981-B3B3-CB133C4F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074A-79D0-458D-B926-7BFC200E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FB1-3586-4419-B046-0137B35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A5AB9-4132-4974-A655-8D39F104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7377-132F-49EB-B4A6-457BBCBD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15C6-A526-40AB-8E95-2F830477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AE8CA-E7CC-4A29-A42A-7BAD754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AE91D-D257-46D4-8C59-94D23EF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A19B-2724-4B00-8BCF-0B773B9B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6846C-DCC3-448E-8520-6CAAEF1C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0D69-1794-487F-AED0-F9D9B89B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4560F-607C-4B74-8A56-39DBC79C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15E6-828C-46E5-B283-0EF45B49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5FB-FC3F-4076-957C-DED5BAEE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268F-AA19-4854-8920-162796FE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5FCA6-38A7-42C3-A259-DE58A9DA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7F1C-63BD-49BF-97B3-F7E442C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F191-5D0E-4DE8-8525-26203A5C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98FA-64B8-46E2-B27B-ADED4F1E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26C30-03C0-4AD6-8E0E-B4AC22A1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1A6A-B646-4F6B-8BB1-29B5120C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3054-706A-429C-9E60-BA4928D5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8ACD6-D975-4C00-BF7F-83A28969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894EE-50E9-4BC5-BE89-A42E14E9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955-6D2C-46AA-A612-2D6ABFB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A4F2-D62D-4B62-9B96-814982E5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D7A1-887B-4AED-A161-0B988A60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64A4C-BA03-443F-B2D5-6956315A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45D96-EFA6-4BF0-9AFB-33B99E0F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60BFB-147A-4D68-9ED7-47D5DD74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06DA-52A6-4D45-A83F-52C5A5AC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DB6F-7D3F-4535-BEDD-E423B981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6A379-9E21-495D-B5F6-C70C7D05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53CA-CD5D-44E8-A456-AAB2D04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238B-F1CC-4E5E-92E6-6156664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9F7-C214-44FB-8021-1099737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557E5-C9FD-42B7-9721-E7CABC32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A09FF-91B6-42C8-BE45-50BE3FA8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48711-7962-4C4D-AE8D-4DF084A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D737E-C959-4D4A-815B-80DE0FD4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4AB6C-BB63-4721-AB7B-FE99360C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4C3-A388-4398-BBB4-A93CCCD7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DABD-4316-4AF0-BC39-A05CA31F7E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8CA1-19ED-405E-B8A8-B05B30934F5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F0F4-328B-403B-9FEC-17C109BA28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8A9-7F48-4A56-B48A-99962A0112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1B55-233C-470B-8052-4E10E3CA55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DF9-B046-46B4-BEC3-234A726B52E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87B3-DB22-467F-A45C-D4CBCA6EF1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59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временные электронные образовательные ресурсы в образовательной практике</a:t>
            </a: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нформационные образовательные ресурсы (ИОР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82600" y="2017440"/>
            <a:ext cx="77724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чатные изда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ртографические объекты на печатной основ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лектронные образовательные 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фровые образовательные 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1785960" y="5373720"/>
            <a:ext cx="70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Информационные ОР объединяют электронные и цифровые 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6920" y="907560"/>
            <a:ext cx="66978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лектронные образовательные ресурсы (ЭОР)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55640" y="2017800"/>
            <a:ext cx="81993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ОР - это представленные в цифровой форме фотографии, видеофрагменты, статические и динамические модели, объекты виртуальной реальности и интерактивного моделирования, картографические материалы, звукозаписи, символьные объекты и деловая графика, текстовые документы и иные учебные материалы(электронные приложения), необходимые для организации учебного процесс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53964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Электронные ОР  включают  в себя цифровые 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Цифровые образовательные </a:t>
            </a:r>
            <a:br>
              <a:rPr sz="3200"/>
            </a:br>
            <a:r>
              <a:rPr b="0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есурсы (ЦОР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ОР - образовательный ресурс  представляет собой законченный интерактивный мультимедиа продукт, направленный на достижение дидактической цели или на решение определенных учебных задач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3"/>
          <p:cNvSpPr/>
          <p:nvPr/>
        </p:nvSpPr>
        <p:spPr>
          <a:xfrm>
            <a:off x="1071720" y="5157720"/>
            <a:ext cx="774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orbel"/>
              </a:rPr>
              <a:t>Главное качество ЦОР, отличающее его от других ИОР и ЭОР, заключается в интерактивном характере. ЦОР предусматривает активное участие обучающегося в процессе использования рес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2124000" y="152280"/>
            <a:ext cx="55436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"/>
          <p:cNvSpPr/>
          <p:nvPr/>
        </p:nvSpPr>
        <p:spPr>
          <a:xfrm>
            <a:off x="1071720" y="322560"/>
            <a:ext cx="778644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разве раньше никто из вас не предлагал учащимся рассмотреть картину, иллюстрацию, портрет или таблицу, не включал музыку, различные звук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все это более широко предлагают электронные и цифровые образовательные ресур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Электронными образовательными ресурсами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зывают учебные материалы, для воспроизведения которых используются электронные устро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самом общем случае к ЭОР относят учебные видеофильмы и звукозаписи, для воспроизведения которых достаточно бытового магнитофона или CD-пле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аиболее современные и эффективные для образования ЭОР воспроизводятся на компьютере. Именно на таких ресурсах мы сосредоточим свое вним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, чтобы выделить данное подмножество ЭОР, их называют цифровыми образовательными ресурсами (ЦОР), подразумевая, что компьютер использует цифровые способы записи/воспроизведения. Однако аудио/видео компакт-диски (CD) также содержат записи в цифровых форматах, так что введение отдельного термина и аббревиатуры ЦОР не даёт заметных преимуществ. Поэтому, следуя межгосударственному стандарту ГОСТ 7.23-2001, лучше использовать общий термин «электронные» и аббревиатуру Э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десь и далее мы рассматриваем электронные образовательные ресурсы, для воспроизведения которых требуется компьюте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2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ссификация ЭОР может быть проведена по нескольким направлениям:</a:t>
            </a:r>
            <a:endParaRPr b="0" lang="en-US" sz="31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00080" y="1600200"/>
            <a:ext cx="72295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и создания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ографические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ы –  отличаются от книг в основном базой предъявления текстов и иллюстраций – материал представляется на экране компьютера, а не на бумаге, также они  имеют существенные отличия в навигации по тексту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80000"/>
              </a:lnSpc>
              <a:spcBef>
                <a:spcPts val="425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имедиа ЭОР 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ресурсы, состоящие из визуального или звукового содержания. Принципиальные отличия от книги здесь очевидны: ни кино, ни анимация (мультфильм), ни звук для полиграфического издания невозможн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иду содержимого – электронные справочники, викторины, словари,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и, лабораторные работы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ипу среды распространения и использования – Интернет-ресурсы, оффлайн-ресурсы, ресурсы для электронных досок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ализационному принципу – мультимедиа-ресурсы, презентационные ресурсы, системы обучения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lnSpc>
                <a:spcPct val="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ставляющим – лекционные ресурсы, практические ресурсы, ресурсы-имитаторы (тренажеры), контрольно-измерительные материалы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по типу применения - для работы как непосредственно на занятиях в классе, так и для самостоятельной работы учащихс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ебования к современным ЭОР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71720" y="1143000"/>
            <a:ext cx="78832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ответствовать содержанию действующего ФГОС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иентироваться на современные формы обучения, обеспечивать высокую интерактивность и мультимедийность обучения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ганизовывать виды учебной деятельности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еспечивать использование самостоятельной - индивидуальной и групповой работ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ываться на достоверных материалах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евышать по объему соответствующие разделы учебника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ноценно воспроизводиться на заявленных технических платформах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еть удобный интерфейс и средства навигаци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71720" y="356760"/>
            <a:ext cx="788328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образовательные ресурс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rbel"/>
                <a:ea typeface="Times New Roman"/>
              </a:rPr>
              <a:t>http://fcior.edu.ru/catalog/meta/3/p/page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Corbel"/>
                <a:ea typeface="Times New Roman"/>
              </a:rPr>
              <a:t>http://katalog.iot.ru/pdf/Catalog_vol1.pdf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ttp://eor-np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http://www.openclass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Gill Sans MT"/>
                <a:ea typeface="Times New Roman"/>
              </a:rPr>
              <a:t>http://school-collection.edu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interaktiveboard.ru/load/1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www.delight2000.com/succes.html?id_rub=423716&amp;obj=catalo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nsportal.ru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edcommunity.ru/teachers/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4064040" y="1962000"/>
          <a:ext cx="4570200" cy="3427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1962000"/>
                    <a:ext cx="457020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7:15:27Z</dcterms:created>
  <dc:creator>Домашняя бухгалтерия</dc:creator>
  <dc:description/>
  <dc:language>en-US</dc:language>
  <cp:lastModifiedBy>Юровская школа</cp:lastModifiedBy>
  <dcterms:modified xsi:type="dcterms:W3CDTF">2013-04-22T12:08:54Z</dcterms:modified>
  <cp:revision>26</cp:revision>
  <dc:subject/>
  <dc:title>Современные электронные образовательные ресурсы в образовательной практике</dc:title>
</cp:coreProperties>
</file>