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gif" ContentType="image/gif"/>
  <Override PartName="/ppt/media/image9.png" ContentType="image/png"/>
  <Override PartName="/ppt/media/image16.jpeg" ContentType="image/jpeg"/>
  <Override PartName="/ppt/media/image15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A501-780B-4595-9528-7F46CEAFC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C7F9-8E0D-459F-8596-DCD73B9A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11421-A789-4B33-8D21-42366E52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8A58B-72D6-4BAE-B55C-7E0888B3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944EF-48B3-4A01-898C-34DC985C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61719-5AB1-4EA0-BDAB-78937A19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E3E54-E3AA-4DB7-B786-C127578C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BC769-5EBD-4BC6-B3FD-A01AEA07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5E2C0-0F4A-4E28-B77C-AEC28DC6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DD3DBF-13A9-4F98-B76D-C28214D82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2A1F0-8EA8-4BF1-9B57-8B1BB55A2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E536-0BF0-4027-A429-0B110D259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35AD-488C-4984-A858-9F77A34B6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A7B2-AC82-4269-8DD0-490D87566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F985-A356-4204-B3DF-85C65C0D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8B93-1833-46DA-8442-F8280100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E59D-6104-4BD7-A7AF-E14155D3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3028-45E9-44B3-BB80-6DFA450F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1B19-D44F-47AD-ABDA-2A1411AC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E788-1E0F-462D-9594-A478E650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4AEB-B30F-48D5-B43B-E4E2BF34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7609-FDD0-4497-936A-FC8C3F34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8E74-034F-4D0D-9387-26270703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DCC1-3F05-43FD-9EA4-33B25CDD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4597-A491-4121-93BB-0976C58D6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7B36-782C-4856-B52A-D230485C1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D5D1D-1329-4772-A43C-ADA3CC6E3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09ED9-4D6D-4311-B1E6-1341C8C6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0337B-9C21-4102-B043-10AE200F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A6861-CB9E-4827-9119-C2DBDB81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3D264-FCDD-4F08-AF6E-18152A8A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EEA3-8AA1-4923-A8DD-3667F226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0202C-D3E9-43AB-9716-1635DE6C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92029-EEDA-47FE-B5EE-85A32B30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D8234-8C4B-4D1D-86A1-70DEEC48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DA2C1-C076-4FBE-A2A3-A8206015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49990-7C0F-4870-80CA-8F6DA1B1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C7927-9209-4A50-BDA5-0FEB56043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47EC1-46A7-4AFB-9FCC-D2972AF46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AE99B-FB00-4B44-9361-FD77F5CCD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8E73D-A5A7-4D2B-A7C7-32054B00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35BA0-D7DC-4E53-A47D-965FAC41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5912-3697-4D0C-91D2-1DD415AE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ED592-7DD9-44E8-B73A-7D74AE80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70355-A237-4BBE-9706-B61BC6F1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B49F5-D7B4-4E44-A288-349A1875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5C965-6FE1-4497-8481-000ABA8C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CCCFF-D894-4634-8A7F-915AD36C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A30B9-6318-41CB-A686-AB04FF42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26589-BBA0-47FA-B22A-B67A23CE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2954D-BD30-49CA-A715-412EB47A5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DCBAC-48C9-4E8D-9443-823691FF0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4B92F-FE3C-4FE3-9B4F-503A60CBE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0D2A-581F-4E94-AD66-48651D06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3EDA9-E3AE-4A41-807A-CF7BF9ED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39BE5-3B6D-498A-9720-BBC0400E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50938-74BA-410F-892A-7F112629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7B2D3-8E1A-45D7-9974-EE36CEFD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09EB8-0767-42D8-ADF2-1A93E8A5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86F33-BD19-49B4-9037-F2826BDF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8653C-7137-4700-9C71-2FD46CBE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24BDA-5A70-4CF7-BA67-E696681C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8117E-CC82-40D6-9EA4-14CE0D90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17EB5-1BE8-4693-8768-5A2F9CB80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5C93-181D-4660-AC7D-6967FE4E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F8C18-1301-4E22-8DD8-C59750FCC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AFBCB-CFDA-4B7D-A99F-4D47CDEF5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06771-2BAB-4DE7-ADC3-B642AD48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85393-F8F0-4ED4-BAA5-50819D2E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C20D3-9DDB-4608-B6DF-6D21318D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53E0F-9AE4-4E1F-858B-ED0E91EF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F5A94-F704-47BD-B6D6-052B7EF6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91786-B867-4E2A-8E3F-BA1D5AE9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61DE8-CF7E-43B1-AE01-047632C8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C94C0-F9DF-46C5-B7EE-A52A5868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7EEE-878F-4658-84B4-71A20B74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3C572-11AA-4E12-9287-27D7DD9D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7A96C-BBDE-40DA-B9E1-6289F6EDC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FD699-DD1F-4A70-AD24-D9ED39C59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D7D16-F6A2-4805-938F-1B5D6C49F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0699B-AA50-4568-BDC0-F2120817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87D37-CE9D-404E-ACE8-9812F46A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05578-482D-4EB0-882D-A46DDD3A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117F2-AB27-42E6-BCDD-4216564C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5E332-A1FA-4EA2-B207-7DD190D8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857DD-8EA7-4856-9AEF-61D61A87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085D-E80F-4677-B1D6-BE2B92FF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2941A-10CE-428E-A28A-39440713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C0D6F-EA3E-4059-BC00-F4276978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20409-B5B8-4728-818B-23AA81EA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23B71-0F9C-4E67-8E78-F8A7E86D1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B231E-BDD6-46F5-989A-DAD2D4BDC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1596A-A955-4561-AAF6-4B4D5B1DB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F2129-34C6-4216-96EB-CE438984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DD8DB-40B5-4E9D-B6A1-0FC5F32B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6AA86-389B-4F1F-B602-398DD081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8294A-88E7-4BBC-B0F7-54258334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F2D2-DC5B-4B09-94E6-63D3D676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5BD98-552C-4346-BC1C-E1A1B0A3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46F32-F87F-43AC-9C37-3AE68B7C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16BC6-6DBF-464A-8765-6D3B77B8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DDE63-41FC-4C50-A177-C8FF31B5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B3AF1-A318-4514-B2E4-1B0B5700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0C958-3CFE-4DE0-91CB-9100762B0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E4785-EA91-4C12-AAF5-10FCF8943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3F820A-4E61-43CC-9A20-73D37EC5E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06482-1742-4829-BDAA-C3C90C7A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64592-2369-4CE1-8B52-6DC171E1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8.png"/><Relationship Id="rId33" Type="http://schemas.openxmlformats.org/officeDocument/2006/relationships/image" Target="../media/image9.png"/><Relationship Id="rId34" Type="http://schemas.openxmlformats.org/officeDocument/2006/relationships/slideLayout" Target="../slideLayouts/slideLayout85.xml"/><Relationship Id="rId35" Type="http://schemas.openxmlformats.org/officeDocument/2006/relationships/slideLayout" Target="../slideLayouts/slideLayout86.xml"/><Relationship Id="rId36" Type="http://schemas.openxmlformats.org/officeDocument/2006/relationships/slideLayout" Target="../slideLayouts/slideLayout87.xml"/><Relationship Id="rId37" Type="http://schemas.openxmlformats.org/officeDocument/2006/relationships/slideLayout" Target="../slideLayouts/slideLayout88.xml"/><Relationship Id="rId38" Type="http://schemas.openxmlformats.org/officeDocument/2006/relationships/slideLayout" Target="../slideLayouts/slideLayout89.xml"/><Relationship Id="rId39" Type="http://schemas.openxmlformats.org/officeDocument/2006/relationships/slideLayout" Target="../slideLayouts/slideLayout90.xml"/><Relationship Id="rId40" Type="http://schemas.openxmlformats.org/officeDocument/2006/relationships/slideLayout" Target="../slideLayouts/slideLayout91.xml"/><Relationship Id="rId41" Type="http://schemas.openxmlformats.org/officeDocument/2006/relationships/slideLayout" Target="../slideLayouts/slideLayout92.xml"/><Relationship Id="rId42" Type="http://schemas.openxmlformats.org/officeDocument/2006/relationships/slideLayout" Target="../slideLayouts/slideLayout93.xml"/><Relationship Id="rId43" Type="http://schemas.openxmlformats.org/officeDocument/2006/relationships/slideLayout" Target="../slideLayouts/slideLayout94.xml"/><Relationship Id="rId44" Type="http://schemas.openxmlformats.org/officeDocument/2006/relationships/slideLayout" Target="../slideLayouts/slideLayout95.xml"/><Relationship Id="rId4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slideLayout" Target="../slideLayouts/slideLayout97.xml"/><Relationship Id="rId32" Type="http://schemas.openxmlformats.org/officeDocument/2006/relationships/slideLayout" Target="../slideLayouts/slideLayout98.xml"/><Relationship Id="rId33" Type="http://schemas.openxmlformats.org/officeDocument/2006/relationships/slideLayout" Target="../slideLayouts/slideLayout99.xml"/><Relationship Id="rId34" Type="http://schemas.openxmlformats.org/officeDocument/2006/relationships/slideLayout" Target="../slideLayouts/slideLayout100.xml"/><Relationship Id="rId35" Type="http://schemas.openxmlformats.org/officeDocument/2006/relationships/slideLayout" Target="../slideLayouts/slideLayout101.xml"/><Relationship Id="rId36" Type="http://schemas.openxmlformats.org/officeDocument/2006/relationships/slideLayout" Target="../slideLayouts/slideLayout102.xml"/><Relationship Id="rId37" Type="http://schemas.openxmlformats.org/officeDocument/2006/relationships/slideLayout" Target="../slideLayouts/slideLayout103.xml"/><Relationship Id="rId38" Type="http://schemas.openxmlformats.org/officeDocument/2006/relationships/slideLayout" Target="../slideLayouts/slideLayout104.xml"/><Relationship Id="rId39" Type="http://schemas.openxmlformats.org/officeDocument/2006/relationships/slideLayout" Target="../slideLayouts/slideLayout105.xml"/><Relationship Id="rId40" Type="http://schemas.openxmlformats.org/officeDocument/2006/relationships/slideLayout" Target="../slideLayouts/slideLayout106.xml"/><Relationship Id="rId41" Type="http://schemas.openxmlformats.org/officeDocument/2006/relationships/slideLayout" Target="../slideLayouts/slideLayout107.xml"/><Relationship Id="rId42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189C-CD6E-47B1-B7E4-E56047C95E5E}" type="slidenum"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de9e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de9e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de9e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de9e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de9e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de9e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de9ec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e9e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de9ec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F579-1489-49DC-B570-CB2E32937EAA}" type="slidenum"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9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D65C-BB52-4A49-921B-AE5BCCDF7318}" type="slidenum"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99D2-B922-49F3-9603-67F0707089EA}" type="slidenum"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180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BA60-248D-4921-9572-5FC1F2B28084}" type="slidenum"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8858-083A-4BA8-A6F8-0EDDC13003B9}" type="slidenum"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27ca3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27ca3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53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53"/>
              </a:solidFill>
              <a:latin typeface="Franklin Gothic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c8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F21D-6E80-4B5C-BFCE-2956B7E3261E}" type="slidenum">
              <a:rPr b="0" lang="en-US" sz="1200" spc="-1" strike="noStrike">
                <a:solidFill>
                  <a:srgbClr val="646c8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06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10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11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5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2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29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3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49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A5F2-9E8B-4EFC-B934-F658B41FFF9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4"/>
    <p:sldLayoutId id="2147483741" r:id="rId35"/>
    <p:sldLayoutId id="2147483742" r:id="rId36"/>
    <p:sldLayoutId id="2147483743" r:id="rId37"/>
    <p:sldLayoutId id="2147483744" r:id="rId38"/>
    <p:sldLayoutId id="2147483745" r:id="rId39"/>
    <p:sldLayoutId id="2147483746" r:id="rId40"/>
    <p:sldLayoutId id="2147483747" r:id="rId41"/>
    <p:sldLayoutId id="2147483748" r:id="rId42"/>
    <p:sldLayoutId id="2147483749" r:id="rId43"/>
    <p:sldLayoutId id="2147483750" r:id="rId44"/>
    <p:sldLayoutId id="2147483751" r:id="rId4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0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0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0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0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0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1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2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2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dt" idx="2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ftr" idx="2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sldNum" idx="2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5B37-7299-433A-B627-8B3599AB963B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1"/>
    <p:sldLayoutId id="2147483754" r:id="rId32"/>
    <p:sldLayoutId id="2147483755" r:id="rId33"/>
    <p:sldLayoutId id="2147483756" r:id="rId34"/>
    <p:sldLayoutId id="2147483757" r:id="rId35"/>
    <p:sldLayoutId id="2147483758" r:id="rId36"/>
    <p:sldLayoutId id="2147483759" r:id="rId37"/>
    <p:sldLayoutId id="2147483760" r:id="rId38"/>
    <p:sldLayoutId id="2147483761" r:id="rId39"/>
    <p:sldLayoutId id="2147483762" r:id="rId40"/>
    <p:sldLayoutId id="2147483763" r:id="rId41"/>
    <p:sldLayoutId id="2147483764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8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8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8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8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8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резентация на тему: «Второстепенные члены предложения. Нераспространенные и распространенные предложения.»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2626920" y="4365720"/>
            <a:ext cx="470556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чительница МБОУ «Ухманская СОШ» Канашского района Чувашской Республики Семенова Галина Дмитриевн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Учебное задание: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Дождь (какой?) мелки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Моросит (как?) бесшумно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В одной части – подлежащее с зависимыми словами , а в другой- сказуемое с зависимыми словам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Мелкий (какой?) дождь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Моросит (как?) бесшумно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6"/>
          <a:stretch/>
        </p:blipFill>
        <p:spPr>
          <a:xfrm>
            <a:off x="4427640" y="0"/>
            <a:ext cx="2881080" cy="2205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Самостоятельная работа по формированию умений и навыков путем применения углубленных (опорных) понятий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Упражнение :265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2603520"/>
            <a:ext cx="829008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) Выделить основ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Б) отделить группу подлежащего от группы сказуемого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оверка выполн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оздание проблемной ситуации с целью углубления понятия о членах предложения</a:t>
            </a:r>
            <a:r>
              <a:rPr b="0" lang="en-US" sz="60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"/>
          <p:cNvPicPr/>
          <p:nvPr/>
        </p:nvPicPr>
        <p:blipFill>
          <a:blip r:embed="rId2"/>
          <a:srcRect l="4347" t="0" r="4347" b="0"/>
          <a:stretch/>
        </p:blipFill>
        <p:spPr>
          <a:xfrm>
            <a:off x="2124000" y="4221000"/>
            <a:ext cx="388800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редложения: 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Черенок листа прикрепляется к ветке при помощи клейкого веществ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Клейкое вещество высыхает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2а- Вещество высыхает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от почему со многих деревьев осенью осыпаются листь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3а. Осыпаются листья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6"/>
          <a:stretch/>
        </p:blipFill>
        <p:spPr>
          <a:xfrm>
            <a:off x="4572000" y="4581360"/>
            <a:ext cx="3024360" cy="208764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7"/>
          <a:stretch/>
        </p:blipFill>
        <p:spPr>
          <a:xfrm>
            <a:off x="4284720" y="189000"/>
            <a:ext cx="331164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Решение проблемы: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Первый столбик- 1,2, 3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торой столбик- 1а, 2а, 3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 первом столбике предложения с второстепенными членами, во втором – только из главных членов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Значит, предложения с второстепенными членами называются распространенными, а состоящие только из главных- нераспространенным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5"/>
          <a:stretch/>
        </p:blipFill>
        <p:spPr>
          <a:xfrm>
            <a:off x="5076720" y="270000"/>
            <a:ext cx="2624400" cy="197172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6"/>
          <a:stretch/>
        </p:blipFill>
        <p:spPr>
          <a:xfrm>
            <a:off x="5292720" y="5084640"/>
            <a:ext cx="2448000" cy="1746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Формирование понятий и навыков .</a:t>
            </a:r>
            <a:br>
              <a:rPr sz="3200"/>
            </a:b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Проверка усвоения, уточнение, запоминание.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Карточка №1</a:t>
            </a:r>
            <a:br>
              <a:rPr sz="1800"/>
            </a:b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Задание 1. Запиши предложения. Определи вид предложений , укажи его в скобках. Подчеркни главные и второстепенные члены предложения.</a:t>
            </a:r>
            <a:br>
              <a:rPr sz="2000"/>
            </a:br>
            <a:br>
              <a:rPr sz="1800"/>
            </a:b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Падает снег. Стоит чудесный зимний день. Деревья одеты в белые шубки.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Задание 2 . Составьте предложения по схеме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Каточка №2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Задание 1. Запиши предложения. Определи вид предложений, укажи его в скобках. Подчеркни главные и второстепенные члены предложения </a:t>
            </a:r>
            <a:br>
              <a:rPr sz="1800"/>
            </a:b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Небо почернело. Надвинулась чёрная туча. Налетел сильный, холодный ветер.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ЗАДАНИЕ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ставить предложение с данным словом по схеме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[  </a:t>
            </a:r>
            <a:r>
              <a:rPr b="0" lang="ru-RU" sz="3200" spc="-1" strike="noStrike" baseline="30000">
                <a:solidFill>
                  <a:srgbClr val="2f1311"/>
                </a:solidFill>
                <a:latin typeface="Arial"/>
              </a:rPr>
              <a:t>сущ.                    прил.</a:t>
            </a:r>
            <a:r>
              <a:rPr b="0" lang="en-US" sz="3200" spc="-1" strike="noStrike" baseline="30000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3200" spc="-1" strike="noStrike" baseline="30000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 baseline="30000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]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buClr>
                <a:srgbClr val="2f13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ставить словосочетание с данным словом по схеме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ил.  +  сущ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535" name="Группа 17"/>
          <p:cNvGrpSpPr/>
          <p:nvPr/>
        </p:nvGrpSpPr>
        <p:grpSpPr>
          <a:xfrm>
            <a:off x="1571760" y="3000240"/>
            <a:ext cx="2857320" cy="73080"/>
            <a:chOff x="1571760" y="3000240"/>
            <a:chExt cx="2857320" cy="73080"/>
          </a:xfrm>
        </p:grpSpPr>
        <p:sp>
          <p:nvSpPr>
            <p:cNvPr id="536" name="Прямая соединительная линия 4"/>
            <p:cNvSpPr/>
            <p:nvPr/>
          </p:nvSpPr>
          <p:spPr>
            <a:xfrm>
              <a:off x="1571760" y="3000240"/>
              <a:ext cx="928440" cy="14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Прямая соединительная линия 6"/>
            <p:cNvSpPr/>
            <p:nvPr/>
          </p:nvSpPr>
          <p:spPr>
            <a:xfrm>
              <a:off x="3286080" y="3000240"/>
              <a:ext cx="1143000" cy="14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Прямая соединительная линия 8"/>
            <p:cNvSpPr/>
            <p:nvPr/>
          </p:nvSpPr>
          <p:spPr>
            <a:xfrm>
              <a:off x="3286080" y="3071880"/>
              <a:ext cx="1143000" cy="14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Группа 16"/>
          <p:cNvGrpSpPr/>
          <p:nvPr/>
        </p:nvGrpSpPr>
        <p:grpSpPr>
          <a:xfrm>
            <a:off x="2284200" y="5072040"/>
            <a:ext cx="1716480" cy="500040"/>
            <a:chOff x="2284200" y="5072040"/>
            <a:chExt cx="1716480" cy="500040"/>
          </a:xfrm>
        </p:grpSpPr>
        <p:sp>
          <p:nvSpPr>
            <p:cNvPr id="540" name="Умножение 9"/>
            <p:cNvSpPr/>
            <p:nvPr/>
          </p:nvSpPr>
          <p:spPr>
            <a:xfrm>
              <a:off x="3643560" y="5286240"/>
              <a:ext cx="357120" cy="285840"/>
            </a:xfrm>
            <a:prstGeom prst="pie">
              <a:avLst/>
            </a:prstGeom>
            <a:solidFill>
              <a:srgbClr val="d5b781"/>
            </a:solidFill>
            <a:ln w="25560">
              <a:solidFill>
                <a:srgbClr val="5259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Прямая соединительная линия 11"/>
            <p:cNvSpPr/>
            <p:nvPr/>
          </p:nvSpPr>
          <p:spPr>
            <a:xfrm flipV="1">
              <a:off x="3856320" y="5073120"/>
              <a:ext cx="1440" cy="214200"/>
            </a:xfrm>
            <a:prstGeom prst="line">
              <a:avLst/>
            </a:prstGeom>
            <a:ln w="38160">
              <a:solidFill>
                <a:srgbClr val="d5b7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Прямая соединительная линия 13"/>
            <p:cNvSpPr/>
            <p:nvPr/>
          </p:nvSpPr>
          <p:spPr>
            <a:xfrm flipH="1" flipV="1">
              <a:off x="2286000" y="5072040"/>
              <a:ext cx="1571760" cy="1440"/>
            </a:xfrm>
            <a:prstGeom prst="line">
              <a:avLst/>
            </a:prstGeom>
            <a:ln w="38160">
              <a:solidFill>
                <a:srgbClr val="d5b7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3" name="Прямая со стрелкой 15"/>
            <p:cNvCxnSpPr/>
            <p:nvPr/>
          </p:nvCxnSpPr>
          <p:spPr>
            <a:xfrm flipH="1">
              <a:off x="2284200" y="5073120"/>
              <a:ext cx="2160" cy="429480"/>
            </a:xfrm>
            <a:prstGeom prst="straightConnector1">
              <a:avLst/>
            </a:prstGeom>
            <a:ln w="38160">
              <a:solidFill>
                <a:srgbClr val="d5b781"/>
              </a:solidFill>
              <a:miter/>
              <a:tailEnd len="med" type="arrow" w="med"/>
            </a:ln>
          </p:spPr>
        </p:cxnSp>
      </p:grp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ИГРА «СНЕЖНЫЙ КОМ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Задание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Распространите в предложении главный член - сказуемо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Распространите оба главных член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Распространите предложение еще больш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Рефлекс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263520" y="1484280"/>
          <a:ext cx="7386480" cy="550692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50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.На уроке я работал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.Своей работой на уроке я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.Урок для меня показался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.За урок я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5.Мое настроение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6.Материал урока мне был</a:t>
                      </a:r>
                      <a:br>
                        <a:rPr sz="2400"/>
                      </a:br>
                      <a:br>
                        <a:rPr sz="2400"/>
                      </a:b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7.Домашнее задание мне кажетс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активно / пассивно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доволен / не доволен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коротким / длинным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не устал / устал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тало лучше / стало хуже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онятен / не понятен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олезен / бесполезен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интересен / скучен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легким / трудным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Список литератур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.Е.А.Быстрова. Русский язык . 5 класс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. Петрановская Л. Игры на уроках русского языка: пособие для учителя.- М.: МИРОС- МАИК. «Наука / Интерпериодика», 2000.- 144с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Цели урок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А) дидактическая – организовать самостоятельную работу  учащихся по усвоению новых понятий и углублению имеющихся;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Б) логическая – упражнять в самостоятельном анализе , сравнении , обобщении, умозаключен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) нравственная- привить любовь природе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Активизация путем постановки проблемных вопросов: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чему подлежащее и сказуемое – главные члены предложения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чему они составляют грамматическую основу предложения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чему другие члены называются второстепенными членами предложения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Решение проблем путем выполнения упражнения   264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263520" y="1598760"/>
          <a:ext cx="7386480" cy="488124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14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орона сидел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Тощая растрепанная ворона сидела на дерев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Кот прогуливалс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Толстый кот лениво прогуливался под дерево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49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Они поздоровались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Они вежливо поздоровались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Физкультминут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Дружно встали. Раз! Два! Три!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Мы теперь — богатыри!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Мы ладонь к глазам приставим,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Ноги крепкие расставим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Поворачиваясь вправо,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Оглядимся величаво;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И налево надо тоже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Поглядеть из-под ладошек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Буквой «л» расставим ноги.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Точно в танце — руки в боки.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Наклонились влево, вправо.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Получается на славу!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Чудеса у нас на свете: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Стали карликами дети.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А потом все дружно встали,</a:t>
            </a:r>
            <a:br>
              <a:rPr sz="2000"/>
            </a:b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Великанами мы стал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5"/>
          <a:stretch/>
        </p:blipFill>
        <p:spPr>
          <a:xfrm>
            <a:off x="4500720" y="2492280"/>
            <a:ext cx="273528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Формулировка проблем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чему подлежащее и сказуемое – главные члены предложения?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чему они составляют грамматическую основу предложения?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чему другие члены называются второстепенными членами предложения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остановка учебного задания (в помощь решению проблем)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.Мелкий дождь бесшумно мороси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2. Дождь мороси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3. Мелкий бесшумно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а. Вокруг царит мертвая тишин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2а. Царит тишин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3а . Тишин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4а. Вокруг мертва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Решение проблемы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2, 3 , 1а, 2а, 3а- предложени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4, 4а- не предложени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1, 1а, - состоят из главных и второстепенных членов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2, 2а- только из главных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3- только из сказуемого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3а- только из подлежащего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4а- только из второстепенных членов, и они не предложения (доказательство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ывод: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Из главных членов , даже из одного главного , предложение может состоять, а из второстепенных членов не может. Вот почему одни называются главными, другие второстепенными членами предложения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16:50:42Z</dcterms:created>
  <dc:creator>nik</dc:creator>
  <dc:description/>
  <dc:language>en-US</dc:language>
  <cp:lastModifiedBy>User</cp:lastModifiedBy>
  <dcterms:modified xsi:type="dcterms:W3CDTF">2013-04-23T19:35:37Z</dcterms:modified>
  <cp:revision>131</cp:revision>
  <dc:subject/>
  <dc:title>Слайд 1</dc:title>
</cp:coreProperties>
</file>