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533-3C14-4C14-A1B0-08F658FB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272-DD46-4031-A18E-560AD47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096C7-717E-4B1A-B6A3-E8C03F5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90BEE-1B15-4C39-8DA2-53EE130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23F14-B0FE-492B-8A86-57FBC08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311F2-2085-4AFC-8678-E1E80FC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5310F-DB0B-4834-8700-8175935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05A0E-7E53-4504-BD89-3661B71B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88AA7-E15C-4054-A0CC-772AEB94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5646-337D-4E7C-AFF9-8865DA62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7FD3A-281F-440A-BB8C-0860CE2F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FC8-FE15-4D4D-AB23-FB154918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71C-A68D-4A43-B469-39D036C9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6AEC-0C63-4E63-B3DB-62B3E495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C0DF-38DB-438F-AA6F-07BA459B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6E20-470D-4EFD-9A2C-EE69CFA5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CF05-E3D8-4EDD-9C75-953BB4DD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7380-99FD-4DA9-896A-F22569C4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92D2-E9E2-4E1D-8D00-DC8A8466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99E5-5624-4CBE-9B94-747D1E4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C60-C80D-4144-B31C-21B2C07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203F-8CA5-4ACD-9D66-43EC6F7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A839-F895-4340-85D1-C1E0497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A6F-444C-4CA4-82D8-75D1EE5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3E37-5565-483E-916B-EF771073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F586-F725-493B-AFBA-11BE1BF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E253-8714-400B-920E-B615D51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B90E-4105-4D02-954E-CD12544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1D28-040A-46AA-9644-1FB34FC6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93BC-333F-4470-B639-138C4D6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0883-5FE6-4427-8411-B57B497F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89B-8FDE-43B0-AD2C-582FACE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0BFD-4A9D-462A-BBBC-B49C6113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FEFD-61B0-4C33-959E-106C402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C3AE-27E6-49CE-AAD7-35B3780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C6D0-98DA-43FF-BBE6-F9EF128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FE5F-2BDE-4BA8-9151-07147CC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614E-C9F7-4CC1-9BD7-21FB2BB2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408E-AD9F-46B3-9ED7-2F245635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4A1E-C334-43AE-9B49-FB56E7FC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65FB-B3EF-4367-A4DE-A54D9FDD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840D-C407-46B3-B619-B3543C0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7AE-63AD-42D8-A9E6-EE0F63C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55B0-3AC7-496D-B48C-16EAF94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F12E-E2F8-415C-83DC-A1228554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98B7-A9F8-4065-9B29-833FC00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B9F6-1D91-40F7-843A-CBD6316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05C2-E827-4918-9CE4-D14E9BB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C720-5091-4EF5-9A4F-48563E3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B0B5-7304-42EF-A116-334639B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1789-E97C-4AF1-81E6-14966292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4EF7-1022-408E-AC94-EB242023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E799-DA69-4D71-BF88-9E9AEA76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D65-54C3-4A29-B6A5-2A28730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2149-7A4A-4221-8D01-1DFCE335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3FFB-2667-4E62-BBC9-D659FD2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5FFC-69A2-4F87-9F30-13F1E02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0B90-6FE8-419B-A05F-4F14AD03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FA34-37D6-445A-BA5C-689DCB72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98E1-6A24-49E4-B42A-509E472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1D21-1C50-480F-B634-8A7AD26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87F0-4AD9-4C01-B10F-89C9091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C65A-4B8A-4637-A894-FE31807B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5659-8682-467F-8940-185D9CE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A1C-8066-4E24-B904-2BDFF04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1425F-6204-441C-B24F-4723D6DA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E052-A487-460F-BC8E-4B941963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A2C7-071F-493C-B691-C8705A0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88C2-C8AD-4C6B-8F82-7A914D5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0EC6-2BAC-45FD-AF61-5C71EE0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E18E-3F5D-4165-835E-2F90D30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AEA9-9041-488B-94B7-F93BB93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1E9D-2821-455D-8524-FD0CD08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8C38-A132-469E-BB9F-82DAC21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F0B5-D322-43DE-95E5-E3E0CFD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46D-B273-4956-812F-B1E5E63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22EA-26F4-4D18-A3B5-F10FAA4C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0AAE-5EFA-4891-BC41-DCAE5657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91F1-2E0B-4C5C-9946-020BAD1F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EC199-320E-4403-BFC6-C6F09AE1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B942-2561-4E29-843B-55227903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9E36-B981-41B3-A6B0-8DC4406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DDEE-9E91-440B-9411-FD52715B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7DE4-A3A5-4A6F-A765-89429028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528C-05A4-4A6E-8B4C-0B44085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7BCF-6632-4346-B603-A8AB226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C09-024D-4123-B7DE-0230FD8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C3C8-7DC9-408F-955C-1CFDD2A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3006-FB7B-4CCF-8A10-CEE6744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8D92B-6405-4336-87D9-2CC16FE3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909E-DA93-4F9F-9E77-BCDCE99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1BBD-F94E-48BE-ADDC-3E076774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4E25-1E6C-43FC-B6A0-C9DE79FC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9E4B-D305-45C0-988C-2441D33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AC56-B36B-459C-8151-6674B50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4A19-B2F5-4EEB-B5C2-FCA7E4DF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DE46E-82E0-4A22-8E32-02FDDEC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2FB-AB2E-4F7E-ABAB-2C8987F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08DD3-932B-486F-8359-9B0E2CD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74535-BD6D-48FA-A2DB-93BA932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5712-B31C-4492-8D5A-FEEEFAE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DB6AF-722D-49C2-8B94-57D1C2D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609C-FB0E-4FB1-A4FD-9C92602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2DFC1-335E-47D0-94AD-5B7B4B5E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8F43-51C4-446E-B746-0208A9F9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6789-C7E0-483A-B16C-E3E5FAD5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0FE58-CC58-493F-A45B-672C312F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7DEA2-FEB4-410C-A417-BAEB7F54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97.xml"/><Relationship Id="rId32" Type="http://schemas.openxmlformats.org/officeDocument/2006/relationships/slideLayout" Target="../slideLayouts/slideLayout98.xml"/><Relationship Id="rId33" Type="http://schemas.openxmlformats.org/officeDocument/2006/relationships/slideLayout" Target="../slideLayouts/slideLayout99.xml"/><Relationship Id="rId34" Type="http://schemas.openxmlformats.org/officeDocument/2006/relationships/slideLayout" Target="../slideLayouts/slideLayout100.xml"/><Relationship Id="rId35" Type="http://schemas.openxmlformats.org/officeDocument/2006/relationships/slideLayout" Target="../slideLayouts/slideLayout101.xml"/><Relationship Id="rId36" Type="http://schemas.openxmlformats.org/officeDocument/2006/relationships/slideLayout" Target="../slideLayouts/slideLayout102.xml"/><Relationship Id="rId37" Type="http://schemas.openxmlformats.org/officeDocument/2006/relationships/slideLayout" Target="../slideLayouts/slideLayout103.xml"/><Relationship Id="rId38" Type="http://schemas.openxmlformats.org/officeDocument/2006/relationships/slideLayout" Target="../slideLayouts/slideLayout104.xml"/><Relationship Id="rId39" Type="http://schemas.openxmlformats.org/officeDocument/2006/relationships/slideLayout" Target="../slideLayouts/slideLayout105.xml"/><Relationship Id="rId40" Type="http://schemas.openxmlformats.org/officeDocument/2006/relationships/slideLayout" Target="../slideLayouts/slideLayout106.xml"/><Relationship Id="rId41" Type="http://schemas.openxmlformats.org/officeDocument/2006/relationships/slideLayout" Target="../slideLayouts/slideLayout107.xml"/><Relationship Id="rId4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BB8-5A03-4ECD-96C2-DBEFA06BEBF4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FAD-B59A-479B-ABEC-F5A97F943772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3824-2F8A-4A60-9512-112AC77C3701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D2F2-9B94-4807-8F79-56522F96958B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8EC2-B8FD-40EC-8EC5-409F6F62E7CF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FBA-6936-46E7-AC53-E6853C4681A7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228-684E-4777-AD7F-2CEA32A147F3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9E8B-6053-441F-9643-EC77186305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92E-F18D-452E-8B1D-7BCF909F614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1"/>
    <p:sldLayoutId id="2147483754" r:id="rId32"/>
    <p:sldLayoutId id="2147483755" r:id="rId33"/>
    <p:sldLayoutId id="2147483756" r:id="rId34"/>
    <p:sldLayoutId id="2147483757" r:id="rId35"/>
    <p:sldLayoutId id="2147483758" r:id="rId36"/>
    <p:sldLayoutId id="2147483759" r:id="rId37"/>
    <p:sldLayoutId id="2147483760" r:id="rId38"/>
    <p:sldLayoutId id="2147483761" r:id="rId39"/>
    <p:sldLayoutId id="2147483762" r:id="rId40"/>
    <p:sldLayoutId id="2147483763" r:id="rId41"/>
    <p:sldLayoutId id="2147483764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на тему: «Второстепенные члены предложения. Нераспространенные и распространенные предложения.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626920" y="4365720"/>
            <a:ext cx="4705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ница МБОУ «Ухманская СОШ» Канашского района Чувашской Республики Семенова Галина Дмитриев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чебное задание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ждь (какой?) мелк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одной части – подлежащее с зависимыми словами , а в другой- сказуемое с зависимыми слов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лкий (какой?) дожд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28810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амостоятельная работа по формированию умений и навыков путем применения углубленных (опорных) поняти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пражнение :26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603520"/>
            <a:ext cx="8290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ыделить осно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отделить группу подлежащего от группы сказуемого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ка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здание проблемной ситуации с целью углубления понятия о членах предложения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rcRect l="4347" t="0" r="4347" b="0"/>
          <a:stretch/>
        </p:blipFill>
        <p:spPr>
          <a:xfrm>
            <a:off x="2124000" y="4221000"/>
            <a:ext cx="388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ложения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нок листа прикрепляется к ветке при помощи клейк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лейкое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а-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т почему со многих деревьев осенью осыпаются лист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. Осыпаются листь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572000" y="4581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3311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ый столбик- 1,2, 3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ой столбик- 1а, 2а, 3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первом столбике предложения с второстепенными членами, во втором – только из главных член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начит, предложения с второстепенными членами называются распространенными, а состоящие только из главных- нераспространенны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5076720" y="27000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448000" cy="174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Формирование понятий и навыков .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Проверка усвоения, уточнение, запоминание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рточка №1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 , укажи его в скобках. Подчеркни главные и второстепенные члены предло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Падает снег. Стоит чудесный зимний день. Деревья одеты в белые шубк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2 . Составьте предложения по схем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точка №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, укажи его в скобках. Подчеркни главные и второстепенные члены предложения </a:t>
            </a: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бо почернело. Надвинулась чёрная туча. Налетел сильный, холодный ветер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предложе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[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сущ.                    прил.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словосочета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л.  +  сущ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35" name="Группа 17"/>
          <p:cNvGrpSpPr/>
          <p:nvPr/>
        </p:nvGrpSpPr>
        <p:grpSpPr>
          <a:xfrm>
            <a:off x="1571760" y="3000240"/>
            <a:ext cx="2857320" cy="73080"/>
            <a:chOff x="1571760" y="3000240"/>
            <a:chExt cx="2857320" cy="73080"/>
          </a:xfrm>
        </p:grpSpPr>
        <p:sp>
          <p:nvSpPr>
            <p:cNvPr id="536" name="Прямая соединительная линия 4"/>
            <p:cNvSpPr/>
            <p:nvPr/>
          </p:nvSpPr>
          <p:spPr>
            <a:xfrm>
              <a:off x="1571760" y="3000240"/>
              <a:ext cx="92844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ая соединительная линия 6"/>
            <p:cNvSpPr/>
            <p:nvPr/>
          </p:nvSpPr>
          <p:spPr>
            <a:xfrm>
              <a:off x="3286080" y="300024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8"/>
            <p:cNvSpPr/>
            <p:nvPr/>
          </p:nvSpPr>
          <p:spPr>
            <a:xfrm>
              <a:off x="3286080" y="307188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16"/>
          <p:cNvGrpSpPr/>
          <p:nvPr/>
        </p:nvGrpSpPr>
        <p:grpSpPr>
          <a:xfrm>
            <a:off x="2284200" y="5072040"/>
            <a:ext cx="1716480" cy="500040"/>
            <a:chOff x="2284200" y="5072040"/>
            <a:chExt cx="1716480" cy="500040"/>
          </a:xfrm>
        </p:grpSpPr>
        <p:sp>
          <p:nvSpPr>
            <p:cNvPr id="540" name="Умножение 9"/>
            <p:cNvSpPr/>
            <p:nvPr/>
          </p:nvSpPr>
          <p:spPr>
            <a:xfrm>
              <a:off x="3643560" y="5286240"/>
              <a:ext cx="357120" cy="285840"/>
            </a:xfrm>
            <a:prstGeom prst="pie">
              <a:avLst/>
            </a:prstGeom>
            <a:solidFill>
              <a:srgbClr val="d5b781"/>
            </a:solidFill>
            <a:ln w="2556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 flipV="1">
              <a:off x="3856320" y="5073120"/>
              <a:ext cx="1440" cy="21420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13"/>
            <p:cNvSpPr/>
            <p:nvPr/>
          </p:nvSpPr>
          <p:spPr>
            <a:xfrm flipH="1" flipV="1">
              <a:off x="2286000" y="5072040"/>
              <a:ext cx="1571760" cy="144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Прямая со стрелкой 15"/>
            <p:cNvCxnSpPr/>
            <p:nvPr/>
          </p:nvCxnSpPr>
          <p:spPr>
            <a:xfrm flipH="1">
              <a:off x="2284200" y="5073120"/>
              <a:ext cx="2160" cy="429480"/>
            </a:xfrm>
            <a:prstGeom prst="straightConnector1">
              <a:avLst/>
            </a:prstGeom>
            <a:ln w="38160">
              <a:solidFill>
                <a:srgbClr val="d5b781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ГРА «СНЕЖНЫЙ К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в предложении главный член - сказуемо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оба главных чле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предложение еще больш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63520" y="1484280"/>
          <a:ext cx="7386480" cy="55069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0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На уроке я работал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Материал урока мне был</a:t>
                      </a:r>
                      <a:br>
                        <a:rPr sz="2400"/>
                      </a:b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Домашнее задание мне 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волен / не доволе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ротким / длин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гким / труд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Е.А.Быстрова. Русский язык . 5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Петрановская Л. Игры на уроках русского языка: пособие для учителя.- М.: МИРОС- МАИК. «Наука / Интерпериодика», 2000.- 144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) дидактическая – организовать самостоятельную работу  учащихся по усвоению новых понятий и углублению имеющихс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логическая – упражнять в самостоятельном анализе , сравнении , обобщении, умозаключен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) нравственная- привить любов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Активизация путем постановки проблемных вопросов: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Решение проблем путем выполнения упражнения   264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63520" y="1598760"/>
          <a:ext cx="7386480" cy="48812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орона сиде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щая растрепанная ворона сидела на дере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 прогуливал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лстый кот лениво прогуливался под дерев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вежливо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ужно встали. Раз! Два! Т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теперь — богаты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ладонь к глазам приставим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оги крепкие расстави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ворачиваясь вправо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Оглядимся величаво;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 налево надо тоже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глядеть из-под ладош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уквой «л» расставим ног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чно в танце — руки в бок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клонились влево, вправо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учается на слав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удеса у нас на свете: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тали карликами дет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 потом все дружно встали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еликанами мы стал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улировка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становка учебного задания (в помощь решению проблем)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Мелкий дождь бесшумно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Дождь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Мелкий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а. Вокруг царит мертвая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а. Царит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а .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а. Вокруг мертв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3 , 1а, 2а, 3а-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, 4а- не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, 1а, - состоят из главных и второстепенных член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2а- только из главны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- только из сказуемо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- только из подлежаще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а- только из второстепенных членов, и они не предложения (доказательств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 главных членов , даже из одного главного , предложение может состоять, а из второстепенных членов не может. Вот почему одни называются главными, другие второстепенными членами предло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0:42Z</dcterms:created>
  <dc:creator>nik</dc:creator>
  <dc:description/>
  <dc:language>en-US</dc:language>
  <cp:lastModifiedBy>User</cp:lastModifiedBy>
  <dcterms:modified xsi:type="dcterms:W3CDTF">2013-04-23T19:35:37Z</dcterms:modified>
  <cp:revision>131</cp:revision>
  <dc:subject/>
  <dc:title>Слайд 1</dc:title>
</cp:coreProperties>
</file>