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9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C04-1CE9-4B17-91C6-B6D5C577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5F0-8F41-493F-A2C6-157D77D5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165E7-2527-418A-9D92-44D18C56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30633-4249-4DA9-98FD-D33D13CE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0FB78-AA4E-42A4-9437-C4611CDF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9D808-D1ED-442E-807D-6A8F5D78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B677C-6472-4354-A8A1-43CC2895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6107C-A97B-4ACB-8403-650C9C4D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02565-46D6-4530-9A7E-F4F3BD61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73C86-9F13-45F7-8339-385BE208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D4CE2-D104-46FA-95B3-A6E6BEE2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752-4221-4D36-A765-D25EAD9B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872-BE17-4C2D-A1BF-CE054863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0665-5B74-49A5-B10B-085E1ED2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9282-6583-4A43-9C1D-D6DFC269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3120-4349-4703-9ACF-355FB5B4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BC3F-9767-4EB5-BCCA-2BA2570E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F28B-2546-43DA-9678-035902AB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5508-3A13-42B8-B760-83E28D05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1703-9AD8-4BDD-B2F0-69C909BA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257E-2249-48EA-A6A4-A5CDDC7F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81C1-D0B7-47CE-A444-33075A72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210E-0B74-435A-87D4-A46CAB2A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6FBA-F45F-433E-AEB3-E23A0353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EEAE-9E08-43D5-B44E-E62E4C21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C7EF-D3D2-4466-8153-69814EC4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154D5-C794-4F5C-8FDF-06628853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48EA6-B182-4686-A100-705E0838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4A66-859C-4A26-9E6F-CCBFE5F3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9F3BA-6224-47CB-AF8E-3FE6AA54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45DED-4906-41D1-AD43-2A8E84C5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884-BD60-4F75-8720-7363C2A6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57C3B-AD08-4317-8B50-7D6FBAAD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6DC17-ED05-4C89-871D-057DAC24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CAD3B-3A83-4A7C-A703-C481030E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E08A-646F-4981-B593-69883B31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DFDC0-482A-40B7-9B0E-58A185F5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7B1F9-49E7-47D6-A6CD-68D10885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E4D5C-7501-4108-94F1-44261EA7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C96E4-C2A2-49C5-A384-6E68CB2A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B3311-06EB-478F-A0F1-1A344ABB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1A245-C81B-46B2-B07B-05473FD8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1AA-6377-43A8-BE88-EE5882FC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D8F7A-FD76-44A6-8F09-B6837CE8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B6A8-104B-44B9-AE5C-0BB02C9B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D8D9-6F73-41E4-B54F-2A2EFAB7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9EF9F-185C-4420-9973-3A827C3F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B8F65-5D06-462B-86B5-3D579437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16985-CDDE-4D4B-8E75-B00F43C5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FA3E4-861B-4A98-BA16-3FBA970C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1A67F-2369-436A-BD06-AB96CAC2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2FB8B-E93E-4D07-AA99-C9EF8723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AE1CF-C54A-455E-8466-CEEA62A7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68B-90D6-4649-8C2A-7FFC5B52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F4378-5E81-4969-9577-3A21E3F5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9EF63-6854-4ABE-8F06-646A935B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E4725-C076-4108-8179-8225FA93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50207-BC65-40F5-87AB-F59A07E8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AD4AE-93F7-4DAD-8160-820E9E11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B3112-3133-4CA6-83E5-102C2036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A303D-5F1C-491A-B9A6-73F42AF2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4D4E5-7545-44A3-ADE9-68A19753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8A3E9-C49D-47BE-805D-7F12D7E1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86410-0A05-4633-98DB-4CD3611D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026-DAFF-4B0C-9355-82F1FB86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02875-69DD-4DDE-9125-23ECC0DC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5B608-7E3C-403F-A140-9463BEAA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A1380-E3C5-4F2A-BA8A-18254F63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CF89E-B10F-49FC-A6FF-C81E86FC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2DDA4-B44F-4C62-A865-43EB8D18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A3212-C7C1-448F-8FAD-67E75570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87979-4D74-4198-A462-B987BF88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8E87D-5027-4A08-B6D1-28894742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FA5DB-52DD-4DA2-8ED0-36E2F004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8CC05-3410-4D0E-BE95-D728E802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F89-93BC-4402-A732-7DF6455E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5A831-5F19-445A-A795-50701C36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63202-D0CF-43A8-99A6-A2973807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A46DB-CBCE-40EA-88F8-BEC54FDB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F7EB5-A655-4315-BF09-E005B4AB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B7A6A-1404-46C4-940E-62CCE54B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C72AF-3A4F-46E4-B1FE-8BE27A5D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0EBE7-697D-4DE9-BBE4-D1709391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2A499-4859-460D-97BA-BBD258CC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584B5-D53C-4675-BD3C-324D11C4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6F240-D285-4D00-BDEF-D5376AFD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3D0-93CF-4B5E-A017-334982E1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D2E8D-A330-4268-A91E-2378ABBE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C6A50-C680-4769-91B6-552B5FB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4BCA2-065A-49E8-851E-411821FD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75F4D-DF58-44AF-B9A8-DD49E587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1629A-1715-4452-BD03-DA5CEA3F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FBDCC-C456-4C3F-AA57-C321742B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64AF0-305E-49E2-AB39-C7B5719B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27BE8-1E47-4CB8-9541-2784ADD3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F416B-8580-4852-8517-094456AD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004B0-BA48-4176-9DC1-B8B301FB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4DA-6176-4BC3-8BFC-DB390CFD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EF7AF-5C61-40CB-B284-98326A4B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2A46A-3A96-4220-85CC-5F05A219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D30F5-5CA8-4267-9FA4-877046AB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5A97A-F100-49B7-8B4E-781E04AC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16410-3947-488C-B116-F6107393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56371-6BE0-4507-95F9-7B888ED4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B1A51-4D22-47A8-BCDF-33DCC6A9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6C2F9-89B5-4EE6-9A84-7113AA02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35C55-AB38-4C11-A591-F6CE5EC6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DC2E9-6DB5-41A5-AD84-EF3417EE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97.xml"/><Relationship Id="rId32" Type="http://schemas.openxmlformats.org/officeDocument/2006/relationships/slideLayout" Target="../slideLayouts/slideLayout98.xml"/><Relationship Id="rId33" Type="http://schemas.openxmlformats.org/officeDocument/2006/relationships/slideLayout" Target="../slideLayouts/slideLayout99.xml"/><Relationship Id="rId34" Type="http://schemas.openxmlformats.org/officeDocument/2006/relationships/slideLayout" Target="../slideLayouts/slideLayout100.xml"/><Relationship Id="rId35" Type="http://schemas.openxmlformats.org/officeDocument/2006/relationships/slideLayout" Target="../slideLayouts/slideLayout101.xml"/><Relationship Id="rId36" Type="http://schemas.openxmlformats.org/officeDocument/2006/relationships/slideLayout" Target="../slideLayouts/slideLayout102.xml"/><Relationship Id="rId37" Type="http://schemas.openxmlformats.org/officeDocument/2006/relationships/slideLayout" Target="../slideLayouts/slideLayout103.xml"/><Relationship Id="rId38" Type="http://schemas.openxmlformats.org/officeDocument/2006/relationships/slideLayout" Target="../slideLayouts/slideLayout104.xml"/><Relationship Id="rId39" Type="http://schemas.openxmlformats.org/officeDocument/2006/relationships/slideLayout" Target="../slideLayouts/slideLayout105.xml"/><Relationship Id="rId40" Type="http://schemas.openxmlformats.org/officeDocument/2006/relationships/slideLayout" Target="../slideLayouts/slideLayout106.xml"/><Relationship Id="rId41" Type="http://schemas.openxmlformats.org/officeDocument/2006/relationships/slideLayout" Target="../slideLayouts/slideLayout107.xml"/><Relationship Id="rId4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2B84-86EF-49F1-B6FF-965C5721699D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e9e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de9ec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B9B0-9587-42ED-BA6D-3167CE51BB4F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04A0-993A-4BA2-86E5-D53EE280AC7D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443B-97C7-497A-B128-C22A8387EB2A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8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E469-600C-41DD-AB8D-A0F81F387259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222C-3DE6-47E7-B638-1CFB67E70A34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1BD8-30D3-49E6-B36B-EE656B33A877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0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2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3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4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2141-329D-4F30-A96D-FA38D5EB069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0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1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2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2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9972-B60C-44E7-A195-74FFA7AFD43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1"/>
    <p:sldLayoutId id="2147483754" r:id="rId32"/>
    <p:sldLayoutId id="2147483755" r:id="rId33"/>
    <p:sldLayoutId id="2147483756" r:id="rId34"/>
    <p:sldLayoutId id="2147483757" r:id="rId35"/>
    <p:sldLayoutId id="2147483758" r:id="rId36"/>
    <p:sldLayoutId id="2147483759" r:id="rId37"/>
    <p:sldLayoutId id="2147483760" r:id="rId38"/>
    <p:sldLayoutId id="2147483761" r:id="rId39"/>
    <p:sldLayoutId id="2147483762" r:id="rId40"/>
    <p:sldLayoutId id="2147483763" r:id="rId41"/>
    <p:sldLayoutId id="2147483764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8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езентация на тему: «Второстепенные члены предложения. Нераспространенные и распространенные предложения.»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626920" y="4365720"/>
            <a:ext cx="47055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чительница МБОУ «Ухманская СОШ» Канашского района Чувашской Республики Семенова Галина Дмитриевн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чебное задание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ождь (какой?) мелк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оросит (как?) бесшумн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одной части – подлежащее с зависимыми словами , а в другой- сказуемое с зависимыми слов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елкий (какой?) дожд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оросит (как?) бесшумно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6"/>
          <a:stretch/>
        </p:blipFill>
        <p:spPr>
          <a:xfrm>
            <a:off x="4427640" y="0"/>
            <a:ext cx="2881080" cy="2205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Самостоятельная работа по формированию умений и навыков путем применения углубленных (опорных) понятий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пражнение :26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2603520"/>
            <a:ext cx="829008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) Выделить основ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) отделить группу подлежащего от группы сказуемого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верка выпол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здание проблемной ситуации с целью углубления понятия о членах предложения</a:t>
            </a: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2"/>
          <a:srcRect l="4347" t="0" r="4347" b="0"/>
          <a:stretch/>
        </p:blipFill>
        <p:spPr>
          <a:xfrm>
            <a:off x="2124000" y="4221000"/>
            <a:ext cx="3888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едложения: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еренок листа прикрепляется к ветке при помощи клейкого веществ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лейкое вещество высыхае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а- Вещество высыхае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от почему со многих деревьев осенью осыпаются листь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а. Осыпаются листь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4572000" y="4581360"/>
            <a:ext cx="3024360" cy="20876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33116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шение проблемы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рвый столбик- 1,2, 3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торой столбик- 1а, 2а, 3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первом столбике предложения с второстепенными членами, во втором – только из главных член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Значит, предложения с второстепенными членами называются распространенными, а состоящие только из главных- нераспространенны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5"/>
          <a:stretch/>
        </p:blipFill>
        <p:spPr>
          <a:xfrm>
            <a:off x="5076720" y="270000"/>
            <a:ext cx="2624400" cy="19717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2448000" cy="1746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Формирование понятий и навыков .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Проверка усвоения, уточнение, запоминание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Карточка №1</a:t>
            </a:r>
            <a:br>
              <a:rPr sz="1800"/>
            </a:b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Задание 1. Запиши предложения. Определи вид предложений , укажи его в скобках. Подчеркни главные и второстепенные члены предложения.</a:t>
            </a:r>
            <a:br>
              <a:rPr sz="2000"/>
            </a:br>
            <a:br>
              <a:rPr sz="1800"/>
            </a:b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Падает снег. Стоит чудесный зимний день. Деревья одеты в белые шубки.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дание 2 . Составьте предложения по схеме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Каточка №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дание 1. Запиши предложения. Определи вид предложений, укажи его в скобках. Подчеркни главные и второстепенные члены предложения </a:t>
            </a:r>
            <a:br>
              <a:rPr sz="1800"/>
            </a:b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Небо почернело. Надвинулась чёрная туча. Налетел сильный, холодный ветер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ДАНИ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ставить предложение с данным словом по схем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[  </a:t>
            </a:r>
            <a:r>
              <a:rPr b="0" lang="ru-RU" sz="3200" spc="-1" strike="noStrike" baseline="30000">
                <a:solidFill>
                  <a:srgbClr val="2f1311"/>
                </a:solidFill>
                <a:latin typeface="Arial"/>
              </a:rPr>
              <a:t>сущ.                    прил.</a:t>
            </a:r>
            <a:r>
              <a:rPr b="0" lang="en-US" sz="3200" spc="-1" strike="noStrike" baseline="30000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 baseline="30000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ставить словосочетание с данным словом по схем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л.  +  сущ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35" name="Группа 17"/>
          <p:cNvGrpSpPr/>
          <p:nvPr/>
        </p:nvGrpSpPr>
        <p:grpSpPr>
          <a:xfrm>
            <a:off x="1571760" y="3000240"/>
            <a:ext cx="2857320" cy="73080"/>
            <a:chOff x="1571760" y="3000240"/>
            <a:chExt cx="2857320" cy="73080"/>
          </a:xfrm>
        </p:grpSpPr>
        <p:sp>
          <p:nvSpPr>
            <p:cNvPr id="536" name="Прямая соединительная линия 4"/>
            <p:cNvSpPr/>
            <p:nvPr/>
          </p:nvSpPr>
          <p:spPr>
            <a:xfrm>
              <a:off x="1571760" y="3000240"/>
              <a:ext cx="92844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Прямая соединительная линия 6"/>
            <p:cNvSpPr/>
            <p:nvPr/>
          </p:nvSpPr>
          <p:spPr>
            <a:xfrm>
              <a:off x="3286080" y="3000240"/>
              <a:ext cx="114300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Прямая соединительная линия 8"/>
            <p:cNvSpPr/>
            <p:nvPr/>
          </p:nvSpPr>
          <p:spPr>
            <a:xfrm>
              <a:off x="3286080" y="3071880"/>
              <a:ext cx="114300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Группа 16"/>
          <p:cNvGrpSpPr/>
          <p:nvPr/>
        </p:nvGrpSpPr>
        <p:grpSpPr>
          <a:xfrm>
            <a:off x="2284200" y="5072040"/>
            <a:ext cx="1716480" cy="500040"/>
            <a:chOff x="2284200" y="5072040"/>
            <a:chExt cx="1716480" cy="500040"/>
          </a:xfrm>
        </p:grpSpPr>
        <p:sp>
          <p:nvSpPr>
            <p:cNvPr id="540" name="Умножение 9"/>
            <p:cNvSpPr/>
            <p:nvPr/>
          </p:nvSpPr>
          <p:spPr>
            <a:xfrm>
              <a:off x="3643560" y="5286240"/>
              <a:ext cx="357120" cy="285840"/>
            </a:xfrm>
            <a:prstGeom prst="pie">
              <a:avLst/>
            </a:prstGeom>
            <a:solidFill>
              <a:srgbClr val="d5b781"/>
            </a:solidFill>
            <a:ln w="2556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Прямая соединительная линия 11"/>
            <p:cNvSpPr/>
            <p:nvPr/>
          </p:nvSpPr>
          <p:spPr>
            <a:xfrm flipV="1">
              <a:off x="3856320" y="5073120"/>
              <a:ext cx="1440" cy="214200"/>
            </a:xfrm>
            <a:prstGeom prst="line">
              <a:avLst/>
            </a:prstGeom>
            <a:ln w="38160">
              <a:solidFill>
                <a:srgbClr val="d5b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Прямая соединительная линия 13"/>
            <p:cNvSpPr/>
            <p:nvPr/>
          </p:nvSpPr>
          <p:spPr>
            <a:xfrm flipH="1" flipV="1">
              <a:off x="2286000" y="5072040"/>
              <a:ext cx="1571760" cy="1440"/>
            </a:xfrm>
            <a:prstGeom prst="line">
              <a:avLst/>
            </a:prstGeom>
            <a:ln w="38160">
              <a:solidFill>
                <a:srgbClr val="d5b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Прямая со стрелкой 15"/>
            <p:cNvCxnSpPr/>
            <p:nvPr/>
          </p:nvCxnSpPr>
          <p:spPr>
            <a:xfrm flipH="1">
              <a:off x="2284200" y="5073120"/>
              <a:ext cx="2160" cy="429480"/>
            </a:xfrm>
            <a:prstGeom prst="straightConnector1">
              <a:avLst/>
            </a:prstGeom>
            <a:ln w="38160">
              <a:solidFill>
                <a:srgbClr val="d5b781"/>
              </a:solidFill>
              <a:miter/>
              <a:tailEnd len="med" type="arrow" w="med"/>
            </a:ln>
          </p:spPr>
        </p:cxnSp>
      </p:grp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ГРА «СНЕЖНЫЙ КОМ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спространите в предложении главный член - сказуемо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спространите оба главных чле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спространите предложение еще больш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63520" y="1484280"/>
          <a:ext cx="7386480" cy="55069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0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На уроке я работал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Своей работой на уроке я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Урок для меня показался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За урок я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Мое настроение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Материал урока мне был</a:t>
                      </a:r>
                      <a:br>
                        <a:rPr sz="2400"/>
                      </a:b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Домашнее задание мне кажет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ктивно / пассивно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волен / не доволен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ротким / длинным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е устал / устал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тало лучше / стало хуже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нятен / не понятен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лезен / бесполезен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интересен / скучен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легким / трудным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писок литерату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Е.А.Быстрова. Русский язык . 5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Петрановская Л. Игры на уроках русского языка: пособие для учителя.- М.: МИРОС- МАИК. «Наука / Интерпериодика», 2000.- 144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Цели урок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) дидактическая – организовать самостоятельную работу  учащихся по усвоению новых понятий и углублению имеющихся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) логическая – упражнять в самостоятельном анализе , сравнении , обобщении, умозаключен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) нравственная- привить любовь природ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Активизация путем постановки проблемных вопросов: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подлежащее и сказуемое – главные члены предло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они составляют грамматическую основу предло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другие члены называются второстепенными членами предло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Решение проблем путем выполнения упражнения   264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263520" y="1598760"/>
          <a:ext cx="7386480" cy="48812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орона сидел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Тощая растрепанная ворона сидела на дерев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т прогуливал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Толстый кот лениво прогуливался под дерев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ни поздоровалис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ни вежливо поздоровалис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изкультминут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ружно встали. Раз! Два! Три!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Мы теперь — богатыри!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Мы ладонь к глазам приставим,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оги крепкие расстави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ворачиваясь вправо,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Оглядимся величаво;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И налево надо тоже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глядеть из-под ладошек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Буквой «л» расставим ноги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Точно в танце — руки в боки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аклонились влево, вправо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лучается на славу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Чудеса у нас на свете: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тали карликами дети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А потом все дружно встали,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еликанами мы стал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4500720" y="2492280"/>
            <a:ext cx="27352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ормулировка проблем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подлежащее и сказуемое – главные члены предложения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они составляют грамматическую основу предложения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другие члены называются второстепенными членами предло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остановка учебного задания (в помощь решению проблем)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Мелкий дождь бесшумно мороси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Дождь мороси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 Мелкий бесшумн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а. Вокруг царит мертвая тиш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а. Царит тиш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а . Тиш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а. Вокруг мертв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шение проблем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, 3 , 1а, 2а, 3а- предлож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, 4а- не предлож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, 1а, - состоят из главных и второстепенных членов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, 2а- только из главных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- только из сказуемого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а- только из подлежащего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а- только из второстепенных членов, и они не предложения (доказательство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ывод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з главных членов , даже из одного главного , предложение может состоять, а из второстепенных членов не может. Вот почему одни называются главными, другие второстепенными членами предложени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6:50:42Z</dcterms:created>
  <dc:creator>nik</dc:creator>
  <dc:description/>
  <dc:language>en-US</dc:language>
  <cp:lastModifiedBy>User</cp:lastModifiedBy>
  <dcterms:modified xsi:type="dcterms:W3CDTF">2013-04-23T19:35:37Z</dcterms:modified>
  <cp:revision>131</cp:revision>
  <dc:subject/>
  <dc:title>Слайд 1</dc:title>
</cp:coreProperties>
</file>