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9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B13-5DB5-48D8-88A3-5C85E0DD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374-5505-4A87-A6FF-4AAEAC1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380C1-497A-43D4-A69D-8BD9B75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69EDB-2C5C-4797-ADB6-FBD89A23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332FB-071B-4BF5-8A84-A344EB54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98238-8751-404B-AA71-2A65764E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279DB-392A-447E-B04B-58B18437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E6976-C6C9-41F6-83E3-E06278F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A4406-7335-4153-B6E5-4121B5FD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EB5E7-7DAE-4D1A-8836-ADDA9C27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8CE66-EA99-49EE-8753-E0B4C30F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59F-4D1A-45A0-A9EC-F2E024CA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540-0692-4746-92BA-FD9F9596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33DD-DB39-4C26-A293-5AD492BE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AB04-CA98-494C-9B20-74DB4403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2B43-CB15-450F-81F0-D019CDC5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3342-8769-473A-805B-477CF87E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AAE6-92CC-42EE-8F0C-A05F61B9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B371-4C26-434F-9DC9-98727C27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5BBB-BF78-44C9-BE2E-78C82BB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062-82F9-43D8-967A-F38B6210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35A7-BFA2-456F-B578-585681E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6004-E61A-4CB1-8587-81A9A014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AD09-CD8F-49BE-A2A4-B20D1190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C5F8-6EAE-4A11-B964-113716FB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8792-6F11-4F4C-AE2B-BD032D82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13650-3CB3-4005-99B5-5D5C4648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D4601-0500-42A8-86F8-5ACE41D4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B0E0-0396-4779-98F0-90516AAE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9C91D-DBFC-44F8-A518-3C7EDD6A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44128-0677-469F-AC70-4349F918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BA7-3978-454C-A964-C6689AA3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246ED-034B-476C-ABAE-66B1CE39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1903-E261-47A5-A831-FE596B6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EF08-3612-4648-B19B-AC7C5E29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C785-C885-4F46-82AE-683D3B31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E3AF1-BEEE-45CA-82AA-62C99D54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29EC-E1DC-476A-B45F-3D201317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3691E-24D3-47AE-B980-FF7A8746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3A82D-9AD7-4A9C-88B2-0079788A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EDCD-D88A-4943-9699-43419CFD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DE260-B478-4C8F-A8C2-9FE09046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FEC-9EF2-4547-9A43-9B0F688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205E9-8DDF-498F-8F0E-39513FF5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7587-6ADC-4C22-A8BF-D96C628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E4ED-8437-497D-BA8A-236726BF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08AD-1745-4AA6-A168-9BBB876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C9413-232B-42D9-957B-3C88D6AC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FDAD-66B1-49C4-8ADE-7A6A31AE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4146-F1A0-4DB3-A3DC-897E950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36EC-E186-43D1-A6E1-5734F510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17E52-256A-4957-835F-28BE7A44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C0343-A70B-4CDA-A3A2-401C1199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A01-E899-45F8-A36D-FFC4D621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54635-A8F9-4699-8897-C43990B7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83261-4D09-49A0-B3F0-49D225F2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4EB82-8946-4CD9-9E55-48D1B080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493B-34AC-40E8-8060-C561668F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378A-A7A3-45B6-AC9B-8634618C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5D6F8-B76F-4B25-8A64-74A3F087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F9680-0360-4F42-B9D3-B06CC7F1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252E-5919-442E-A3A4-9E8E673B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3140-A1B1-47AA-A1C6-5D015A11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14E2-7B04-4B8F-9FA0-43FAF12C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CE8-6C23-4A36-9C22-463AD2EE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5D54-E5C2-48BC-888E-C414D283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15123-C911-44EF-9D28-C8073BE2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D0B11-350F-4DF1-A9A5-4626DA81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6DCD6-20F8-4166-97CA-1F224625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73E08-8089-4A5F-81B5-FB0B2F2F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7D29B-95DD-4752-ACDF-2D981ECE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BDB84-81AF-4CA1-A11A-3804BBF2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A4D57-CD6A-4F37-AF44-BFCD6FA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8FF1B-1A18-49FC-9E54-ABEF8ABE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30B5E-B2A5-4839-BE8F-1F79E631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0AA-FC93-47CF-8052-4F5872F7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7C87A-BDEE-4B9F-BEF7-92AE6414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45D98-C914-4235-B75C-6548CB37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2769-4029-4EC7-844B-8A8F5286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3C77E-214D-4B7E-8E91-93F7E561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0FE13-D73B-433C-92C2-B0435E49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7B93-B388-4966-946E-E7217519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87A1A-282A-4819-A94F-447651DD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074FA-0C3C-4947-87A3-12334BFD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F96FB-45A5-472A-A40B-6A0C6D3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EA306-3959-4680-9CDF-87E1C9D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0615-1716-4DF2-979C-377E66E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6BC74-15DC-441B-B549-F711A3A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B45A7-28D8-4658-81E6-56311B7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FB4FF-C111-4BD8-94E9-2E2A8644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A4B39-56E7-4F6A-8A60-6719E529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4786-0A3E-4619-90C6-6874A1F1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BB111-CD82-4FD2-8A26-090FBBB3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8E1DA-AC67-4B31-AAA1-C5573A3E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3D930-52FA-494F-975D-EE9F0A4A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3C414-22CC-42DC-A42C-E47DAF88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8E95C-5E21-4374-B527-78B8A353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D9E4-D470-456C-AA7F-6F023AD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50564-5C15-40BB-AE94-AB002711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FA5E4-142C-46EB-A9FB-A9A1D08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2C01E-CC4C-43B5-95DD-7BF893B1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A9135-002C-454E-87B3-69B2B5C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463D3-924C-487D-A7AB-BD5CBA86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74615-CD5B-4C2C-BE48-3408C127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487DF-4803-47E0-94E5-E8FC55DE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5BBD6-11DA-4FC0-8196-1942ECC8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206A7-FD6D-434F-9A65-20A4584B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3F551-D612-4865-96CB-098B615D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97.xml"/><Relationship Id="rId32" Type="http://schemas.openxmlformats.org/officeDocument/2006/relationships/slideLayout" Target="../slideLayouts/slideLayout98.xml"/><Relationship Id="rId33" Type="http://schemas.openxmlformats.org/officeDocument/2006/relationships/slideLayout" Target="../slideLayouts/slideLayout99.xml"/><Relationship Id="rId34" Type="http://schemas.openxmlformats.org/officeDocument/2006/relationships/slideLayout" Target="../slideLayouts/slideLayout100.xml"/><Relationship Id="rId35" Type="http://schemas.openxmlformats.org/officeDocument/2006/relationships/slideLayout" Target="../slideLayouts/slideLayout101.xml"/><Relationship Id="rId36" Type="http://schemas.openxmlformats.org/officeDocument/2006/relationships/slideLayout" Target="../slideLayouts/slideLayout102.xml"/><Relationship Id="rId37" Type="http://schemas.openxmlformats.org/officeDocument/2006/relationships/slideLayout" Target="../slideLayouts/slideLayout103.xml"/><Relationship Id="rId38" Type="http://schemas.openxmlformats.org/officeDocument/2006/relationships/slideLayout" Target="../slideLayouts/slideLayout104.xml"/><Relationship Id="rId39" Type="http://schemas.openxmlformats.org/officeDocument/2006/relationships/slideLayout" Target="../slideLayouts/slideLayout105.xml"/><Relationship Id="rId40" Type="http://schemas.openxmlformats.org/officeDocument/2006/relationships/slideLayout" Target="../slideLayouts/slideLayout106.xml"/><Relationship Id="rId41" Type="http://schemas.openxmlformats.org/officeDocument/2006/relationships/slideLayout" Target="../slideLayouts/slideLayout107.xml"/><Relationship Id="rId4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2FBE-D7BA-45B6-994B-5416335D6C94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29A8-3BB9-4F65-AD54-B5856A585E18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C2DF-2B8B-4BFF-8AE0-9BB2BA59126E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5705-10DA-4A5A-AAD8-C0FB4213F803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057-A9BA-49CF-AEE6-663F99E24C1E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20C0-DB60-42E7-BDB6-BFCA37FEB033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A906-08A1-4AEB-AC86-912FFD42C323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F5F1-B16E-43F5-A40A-0416B5D7A90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0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2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0994-7954-4C27-BBCB-1E681279C25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1"/>
    <p:sldLayoutId id="2147483754" r:id="rId32"/>
    <p:sldLayoutId id="2147483755" r:id="rId33"/>
    <p:sldLayoutId id="2147483756" r:id="rId34"/>
    <p:sldLayoutId id="2147483757" r:id="rId35"/>
    <p:sldLayoutId id="2147483758" r:id="rId36"/>
    <p:sldLayoutId id="2147483759" r:id="rId37"/>
    <p:sldLayoutId id="2147483760" r:id="rId38"/>
    <p:sldLayoutId id="2147483761" r:id="rId39"/>
    <p:sldLayoutId id="2147483762" r:id="rId40"/>
    <p:sldLayoutId id="2147483763" r:id="rId41"/>
    <p:sldLayoutId id="2147483764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зентация на тему: «Второстепенные члены предложения. Нераспространенные и распространенные предложения.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626920" y="4365720"/>
            <a:ext cx="4705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ительница МБОУ «Ухманская СОШ» Канашского района Чувашской Республики Семенова Галина Дмитриев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чебное задание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ождь (какой?) мелк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оросит (как?) бесшум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одной части – подлежащее с зависимыми словами , а в другой- сказуемое с зависимыми слов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лкий (какой?) дожд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оросит (как?) бесшумн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4427640" y="0"/>
            <a:ext cx="288108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Самостоятельная работа по формированию умений и навыков путем применения углубленных (опорных) понятий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пражнение :26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603520"/>
            <a:ext cx="82900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ыделить осно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отделить группу подлежащего от группы сказуемого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верка выпол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здание проблемной ситуации с целью углубления понятия о членах предложения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2"/>
          <a:srcRect l="4347" t="0" r="4347" b="0"/>
          <a:stretch/>
        </p:blipFill>
        <p:spPr>
          <a:xfrm>
            <a:off x="2124000" y="4221000"/>
            <a:ext cx="388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ложения: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еренок листа прикрепляется к ветке при помощи клейкого веще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лейкое вещество высыха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а- Вещество высыха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т почему со многих деревьев осенью осыпаются листь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а. Осыпаются листь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4572000" y="4581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3311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ние проблемы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вый столбик- 1,2, 3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торой столбик- 1а, 2а, 3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первом столбике предложения с второстепенными членами, во втором – только из главных член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начит, предложения с второстепенными членами называются распространенными, а состоящие только из главных- нераспространенны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5076720" y="270000"/>
            <a:ext cx="2624400" cy="19717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2448000" cy="174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Формирование понятий и навыков .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Проверка усвоения, уточнение, запоминание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арточка №1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ние 1. Запиши предложения. Определи вид предложений , укажи его в скобках. Подчеркни главные и второстепенные члены предложения.</a:t>
            </a:r>
            <a:br>
              <a:rPr sz="2000"/>
            </a:b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Падает снег. Стоит чудесный зимний день. Деревья одеты в белые шубки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дание 2 . Составьте предложения по схем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аточка №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дание 1. Запиши предложения. Определи вид предложений, укажи его в скобках. Подчеркни главные и второстепенные члены предложения </a:t>
            </a: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ебо почернело. Надвинулась чёрная туча. Налетел сильный, холодный ветер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ить предложение с данным словом по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[  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сущ.                    прил.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ить словосочетание с данным словом по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л.  +  сущ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35" name="Группа 17"/>
          <p:cNvGrpSpPr/>
          <p:nvPr/>
        </p:nvGrpSpPr>
        <p:grpSpPr>
          <a:xfrm>
            <a:off x="1571760" y="3000240"/>
            <a:ext cx="2857320" cy="73080"/>
            <a:chOff x="1571760" y="3000240"/>
            <a:chExt cx="2857320" cy="73080"/>
          </a:xfrm>
        </p:grpSpPr>
        <p:sp>
          <p:nvSpPr>
            <p:cNvPr id="536" name="Прямая соединительная линия 4"/>
            <p:cNvSpPr/>
            <p:nvPr/>
          </p:nvSpPr>
          <p:spPr>
            <a:xfrm>
              <a:off x="1571760" y="3000240"/>
              <a:ext cx="92844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Прямая соединительная линия 6"/>
            <p:cNvSpPr/>
            <p:nvPr/>
          </p:nvSpPr>
          <p:spPr>
            <a:xfrm>
              <a:off x="3286080" y="3000240"/>
              <a:ext cx="11430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ая соединительная линия 8"/>
            <p:cNvSpPr/>
            <p:nvPr/>
          </p:nvSpPr>
          <p:spPr>
            <a:xfrm>
              <a:off x="3286080" y="3071880"/>
              <a:ext cx="11430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Группа 16"/>
          <p:cNvGrpSpPr/>
          <p:nvPr/>
        </p:nvGrpSpPr>
        <p:grpSpPr>
          <a:xfrm>
            <a:off x="2284200" y="5072040"/>
            <a:ext cx="1716480" cy="500040"/>
            <a:chOff x="2284200" y="5072040"/>
            <a:chExt cx="1716480" cy="500040"/>
          </a:xfrm>
        </p:grpSpPr>
        <p:sp>
          <p:nvSpPr>
            <p:cNvPr id="540" name="Умножение 9"/>
            <p:cNvSpPr/>
            <p:nvPr/>
          </p:nvSpPr>
          <p:spPr>
            <a:xfrm>
              <a:off x="3643560" y="5286240"/>
              <a:ext cx="357120" cy="285840"/>
            </a:xfrm>
            <a:prstGeom prst="pie">
              <a:avLst/>
            </a:prstGeom>
            <a:solidFill>
              <a:srgbClr val="d5b781"/>
            </a:solidFill>
            <a:ln w="2556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11"/>
            <p:cNvSpPr/>
            <p:nvPr/>
          </p:nvSpPr>
          <p:spPr>
            <a:xfrm flipV="1">
              <a:off x="3856320" y="5073120"/>
              <a:ext cx="1440" cy="214200"/>
            </a:xfrm>
            <a:prstGeom prst="line">
              <a:avLst/>
            </a:prstGeom>
            <a:ln w="3816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Прямая соединительная линия 13"/>
            <p:cNvSpPr/>
            <p:nvPr/>
          </p:nvSpPr>
          <p:spPr>
            <a:xfrm flipH="1" flipV="1">
              <a:off x="2286000" y="5072040"/>
              <a:ext cx="1571760" cy="1440"/>
            </a:xfrm>
            <a:prstGeom prst="line">
              <a:avLst/>
            </a:prstGeom>
            <a:ln w="3816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Прямая со стрелкой 15"/>
            <p:cNvCxnSpPr/>
            <p:nvPr/>
          </p:nvCxnSpPr>
          <p:spPr>
            <a:xfrm flipH="1">
              <a:off x="2284200" y="5073120"/>
              <a:ext cx="2160" cy="429480"/>
            </a:xfrm>
            <a:prstGeom prst="straightConnector1">
              <a:avLst/>
            </a:prstGeom>
            <a:ln w="38160">
              <a:solidFill>
                <a:srgbClr val="d5b781"/>
              </a:solidFill>
              <a:miter/>
              <a:tailEnd len="med" type="arrow" w="med"/>
            </a:ln>
          </p:spPr>
        </p:cxnSp>
      </p:grp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ГРА «СНЕЖНЫЙ КО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в предложении главный член - сказуемо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оба главных чле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предложение еще больш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63520" y="1484280"/>
          <a:ext cx="7386480" cy="55069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0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На уроке я работал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Материал урока мне был</a:t>
                      </a:r>
                      <a:br>
                        <a:rPr sz="2400"/>
                      </a:b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Домашнее задание мне каже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волен / не доволен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ротким / длинным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егким / трудным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писок литерат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Е.А.Быстрова. Русский язык . 5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Петрановская Л. Игры на уроках русского языка: пособие для учителя.- М.: МИРОС- МАИК. «Наука / Интерпериодика», 2000.- 144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) дидактическая – организовать самостоятельную работу  учащихся по усвоению новых понятий и углублению имеющихся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) логическая – упражнять в самостоятельном анализе , сравнении , обобщении, умозаключен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) нравственная- привить любов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Активизация путем постановки проблемных вопросов: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подлежащее и сказуемое – главные члены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они составляют грамматическую основу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ругие члены называются второстепенными членами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Решение проблем путем выполнения упражнения   264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63520" y="1598760"/>
          <a:ext cx="7386480" cy="48812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орона сиде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щая растрепанная ворона сидела на дерев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т прогуливал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лстый кот лениво прогуливался под дерев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поздоровалис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вежливо поздоровалис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ружно встали. Раз! Два! Три!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ы теперь — богатыри!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ы ладонь к глазам приставим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оги крепкие расстави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ворачиваясь вправо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Оглядимся величаво;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 налево надо тоже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глядеть из-под ладошек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уквой «л» расставим ног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Точно в танце — руки в бок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клонились влево, вправо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лучается на славу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Чудеса у нас на свете: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тали карликами дет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 потом все дружно встали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еликанами мы стал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00720" y="2492280"/>
            <a:ext cx="2735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мулировка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подлежащее и сказуемое – главные члены предложения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они составляют грамматическую основу предложения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ругие члены называются второстепенными членами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становка учебного задания (в помощь решению проблем)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Мелкий дождь бесшумно мороси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Дождь мороси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Мелкий бесшум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а. Вокруг царит мертвая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а. Царит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а .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а. Вокруг мертв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ние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, 3 , 1а, 2а, 3а- предлож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, 4а- не предлож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, 1а, - состоят из главных и второстепенных членов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, 2а- только из главны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- только из сказуемог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а- только из подлежащег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а- только из второстепенных членов, и они не предложения (доказательство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з главных членов , даже из одного главного , предложение может состоять, а из второстепенных членов не может. Вот почему одни называются главными, другие второстепенными членами предлож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50:42Z</dcterms:created>
  <dc:creator>nik</dc:creator>
  <dc:description/>
  <dc:language>en-US</dc:language>
  <cp:lastModifiedBy>User</cp:lastModifiedBy>
  <dcterms:modified xsi:type="dcterms:W3CDTF">2013-04-23T19:35:37Z</dcterms:modified>
  <cp:revision>131</cp:revision>
  <dc:subject/>
  <dc:title>Слайд 1</dc:title>
</cp:coreProperties>
</file>