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A104-0C75-4054-A9E8-70B5C433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1CF5-07C6-466E-8785-85FE97E907E4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FC09-E56F-4FA7-9474-6E4C3E3EC6BA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4F62-08A4-4E40-8090-91E1E6F49CA5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E54-02BF-4EC5-A864-A10BC7896515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5BC3-E034-4D7C-B157-4204957E3FC0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E591-AE0D-40F7-A991-D48D0DAC6AB9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C15F-B6D1-4927-AF25-7AB090188645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EB7-A657-4035-9ECF-12F23415B046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4637-933B-4C70-A423-1F4D9BC87DAD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824B-FFDA-40E0-9BE6-0057B838F9A1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790-3870-4281-A31E-A58D4180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406-A814-4909-AF94-11F3DAE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1AA-2020-45B2-BB6C-E0D30305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F96-DC6C-4D4E-AA59-FC27F5FA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A51F-3D4F-481A-B33D-C3122A28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5C63-EFB0-4B26-9FDF-DC0056B6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FE0E-5278-492C-92FF-3C860BB4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4462-23FF-4817-B498-EE35B42A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712F-F226-4B24-9E35-1C448A43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5969-F67B-47AE-AE0E-9E18A4D2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B7F9-29DC-4822-93EA-722173AC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F73-C1DB-41C0-A570-9475AD60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EB7-E692-481D-B164-F55B3414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709F-3DC4-432D-8F31-BD330C0B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D503-8FC5-4B25-82ED-746EF1F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6B9-F59D-4CCB-8685-72E0B3D7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089B-F34E-4E78-ADC6-E21E7C07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7FF-DD58-4DB3-AB75-994729B1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62D-201F-40B2-ACB7-7033485D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3F25-BE3C-437B-9875-269F90D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D3E-F2B3-4A1F-8FE2-F044640B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BBD-A148-40C4-9A74-E56E7955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31B-9722-49CB-A960-A3076B8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C7F-4151-4464-A60D-FECF459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606D-4032-4644-868E-DF01ABB32A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C27-A379-4589-9B65-DA022779A53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Формирование социокультурной компетенции школьников в условиях межкультурной коммуникации при использовании презентаций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Power Point .”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     Булатошкина О.А. (учитель иностранного языка МКОУ ВСОШ №2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52480" y="6804720"/>
            <a:ext cx="564048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26" descr="j0205582"/>
          <p:cNvPicPr/>
          <p:nvPr/>
        </p:nvPicPr>
        <p:blipFill>
          <a:blip r:embed="rId1"/>
          <a:stretch/>
        </p:blipFill>
        <p:spPr>
          <a:xfrm>
            <a:off x="5965920" y="505944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ЕЗЕНТАЦИИ,СОЗДАННЫЕ УЧАЩИМИСЯ 9-11 КЛАССОВ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Х.Б.ПОТТ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ЗНАМЕНИТЫЕ БРИТАНСКИЕ ПИСА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ЗВЕСТНЫЕ МУЗЫКАНТ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ДАЮЩИЕСЯ АНГЛИЙСКИЕ ПИСАТЕЛ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ИОГРАФИЯ В. ШЕКСПИР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ОНДОН - СТОЛИЦА ВЕЛИКОБРИТАН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БРО ПОЖАЛОВАТЬ В ВЕЛИКОБРИТАН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ОЕДИНЕННОЕ КОРОЛЕВСТВО ВЕЛИКОБРИТАННИ И СЕВЕРНОЙ ИРЛАНДИ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7" descr="j0301252"/>
          <p:cNvPicPr/>
          <p:nvPr/>
        </p:nvPicPr>
        <p:blipFill>
          <a:blip r:embed="rId9"/>
          <a:stretch/>
        </p:blipFill>
        <p:spPr>
          <a:xfrm>
            <a:off x="579132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активном использовании ИКТ при обучении иностранным языка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о взаимодействии «учитель-ученик-компьютер» на более совершенном уровн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создании модели применения информационных технологий с учетом особенностей обучения иностранным языкам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В использовании материалов Интернет и создании презентаций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wer Point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j0300520"/>
          <p:cNvPicPr/>
          <p:nvPr/>
        </p:nvPicPr>
        <p:blipFill>
          <a:blip r:embed="rId5"/>
          <a:stretch/>
        </p:blipFill>
        <p:spPr>
          <a:xfrm>
            <a:off x="6838920" y="5883120"/>
            <a:ext cx="952560" cy="81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чи,реализуемые в процессе использования технологии :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недрение новых ИКТ в процесс обучения иностранным языка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вершенствование учебной,организационной,учебно-исследовательской деятельности в рамках единой методологии применения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ение эффективности процесса обуч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тие социокультурной компетенции,повышение мотивации в изучении иностранных язык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строение перспективы на развивающее,персонифицированное,опережающее образовани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иентирование участников образовательного процесса к жизнедеятельности в условиях современных информационных технолог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j0292020"/>
          <p:cNvPicPr/>
          <p:nvPr/>
        </p:nvPicPr>
        <p:blipFill>
          <a:blip r:embed="rId7"/>
          <a:stretch/>
        </p:blipFill>
        <p:spPr>
          <a:xfrm>
            <a:off x="5897520" y="498780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ребования для реализации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овременных технологий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ифференцированный подход при использовании компьютер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анные технологии (компьютерные) изучения иностранных языков должны соответствовать требованиям ФГОС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6" descr="j0285750"/>
          <p:cNvPicPr/>
          <p:nvPr/>
        </p:nvPicPr>
        <p:blipFill>
          <a:blip r:embed="rId3"/>
          <a:stretch/>
        </p:blipFill>
        <p:spPr>
          <a:xfrm>
            <a:off x="5973840" y="568944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хническое оснащение кабинета иностранного языка в полной мере должно соответствовать потребностям современных И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лагодаря использованию ИКТ учитель получает возможность творчески использовать их потенциал с учетом особенностей обучаемых и целей обучени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реход от индустриального этапа развитя общества к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5" name="Diagram 15"/>
          <p:cNvGrpSpPr/>
          <p:nvPr/>
        </p:nvGrpSpPr>
        <p:grpSpPr>
          <a:xfrm>
            <a:off x="1195200" y="1889280"/>
            <a:ext cx="4766040" cy="4127400"/>
            <a:chOff x="1195200" y="1889280"/>
            <a:chExt cx="4766040" cy="4127400"/>
          </a:xfrm>
        </p:grpSpPr>
        <p:sp>
          <p:nvSpPr>
            <p:cNvPr id="216" name="_s1028"/>
            <p:cNvSpPr/>
            <p:nvPr/>
          </p:nvSpPr>
          <p:spPr>
            <a:xfrm>
              <a:off x="2125800" y="18892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29"/>
            <p:cNvSpPr/>
            <p:nvPr/>
          </p:nvSpPr>
          <p:spPr>
            <a:xfrm rot="7200000">
              <a:off x="2522160" y="2577960"/>
              <a:ext cx="2907000" cy="2906640"/>
            </a:xfrm>
            <a:custGeom>
              <a:avLst/>
              <a:gdLst>
                <a:gd name="textAreaLeft" fmla="*/ 0 w 2907000"/>
                <a:gd name="textAreaRight" fmla="*/ 2907360 w 290700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0"/>
            <p:cNvSpPr/>
            <p:nvPr/>
          </p:nvSpPr>
          <p:spPr>
            <a:xfrm rot="14400000">
              <a:off x="1726920" y="257652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1"/>
            <p:cNvSpPr/>
            <p:nvPr/>
          </p:nvSpPr>
          <p:spPr>
            <a:xfrm>
              <a:off x="4373640" y="242100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Гуманитаризац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содерж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2"/>
            <p:cNvSpPr/>
            <p:nvPr/>
          </p:nvSpPr>
          <p:spPr>
            <a:xfrm>
              <a:off x="2995560" y="48085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Целостная 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гуманизац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системы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2f1311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1617840" y="2422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f1311"/>
                  </a:solidFill>
                  <a:latin typeface="Arial"/>
                </a:rPr>
                <a:t>информационному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Organization Chart 6"/>
          <p:cNvGrpSpPr/>
          <p:nvPr/>
        </p:nvGrpSpPr>
        <p:grpSpPr>
          <a:xfrm>
            <a:off x="223920" y="227160"/>
            <a:ext cx="7466760" cy="5865480"/>
            <a:chOff x="223920" y="227160"/>
            <a:chExt cx="7466760" cy="5865480"/>
          </a:xfrm>
        </p:grpSpPr>
        <p:cxnSp>
          <p:nvCxnSpPr>
            <p:cNvPr id="223" name="_s2052"/>
            <p:cNvCxnSpPr>
              <a:stCxn id="224" idx="0"/>
              <a:endCxn id="225" idx="2"/>
            </p:cNvCxnSpPr>
            <p:nvPr/>
          </p:nvCxnSpPr>
          <p:spPr>
            <a:xfrm flipV="1" rot="16200000">
              <a:off x="4677120" y="1852560"/>
              <a:ext cx="1173600" cy="2613960"/>
            </a:xfrm>
            <a:prstGeom prst="bentConnector3">
              <a:avLst>
                <a:gd name="adj1" fmla="val 9726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6" name="_s2053"/>
            <p:cNvCxnSpPr>
              <a:stCxn id="227" idx="0"/>
              <a:endCxn id="225" idx="2"/>
            </p:cNvCxnSpPr>
            <p:nvPr/>
          </p:nvCxnSpPr>
          <p:spPr>
            <a:xfrm flipV="1">
              <a:off x="3957480" y="2572920"/>
              <a:ext cx="2880" cy="117360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28" name="_s2054"/>
            <p:cNvCxnSpPr>
              <a:stCxn id="229" idx="0"/>
              <a:endCxn id="225" idx="2"/>
            </p:cNvCxnSpPr>
            <p:nvPr/>
          </p:nvCxnSpPr>
          <p:spPr>
            <a:xfrm flipH="1" flipV="1" rot="5400000">
              <a:off x="2063520" y="1852560"/>
              <a:ext cx="1173600" cy="2613960"/>
            </a:xfrm>
            <a:prstGeom prst="bentConnector3">
              <a:avLst>
                <a:gd name="adj1" fmla="val 9726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25" name="_s2055"/>
            <p:cNvSpPr/>
            <p:nvPr/>
          </p:nvSpPr>
          <p:spPr>
            <a:xfrm>
              <a:off x="2837160" y="22716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СОЦИОКУЛЬТУР-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НАЯ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КОМПЕТЕНЦИЯ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9" name="_s2056"/>
            <p:cNvSpPr/>
            <p:nvPr/>
          </p:nvSpPr>
          <p:spPr>
            <a:xfrm>
              <a:off x="22392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ОГРУЖЕ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В ИНТЕРНЕТ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2057"/>
            <p:cNvSpPr/>
            <p:nvPr/>
          </p:nvSpPr>
          <p:spPr>
            <a:xfrm>
              <a:off x="283716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ОТБОР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СПОЛЬЗОВА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РЕСУРСОВ </a:t>
              </a:r>
              <a:br>
                <a:rPr sz="1900"/>
              </a:b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ИНТЕРНЕТА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2058"/>
            <p:cNvSpPr/>
            <p:nvPr/>
          </p:nvSpPr>
          <p:spPr>
            <a:xfrm>
              <a:off x="5450760" y="3746520"/>
              <a:ext cx="2239920" cy="2346120"/>
            </a:xfrm>
            <a:custGeom>
              <a:avLst/>
              <a:gdLst>
                <a:gd name="textAreaLeft" fmla="*/ 109080 w 2239920"/>
                <a:gd name="textAreaRight" fmla="*/ 2130840 w 2239920"/>
                <a:gd name="textAreaTop" fmla="*/ 109080 h 2346120"/>
                <a:gd name="textAreaBottom" fmla="*/ 2237040 h 2346120"/>
              </a:gdLst>
              <a:ahLst/>
              <a:rect l="textAreaLeft" t="textAreaTop" r="textAreaRight" b="textAreaBottom"/>
              <a:pathLst>
                <a:path w="21600" h="22624">
                  <a:moveTo>
                    <a:pt x="3600" y="0"/>
                  </a:moveTo>
                  <a:arcTo wR="3600" hR="3600" stAng="16200000" swAng="-5400000"/>
                  <a:lnTo>
                    <a:pt x="0" y="19024"/>
                  </a:lnTo>
                  <a:arcTo wR="3600" hR="3600" stAng="10800000" swAng="-5400000"/>
                  <a:lnTo>
                    <a:pt x="18000" y="226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РИМЕНЕНИЕ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ПРОЕКТНЫХ 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2f1311"/>
                  </a:solidFill>
                  <a:latin typeface="Arial"/>
                </a:rPr>
                <a:t>ТЕХНОЛОГИЙ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овременное образование направлено на познание культуры изучаемого языка путем самоидентификации и осознании себя частью единого целого,что дает возможность осуществлять культурную трансляцию поколениями, и воспитывать личность,открытую к межкультурному общению и способную к диалогу культур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j0234657"/>
          <p:cNvPicPr/>
          <p:nvPr/>
        </p:nvPicPr>
        <p:blipFill>
          <a:blip r:embed="rId2"/>
          <a:stretch/>
        </p:blipFill>
        <p:spPr>
          <a:xfrm>
            <a:off x="6083280" y="5072040"/>
            <a:ext cx="1712880" cy="16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ложительная динамика использование технологии.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недрение ИКТ в процесс обучения иностранным языка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вышение эффективности учебного процесса путем его интенсификации и индивидуализа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овершенствование учебной,учебно-исследовательской,организационной деятельности в рамках единой методологии применения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Развитие адекватной мотивации при изучении иностранных языков , формирование социокультурной компетенц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риентирование участников образовательного процесса к жизнедеятельности в условиях современных ИКТ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Достижение необходимого уровня в овладении иностранными языками на основе требований ФГОС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j0285750"/>
          <p:cNvPicPr/>
          <p:nvPr/>
        </p:nvPicPr>
        <p:blipFill>
          <a:blip r:embed="rId7"/>
          <a:stretch/>
        </p:blipFill>
        <p:spPr>
          <a:xfrm>
            <a:off x="5951520" y="550692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3T16:59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