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gif" ContentType="image/gi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201F-B8CE-4892-B4E6-B4B9EAB8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72FF-8C90-4207-8BD1-892AC4010536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0A31-FA39-4D81-85CF-92C3377ADB93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5E22-FE93-4D1D-A690-82B4A1759364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7DF-904E-4752-8970-636E06BF1DFF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83E7-8A86-4849-81E0-54DAD1BD350A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FD01-C1E9-43F8-A430-1313ABD478D6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469B-BDE4-4B48-988B-8024C463A4DB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E1C5-4066-41B5-A926-B088C1BC3839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149A-D0D5-4826-9C45-59953187167E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8E4-79FC-4AE7-84AD-3F2FCB8159C8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C68-E980-47DC-A95F-78BCABB5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D9C-6C36-429A-8765-2C34175F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F2C-9956-4A52-B22C-48E69C5E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F66-895E-4369-8ED4-A80E79D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9C3A-58E1-45E4-9DB7-B7E9418F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D0B9-2FD9-43F8-A895-4701CD15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7608-8A1D-4CB6-B7D9-27A3A318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CA70-0C16-4649-87D1-71EE1BE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E7E8-BFE5-4E91-A10F-1B45535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C82-0287-48A9-88A1-5830C66B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6E37-48BE-4371-A022-CB894B62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269-0EBC-43BF-A3C7-38182102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5CE9-7A80-4F98-9198-A6DC374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51D-E8E2-495C-B95C-22D9B24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FA25-DAC9-4A08-8038-2D31B684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35B6-C601-426E-A0EA-9D721DF8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51A0-6ADC-4D6F-9EDA-43927D47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B37-F381-4D17-8156-048B72D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A1B-C33C-4DC8-B69E-6BC6DA23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4B4-1DEE-4FAB-AA83-B0EE7B9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775-F693-4AE7-8A65-BA2BE677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5B4-615A-4DBE-94BA-C5D7E1C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EA6-5756-44D3-A9A4-2B515B8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9C9-3E41-459D-95DF-6BCD213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89AD-C019-4312-A27B-3AD32950A2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0776-6B85-43A7-8CBB-8F6418B66AB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рмирование социокультурной компетенции школьников в условиях межкультурной коммуникации при использовании презентаций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Power Point .”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          Булатошкина О.А. (учитель иностранного языка МКОУ ВСОШ №2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52480" y="6804720"/>
            <a:ext cx="56404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6" descr="j0205582"/>
          <p:cNvPicPr/>
          <p:nvPr/>
        </p:nvPicPr>
        <p:blipFill>
          <a:blip r:embed="rId1"/>
          <a:stretch/>
        </p:blipFill>
        <p:spPr>
          <a:xfrm>
            <a:off x="5965920" y="505944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ЕЗЕНТАЦИИ,СОЗДАННЫЕ УЧАЩИМИСЯ 9-11 КЛАССОВ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Х.Б.ПОТТ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НАМЕНИТЫЕ БРИТАНСКИЕ ПИСАТЕ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ЫЕ МУЗЫКАН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ДАЮЩИЕСЯ АНГЛИЙСКИЕ ПИСАТЕ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ИОГРАФИЯ В. ШЕКСП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ОНДОН - СТОЛИЦА ВЕЛИКОБРИТА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БРО ПОЖАЛОВАТЬ В ВЕЛИКОБРИТАНИ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ЕДИНЕННОЕ КОРОЛЕВСТВО ВЕЛИКОБРИТАННИ И СЕВЕРНОЙ ИРЛАНД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7" descr="j0301252"/>
          <p:cNvPicPr/>
          <p:nvPr/>
        </p:nvPicPr>
        <p:blipFill>
          <a:blip r:embed="rId9"/>
          <a:stretch/>
        </p:blipFill>
        <p:spPr>
          <a:xfrm>
            <a:off x="5791320" y="44956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активном использовании ИКТ при обучении иностранным языкам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 взаимодействии «учитель-ученик-компьютер» на более совершенном уровн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создании модели применения информационных технологий с учетом особенностей обучения иностранным языкам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использовании материалов Интернет и создании презентаций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wer Point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j0300520"/>
          <p:cNvPicPr/>
          <p:nvPr/>
        </p:nvPicPr>
        <p:blipFill>
          <a:blip r:embed="rId5"/>
          <a:stretch/>
        </p:blipFill>
        <p:spPr>
          <a:xfrm>
            <a:off x="6838920" y="5883120"/>
            <a:ext cx="952560" cy="8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чи,реализуемые в процессе использования технологии 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недрение новых ИКТ в процесс обучения иностранным языка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вершенствование учебной,организационной,учебно-исследовательской деятельности в рамках единой методологии применения ИК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шение эффективности процесса обуч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тие социокультурной компетенции,повышение мотивации в изучении иностранных язык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строение перспективы на развивающее,персонифицированное,опережающее образова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риентирование участников образовательного процесса к жизнедеятельности в условиях современных информационных технолог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j0292020"/>
          <p:cNvPicPr/>
          <p:nvPr/>
        </p:nvPicPr>
        <p:blipFill>
          <a:blip r:embed="rId7"/>
          <a:stretch/>
        </p:blipFill>
        <p:spPr>
          <a:xfrm>
            <a:off x="5897520" y="498780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ребования для реализаци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временных технологий: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ифференцированный подход при использовании компьютер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нные технологии (компьютерные) изучения иностранных языков должны соответствовать требованиям ФГОС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6" descr="j0285750"/>
          <p:cNvPicPr/>
          <p:nvPr/>
        </p:nvPicPr>
        <p:blipFill>
          <a:blip r:embed="rId3"/>
          <a:stretch/>
        </p:blipFill>
        <p:spPr>
          <a:xfrm>
            <a:off x="5973840" y="568944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хническое оснащение кабинета иностранного языка в полной мере должно соответствовать потребностям современных И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лагодаря использованию ИКТ учитель получает возможность творчески использовать их потенциал с учетом особенностей обучаемых и целей обучени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реход от индустриального этапа развитя общества к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5" name="Diagram 15"/>
          <p:cNvGrpSpPr/>
          <p:nvPr/>
        </p:nvGrpSpPr>
        <p:grpSpPr>
          <a:xfrm>
            <a:off x="1195200" y="1889280"/>
            <a:ext cx="4766040" cy="4127400"/>
            <a:chOff x="1195200" y="1889280"/>
            <a:chExt cx="4766040" cy="4127400"/>
          </a:xfrm>
        </p:grpSpPr>
        <p:sp>
          <p:nvSpPr>
            <p:cNvPr id="216" name="_s1028"/>
            <p:cNvSpPr/>
            <p:nvPr/>
          </p:nvSpPr>
          <p:spPr>
            <a:xfrm>
              <a:off x="2125800" y="18892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29"/>
            <p:cNvSpPr/>
            <p:nvPr/>
          </p:nvSpPr>
          <p:spPr>
            <a:xfrm rot="7200000">
              <a:off x="2522160" y="2577960"/>
              <a:ext cx="2907000" cy="2906640"/>
            </a:xfrm>
            <a:custGeom>
              <a:avLst/>
              <a:gdLst>
                <a:gd name="textAreaLeft" fmla="*/ 0 w 2907000"/>
                <a:gd name="textAreaRight" fmla="*/ 2907360 w 290700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0"/>
            <p:cNvSpPr/>
            <p:nvPr/>
          </p:nvSpPr>
          <p:spPr>
            <a:xfrm rot="14400000">
              <a:off x="1726920" y="257652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1"/>
            <p:cNvSpPr/>
            <p:nvPr/>
          </p:nvSpPr>
          <p:spPr>
            <a:xfrm>
              <a:off x="4373640" y="242100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Гуманитаризац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содержа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2"/>
            <p:cNvSpPr/>
            <p:nvPr/>
          </p:nvSpPr>
          <p:spPr>
            <a:xfrm>
              <a:off x="2995560" y="48085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Целостная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гуманизац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системы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1617840" y="2422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информационному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Organization Chart 6"/>
          <p:cNvGrpSpPr/>
          <p:nvPr/>
        </p:nvGrpSpPr>
        <p:grpSpPr>
          <a:xfrm>
            <a:off x="223920" y="227160"/>
            <a:ext cx="7466760" cy="5865480"/>
            <a:chOff x="223920" y="227160"/>
            <a:chExt cx="7466760" cy="5865480"/>
          </a:xfrm>
        </p:grpSpPr>
        <p:cxnSp>
          <p:nvCxnSpPr>
            <p:cNvPr id="223" name="_s2052"/>
            <p:cNvCxnSpPr>
              <a:stCxn id="224" idx="0"/>
              <a:endCxn id="225" idx="2"/>
            </p:cNvCxnSpPr>
            <p:nvPr/>
          </p:nvCxnSpPr>
          <p:spPr>
            <a:xfrm flipV="1" rot="16200000">
              <a:off x="4677120" y="1852560"/>
              <a:ext cx="1173600" cy="2613960"/>
            </a:xfrm>
            <a:prstGeom prst="bentConnector3">
              <a:avLst>
                <a:gd name="adj1" fmla="val 9726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6" name="_s2053"/>
            <p:cNvCxnSpPr>
              <a:stCxn id="227" idx="0"/>
              <a:endCxn id="225" idx="2"/>
            </p:cNvCxnSpPr>
            <p:nvPr/>
          </p:nvCxnSpPr>
          <p:spPr>
            <a:xfrm flipV="1">
              <a:off x="3957480" y="2572920"/>
              <a:ext cx="2880" cy="11736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8" name="_s2054"/>
            <p:cNvCxnSpPr>
              <a:stCxn id="229" idx="0"/>
              <a:endCxn id="225" idx="2"/>
            </p:cNvCxnSpPr>
            <p:nvPr/>
          </p:nvCxnSpPr>
          <p:spPr>
            <a:xfrm flipH="1" flipV="1" rot="5400000">
              <a:off x="2063520" y="1852560"/>
              <a:ext cx="1173600" cy="2613960"/>
            </a:xfrm>
            <a:prstGeom prst="bentConnector3">
              <a:avLst>
                <a:gd name="adj1" fmla="val 9726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25" name="_s2055"/>
            <p:cNvSpPr/>
            <p:nvPr/>
          </p:nvSpPr>
          <p:spPr>
            <a:xfrm>
              <a:off x="2837160" y="22716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СОЦИОКУЛЬТУР-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НАЯ</a:t>
              </a:r>
              <a:br>
                <a:rPr sz="1900"/>
              </a:b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КОМПЕТЕНЦИЯ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2056"/>
            <p:cNvSpPr/>
            <p:nvPr/>
          </p:nvSpPr>
          <p:spPr>
            <a:xfrm>
              <a:off x="223920" y="374652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ПОГРУЖЕНИЕ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В ИНТЕРНЕТ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_s2057"/>
            <p:cNvSpPr/>
            <p:nvPr/>
          </p:nvSpPr>
          <p:spPr>
            <a:xfrm>
              <a:off x="2837160" y="374652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ОТБОР</a:t>
              </a:r>
              <a:br>
                <a:rPr sz="1900"/>
              </a:b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и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ИСПОЛЬЗОВАНИЕ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РЕСУРСОВ </a:t>
              </a:r>
              <a:br>
                <a:rPr sz="1900"/>
              </a:b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ИНТЕРНЕТА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2058"/>
            <p:cNvSpPr/>
            <p:nvPr/>
          </p:nvSpPr>
          <p:spPr>
            <a:xfrm>
              <a:off x="5450760" y="374652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ПРИМЕНЕНИЕ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ПРОЕКТНЫХ 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ТЕХНОЛОГИЙ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временное образование направлено на познание культуры изучаемого языка путем самоидентификации и осознании себя частью единого целого,что дает возможность осуществлять культурную трансляцию поколениями, и воспитывать личность,открытую к межкультурному общению и способную к диалогу культу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j0234657"/>
          <p:cNvPicPr/>
          <p:nvPr/>
        </p:nvPicPr>
        <p:blipFill>
          <a:blip r:embed="rId2"/>
          <a:stretch/>
        </p:blipFill>
        <p:spPr>
          <a:xfrm>
            <a:off x="6083280" y="5072040"/>
            <a:ext cx="171288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ложительная динамика использование технологии.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недрение ИКТ в процесс обучения иностранным языка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шение эффективности учебного процесса путем его интенсификации и индивидуализа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вершенствование учебной,учебно-исследовательской,организационной деятельности в рамках единой методологии применения ИК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тие адекватной мотивации при изучении иностранных языков , формирование социокультурной компетен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риентирование участников образовательного процесса к жизнедеятельности в условиях современных ИК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остижение необходимого уровня в овладении иностранными языками на основе требований ФГО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4" descr="j0285750"/>
          <p:cNvPicPr/>
          <p:nvPr/>
        </p:nvPicPr>
        <p:blipFill>
          <a:blip r:embed="rId7"/>
          <a:stretch/>
        </p:blipFill>
        <p:spPr>
          <a:xfrm>
            <a:off x="5951520" y="550692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3T16:59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