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2D6-837E-49C6-B760-D3AD7AC7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626-C1BB-40AD-8ECC-72A1D16F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8136-D3A2-44F3-8F21-8701054A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1B4-4B69-428E-A30E-F63CBC4A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FB52-390A-48F3-B49B-EFB9EFB4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B497-2620-4E7C-A832-B0F379EA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FEBE-E3A3-4B0C-BB2A-8810BD6E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4865-1A06-4354-BDB8-BEBF7F09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BCA8-BA22-4B42-B245-785BD155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216B-5FD6-483E-A43D-59476DEE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06A0-5B0D-4F7D-8A98-C1AA6C7E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7B6-4DDB-42C9-9AD5-84B045A5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9011-EF3D-4C07-9B70-9A93A4A2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7EEC-8E3B-4AA1-8EBC-9338CA1D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EE2A-9B20-4945-A51D-0C2CBAA4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F1F6-00FC-4868-BC2B-3142A71C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BA9E-6B0B-41CA-BE65-EC868DF3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E7950-669D-4D67-AC8C-BC9592B7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8929F-3DE8-4190-BA9D-C41F2BCF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A4032-6A9E-4491-B29B-112FE477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F8CC8-B39A-452A-B9EE-37A98490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97432-763D-4405-915B-9035D927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7EFC-2D45-4943-9905-DC691BD3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414F4-C0DE-4648-A935-945F8736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826C2-E09C-4FE9-954E-86FE04A5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D6E9F-64D0-419C-A7B1-D114BA11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36DD2-A1C8-4BEC-8DC0-EB1C62FE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DD3E4-7BF9-4B67-A212-66B11218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531E5-88B7-42FC-8C1A-CCEB80ED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3F19C-2044-4180-8AD5-08A6E657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55667-5422-4A9B-924D-A1191B20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BE67A-3F96-4D77-B72A-C1D0E1A4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5240D-3701-4DC9-B97E-34A579FF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B3D8-DD14-47F4-BDC8-D28298CF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C20D7-A680-41E8-A453-EDD96916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75A6-9E5C-417D-9983-2BF8EF7F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9CBB5-09B8-4FFC-B75C-3F5446DF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0BB61-E4EB-40F8-BBAF-ED38E386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98DF1-D5FE-4FAD-8A7A-CD2111F9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8FB6-9104-4FC7-A8CA-F41E59B5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EDAC9-4433-4389-8847-CBAFCACA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7C1B4-FAA9-43D0-9F32-25C0704A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A72C0-4442-4AA0-ADA5-5220E9D2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AB44-05D6-4358-9DDC-3F71A6ED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D208-21B0-412A-9FAA-8350EA46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9B3-51F5-474E-A2DA-E69A4397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378-7F20-4628-888E-6FF5927C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3A0C-358B-4366-88E7-02A7CE5C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27BC-397D-4F10-AC66-D2B9443D172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F528-6621-43C1-B265-B765A5DB699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A775-FF74-47EA-868B-C9576249AE6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73CA-D0A2-4868-8419-4DBAC1AEBDC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Rectangle 4" descr=""/>
          <p:cNvPicPr/>
          <p:nvPr/>
        </p:nvPicPr>
        <p:blipFill>
          <a:blip r:embed="rId1"/>
          <a:stretch/>
        </p:blipFill>
        <p:spPr>
          <a:xfrm>
            <a:off x="268200" y="285840"/>
            <a:ext cx="8485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Rectangle 4" descr=""/>
          <p:cNvPicPr/>
          <p:nvPr/>
        </p:nvPicPr>
        <p:blipFill>
          <a:blip r:embed="rId1"/>
          <a:stretch/>
        </p:blipFill>
        <p:spPr>
          <a:xfrm>
            <a:off x="85680" y="676440"/>
            <a:ext cx="8454960" cy="2036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689200" y="3574800"/>
            <a:ext cx="6454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Будущее принадлежит тем,                                            кто  свято верен своей мечт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Элеонора Рузвель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108000" y="0"/>
            <a:ext cx="89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ема 6.1. Понятие карьеры.  Этапы построения карьер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0" name="Object 2"/>
          <p:cNvGraphicFramePr/>
          <p:nvPr/>
        </p:nvGraphicFramePr>
        <p:xfrm>
          <a:off x="7236000" y="3429000"/>
          <a:ext cx="15555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3429000"/>
                    <a:ext cx="15555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4"/>
          <p:cNvSpPr/>
          <p:nvPr/>
        </p:nvSpPr>
        <p:spPr>
          <a:xfrm>
            <a:off x="0" y="69228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nstantia"/>
              </a:rPr>
              <a:t>Карье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50920" y="1484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Карьера </a:t>
            </a:r>
            <a:r>
              <a:rPr b="0" lang="ru-RU" sz="2400" spc="-1" strike="noStrike">
                <a:solidFill>
                  <a:srgbClr val="0000cc"/>
                </a:solidFill>
                <a:latin typeface="Constantia"/>
              </a:rPr>
              <a:t>– успешное продвижение по выбранному пути и, как следствие,  получение более высокого статуса, больших полномочий, власти, дене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6" descr="знакикопирование"/>
          <p:cNvPicPr/>
          <p:nvPr/>
        </p:nvPicPr>
        <p:blipFill>
          <a:blip r:embed="rId3"/>
          <a:srcRect l="12396" t="4805" r="55265" b="74407"/>
          <a:stretch/>
        </p:blipFill>
        <p:spPr>
          <a:xfrm>
            <a:off x="430200" y="1413000"/>
            <a:ext cx="936720" cy="934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250920" y="313992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Карьера </a:t>
            </a:r>
            <a:r>
              <a:rPr b="0" lang="ru-RU" sz="2400" spc="-1" strike="noStrike">
                <a:solidFill>
                  <a:srgbClr val="0000cc"/>
                </a:solidFill>
                <a:latin typeface="Constantia"/>
              </a:rPr>
              <a:t>– это результат осознанного поведения, направленного на формирование опыта и успех в трудовой деятельности на протяжении рабочей жизни челове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8" descr="знакикопирование"/>
          <p:cNvPicPr/>
          <p:nvPr/>
        </p:nvPicPr>
        <p:blipFill>
          <a:blip r:embed="rId4"/>
          <a:srcRect l="12396" t="4805" r="55265" b="74407"/>
          <a:stretch/>
        </p:blipFill>
        <p:spPr>
          <a:xfrm>
            <a:off x="430200" y="3068640"/>
            <a:ext cx="936720" cy="9349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5364000" y="649116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nstantia"/>
              </a:rPr>
              <a:t>Подготовка к будущей карьер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8604360" y="0"/>
            <a:ext cx="53964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AutoShape 12">
            <a:hlinkClick r:id="" action="ppaction://hlinkshowjump?jump=nextslide"/>
          </p:cNvPr>
          <p:cNvSpPr/>
          <p:nvPr/>
        </p:nvSpPr>
        <p:spPr>
          <a:xfrm>
            <a:off x="8893080" y="4653000"/>
            <a:ext cx="250920" cy="503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3280"/>
              <a:gd name="textAreaBottom" fmla="*/ 487080 h 503280"/>
            </a:gdLst>
            <a:ahLst/>
            <a:rect l="textAreaLeft" t="textAreaTop" r="textAreaRight" b="textAreaBottom"/>
            <a:pathLst>
              <a:path w="21600" h="43293">
                <a:moveTo>
                  <a:pt x="0" y="0"/>
                </a:moveTo>
                <a:lnTo>
                  <a:pt x="21600" y="0"/>
                </a:lnTo>
                <a:lnTo>
                  <a:pt x="21600" y="43293"/>
                </a:lnTo>
                <a:lnTo>
                  <a:pt x="0" y="43293"/>
                </a:lnTo>
                <a:close/>
              </a:path>
              <a:path fill="lightenLess" w="21600" h="432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93">
                <a:moveTo>
                  <a:pt x="21600" y="0"/>
                </a:moveTo>
                <a:lnTo>
                  <a:pt x="21600" y="43293"/>
                </a:lnTo>
                <a:lnTo>
                  <a:pt x="20200" y="41893"/>
                </a:lnTo>
                <a:lnTo>
                  <a:pt x="20200" y="1400"/>
                </a:lnTo>
                <a:close/>
              </a:path>
              <a:path fill="darkenLess" w="21600" h="43293">
                <a:moveTo>
                  <a:pt x="21600" y="43293"/>
                </a:moveTo>
                <a:lnTo>
                  <a:pt x="0" y="43293"/>
                </a:lnTo>
                <a:lnTo>
                  <a:pt x="1400" y="41893"/>
                </a:lnTo>
                <a:lnTo>
                  <a:pt x="20200" y="41893"/>
                </a:lnTo>
                <a:close/>
              </a:path>
              <a:path fill="lighten" w="21600" h="43293">
                <a:moveTo>
                  <a:pt x="0" y="4329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93"/>
                </a:lnTo>
                <a:close/>
              </a:path>
              <a:path fill="darken" w="21600" h="43293">
                <a:moveTo>
                  <a:pt x="3794" y="14640"/>
                </a:moveTo>
                <a:lnTo>
                  <a:pt x="17806" y="21646"/>
                </a:lnTo>
                <a:lnTo>
                  <a:pt x="3794" y="28653"/>
                </a:lnTo>
                <a:close/>
              </a:path>
            </a:pathLst>
          </a:custGeom>
          <a:solidFill>
            <a:srgbClr val="009e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AutoShape 13">
            <a:hlinkClick r:id="" action="ppaction://hlinkshowjump?jump=previousslide"/>
          </p:cNvPr>
          <p:cNvSpPr/>
          <p:nvPr/>
        </p:nvSpPr>
        <p:spPr>
          <a:xfrm>
            <a:off x="8893080" y="4149720"/>
            <a:ext cx="250920" cy="503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3280"/>
              <a:gd name="textAreaBottom" fmla="*/ 487080 h 503280"/>
            </a:gdLst>
            <a:ahLst/>
            <a:rect l="textAreaLeft" t="textAreaTop" r="textAreaRight" b="textAreaBottom"/>
            <a:pathLst>
              <a:path w="21600" h="43293">
                <a:moveTo>
                  <a:pt x="0" y="0"/>
                </a:moveTo>
                <a:lnTo>
                  <a:pt x="21600" y="0"/>
                </a:lnTo>
                <a:lnTo>
                  <a:pt x="21600" y="43293"/>
                </a:lnTo>
                <a:lnTo>
                  <a:pt x="0" y="43293"/>
                </a:lnTo>
                <a:close/>
              </a:path>
              <a:path fill="lightenLess" w="21600" h="432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93">
                <a:moveTo>
                  <a:pt x="21600" y="0"/>
                </a:moveTo>
                <a:lnTo>
                  <a:pt x="21600" y="43293"/>
                </a:lnTo>
                <a:lnTo>
                  <a:pt x="20200" y="41893"/>
                </a:lnTo>
                <a:lnTo>
                  <a:pt x="20200" y="1400"/>
                </a:lnTo>
                <a:close/>
              </a:path>
              <a:path fill="darkenLess" w="21600" h="43293">
                <a:moveTo>
                  <a:pt x="21600" y="43293"/>
                </a:moveTo>
                <a:lnTo>
                  <a:pt x="0" y="43293"/>
                </a:lnTo>
                <a:lnTo>
                  <a:pt x="1400" y="41893"/>
                </a:lnTo>
                <a:lnTo>
                  <a:pt x="20200" y="41893"/>
                </a:lnTo>
                <a:close/>
              </a:path>
              <a:path fill="lighten" w="21600" h="43293">
                <a:moveTo>
                  <a:pt x="0" y="4329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93"/>
                </a:lnTo>
                <a:close/>
              </a:path>
              <a:path fill="darken" w="21600" h="43293">
                <a:moveTo>
                  <a:pt x="3794" y="21646"/>
                </a:moveTo>
                <a:lnTo>
                  <a:pt x="17806" y="14640"/>
                </a:lnTo>
                <a:lnTo>
                  <a:pt x="17806" y="28653"/>
                </a:lnTo>
                <a:close/>
              </a:path>
            </a:pathLst>
          </a:custGeom>
          <a:solidFill>
            <a:srgbClr val="009e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8893080" y="3141720"/>
            <a:ext cx="250920" cy="504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4720"/>
              <a:gd name="textAreaBottom" fmla="*/ 488520 h 504720"/>
            </a:gdLst>
            <a:ahLst/>
            <a:rect l="textAreaLeft" t="textAreaTop" r="textAreaRight" b="textAreaBottom"/>
            <a:pathLst>
              <a:path w="21600" h="43417">
                <a:moveTo>
                  <a:pt x="0" y="0"/>
                </a:moveTo>
                <a:lnTo>
                  <a:pt x="21600" y="0"/>
                </a:lnTo>
                <a:lnTo>
                  <a:pt x="21600" y="43417"/>
                </a:lnTo>
                <a:lnTo>
                  <a:pt x="0" y="43417"/>
                </a:lnTo>
                <a:close/>
              </a:path>
              <a:path fill="lightenLess" w="21600" h="434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417">
                <a:moveTo>
                  <a:pt x="21600" y="0"/>
                </a:moveTo>
                <a:lnTo>
                  <a:pt x="21600" y="43417"/>
                </a:lnTo>
                <a:lnTo>
                  <a:pt x="20200" y="42017"/>
                </a:lnTo>
                <a:lnTo>
                  <a:pt x="20200" y="1400"/>
                </a:lnTo>
                <a:close/>
              </a:path>
              <a:path fill="darkenLess" w="21600" h="43417">
                <a:moveTo>
                  <a:pt x="21600" y="43417"/>
                </a:moveTo>
                <a:lnTo>
                  <a:pt x="0" y="43417"/>
                </a:lnTo>
                <a:lnTo>
                  <a:pt x="1400" y="42017"/>
                </a:lnTo>
                <a:lnTo>
                  <a:pt x="20200" y="42017"/>
                </a:lnTo>
                <a:close/>
              </a:path>
              <a:path fill="lighten" w="21600" h="43417">
                <a:moveTo>
                  <a:pt x="0" y="43417"/>
                </a:moveTo>
                <a:lnTo>
                  <a:pt x="0" y="0"/>
                </a:lnTo>
                <a:lnTo>
                  <a:pt x="1400" y="1400"/>
                </a:lnTo>
                <a:lnTo>
                  <a:pt x="1400" y="42017"/>
                </a:lnTo>
                <a:close/>
              </a:path>
              <a:path fill="darken" w="21600" h="43417">
                <a:moveTo>
                  <a:pt x="7301" y="21708"/>
                </a:moveTo>
                <a:lnTo>
                  <a:pt x="17806" y="14702"/>
                </a:lnTo>
                <a:lnTo>
                  <a:pt x="17806" y="28715"/>
                </a:lnTo>
                <a:close/>
              </a:path>
              <a:path fill="darken" w="21600" h="43417">
                <a:moveTo>
                  <a:pt x="3794" y="14702"/>
                </a:moveTo>
                <a:lnTo>
                  <a:pt x="5456" y="14702"/>
                </a:lnTo>
                <a:lnTo>
                  <a:pt x="5456" y="28715"/>
                </a:lnTo>
                <a:lnTo>
                  <a:pt x="3794" y="28715"/>
                </a:lnTo>
                <a:close/>
              </a:path>
            </a:pathLst>
          </a:custGeom>
          <a:solidFill>
            <a:srgbClr val="68e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AutoShape 15">
            <a:hlinkClick r:id="" action="ppaction://hlinkshowjump?jump=endshow"/>
          </p:cNvPr>
          <p:cNvSpPr/>
          <p:nvPr/>
        </p:nvSpPr>
        <p:spPr>
          <a:xfrm>
            <a:off x="8893080" y="5662440"/>
            <a:ext cx="250920" cy="5050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5080"/>
              <a:gd name="textAreaBottom" fmla="*/ 488880 h 505080"/>
            </a:gdLst>
            <a:ahLst/>
            <a:rect l="textAreaLeft" t="textAreaTop" r="textAreaRight" b="textAreaBottom"/>
            <a:pathLst>
              <a:path w="21600" h="43448">
                <a:moveTo>
                  <a:pt x="0" y="0"/>
                </a:moveTo>
                <a:lnTo>
                  <a:pt x="21600" y="0"/>
                </a:lnTo>
                <a:lnTo>
                  <a:pt x="21600" y="43448"/>
                </a:lnTo>
                <a:lnTo>
                  <a:pt x="0" y="43448"/>
                </a:lnTo>
                <a:close/>
              </a:path>
              <a:path fill="lightenLess" w="21600" h="4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448">
                <a:moveTo>
                  <a:pt x="21600" y="0"/>
                </a:moveTo>
                <a:lnTo>
                  <a:pt x="21600" y="43448"/>
                </a:lnTo>
                <a:lnTo>
                  <a:pt x="20200" y="42048"/>
                </a:lnTo>
                <a:lnTo>
                  <a:pt x="20200" y="1400"/>
                </a:lnTo>
                <a:close/>
              </a:path>
              <a:path fill="darkenLess" w="21600" h="43448">
                <a:moveTo>
                  <a:pt x="21600" y="43448"/>
                </a:moveTo>
                <a:lnTo>
                  <a:pt x="0" y="43448"/>
                </a:lnTo>
                <a:lnTo>
                  <a:pt x="1400" y="42048"/>
                </a:lnTo>
                <a:lnTo>
                  <a:pt x="20200" y="42048"/>
                </a:lnTo>
                <a:close/>
              </a:path>
              <a:path fill="lighten" w="21600" h="43448">
                <a:moveTo>
                  <a:pt x="0" y="4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42048"/>
                </a:lnTo>
                <a:close/>
              </a:path>
              <a:path fill="darken" w="21600" h="43448">
                <a:moveTo>
                  <a:pt x="14299" y="21724"/>
                </a:moveTo>
                <a:lnTo>
                  <a:pt x="3794" y="28730"/>
                </a:lnTo>
                <a:lnTo>
                  <a:pt x="3794" y="14717"/>
                </a:lnTo>
                <a:close/>
              </a:path>
              <a:path fill="darken" w="21600" h="43448">
                <a:moveTo>
                  <a:pt x="16144" y="14717"/>
                </a:moveTo>
                <a:lnTo>
                  <a:pt x="16144" y="28730"/>
                </a:lnTo>
                <a:lnTo>
                  <a:pt x="17806" y="28730"/>
                </a:lnTo>
                <a:lnTo>
                  <a:pt x="17806" y="14717"/>
                </a:lnTo>
                <a:close/>
              </a:path>
            </a:pathLst>
          </a:custGeom>
          <a:solidFill>
            <a:srgbClr val="68e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8893080" y="3645000"/>
            <a:ext cx="250920" cy="504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4720"/>
              <a:gd name="textAreaBottom" fmla="*/ 488520 h 504720"/>
            </a:gdLst>
            <a:ahLst/>
            <a:rect l="textAreaLeft" t="textAreaTop" r="textAreaRight" b="textAreaBottom"/>
            <a:pathLst>
              <a:path w="21600" h="43417">
                <a:moveTo>
                  <a:pt x="0" y="0"/>
                </a:moveTo>
                <a:lnTo>
                  <a:pt x="21600" y="0"/>
                </a:lnTo>
                <a:lnTo>
                  <a:pt x="21600" y="43417"/>
                </a:lnTo>
                <a:lnTo>
                  <a:pt x="0" y="43417"/>
                </a:lnTo>
                <a:close/>
              </a:path>
              <a:path fill="lightenLess" w="21600" h="434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417">
                <a:moveTo>
                  <a:pt x="21600" y="0"/>
                </a:moveTo>
                <a:lnTo>
                  <a:pt x="21600" y="43417"/>
                </a:lnTo>
                <a:lnTo>
                  <a:pt x="20200" y="42017"/>
                </a:lnTo>
                <a:lnTo>
                  <a:pt x="20200" y="1400"/>
                </a:lnTo>
                <a:close/>
              </a:path>
              <a:path fill="darkenLess" w="21600" h="43417">
                <a:moveTo>
                  <a:pt x="21600" y="43417"/>
                </a:moveTo>
                <a:lnTo>
                  <a:pt x="0" y="43417"/>
                </a:lnTo>
                <a:lnTo>
                  <a:pt x="1400" y="42017"/>
                </a:lnTo>
                <a:lnTo>
                  <a:pt x="20200" y="42017"/>
                </a:lnTo>
                <a:close/>
              </a:path>
              <a:path fill="lighten" w="21600" h="43417">
                <a:moveTo>
                  <a:pt x="0" y="43417"/>
                </a:moveTo>
                <a:lnTo>
                  <a:pt x="0" y="0"/>
                </a:lnTo>
                <a:lnTo>
                  <a:pt x="1400" y="1400"/>
                </a:lnTo>
                <a:lnTo>
                  <a:pt x="1400" y="42017"/>
                </a:lnTo>
                <a:close/>
              </a:path>
              <a:path fill="darken" w="21600" h="43417">
                <a:moveTo>
                  <a:pt x="3794" y="21708"/>
                </a:moveTo>
                <a:lnTo>
                  <a:pt x="17806" y="14702"/>
                </a:lnTo>
                <a:lnTo>
                  <a:pt x="17806" y="287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08000" y="0"/>
            <a:ext cx="89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ема 6.1. Понятие карьеры.  Этапы построения карьер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5" name="Object 2"/>
          <p:cNvGraphicFramePr/>
          <p:nvPr/>
        </p:nvGraphicFramePr>
        <p:xfrm>
          <a:off x="7380360" y="2997360"/>
          <a:ext cx="15555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2997360"/>
                    <a:ext cx="15555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Text Box 4"/>
          <p:cNvSpPr/>
          <p:nvPr/>
        </p:nvSpPr>
        <p:spPr>
          <a:xfrm>
            <a:off x="0" y="40464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nstantia"/>
              </a:rPr>
              <a:t>Виды карьер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50920" y="1052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Вертикальная карьера </a:t>
            </a:r>
            <a:r>
              <a:rPr b="0" lang="ru-RU" sz="2400" spc="-1" strike="noStrike">
                <a:solidFill>
                  <a:srgbClr val="0000cc"/>
                </a:solidFill>
                <a:latin typeface="Constantia"/>
              </a:rPr>
              <a:t>– это продвижение с более низких на более высокие ступени «служебной лестницы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6" descr="знакикопирование"/>
          <p:cNvPicPr/>
          <p:nvPr/>
        </p:nvPicPr>
        <p:blipFill>
          <a:blip r:embed="rId3"/>
          <a:srcRect l="12396" t="4805" r="55265" b="74407"/>
          <a:stretch/>
        </p:blipFill>
        <p:spPr>
          <a:xfrm>
            <a:off x="395280" y="763560"/>
            <a:ext cx="936720" cy="9349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7"/>
          <p:cNvSpPr/>
          <p:nvPr/>
        </p:nvSpPr>
        <p:spPr>
          <a:xfrm>
            <a:off x="250920" y="3357720"/>
            <a:ext cx="70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Горизонтальная карьера </a:t>
            </a:r>
            <a:r>
              <a:rPr b="0" lang="ru-RU" sz="2400" spc="-1" strike="noStrike">
                <a:solidFill>
                  <a:srgbClr val="0000cc"/>
                </a:solidFill>
                <a:latin typeface="Constantia"/>
              </a:rPr>
              <a:t>– это такое изменение положения работника, при котором он либо изменяет свой профессиональный статус (категория, разряд, степень), либо просто меняет свои занятия, не повышая и не понижая своего положения в организац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8" descr="знакикопирование"/>
          <p:cNvPicPr/>
          <p:nvPr/>
        </p:nvPicPr>
        <p:blipFill>
          <a:blip r:embed="rId4"/>
          <a:srcRect l="12396" t="4805" r="55265" b="74407"/>
          <a:stretch/>
        </p:blipFill>
        <p:spPr>
          <a:xfrm>
            <a:off x="395280" y="3070080"/>
            <a:ext cx="936720" cy="9352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"/>
          <p:cNvSpPr/>
          <p:nvPr/>
        </p:nvSpPr>
        <p:spPr>
          <a:xfrm>
            <a:off x="5364000" y="649116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nstantia"/>
              </a:rPr>
              <a:t>Подготовка к будущей карьер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8604360" y="0"/>
            <a:ext cx="53964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AutoShape 33">
            <a:hlinkClick r:id="" action="ppaction://hlinkshowjump?jump=nextslide"/>
          </p:cNvPr>
          <p:cNvSpPr/>
          <p:nvPr/>
        </p:nvSpPr>
        <p:spPr>
          <a:xfrm>
            <a:off x="8893080" y="4653000"/>
            <a:ext cx="250920" cy="503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3280"/>
              <a:gd name="textAreaBottom" fmla="*/ 487080 h 503280"/>
            </a:gdLst>
            <a:ahLst/>
            <a:rect l="textAreaLeft" t="textAreaTop" r="textAreaRight" b="textAreaBottom"/>
            <a:pathLst>
              <a:path w="21600" h="43293">
                <a:moveTo>
                  <a:pt x="0" y="0"/>
                </a:moveTo>
                <a:lnTo>
                  <a:pt x="21600" y="0"/>
                </a:lnTo>
                <a:lnTo>
                  <a:pt x="21600" y="43293"/>
                </a:lnTo>
                <a:lnTo>
                  <a:pt x="0" y="43293"/>
                </a:lnTo>
                <a:close/>
              </a:path>
              <a:path fill="lightenLess" w="21600" h="432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93">
                <a:moveTo>
                  <a:pt x="21600" y="0"/>
                </a:moveTo>
                <a:lnTo>
                  <a:pt x="21600" y="43293"/>
                </a:lnTo>
                <a:lnTo>
                  <a:pt x="20200" y="41893"/>
                </a:lnTo>
                <a:lnTo>
                  <a:pt x="20200" y="1400"/>
                </a:lnTo>
                <a:close/>
              </a:path>
              <a:path fill="darkenLess" w="21600" h="43293">
                <a:moveTo>
                  <a:pt x="21600" y="43293"/>
                </a:moveTo>
                <a:lnTo>
                  <a:pt x="0" y="43293"/>
                </a:lnTo>
                <a:lnTo>
                  <a:pt x="1400" y="41893"/>
                </a:lnTo>
                <a:lnTo>
                  <a:pt x="20200" y="41893"/>
                </a:lnTo>
                <a:close/>
              </a:path>
              <a:path fill="lighten" w="21600" h="43293">
                <a:moveTo>
                  <a:pt x="0" y="4329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93"/>
                </a:lnTo>
                <a:close/>
              </a:path>
              <a:path fill="darken" w="21600" h="43293">
                <a:moveTo>
                  <a:pt x="3794" y="14640"/>
                </a:moveTo>
                <a:lnTo>
                  <a:pt x="17806" y="21646"/>
                </a:lnTo>
                <a:lnTo>
                  <a:pt x="3794" y="28653"/>
                </a:lnTo>
                <a:close/>
              </a:path>
            </a:pathLst>
          </a:custGeom>
          <a:solidFill>
            <a:srgbClr val="009e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AutoShape 34">
            <a:hlinkClick r:id="" action="ppaction://hlinkshowjump?jump=previousslide"/>
          </p:cNvPr>
          <p:cNvSpPr/>
          <p:nvPr/>
        </p:nvSpPr>
        <p:spPr>
          <a:xfrm>
            <a:off x="8893080" y="4149720"/>
            <a:ext cx="250920" cy="503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3280"/>
              <a:gd name="textAreaBottom" fmla="*/ 487080 h 503280"/>
            </a:gdLst>
            <a:ahLst/>
            <a:rect l="textAreaLeft" t="textAreaTop" r="textAreaRight" b="textAreaBottom"/>
            <a:pathLst>
              <a:path w="21600" h="43293">
                <a:moveTo>
                  <a:pt x="0" y="0"/>
                </a:moveTo>
                <a:lnTo>
                  <a:pt x="21600" y="0"/>
                </a:lnTo>
                <a:lnTo>
                  <a:pt x="21600" y="43293"/>
                </a:lnTo>
                <a:lnTo>
                  <a:pt x="0" y="43293"/>
                </a:lnTo>
                <a:close/>
              </a:path>
              <a:path fill="lightenLess" w="21600" h="432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93">
                <a:moveTo>
                  <a:pt x="21600" y="0"/>
                </a:moveTo>
                <a:lnTo>
                  <a:pt x="21600" y="43293"/>
                </a:lnTo>
                <a:lnTo>
                  <a:pt x="20200" y="41893"/>
                </a:lnTo>
                <a:lnTo>
                  <a:pt x="20200" y="1400"/>
                </a:lnTo>
                <a:close/>
              </a:path>
              <a:path fill="darkenLess" w="21600" h="43293">
                <a:moveTo>
                  <a:pt x="21600" y="43293"/>
                </a:moveTo>
                <a:lnTo>
                  <a:pt x="0" y="43293"/>
                </a:lnTo>
                <a:lnTo>
                  <a:pt x="1400" y="41893"/>
                </a:lnTo>
                <a:lnTo>
                  <a:pt x="20200" y="41893"/>
                </a:lnTo>
                <a:close/>
              </a:path>
              <a:path fill="lighten" w="21600" h="43293">
                <a:moveTo>
                  <a:pt x="0" y="4329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93"/>
                </a:lnTo>
                <a:close/>
              </a:path>
              <a:path fill="darken" w="21600" h="43293">
                <a:moveTo>
                  <a:pt x="3794" y="21646"/>
                </a:moveTo>
                <a:lnTo>
                  <a:pt x="17806" y="14640"/>
                </a:lnTo>
                <a:lnTo>
                  <a:pt x="17806" y="28653"/>
                </a:lnTo>
                <a:close/>
              </a:path>
            </a:pathLst>
          </a:custGeom>
          <a:solidFill>
            <a:srgbClr val="009e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AutoShape 35"/>
          <p:cNvSpPr/>
          <p:nvPr/>
        </p:nvSpPr>
        <p:spPr>
          <a:xfrm>
            <a:off x="8893080" y="3141720"/>
            <a:ext cx="250920" cy="504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4720"/>
              <a:gd name="textAreaBottom" fmla="*/ 488520 h 504720"/>
            </a:gdLst>
            <a:ahLst/>
            <a:rect l="textAreaLeft" t="textAreaTop" r="textAreaRight" b="textAreaBottom"/>
            <a:pathLst>
              <a:path w="21600" h="43417">
                <a:moveTo>
                  <a:pt x="0" y="0"/>
                </a:moveTo>
                <a:lnTo>
                  <a:pt x="21600" y="0"/>
                </a:lnTo>
                <a:lnTo>
                  <a:pt x="21600" y="43417"/>
                </a:lnTo>
                <a:lnTo>
                  <a:pt x="0" y="43417"/>
                </a:lnTo>
                <a:close/>
              </a:path>
              <a:path fill="lightenLess" w="21600" h="434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417">
                <a:moveTo>
                  <a:pt x="21600" y="0"/>
                </a:moveTo>
                <a:lnTo>
                  <a:pt x="21600" y="43417"/>
                </a:lnTo>
                <a:lnTo>
                  <a:pt x="20200" y="42017"/>
                </a:lnTo>
                <a:lnTo>
                  <a:pt x="20200" y="1400"/>
                </a:lnTo>
                <a:close/>
              </a:path>
              <a:path fill="darkenLess" w="21600" h="43417">
                <a:moveTo>
                  <a:pt x="21600" y="43417"/>
                </a:moveTo>
                <a:lnTo>
                  <a:pt x="0" y="43417"/>
                </a:lnTo>
                <a:lnTo>
                  <a:pt x="1400" y="42017"/>
                </a:lnTo>
                <a:lnTo>
                  <a:pt x="20200" y="42017"/>
                </a:lnTo>
                <a:close/>
              </a:path>
              <a:path fill="lighten" w="21600" h="43417">
                <a:moveTo>
                  <a:pt x="0" y="43417"/>
                </a:moveTo>
                <a:lnTo>
                  <a:pt x="0" y="0"/>
                </a:lnTo>
                <a:lnTo>
                  <a:pt x="1400" y="1400"/>
                </a:lnTo>
                <a:lnTo>
                  <a:pt x="1400" y="42017"/>
                </a:lnTo>
                <a:close/>
              </a:path>
              <a:path fill="darken" w="21600" h="43417">
                <a:moveTo>
                  <a:pt x="7301" y="21708"/>
                </a:moveTo>
                <a:lnTo>
                  <a:pt x="17806" y="14702"/>
                </a:lnTo>
                <a:lnTo>
                  <a:pt x="17806" y="28715"/>
                </a:lnTo>
                <a:close/>
              </a:path>
              <a:path fill="darken" w="21600" h="43417">
                <a:moveTo>
                  <a:pt x="3794" y="14702"/>
                </a:moveTo>
                <a:lnTo>
                  <a:pt x="5456" y="14702"/>
                </a:lnTo>
                <a:lnTo>
                  <a:pt x="5456" y="28715"/>
                </a:lnTo>
                <a:lnTo>
                  <a:pt x="3794" y="28715"/>
                </a:lnTo>
                <a:close/>
              </a:path>
            </a:pathLst>
          </a:custGeom>
          <a:solidFill>
            <a:srgbClr val="68e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AutoShape 36">
            <a:hlinkClick r:id="" action="ppaction://hlinkshowjump?jump=endshow"/>
          </p:cNvPr>
          <p:cNvSpPr/>
          <p:nvPr/>
        </p:nvSpPr>
        <p:spPr>
          <a:xfrm>
            <a:off x="8893080" y="5662440"/>
            <a:ext cx="250920" cy="5050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5080"/>
              <a:gd name="textAreaBottom" fmla="*/ 488880 h 505080"/>
            </a:gdLst>
            <a:ahLst/>
            <a:rect l="textAreaLeft" t="textAreaTop" r="textAreaRight" b="textAreaBottom"/>
            <a:pathLst>
              <a:path w="21600" h="43448">
                <a:moveTo>
                  <a:pt x="0" y="0"/>
                </a:moveTo>
                <a:lnTo>
                  <a:pt x="21600" y="0"/>
                </a:lnTo>
                <a:lnTo>
                  <a:pt x="21600" y="43448"/>
                </a:lnTo>
                <a:lnTo>
                  <a:pt x="0" y="43448"/>
                </a:lnTo>
                <a:close/>
              </a:path>
              <a:path fill="lightenLess" w="21600" h="4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448">
                <a:moveTo>
                  <a:pt x="21600" y="0"/>
                </a:moveTo>
                <a:lnTo>
                  <a:pt x="21600" y="43448"/>
                </a:lnTo>
                <a:lnTo>
                  <a:pt x="20200" y="42048"/>
                </a:lnTo>
                <a:lnTo>
                  <a:pt x="20200" y="1400"/>
                </a:lnTo>
                <a:close/>
              </a:path>
              <a:path fill="darkenLess" w="21600" h="43448">
                <a:moveTo>
                  <a:pt x="21600" y="43448"/>
                </a:moveTo>
                <a:lnTo>
                  <a:pt x="0" y="43448"/>
                </a:lnTo>
                <a:lnTo>
                  <a:pt x="1400" y="42048"/>
                </a:lnTo>
                <a:lnTo>
                  <a:pt x="20200" y="42048"/>
                </a:lnTo>
                <a:close/>
              </a:path>
              <a:path fill="lighten" w="21600" h="43448">
                <a:moveTo>
                  <a:pt x="0" y="4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42048"/>
                </a:lnTo>
                <a:close/>
              </a:path>
              <a:path fill="darken" w="21600" h="43448">
                <a:moveTo>
                  <a:pt x="14299" y="21724"/>
                </a:moveTo>
                <a:lnTo>
                  <a:pt x="3794" y="28730"/>
                </a:lnTo>
                <a:lnTo>
                  <a:pt x="3794" y="14717"/>
                </a:lnTo>
                <a:close/>
              </a:path>
              <a:path fill="darken" w="21600" h="43448">
                <a:moveTo>
                  <a:pt x="16144" y="14717"/>
                </a:moveTo>
                <a:lnTo>
                  <a:pt x="16144" y="28730"/>
                </a:lnTo>
                <a:lnTo>
                  <a:pt x="17806" y="28730"/>
                </a:lnTo>
                <a:lnTo>
                  <a:pt x="17806" y="14717"/>
                </a:lnTo>
                <a:close/>
              </a:path>
            </a:pathLst>
          </a:custGeom>
          <a:solidFill>
            <a:srgbClr val="68e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AutoShape 38"/>
          <p:cNvSpPr/>
          <p:nvPr/>
        </p:nvSpPr>
        <p:spPr>
          <a:xfrm>
            <a:off x="8893080" y="3645000"/>
            <a:ext cx="250920" cy="504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4720"/>
              <a:gd name="textAreaBottom" fmla="*/ 488520 h 504720"/>
            </a:gdLst>
            <a:ahLst/>
            <a:rect l="textAreaLeft" t="textAreaTop" r="textAreaRight" b="textAreaBottom"/>
            <a:pathLst>
              <a:path w="21600" h="43417">
                <a:moveTo>
                  <a:pt x="0" y="0"/>
                </a:moveTo>
                <a:lnTo>
                  <a:pt x="21600" y="0"/>
                </a:lnTo>
                <a:lnTo>
                  <a:pt x="21600" y="43417"/>
                </a:lnTo>
                <a:lnTo>
                  <a:pt x="0" y="43417"/>
                </a:lnTo>
                <a:close/>
              </a:path>
              <a:path fill="lightenLess" w="21600" h="434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417">
                <a:moveTo>
                  <a:pt x="21600" y="0"/>
                </a:moveTo>
                <a:lnTo>
                  <a:pt x="21600" y="43417"/>
                </a:lnTo>
                <a:lnTo>
                  <a:pt x="20200" y="42017"/>
                </a:lnTo>
                <a:lnTo>
                  <a:pt x="20200" y="1400"/>
                </a:lnTo>
                <a:close/>
              </a:path>
              <a:path fill="darkenLess" w="21600" h="43417">
                <a:moveTo>
                  <a:pt x="21600" y="43417"/>
                </a:moveTo>
                <a:lnTo>
                  <a:pt x="0" y="43417"/>
                </a:lnTo>
                <a:lnTo>
                  <a:pt x="1400" y="42017"/>
                </a:lnTo>
                <a:lnTo>
                  <a:pt x="20200" y="42017"/>
                </a:lnTo>
                <a:close/>
              </a:path>
              <a:path fill="lighten" w="21600" h="43417">
                <a:moveTo>
                  <a:pt x="0" y="43417"/>
                </a:moveTo>
                <a:lnTo>
                  <a:pt x="0" y="0"/>
                </a:lnTo>
                <a:lnTo>
                  <a:pt x="1400" y="1400"/>
                </a:lnTo>
                <a:lnTo>
                  <a:pt x="1400" y="42017"/>
                </a:lnTo>
                <a:close/>
              </a:path>
              <a:path fill="darken" w="21600" h="43417">
                <a:moveTo>
                  <a:pt x="3794" y="21708"/>
                </a:moveTo>
                <a:lnTo>
                  <a:pt x="17806" y="14702"/>
                </a:lnTo>
                <a:lnTo>
                  <a:pt x="17806" y="287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08000" y="0"/>
            <a:ext cx="89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ема 6.1. Понятие карьеры.  Этапы построения карьер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Object 2"/>
          <p:cNvGraphicFramePr/>
          <p:nvPr/>
        </p:nvGraphicFramePr>
        <p:xfrm>
          <a:off x="7236000" y="3429000"/>
          <a:ext cx="15555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3429000"/>
                    <a:ext cx="15555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4"/>
          <p:cNvSpPr/>
          <p:nvPr/>
        </p:nvSpPr>
        <p:spPr>
          <a:xfrm>
            <a:off x="0" y="620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onstantia"/>
              </a:rPr>
              <a:t>Внешняя и внутренняя оценка карьер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250920" y="1844640"/>
            <a:ext cx="8424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Внутренняя оценка карьеры </a:t>
            </a:r>
            <a:r>
              <a:rPr b="0" lang="ru-RU" sz="2400" spc="-1" strike="noStrike">
                <a:solidFill>
                  <a:srgbClr val="0000cc"/>
                </a:solidFill>
                <a:latin typeface="Constantia"/>
              </a:rPr>
              <a:t>– это соотношение между целями и притязаниями человека и реальным положением, которого он дости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6" descr="знакикопирование"/>
          <p:cNvPicPr/>
          <p:nvPr/>
        </p:nvPicPr>
        <p:blipFill>
          <a:blip r:embed="rId3"/>
          <a:srcRect l="12396" t="4805" r="55265" b="74407"/>
          <a:stretch/>
        </p:blipFill>
        <p:spPr>
          <a:xfrm>
            <a:off x="430200" y="1773360"/>
            <a:ext cx="936720" cy="934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7"/>
          <p:cNvSpPr/>
          <p:nvPr/>
        </p:nvSpPr>
        <p:spPr>
          <a:xfrm>
            <a:off x="250920" y="4221000"/>
            <a:ext cx="69120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Внешняя оценка карьеры </a:t>
            </a:r>
            <a:r>
              <a:rPr b="0" lang="ru-RU" sz="2400" spc="-1" strike="noStrike">
                <a:solidFill>
                  <a:srgbClr val="0000cc"/>
                </a:solidFill>
                <a:latin typeface="Constantia"/>
              </a:rPr>
              <a:t>– это оценка, которая исходит от других люд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8" descr="знакикопирование"/>
          <p:cNvPicPr/>
          <p:nvPr/>
        </p:nvPicPr>
        <p:blipFill>
          <a:blip r:embed="rId4"/>
          <a:srcRect l="12396" t="4805" r="55265" b="74407"/>
          <a:stretch/>
        </p:blipFill>
        <p:spPr>
          <a:xfrm>
            <a:off x="430200" y="4149720"/>
            <a:ext cx="936720" cy="9349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9"/>
          <p:cNvSpPr/>
          <p:nvPr/>
        </p:nvSpPr>
        <p:spPr>
          <a:xfrm>
            <a:off x="5364000" y="649116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Constantia"/>
              </a:rPr>
              <a:t>Подготовка к будущей карьер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8604360" y="0"/>
            <a:ext cx="53964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AutoShape 11">
            <a:hlinkClick r:id="" action="ppaction://hlinkshowjump?jump=nextslide"/>
          </p:cNvPr>
          <p:cNvSpPr/>
          <p:nvPr/>
        </p:nvSpPr>
        <p:spPr>
          <a:xfrm>
            <a:off x="8893080" y="4653000"/>
            <a:ext cx="250920" cy="503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3280"/>
              <a:gd name="textAreaBottom" fmla="*/ 487080 h 503280"/>
            </a:gdLst>
            <a:ahLst/>
            <a:rect l="textAreaLeft" t="textAreaTop" r="textAreaRight" b="textAreaBottom"/>
            <a:pathLst>
              <a:path w="21600" h="43293">
                <a:moveTo>
                  <a:pt x="0" y="0"/>
                </a:moveTo>
                <a:lnTo>
                  <a:pt x="21600" y="0"/>
                </a:lnTo>
                <a:lnTo>
                  <a:pt x="21600" y="43293"/>
                </a:lnTo>
                <a:lnTo>
                  <a:pt x="0" y="43293"/>
                </a:lnTo>
                <a:close/>
              </a:path>
              <a:path fill="lightenLess" w="21600" h="432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93">
                <a:moveTo>
                  <a:pt x="21600" y="0"/>
                </a:moveTo>
                <a:lnTo>
                  <a:pt x="21600" y="43293"/>
                </a:lnTo>
                <a:lnTo>
                  <a:pt x="20200" y="41893"/>
                </a:lnTo>
                <a:lnTo>
                  <a:pt x="20200" y="1400"/>
                </a:lnTo>
                <a:close/>
              </a:path>
              <a:path fill="darkenLess" w="21600" h="43293">
                <a:moveTo>
                  <a:pt x="21600" y="43293"/>
                </a:moveTo>
                <a:lnTo>
                  <a:pt x="0" y="43293"/>
                </a:lnTo>
                <a:lnTo>
                  <a:pt x="1400" y="41893"/>
                </a:lnTo>
                <a:lnTo>
                  <a:pt x="20200" y="41893"/>
                </a:lnTo>
                <a:close/>
              </a:path>
              <a:path fill="lighten" w="21600" h="43293">
                <a:moveTo>
                  <a:pt x="0" y="4329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93"/>
                </a:lnTo>
                <a:close/>
              </a:path>
              <a:path fill="darken" w="21600" h="43293">
                <a:moveTo>
                  <a:pt x="3794" y="14640"/>
                </a:moveTo>
                <a:lnTo>
                  <a:pt x="17806" y="21646"/>
                </a:lnTo>
                <a:lnTo>
                  <a:pt x="3794" y="28653"/>
                </a:lnTo>
                <a:close/>
              </a:path>
            </a:pathLst>
          </a:custGeom>
          <a:solidFill>
            <a:srgbClr val="009e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AutoShape 12">
            <a:hlinkClick r:id="" action="ppaction://hlinkshowjump?jump=previousslide"/>
          </p:cNvPr>
          <p:cNvSpPr/>
          <p:nvPr/>
        </p:nvSpPr>
        <p:spPr>
          <a:xfrm>
            <a:off x="8893080" y="4149720"/>
            <a:ext cx="250920" cy="503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3280"/>
              <a:gd name="textAreaBottom" fmla="*/ 487080 h 503280"/>
            </a:gdLst>
            <a:ahLst/>
            <a:rect l="textAreaLeft" t="textAreaTop" r="textAreaRight" b="textAreaBottom"/>
            <a:pathLst>
              <a:path w="21600" h="43293">
                <a:moveTo>
                  <a:pt x="0" y="0"/>
                </a:moveTo>
                <a:lnTo>
                  <a:pt x="21600" y="0"/>
                </a:lnTo>
                <a:lnTo>
                  <a:pt x="21600" y="43293"/>
                </a:lnTo>
                <a:lnTo>
                  <a:pt x="0" y="43293"/>
                </a:lnTo>
                <a:close/>
              </a:path>
              <a:path fill="lightenLess" w="21600" h="432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93">
                <a:moveTo>
                  <a:pt x="21600" y="0"/>
                </a:moveTo>
                <a:lnTo>
                  <a:pt x="21600" y="43293"/>
                </a:lnTo>
                <a:lnTo>
                  <a:pt x="20200" y="41893"/>
                </a:lnTo>
                <a:lnTo>
                  <a:pt x="20200" y="1400"/>
                </a:lnTo>
                <a:close/>
              </a:path>
              <a:path fill="darkenLess" w="21600" h="43293">
                <a:moveTo>
                  <a:pt x="21600" y="43293"/>
                </a:moveTo>
                <a:lnTo>
                  <a:pt x="0" y="43293"/>
                </a:lnTo>
                <a:lnTo>
                  <a:pt x="1400" y="41893"/>
                </a:lnTo>
                <a:lnTo>
                  <a:pt x="20200" y="41893"/>
                </a:lnTo>
                <a:close/>
              </a:path>
              <a:path fill="lighten" w="21600" h="43293">
                <a:moveTo>
                  <a:pt x="0" y="43293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93"/>
                </a:lnTo>
                <a:close/>
              </a:path>
              <a:path fill="darken" w="21600" h="43293">
                <a:moveTo>
                  <a:pt x="3794" y="21646"/>
                </a:moveTo>
                <a:lnTo>
                  <a:pt x="17806" y="14640"/>
                </a:lnTo>
                <a:lnTo>
                  <a:pt x="17806" y="28653"/>
                </a:lnTo>
                <a:close/>
              </a:path>
            </a:pathLst>
          </a:custGeom>
          <a:solidFill>
            <a:srgbClr val="009e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8893080" y="3141720"/>
            <a:ext cx="250920" cy="504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4720"/>
              <a:gd name="textAreaBottom" fmla="*/ 488520 h 504720"/>
            </a:gdLst>
            <a:ahLst/>
            <a:rect l="textAreaLeft" t="textAreaTop" r="textAreaRight" b="textAreaBottom"/>
            <a:pathLst>
              <a:path w="21600" h="43417">
                <a:moveTo>
                  <a:pt x="0" y="0"/>
                </a:moveTo>
                <a:lnTo>
                  <a:pt x="21600" y="0"/>
                </a:lnTo>
                <a:lnTo>
                  <a:pt x="21600" y="43417"/>
                </a:lnTo>
                <a:lnTo>
                  <a:pt x="0" y="43417"/>
                </a:lnTo>
                <a:close/>
              </a:path>
              <a:path fill="lightenLess" w="21600" h="434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417">
                <a:moveTo>
                  <a:pt x="21600" y="0"/>
                </a:moveTo>
                <a:lnTo>
                  <a:pt x="21600" y="43417"/>
                </a:lnTo>
                <a:lnTo>
                  <a:pt x="20200" y="42017"/>
                </a:lnTo>
                <a:lnTo>
                  <a:pt x="20200" y="1400"/>
                </a:lnTo>
                <a:close/>
              </a:path>
              <a:path fill="darkenLess" w="21600" h="43417">
                <a:moveTo>
                  <a:pt x="21600" y="43417"/>
                </a:moveTo>
                <a:lnTo>
                  <a:pt x="0" y="43417"/>
                </a:lnTo>
                <a:lnTo>
                  <a:pt x="1400" y="42017"/>
                </a:lnTo>
                <a:lnTo>
                  <a:pt x="20200" y="42017"/>
                </a:lnTo>
                <a:close/>
              </a:path>
              <a:path fill="lighten" w="21600" h="43417">
                <a:moveTo>
                  <a:pt x="0" y="43417"/>
                </a:moveTo>
                <a:lnTo>
                  <a:pt x="0" y="0"/>
                </a:lnTo>
                <a:lnTo>
                  <a:pt x="1400" y="1400"/>
                </a:lnTo>
                <a:lnTo>
                  <a:pt x="1400" y="42017"/>
                </a:lnTo>
                <a:close/>
              </a:path>
              <a:path fill="darken" w="21600" h="43417">
                <a:moveTo>
                  <a:pt x="7301" y="21708"/>
                </a:moveTo>
                <a:lnTo>
                  <a:pt x="17806" y="14702"/>
                </a:lnTo>
                <a:lnTo>
                  <a:pt x="17806" y="28715"/>
                </a:lnTo>
                <a:close/>
              </a:path>
              <a:path fill="darken" w="21600" h="43417">
                <a:moveTo>
                  <a:pt x="3794" y="14702"/>
                </a:moveTo>
                <a:lnTo>
                  <a:pt x="5456" y="14702"/>
                </a:lnTo>
                <a:lnTo>
                  <a:pt x="5456" y="28715"/>
                </a:lnTo>
                <a:lnTo>
                  <a:pt x="3794" y="28715"/>
                </a:lnTo>
                <a:close/>
              </a:path>
            </a:pathLst>
          </a:custGeom>
          <a:solidFill>
            <a:srgbClr val="68e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14">
            <a:hlinkClick r:id="" action="ppaction://hlinkshowjump?jump=endshow"/>
          </p:cNvPr>
          <p:cNvSpPr/>
          <p:nvPr/>
        </p:nvSpPr>
        <p:spPr>
          <a:xfrm>
            <a:off x="8893080" y="5662440"/>
            <a:ext cx="250920" cy="5050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5080"/>
              <a:gd name="textAreaBottom" fmla="*/ 488880 h 505080"/>
            </a:gdLst>
            <a:ahLst/>
            <a:rect l="textAreaLeft" t="textAreaTop" r="textAreaRight" b="textAreaBottom"/>
            <a:pathLst>
              <a:path w="21600" h="43448">
                <a:moveTo>
                  <a:pt x="0" y="0"/>
                </a:moveTo>
                <a:lnTo>
                  <a:pt x="21600" y="0"/>
                </a:lnTo>
                <a:lnTo>
                  <a:pt x="21600" y="43448"/>
                </a:lnTo>
                <a:lnTo>
                  <a:pt x="0" y="43448"/>
                </a:lnTo>
                <a:close/>
              </a:path>
              <a:path fill="lightenLess" w="21600" h="434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448">
                <a:moveTo>
                  <a:pt x="21600" y="0"/>
                </a:moveTo>
                <a:lnTo>
                  <a:pt x="21600" y="43448"/>
                </a:lnTo>
                <a:lnTo>
                  <a:pt x="20200" y="42048"/>
                </a:lnTo>
                <a:lnTo>
                  <a:pt x="20200" y="1400"/>
                </a:lnTo>
                <a:close/>
              </a:path>
              <a:path fill="darkenLess" w="21600" h="43448">
                <a:moveTo>
                  <a:pt x="21600" y="43448"/>
                </a:moveTo>
                <a:lnTo>
                  <a:pt x="0" y="43448"/>
                </a:lnTo>
                <a:lnTo>
                  <a:pt x="1400" y="42048"/>
                </a:lnTo>
                <a:lnTo>
                  <a:pt x="20200" y="42048"/>
                </a:lnTo>
                <a:close/>
              </a:path>
              <a:path fill="lighten" w="21600" h="43448">
                <a:moveTo>
                  <a:pt x="0" y="43448"/>
                </a:moveTo>
                <a:lnTo>
                  <a:pt x="0" y="0"/>
                </a:lnTo>
                <a:lnTo>
                  <a:pt x="1400" y="1400"/>
                </a:lnTo>
                <a:lnTo>
                  <a:pt x="1400" y="42048"/>
                </a:lnTo>
                <a:close/>
              </a:path>
              <a:path fill="darken" w="21600" h="43448">
                <a:moveTo>
                  <a:pt x="14299" y="21724"/>
                </a:moveTo>
                <a:lnTo>
                  <a:pt x="3794" y="28730"/>
                </a:lnTo>
                <a:lnTo>
                  <a:pt x="3794" y="14717"/>
                </a:lnTo>
                <a:close/>
              </a:path>
              <a:path fill="darken" w="21600" h="43448">
                <a:moveTo>
                  <a:pt x="16144" y="14717"/>
                </a:moveTo>
                <a:lnTo>
                  <a:pt x="16144" y="28730"/>
                </a:lnTo>
                <a:lnTo>
                  <a:pt x="17806" y="28730"/>
                </a:lnTo>
                <a:lnTo>
                  <a:pt x="17806" y="14717"/>
                </a:lnTo>
                <a:close/>
              </a:path>
            </a:pathLst>
          </a:custGeom>
          <a:solidFill>
            <a:srgbClr val="68e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AutoShape 15"/>
          <p:cNvSpPr/>
          <p:nvPr/>
        </p:nvSpPr>
        <p:spPr>
          <a:xfrm>
            <a:off x="8893080" y="3645000"/>
            <a:ext cx="250920" cy="50472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504720"/>
              <a:gd name="textAreaBottom" fmla="*/ 488520 h 504720"/>
            </a:gdLst>
            <a:ahLst/>
            <a:rect l="textAreaLeft" t="textAreaTop" r="textAreaRight" b="textAreaBottom"/>
            <a:pathLst>
              <a:path w="21600" h="43417">
                <a:moveTo>
                  <a:pt x="0" y="0"/>
                </a:moveTo>
                <a:lnTo>
                  <a:pt x="21600" y="0"/>
                </a:lnTo>
                <a:lnTo>
                  <a:pt x="21600" y="43417"/>
                </a:lnTo>
                <a:lnTo>
                  <a:pt x="0" y="43417"/>
                </a:lnTo>
                <a:close/>
              </a:path>
              <a:path fill="lightenLess" w="21600" h="4341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417">
                <a:moveTo>
                  <a:pt x="21600" y="0"/>
                </a:moveTo>
                <a:lnTo>
                  <a:pt x="21600" y="43417"/>
                </a:lnTo>
                <a:lnTo>
                  <a:pt x="20200" y="42017"/>
                </a:lnTo>
                <a:lnTo>
                  <a:pt x="20200" y="1400"/>
                </a:lnTo>
                <a:close/>
              </a:path>
              <a:path fill="darkenLess" w="21600" h="43417">
                <a:moveTo>
                  <a:pt x="21600" y="43417"/>
                </a:moveTo>
                <a:lnTo>
                  <a:pt x="0" y="43417"/>
                </a:lnTo>
                <a:lnTo>
                  <a:pt x="1400" y="42017"/>
                </a:lnTo>
                <a:lnTo>
                  <a:pt x="20200" y="42017"/>
                </a:lnTo>
                <a:close/>
              </a:path>
              <a:path fill="lighten" w="21600" h="43417">
                <a:moveTo>
                  <a:pt x="0" y="43417"/>
                </a:moveTo>
                <a:lnTo>
                  <a:pt x="0" y="0"/>
                </a:lnTo>
                <a:lnTo>
                  <a:pt x="1400" y="1400"/>
                </a:lnTo>
                <a:lnTo>
                  <a:pt x="1400" y="42017"/>
                </a:lnTo>
                <a:close/>
              </a:path>
              <a:path fill="darken" w="21600" h="43417">
                <a:moveTo>
                  <a:pt x="3794" y="21708"/>
                </a:moveTo>
                <a:lnTo>
                  <a:pt x="17806" y="14702"/>
                </a:lnTo>
                <a:lnTo>
                  <a:pt x="17806" y="287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Тест Элерса(модификация Дж. Аткинсона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. Я легко раздражаюсь, когда замечаю, что не могу на все 100 % выполнить задание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2.  Когда я работаю, это выглядит так, будто я все ставлю на карту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3. Когда возникает проблемная ситуация, я чаще всего принимаю решение одним из последних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4.  Когда у меня два дня подряд нет дела, я теряю покой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5. В некоторые дни мои успехи ниже средних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6. По отношению к себе я более строг, чем по отношению к другим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7. Я более доброжелателен, чем другие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8. В процессе работы я нуждаюсь в небольших паузах для отдых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9.  Порицание стимулирует меня сильнее, чем похвал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0. Я знаю, что мои коллеги считают меня дельным человеком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1. Препятствия делают мои решения более твердым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2. У меня легко вызвать честолюбие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3.  Когда я работаю без вдохновения, это обычно заметно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4.  Иногда я откладываю то, что должен был сделать сейчас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5. Нужно полагаться только на самого себ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6. В жизни мало вещей, более важных, чем деньги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7. В конце отпуска я обычно радуюсь, что скоро выйду на работу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8. Мне проще и легче общаться с людьми, которые могут упорно работать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19. Когда у меня нет дел, я чувствую, что мне не по себе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20. Мои друзья иногда считают меня ленивым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21. Мои успехи в какой-то мере зависят от моих коллег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22.  Когда я работаю вместе с другими, моя работа дает большие результаты, чем работы других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» 1, 2, 3,4, 6,7,8,9,10,11,12,15,16,17,18,19,21,2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т» 5,13,14,20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 совпадении вашего ответа с ключом поставьт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 бал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611280" y="836640"/>
          <a:ext cx="8137440" cy="3911400"/>
        </p:xfrm>
        <a:graphic>
          <a:graphicData uri="http://schemas.openxmlformats.org/drawingml/2006/table">
            <a:tbl>
              <a:tblPr/>
              <a:tblGrid>
                <a:gridCol w="4105080"/>
                <a:gridCol w="40323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притяз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ь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ниже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будет большого роста вертикальной карьеры (повышение в должност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ыше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будет большого роста горизонтальной карьеры (повышения мастерства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стич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дет обеспечен рост вертикальной и горизонтальной карье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208080" y="701640"/>
            <a:ext cx="856440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14:53:48Z</dcterms:created>
  <dc:creator>Admin</dc:creator>
  <dc:description/>
  <dc:language>en-US</dc:language>
  <cp:lastModifiedBy>Admin</cp:lastModifiedBy>
  <dcterms:modified xsi:type="dcterms:W3CDTF">2013-04-22T16:23:25Z</dcterms:modified>
  <cp:revision>9</cp:revision>
  <dc:subject/>
  <dc:title>Карьера</dc:title>
</cp:coreProperties>
</file>