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F91-5582-41AA-AD71-9AA8B41B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A16-B600-49D9-A277-6AD159BA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382-A536-43A4-8BD7-DB0C7A21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97B-0566-4425-AFE5-9C5B7B69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7F82-E613-4A39-B938-B71DDDF0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E75F-E434-45A8-A84C-2D722133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6A3D-D07B-4496-8006-779F99A2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F030-A289-416A-A756-2715880C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78FD-1E0E-47AE-8002-211BF254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F4A7-CBB7-4E8D-90CE-55187235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5501-4D70-4B84-BCD7-B4E56470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2E2-4A14-42C8-BD5D-849301A7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83A3-9E07-4137-9EBC-772A2C67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1FE6-96B6-4D00-B382-9C25E166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3DAF-0C00-4190-91F0-82F41C76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28BF-035C-4946-801D-9097AAF0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23AB-32F7-4E3F-BCCE-2EDB3703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8C545-ED5F-4BC5-A7A8-4F330A4E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97B58-0922-4BBD-AC13-85D0D7A9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A4C7E-9747-4B1E-B5F7-74A5F669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378D3-8E81-4177-93F1-85788C5B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C655D-D31A-4CAD-8EF8-A185BEF4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643-F0FA-49D6-A334-94BA5CDF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7510D-CE76-4510-845A-4EF4C0C3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00CE-F302-4E75-9A47-44F198DA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7BC5E-0EB8-43FA-9692-7C8848A1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87FF6-C249-487B-947B-EE4F2DE0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05C9B-16F9-4796-A5C9-85E6D9CA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7B5BA-A277-42A0-B2BB-E03E723B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2EE57-5831-4E4A-8BCA-CB9503E0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4046F-E6AD-4865-B5A7-93362B86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B4B2B-61C9-4D1A-8941-1CD0AE98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A9780-B6D4-43D2-9966-76F11CC7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D99-9801-4AF8-BF64-C5C2B2D0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61190-279A-4895-8E03-AA27F61F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78071-3290-412A-9F2F-11E8B3C4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A0E4F-2784-4DCD-8CF9-D63B67F7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5F1F7-4255-4849-A25D-FDCEAECF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2A766-6CD9-4BC7-A99D-700C6994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5F705-FDE9-4812-8955-65389023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94CF2-C569-41D8-BE63-C9AF1941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8110-84DD-4B9F-900A-284AE9BE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6A56D-CD54-4755-AC0B-D69A02D5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544-1FC8-43BC-A9C8-A8613361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B50-59B9-4EC2-93BF-D368217C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957-A9BE-4F23-B804-2654373B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4819-4DBD-4EA5-8D42-402F08BE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FAE-D057-4C53-A5CE-F7EC83EB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AFFE-79FE-4D52-9127-4446DF74C0F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33AA-F9B1-4835-85FC-05379B199D8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F9C5-9C3F-4D10-847C-0D9687C38AC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7E57-7988-47B5-92C1-C5112E27166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tangle 4" descr=""/>
          <p:cNvPicPr/>
          <p:nvPr/>
        </p:nvPicPr>
        <p:blipFill>
          <a:blip r:embed="rId1"/>
          <a:stretch/>
        </p:blipFill>
        <p:spPr>
          <a:xfrm>
            <a:off x="268200" y="285840"/>
            <a:ext cx="8485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ectangle 4" descr=""/>
          <p:cNvPicPr/>
          <p:nvPr/>
        </p:nvPicPr>
        <p:blipFill>
          <a:blip r:embed="rId1"/>
          <a:stretch/>
        </p:blipFill>
        <p:spPr>
          <a:xfrm>
            <a:off x="85680" y="676440"/>
            <a:ext cx="8454960" cy="2036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689200" y="3574800"/>
            <a:ext cx="6454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удущее принадлежит тем,                                            кто  свято верен своей мечт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леонора Рузвель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08000" y="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ема 6.1. Понятие карьеры.  Этапы построения карьер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0" name="Object 2"/>
          <p:cNvGraphicFramePr/>
          <p:nvPr/>
        </p:nvGraphicFramePr>
        <p:xfrm>
          <a:off x="7236000" y="3429000"/>
          <a:ext cx="15555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3429000"/>
                    <a:ext cx="15555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4"/>
          <p:cNvSpPr/>
          <p:nvPr/>
        </p:nvSpPr>
        <p:spPr>
          <a:xfrm>
            <a:off x="0" y="69228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nstantia"/>
              </a:rPr>
              <a:t>Карье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50920" y="1484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Карьера </a:t>
            </a:r>
            <a:r>
              <a:rPr b="0" lang="ru-RU" sz="2400" spc="-1" strike="noStrike">
                <a:solidFill>
                  <a:srgbClr val="0000cc"/>
                </a:solidFill>
                <a:latin typeface="Constantia"/>
              </a:rPr>
              <a:t>– успешное продвижение по выбранному пути и, как следствие,  получение более высокого статуса, больших полномочий, власти, дене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6" descr="знакикопирование"/>
          <p:cNvPicPr/>
          <p:nvPr/>
        </p:nvPicPr>
        <p:blipFill>
          <a:blip r:embed="rId3"/>
          <a:srcRect l="12396" t="4805" r="55265" b="74407"/>
          <a:stretch/>
        </p:blipFill>
        <p:spPr>
          <a:xfrm>
            <a:off x="430200" y="1413000"/>
            <a:ext cx="936720" cy="934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250920" y="313992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Карьера </a:t>
            </a:r>
            <a:r>
              <a:rPr b="0" lang="ru-RU" sz="2400" spc="-1" strike="noStrike">
                <a:solidFill>
                  <a:srgbClr val="0000cc"/>
                </a:solidFill>
                <a:latin typeface="Constantia"/>
              </a:rPr>
              <a:t>– это результат осознанного поведения, направленного на формирование опыта и успех в трудовой деятельности на протяжении рабочей жизни челове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8" descr="знакикопирование"/>
          <p:cNvPicPr/>
          <p:nvPr/>
        </p:nvPicPr>
        <p:blipFill>
          <a:blip r:embed="rId4"/>
          <a:srcRect l="12396" t="4805" r="55265" b="74407"/>
          <a:stretch/>
        </p:blipFill>
        <p:spPr>
          <a:xfrm>
            <a:off x="430200" y="3068640"/>
            <a:ext cx="936720" cy="9349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5364000" y="649116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nstantia"/>
              </a:rPr>
              <a:t>Подготовка к будущей карьер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8604360" y="0"/>
            <a:ext cx="53964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AutoShape 12">
            <a:hlinkClick r:id="" action="ppaction://hlinkshowjump?jump=nextslide"/>
          </p:cNvPr>
          <p:cNvSpPr/>
          <p:nvPr/>
        </p:nvSpPr>
        <p:spPr>
          <a:xfrm>
            <a:off x="8893080" y="4653000"/>
            <a:ext cx="250920" cy="503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3280"/>
              <a:gd name="textAreaBottom" fmla="*/ 487080 h 503280"/>
            </a:gdLst>
            <a:ahLst/>
            <a:rect l="textAreaLeft" t="textAreaTop" r="textAreaRight" b="textAreaBottom"/>
            <a:pathLst>
              <a:path w="21600" h="43293">
                <a:moveTo>
                  <a:pt x="0" y="0"/>
                </a:moveTo>
                <a:lnTo>
                  <a:pt x="21600" y="0"/>
                </a:lnTo>
                <a:lnTo>
                  <a:pt x="21600" y="43293"/>
                </a:lnTo>
                <a:lnTo>
                  <a:pt x="0" y="43293"/>
                </a:lnTo>
                <a:close/>
              </a:path>
              <a:path fill="lightenLess" w="21600" h="432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93">
                <a:moveTo>
                  <a:pt x="21600" y="0"/>
                </a:moveTo>
                <a:lnTo>
                  <a:pt x="21600" y="43293"/>
                </a:lnTo>
                <a:lnTo>
                  <a:pt x="20200" y="41893"/>
                </a:lnTo>
                <a:lnTo>
                  <a:pt x="20200" y="1400"/>
                </a:lnTo>
                <a:close/>
              </a:path>
              <a:path fill="darkenLess" w="21600" h="43293">
                <a:moveTo>
                  <a:pt x="21600" y="43293"/>
                </a:moveTo>
                <a:lnTo>
                  <a:pt x="0" y="43293"/>
                </a:lnTo>
                <a:lnTo>
                  <a:pt x="1400" y="41893"/>
                </a:lnTo>
                <a:lnTo>
                  <a:pt x="20200" y="41893"/>
                </a:lnTo>
                <a:close/>
              </a:path>
              <a:path fill="lighten" w="21600" h="43293">
                <a:moveTo>
                  <a:pt x="0" y="4329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93"/>
                </a:lnTo>
                <a:close/>
              </a:path>
              <a:path fill="darken" w="21600" h="43293">
                <a:moveTo>
                  <a:pt x="3794" y="14640"/>
                </a:moveTo>
                <a:lnTo>
                  <a:pt x="17806" y="21646"/>
                </a:lnTo>
                <a:lnTo>
                  <a:pt x="3794" y="28653"/>
                </a:lnTo>
                <a:close/>
              </a:path>
            </a:pathLst>
          </a:custGeom>
          <a:solidFill>
            <a:srgbClr val="009e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AutoShape 13">
            <a:hlinkClick r:id="" action="ppaction://hlinkshowjump?jump=previousslide"/>
          </p:cNvPr>
          <p:cNvSpPr/>
          <p:nvPr/>
        </p:nvSpPr>
        <p:spPr>
          <a:xfrm>
            <a:off x="8893080" y="4149720"/>
            <a:ext cx="250920" cy="503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3280"/>
              <a:gd name="textAreaBottom" fmla="*/ 487080 h 503280"/>
            </a:gdLst>
            <a:ahLst/>
            <a:rect l="textAreaLeft" t="textAreaTop" r="textAreaRight" b="textAreaBottom"/>
            <a:pathLst>
              <a:path w="21600" h="43293">
                <a:moveTo>
                  <a:pt x="0" y="0"/>
                </a:moveTo>
                <a:lnTo>
                  <a:pt x="21600" y="0"/>
                </a:lnTo>
                <a:lnTo>
                  <a:pt x="21600" y="43293"/>
                </a:lnTo>
                <a:lnTo>
                  <a:pt x="0" y="43293"/>
                </a:lnTo>
                <a:close/>
              </a:path>
              <a:path fill="lightenLess" w="21600" h="432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93">
                <a:moveTo>
                  <a:pt x="21600" y="0"/>
                </a:moveTo>
                <a:lnTo>
                  <a:pt x="21600" y="43293"/>
                </a:lnTo>
                <a:lnTo>
                  <a:pt x="20200" y="41893"/>
                </a:lnTo>
                <a:lnTo>
                  <a:pt x="20200" y="1400"/>
                </a:lnTo>
                <a:close/>
              </a:path>
              <a:path fill="darkenLess" w="21600" h="43293">
                <a:moveTo>
                  <a:pt x="21600" y="43293"/>
                </a:moveTo>
                <a:lnTo>
                  <a:pt x="0" y="43293"/>
                </a:lnTo>
                <a:lnTo>
                  <a:pt x="1400" y="41893"/>
                </a:lnTo>
                <a:lnTo>
                  <a:pt x="20200" y="41893"/>
                </a:lnTo>
                <a:close/>
              </a:path>
              <a:path fill="lighten" w="21600" h="43293">
                <a:moveTo>
                  <a:pt x="0" y="4329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93"/>
                </a:lnTo>
                <a:close/>
              </a:path>
              <a:path fill="darken" w="21600" h="43293">
                <a:moveTo>
                  <a:pt x="3794" y="21646"/>
                </a:moveTo>
                <a:lnTo>
                  <a:pt x="17806" y="14640"/>
                </a:lnTo>
                <a:lnTo>
                  <a:pt x="17806" y="28653"/>
                </a:lnTo>
                <a:close/>
              </a:path>
            </a:pathLst>
          </a:custGeom>
          <a:solidFill>
            <a:srgbClr val="009e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8893080" y="3141720"/>
            <a:ext cx="250920" cy="504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4720"/>
              <a:gd name="textAreaBottom" fmla="*/ 488520 h 504720"/>
            </a:gdLst>
            <a:ahLst/>
            <a:rect l="textAreaLeft" t="textAreaTop" r="textAreaRight" b="textAreaBottom"/>
            <a:pathLst>
              <a:path w="21600" h="43417">
                <a:moveTo>
                  <a:pt x="0" y="0"/>
                </a:moveTo>
                <a:lnTo>
                  <a:pt x="21600" y="0"/>
                </a:lnTo>
                <a:lnTo>
                  <a:pt x="21600" y="43417"/>
                </a:lnTo>
                <a:lnTo>
                  <a:pt x="0" y="43417"/>
                </a:lnTo>
                <a:close/>
              </a:path>
              <a:path fill="lightenLess" w="21600" h="434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17">
                <a:moveTo>
                  <a:pt x="21600" y="0"/>
                </a:moveTo>
                <a:lnTo>
                  <a:pt x="21600" y="43417"/>
                </a:lnTo>
                <a:lnTo>
                  <a:pt x="20200" y="42017"/>
                </a:lnTo>
                <a:lnTo>
                  <a:pt x="20200" y="1400"/>
                </a:lnTo>
                <a:close/>
              </a:path>
              <a:path fill="darkenLess" w="21600" h="43417">
                <a:moveTo>
                  <a:pt x="21600" y="43417"/>
                </a:moveTo>
                <a:lnTo>
                  <a:pt x="0" y="43417"/>
                </a:lnTo>
                <a:lnTo>
                  <a:pt x="1400" y="42017"/>
                </a:lnTo>
                <a:lnTo>
                  <a:pt x="20200" y="42017"/>
                </a:lnTo>
                <a:close/>
              </a:path>
              <a:path fill="lighten" w="21600" h="43417">
                <a:moveTo>
                  <a:pt x="0" y="43417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17"/>
                </a:lnTo>
                <a:close/>
              </a:path>
              <a:path fill="darken" w="21600" h="43417">
                <a:moveTo>
                  <a:pt x="7301" y="21708"/>
                </a:moveTo>
                <a:lnTo>
                  <a:pt x="17806" y="14702"/>
                </a:lnTo>
                <a:lnTo>
                  <a:pt x="17806" y="28715"/>
                </a:lnTo>
                <a:close/>
              </a:path>
              <a:path fill="darken" w="21600" h="43417">
                <a:moveTo>
                  <a:pt x="3794" y="14702"/>
                </a:moveTo>
                <a:lnTo>
                  <a:pt x="5456" y="14702"/>
                </a:lnTo>
                <a:lnTo>
                  <a:pt x="5456" y="28715"/>
                </a:lnTo>
                <a:lnTo>
                  <a:pt x="3794" y="28715"/>
                </a:lnTo>
                <a:close/>
              </a:path>
            </a:pathLst>
          </a:custGeom>
          <a:solidFill>
            <a:srgbClr val="68e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AutoShape 15">
            <a:hlinkClick r:id="" action="ppaction://hlinkshowjump?jump=endshow"/>
          </p:cNvPr>
          <p:cNvSpPr/>
          <p:nvPr/>
        </p:nvSpPr>
        <p:spPr>
          <a:xfrm>
            <a:off x="8893080" y="5662440"/>
            <a:ext cx="250920" cy="5050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5080"/>
              <a:gd name="textAreaBottom" fmla="*/ 488880 h 505080"/>
            </a:gdLst>
            <a:ahLst/>
            <a:rect l="textAreaLeft" t="textAreaTop" r="textAreaRight" b="textAreaBottom"/>
            <a:pathLst>
              <a:path w="21600" h="43448">
                <a:moveTo>
                  <a:pt x="0" y="0"/>
                </a:moveTo>
                <a:lnTo>
                  <a:pt x="21600" y="0"/>
                </a:lnTo>
                <a:lnTo>
                  <a:pt x="21600" y="43448"/>
                </a:lnTo>
                <a:lnTo>
                  <a:pt x="0" y="43448"/>
                </a:lnTo>
                <a:close/>
              </a:path>
              <a:path fill="lightenLess" w="21600" h="4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48">
                <a:moveTo>
                  <a:pt x="21600" y="0"/>
                </a:moveTo>
                <a:lnTo>
                  <a:pt x="21600" y="43448"/>
                </a:lnTo>
                <a:lnTo>
                  <a:pt x="20200" y="42048"/>
                </a:lnTo>
                <a:lnTo>
                  <a:pt x="20200" y="1400"/>
                </a:lnTo>
                <a:close/>
              </a:path>
              <a:path fill="darkenLess" w="21600" h="43448">
                <a:moveTo>
                  <a:pt x="21600" y="43448"/>
                </a:moveTo>
                <a:lnTo>
                  <a:pt x="0" y="43448"/>
                </a:lnTo>
                <a:lnTo>
                  <a:pt x="1400" y="42048"/>
                </a:lnTo>
                <a:lnTo>
                  <a:pt x="20200" y="42048"/>
                </a:lnTo>
                <a:close/>
              </a:path>
              <a:path fill="lighten" w="21600" h="43448">
                <a:moveTo>
                  <a:pt x="0" y="4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48"/>
                </a:lnTo>
                <a:close/>
              </a:path>
              <a:path fill="darken" w="21600" h="43448">
                <a:moveTo>
                  <a:pt x="14299" y="21724"/>
                </a:moveTo>
                <a:lnTo>
                  <a:pt x="3794" y="28730"/>
                </a:lnTo>
                <a:lnTo>
                  <a:pt x="3794" y="14717"/>
                </a:lnTo>
                <a:close/>
              </a:path>
              <a:path fill="darken" w="21600" h="43448">
                <a:moveTo>
                  <a:pt x="16144" y="14717"/>
                </a:moveTo>
                <a:lnTo>
                  <a:pt x="16144" y="28730"/>
                </a:lnTo>
                <a:lnTo>
                  <a:pt x="17806" y="28730"/>
                </a:lnTo>
                <a:lnTo>
                  <a:pt x="17806" y="14717"/>
                </a:lnTo>
                <a:close/>
              </a:path>
            </a:pathLst>
          </a:custGeom>
          <a:solidFill>
            <a:srgbClr val="68e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8893080" y="3645000"/>
            <a:ext cx="250920" cy="504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4720"/>
              <a:gd name="textAreaBottom" fmla="*/ 488520 h 504720"/>
            </a:gdLst>
            <a:ahLst/>
            <a:rect l="textAreaLeft" t="textAreaTop" r="textAreaRight" b="textAreaBottom"/>
            <a:pathLst>
              <a:path w="21600" h="43417">
                <a:moveTo>
                  <a:pt x="0" y="0"/>
                </a:moveTo>
                <a:lnTo>
                  <a:pt x="21600" y="0"/>
                </a:lnTo>
                <a:lnTo>
                  <a:pt x="21600" y="43417"/>
                </a:lnTo>
                <a:lnTo>
                  <a:pt x="0" y="43417"/>
                </a:lnTo>
                <a:close/>
              </a:path>
              <a:path fill="lightenLess" w="21600" h="434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17">
                <a:moveTo>
                  <a:pt x="21600" y="0"/>
                </a:moveTo>
                <a:lnTo>
                  <a:pt x="21600" y="43417"/>
                </a:lnTo>
                <a:lnTo>
                  <a:pt x="20200" y="42017"/>
                </a:lnTo>
                <a:lnTo>
                  <a:pt x="20200" y="1400"/>
                </a:lnTo>
                <a:close/>
              </a:path>
              <a:path fill="darkenLess" w="21600" h="43417">
                <a:moveTo>
                  <a:pt x="21600" y="43417"/>
                </a:moveTo>
                <a:lnTo>
                  <a:pt x="0" y="43417"/>
                </a:lnTo>
                <a:lnTo>
                  <a:pt x="1400" y="42017"/>
                </a:lnTo>
                <a:lnTo>
                  <a:pt x="20200" y="42017"/>
                </a:lnTo>
                <a:close/>
              </a:path>
              <a:path fill="lighten" w="21600" h="43417">
                <a:moveTo>
                  <a:pt x="0" y="43417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17"/>
                </a:lnTo>
                <a:close/>
              </a:path>
              <a:path fill="darken" w="21600" h="43417">
                <a:moveTo>
                  <a:pt x="3794" y="21708"/>
                </a:moveTo>
                <a:lnTo>
                  <a:pt x="17806" y="14702"/>
                </a:lnTo>
                <a:lnTo>
                  <a:pt x="17806" y="287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08000" y="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ема 6.1. Понятие карьеры.  Этапы построения карьер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5" name="Object 2"/>
          <p:cNvGraphicFramePr/>
          <p:nvPr/>
        </p:nvGraphicFramePr>
        <p:xfrm>
          <a:off x="7380360" y="2997360"/>
          <a:ext cx="15555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2997360"/>
                    <a:ext cx="15555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4"/>
          <p:cNvSpPr/>
          <p:nvPr/>
        </p:nvSpPr>
        <p:spPr>
          <a:xfrm>
            <a:off x="0" y="40464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nstantia"/>
              </a:rPr>
              <a:t>Виды карьер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50920" y="1052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Вертикальная карьера </a:t>
            </a:r>
            <a:r>
              <a:rPr b="0" lang="ru-RU" sz="2400" spc="-1" strike="noStrike">
                <a:solidFill>
                  <a:srgbClr val="0000cc"/>
                </a:solidFill>
                <a:latin typeface="Constantia"/>
              </a:rPr>
              <a:t>– это продвижение с более низких на более высокие ступени «служебной лестницы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6" descr="знакикопирование"/>
          <p:cNvPicPr/>
          <p:nvPr/>
        </p:nvPicPr>
        <p:blipFill>
          <a:blip r:embed="rId3"/>
          <a:srcRect l="12396" t="4805" r="55265" b="74407"/>
          <a:stretch/>
        </p:blipFill>
        <p:spPr>
          <a:xfrm>
            <a:off x="395280" y="763560"/>
            <a:ext cx="936720" cy="9349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7"/>
          <p:cNvSpPr/>
          <p:nvPr/>
        </p:nvSpPr>
        <p:spPr>
          <a:xfrm>
            <a:off x="250920" y="3357720"/>
            <a:ext cx="70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Горизонтальная карьера </a:t>
            </a:r>
            <a:r>
              <a:rPr b="0" lang="ru-RU" sz="2400" spc="-1" strike="noStrike">
                <a:solidFill>
                  <a:srgbClr val="0000cc"/>
                </a:solidFill>
                <a:latin typeface="Constantia"/>
              </a:rPr>
              <a:t>– это такое изменение положения работника, при котором он либо изменяет свой профессиональный статус (категория, разряд, степень), либо просто меняет свои занятия, не повышая и не понижая своего положения в организа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8" descr="знакикопирование"/>
          <p:cNvPicPr/>
          <p:nvPr/>
        </p:nvPicPr>
        <p:blipFill>
          <a:blip r:embed="rId4"/>
          <a:srcRect l="12396" t="4805" r="55265" b="74407"/>
          <a:stretch/>
        </p:blipFill>
        <p:spPr>
          <a:xfrm>
            <a:off x="395280" y="3070080"/>
            <a:ext cx="936720" cy="9352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5364000" y="649116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nstantia"/>
              </a:rPr>
              <a:t>Подготовка к будущей карьер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8604360" y="0"/>
            <a:ext cx="53964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AutoShape 33">
            <a:hlinkClick r:id="" action="ppaction://hlinkshowjump?jump=nextslide"/>
          </p:cNvPr>
          <p:cNvSpPr/>
          <p:nvPr/>
        </p:nvSpPr>
        <p:spPr>
          <a:xfrm>
            <a:off x="8893080" y="4653000"/>
            <a:ext cx="250920" cy="503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3280"/>
              <a:gd name="textAreaBottom" fmla="*/ 487080 h 503280"/>
            </a:gdLst>
            <a:ahLst/>
            <a:rect l="textAreaLeft" t="textAreaTop" r="textAreaRight" b="textAreaBottom"/>
            <a:pathLst>
              <a:path w="21600" h="43293">
                <a:moveTo>
                  <a:pt x="0" y="0"/>
                </a:moveTo>
                <a:lnTo>
                  <a:pt x="21600" y="0"/>
                </a:lnTo>
                <a:lnTo>
                  <a:pt x="21600" y="43293"/>
                </a:lnTo>
                <a:lnTo>
                  <a:pt x="0" y="43293"/>
                </a:lnTo>
                <a:close/>
              </a:path>
              <a:path fill="lightenLess" w="21600" h="432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93">
                <a:moveTo>
                  <a:pt x="21600" y="0"/>
                </a:moveTo>
                <a:lnTo>
                  <a:pt x="21600" y="43293"/>
                </a:lnTo>
                <a:lnTo>
                  <a:pt x="20200" y="41893"/>
                </a:lnTo>
                <a:lnTo>
                  <a:pt x="20200" y="1400"/>
                </a:lnTo>
                <a:close/>
              </a:path>
              <a:path fill="darkenLess" w="21600" h="43293">
                <a:moveTo>
                  <a:pt x="21600" y="43293"/>
                </a:moveTo>
                <a:lnTo>
                  <a:pt x="0" y="43293"/>
                </a:lnTo>
                <a:lnTo>
                  <a:pt x="1400" y="41893"/>
                </a:lnTo>
                <a:lnTo>
                  <a:pt x="20200" y="41893"/>
                </a:lnTo>
                <a:close/>
              </a:path>
              <a:path fill="lighten" w="21600" h="43293">
                <a:moveTo>
                  <a:pt x="0" y="4329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93"/>
                </a:lnTo>
                <a:close/>
              </a:path>
              <a:path fill="darken" w="21600" h="43293">
                <a:moveTo>
                  <a:pt x="3794" y="14640"/>
                </a:moveTo>
                <a:lnTo>
                  <a:pt x="17806" y="21646"/>
                </a:lnTo>
                <a:lnTo>
                  <a:pt x="3794" y="28653"/>
                </a:lnTo>
                <a:close/>
              </a:path>
            </a:pathLst>
          </a:custGeom>
          <a:solidFill>
            <a:srgbClr val="009e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AutoShape 34">
            <a:hlinkClick r:id="" action="ppaction://hlinkshowjump?jump=previousslide"/>
          </p:cNvPr>
          <p:cNvSpPr/>
          <p:nvPr/>
        </p:nvSpPr>
        <p:spPr>
          <a:xfrm>
            <a:off x="8893080" y="4149720"/>
            <a:ext cx="250920" cy="503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3280"/>
              <a:gd name="textAreaBottom" fmla="*/ 487080 h 503280"/>
            </a:gdLst>
            <a:ahLst/>
            <a:rect l="textAreaLeft" t="textAreaTop" r="textAreaRight" b="textAreaBottom"/>
            <a:pathLst>
              <a:path w="21600" h="43293">
                <a:moveTo>
                  <a:pt x="0" y="0"/>
                </a:moveTo>
                <a:lnTo>
                  <a:pt x="21600" y="0"/>
                </a:lnTo>
                <a:lnTo>
                  <a:pt x="21600" y="43293"/>
                </a:lnTo>
                <a:lnTo>
                  <a:pt x="0" y="43293"/>
                </a:lnTo>
                <a:close/>
              </a:path>
              <a:path fill="lightenLess" w="21600" h="432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93">
                <a:moveTo>
                  <a:pt x="21600" y="0"/>
                </a:moveTo>
                <a:lnTo>
                  <a:pt x="21600" y="43293"/>
                </a:lnTo>
                <a:lnTo>
                  <a:pt x="20200" y="41893"/>
                </a:lnTo>
                <a:lnTo>
                  <a:pt x="20200" y="1400"/>
                </a:lnTo>
                <a:close/>
              </a:path>
              <a:path fill="darkenLess" w="21600" h="43293">
                <a:moveTo>
                  <a:pt x="21600" y="43293"/>
                </a:moveTo>
                <a:lnTo>
                  <a:pt x="0" y="43293"/>
                </a:lnTo>
                <a:lnTo>
                  <a:pt x="1400" y="41893"/>
                </a:lnTo>
                <a:lnTo>
                  <a:pt x="20200" y="41893"/>
                </a:lnTo>
                <a:close/>
              </a:path>
              <a:path fill="lighten" w="21600" h="43293">
                <a:moveTo>
                  <a:pt x="0" y="4329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93"/>
                </a:lnTo>
                <a:close/>
              </a:path>
              <a:path fill="darken" w="21600" h="43293">
                <a:moveTo>
                  <a:pt x="3794" y="21646"/>
                </a:moveTo>
                <a:lnTo>
                  <a:pt x="17806" y="14640"/>
                </a:lnTo>
                <a:lnTo>
                  <a:pt x="17806" y="28653"/>
                </a:lnTo>
                <a:close/>
              </a:path>
            </a:pathLst>
          </a:custGeom>
          <a:solidFill>
            <a:srgbClr val="009e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AutoShape 35"/>
          <p:cNvSpPr/>
          <p:nvPr/>
        </p:nvSpPr>
        <p:spPr>
          <a:xfrm>
            <a:off x="8893080" y="3141720"/>
            <a:ext cx="250920" cy="504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4720"/>
              <a:gd name="textAreaBottom" fmla="*/ 488520 h 504720"/>
            </a:gdLst>
            <a:ahLst/>
            <a:rect l="textAreaLeft" t="textAreaTop" r="textAreaRight" b="textAreaBottom"/>
            <a:pathLst>
              <a:path w="21600" h="43417">
                <a:moveTo>
                  <a:pt x="0" y="0"/>
                </a:moveTo>
                <a:lnTo>
                  <a:pt x="21600" y="0"/>
                </a:lnTo>
                <a:lnTo>
                  <a:pt x="21600" y="43417"/>
                </a:lnTo>
                <a:lnTo>
                  <a:pt x="0" y="43417"/>
                </a:lnTo>
                <a:close/>
              </a:path>
              <a:path fill="lightenLess" w="21600" h="434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17">
                <a:moveTo>
                  <a:pt x="21600" y="0"/>
                </a:moveTo>
                <a:lnTo>
                  <a:pt x="21600" y="43417"/>
                </a:lnTo>
                <a:lnTo>
                  <a:pt x="20200" y="42017"/>
                </a:lnTo>
                <a:lnTo>
                  <a:pt x="20200" y="1400"/>
                </a:lnTo>
                <a:close/>
              </a:path>
              <a:path fill="darkenLess" w="21600" h="43417">
                <a:moveTo>
                  <a:pt x="21600" y="43417"/>
                </a:moveTo>
                <a:lnTo>
                  <a:pt x="0" y="43417"/>
                </a:lnTo>
                <a:lnTo>
                  <a:pt x="1400" y="42017"/>
                </a:lnTo>
                <a:lnTo>
                  <a:pt x="20200" y="42017"/>
                </a:lnTo>
                <a:close/>
              </a:path>
              <a:path fill="lighten" w="21600" h="43417">
                <a:moveTo>
                  <a:pt x="0" y="43417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17"/>
                </a:lnTo>
                <a:close/>
              </a:path>
              <a:path fill="darken" w="21600" h="43417">
                <a:moveTo>
                  <a:pt x="7301" y="21708"/>
                </a:moveTo>
                <a:lnTo>
                  <a:pt x="17806" y="14702"/>
                </a:lnTo>
                <a:lnTo>
                  <a:pt x="17806" y="28715"/>
                </a:lnTo>
                <a:close/>
              </a:path>
              <a:path fill="darken" w="21600" h="43417">
                <a:moveTo>
                  <a:pt x="3794" y="14702"/>
                </a:moveTo>
                <a:lnTo>
                  <a:pt x="5456" y="14702"/>
                </a:lnTo>
                <a:lnTo>
                  <a:pt x="5456" y="28715"/>
                </a:lnTo>
                <a:lnTo>
                  <a:pt x="3794" y="28715"/>
                </a:lnTo>
                <a:close/>
              </a:path>
            </a:pathLst>
          </a:custGeom>
          <a:solidFill>
            <a:srgbClr val="68e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AutoShape 36">
            <a:hlinkClick r:id="" action="ppaction://hlinkshowjump?jump=endshow"/>
          </p:cNvPr>
          <p:cNvSpPr/>
          <p:nvPr/>
        </p:nvSpPr>
        <p:spPr>
          <a:xfrm>
            <a:off x="8893080" y="5662440"/>
            <a:ext cx="250920" cy="5050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5080"/>
              <a:gd name="textAreaBottom" fmla="*/ 488880 h 505080"/>
            </a:gdLst>
            <a:ahLst/>
            <a:rect l="textAreaLeft" t="textAreaTop" r="textAreaRight" b="textAreaBottom"/>
            <a:pathLst>
              <a:path w="21600" h="43448">
                <a:moveTo>
                  <a:pt x="0" y="0"/>
                </a:moveTo>
                <a:lnTo>
                  <a:pt x="21600" y="0"/>
                </a:lnTo>
                <a:lnTo>
                  <a:pt x="21600" y="43448"/>
                </a:lnTo>
                <a:lnTo>
                  <a:pt x="0" y="43448"/>
                </a:lnTo>
                <a:close/>
              </a:path>
              <a:path fill="lightenLess" w="21600" h="4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48">
                <a:moveTo>
                  <a:pt x="21600" y="0"/>
                </a:moveTo>
                <a:lnTo>
                  <a:pt x="21600" y="43448"/>
                </a:lnTo>
                <a:lnTo>
                  <a:pt x="20200" y="42048"/>
                </a:lnTo>
                <a:lnTo>
                  <a:pt x="20200" y="1400"/>
                </a:lnTo>
                <a:close/>
              </a:path>
              <a:path fill="darkenLess" w="21600" h="43448">
                <a:moveTo>
                  <a:pt x="21600" y="43448"/>
                </a:moveTo>
                <a:lnTo>
                  <a:pt x="0" y="43448"/>
                </a:lnTo>
                <a:lnTo>
                  <a:pt x="1400" y="42048"/>
                </a:lnTo>
                <a:lnTo>
                  <a:pt x="20200" y="42048"/>
                </a:lnTo>
                <a:close/>
              </a:path>
              <a:path fill="lighten" w="21600" h="43448">
                <a:moveTo>
                  <a:pt x="0" y="4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48"/>
                </a:lnTo>
                <a:close/>
              </a:path>
              <a:path fill="darken" w="21600" h="43448">
                <a:moveTo>
                  <a:pt x="14299" y="21724"/>
                </a:moveTo>
                <a:lnTo>
                  <a:pt x="3794" y="28730"/>
                </a:lnTo>
                <a:lnTo>
                  <a:pt x="3794" y="14717"/>
                </a:lnTo>
                <a:close/>
              </a:path>
              <a:path fill="darken" w="21600" h="43448">
                <a:moveTo>
                  <a:pt x="16144" y="14717"/>
                </a:moveTo>
                <a:lnTo>
                  <a:pt x="16144" y="28730"/>
                </a:lnTo>
                <a:lnTo>
                  <a:pt x="17806" y="28730"/>
                </a:lnTo>
                <a:lnTo>
                  <a:pt x="17806" y="14717"/>
                </a:lnTo>
                <a:close/>
              </a:path>
            </a:pathLst>
          </a:custGeom>
          <a:solidFill>
            <a:srgbClr val="68e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AutoShape 38"/>
          <p:cNvSpPr/>
          <p:nvPr/>
        </p:nvSpPr>
        <p:spPr>
          <a:xfrm>
            <a:off x="8893080" y="3645000"/>
            <a:ext cx="250920" cy="504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4720"/>
              <a:gd name="textAreaBottom" fmla="*/ 488520 h 504720"/>
            </a:gdLst>
            <a:ahLst/>
            <a:rect l="textAreaLeft" t="textAreaTop" r="textAreaRight" b="textAreaBottom"/>
            <a:pathLst>
              <a:path w="21600" h="43417">
                <a:moveTo>
                  <a:pt x="0" y="0"/>
                </a:moveTo>
                <a:lnTo>
                  <a:pt x="21600" y="0"/>
                </a:lnTo>
                <a:lnTo>
                  <a:pt x="21600" y="43417"/>
                </a:lnTo>
                <a:lnTo>
                  <a:pt x="0" y="43417"/>
                </a:lnTo>
                <a:close/>
              </a:path>
              <a:path fill="lightenLess" w="21600" h="434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17">
                <a:moveTo>
                  <a:pt x="21600" y="0"/>
                </a:moveTo>
                <a:lnTo>
                  <a:pt x="21600" y="43417"/>
                </a:lnTo>
                <a:lnTo>
                  <a:pt x="20200" y="42017"/>
                </a:lnTo>
                <a:lnTo>
                  <a:pt x="20200" y="1400"/>
                </a:lnTo>
                <a:close/>
              </a:path>
              <a:path fill="darkenLess" w="21600" h="43417">
                <a:moveTo>
                  <a:pt x="21600" y="43417"/>
                </a:moveTo>
                <a:lnTo>
                  <a:pt x="0" y="43417"/>
                </a:lnTo>
                <a:lnTo>
                  <a:pt x="1400" y="42017"/>
                </a:lnTo>
                <a:lnTo>
                  <a:pt x="20200" y="42017"/>
                </a:lnTo>
                <a:close/>
              </a:path>
              <a:path fill="lighten" w="21600" h="43417">
                <a:moveTo>
                  <a:pt x="0" y="43417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17"/>
                </a:lnTo>
                <a:close/>
              </a:path>
              <a:path fill="darken" w="21600" h="43417">
                <a:moveTo>
                  <a:pt x="3794" y="21708"/>
                </a:moveTo>
                <a:lnTo>
                  <a:pt x="17806" y="14702"/>
                </a:lnTo>
                <a:lnTo>
                  <a:pt x="17806" y="287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08000" y="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ема 6.1. Понятие карьеры.  Этапы построения карьер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Object 2"/>
          <p:cNvGraphicFramePr/>
          <p:nvPr/>
        </p:nvGraphicFramePr>
        <p:xfrm>
          <a:off x="7236000" y="3429000"/>
          <a:ext cx="15555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3429000"/>
                    <a:ext cx="15555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4"/>
          <p:cNvSpPr/>
          <p:nvPr/>
        </p:nvSpPr>
        <p:spPr>
          <a:xfrm>
            <a:off x="0" y="620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nstantia"/>
              </a:rPr>
              <a:t>Внешняя и внутренняя оценка карьер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50920" y="1844640"/>
            <a:ext cx="8424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Внутренняя оценка карьеры </a:t>
            </a:r>
            <a:r>
              <a:rPr b="0" lang="ru-RU" sz="2400" spc="-1" strike="noStrike">
                <a:solidFill>
                  <a:srgbClr val="0000cc"/>
                </a:solidFill>
                <a:latin typeface="Constantia"/>
              </a:rPr>
              <a:t>– это соотношение между целями и притязаниями человека и реальным положением, которого он дости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6" descr="знакикопирование"/>
          <p:cNvPicPr/>
          <p:nvPr/>
        </p:nvPicPr>
        <p:blipFill>
          <a:blip r:embed="rId3"/>
          <a:srcRect l="12396" t="4805" r="55265" b="74407"/>
          <a:stretch/>
        </p:blipFill>
        <p:spPr>
          <a:xfrm>
            <a:off x="430200" y="1773360"/>
            <a:ext cx="936720" cy="934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7"/>
          <p:cNvSpPr/>
          <p:nvPr/>
        </p:nvSpPr>
        <p:spPr>
          <a:xfrm>
            <a:off x="250920" y="4221000"/>
            <a:ext cx="69120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Внешняя оценка карьеры </a:t>
            </a:r>
            <a:r>
              <a:rPr b="0" lang="ru-RU" sz="2400" spc="-1" strike="noStrike">
                <a:solidFill>
                  <a:srgbClr val="0000cc"/>
                </a:solidFill>
                <a:latin typeface="Constantia"/>
              </a:rPr>
              <a:t>– это оценка, которая исходит от других люд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8" descr="знакикопирование"/>
          <p:cNvPicPr/>
          <p:nvPr/>
        </p:nvPicPr>
        <p:blipFill>
          <a:blip r:embed="rId4"/>
          <a:srcRect l="12396" t="4805" r="55265" b="74407"/>
          <a:stretch/>
        </p:blipFill>
        <p:spPr>
          <a:xfrm>
            <a:off x="430200" y="4149720"/>
            <a:ext cx="936720" cy="9349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9"/>
          <p:cNvSpPr/>
          <p:nvPr/>
        </p:nvSpPr>
        <p:spPr>
          <a:xfrm>
            <a:off x="5364000" y="649116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nstantia"/>
              </a:rPr>
              <a:t>Подготовка к будущей карьер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8604360" y="0"/>
            <a:ext cx="53964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AutoShape 11">
            <a:hlinkClick r:id="" action="ppaction://hlinkshowjump?jump=nextslide"/>
          </p:cNvPr>
          <p:cNvSpPr/>
          <p:nvPr/>
        </p:nvSpPr>
        <p:spPr>
          <a:xfrm>
            <a:off x="8893080" y="4653000"/>
            <a:ext cx="250920" cy="503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3280"/>
              <a:gd name="textAreaBottom" fmla="*/ 487080 h 503280"/>
            </a:gdLst>
            <a:ahLst/>
            <a:rect l="textAreaLeft" t="textAreaTop" r="textAreaRight" b="textAreaBottom"/>
            <a:pathLst>
              <a:path w="21600" h="43293">
                <a:moveTo>
                  <a:pt x="0" y="0"/>
                </a:moveTo>
                <a:lnTo>
                  <a:pt x="21600" y="0"/>
                </a:lnTo>
                <a:lnTo>
                  <a:pt x="21600" y="43293"/>
                </a:lnTo>
                <a:lnTo>
                  <a:pt x="0" y="43293"/>
                </a:lnTo>
                <a:close/>
              </a:path>
              <a:path fill="lightenLess" w="21600" h="432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93">
                <a:moveTo>
                  <a:pt x="21600" y="0"/>
                </a:moveTo>
                <a:lnTo>
                  <a:pt x="21600" y="43293"/>
                </a:lnTo>
                <a:lnTo>
                  <a:pt x="20200" y="41893"/>
                </a:lnTo>
                <a:lnTo>
                  <a:pt x="20200" y="1400"/>
                </a:lnTo>
                <a:close/>
              </a:path>
              <a:path fill="darkenLess" w="21600" h="43293">
                <a:moveTo>
                  <a:pt x="21600" y="43293"/>
                </a:moveTo>
                <a:lnTo>
                  <a:pt x="0" y="43293"/>
                </a:lnTo>
                <a:lnTo>
                  <a:pt x="1400" y="41893"/>
                </a:lnTo>
                <a:lnTo>
                  <a:pt x="20200" y="41893"/>
                </a:lnTo>
                <a:close/>
              </a:path>
              <a:path fill="lighten" w="21600" h="43293">
                <a:moveTo>
                  <a:pt x="0" y="4329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93"/>
                </a:lnTo>
                <a:close/>
              </a:path>
              <a:path fill="darken" w="21600" h="43293">
                <a:moveTo>
                  <a:pt x="3794" y="14640"/>
                </a:moveTo>
                <a:lnTo>
                  <a:pt x="17806" y="21646"/>
                </a:lnTo>
                <a:lnTo>
                  <a:pt x="3794" y="28653"/>
                </a:lnTo>
                <a:close/>
              </a:path>
            </a:pathLst>
          </a:custGeom>
          <a:solidFill>
            <a:srgbClr val="009e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AutoShape 12">
            <a:hlinkClick r:id="" action="ppaction://hlinkshowjump?jump=previousslide"/>
          </p:cNvPr>
          <p:cNvSpPr/>
          <p:nvPr/>
        </p:nvSpPr>
        <p:spPr>
          <a:xfrm>
            <a:off x="8893080" y="4149720"/>
            <a:ext cx="250920" cy="503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3280"/>
              <a:gd name="textAreaBottom" fmla="*/ 487080 h 503280"/>
            </a:gdLst>
            <a:ahLst/>
            <a:rect l="textAreaLeft" t="textAreaTop" r="textAreaRight" b="textAreaBottom"/>
            <a:pathLst>
              <a:path w="21600" h="43293">
                <a:moveTo>
                  <a:pt x="0" y="0"/>
                </a:moveTo>
                <a:lnTo>
                  <a:pt x="21600" y="0"/>
                </a:lnTo>
                <a:lnTo>
                  <a:pt x="21600" y="43293"/>
                </a:lnTo>
                <a:lnTo>
                  <a:pt x="0" y="43293"/>
                </a:lnTo>
                <a:close/>
              </a:path>
              <a:path fill="lightenLess" w="21600" h="432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93">
                <a:moveTo>
                  <a:pt x="21600" y="0"/>
                </a:moveTo>
                <a:lnTo>
                  <a:pt x="21600" y="43293"/>
                </a:lnTo>
                <a:lnTo>
                  <a:pt x="20200" y="41893"/>
                </a:lnTo>
                <a:lnTo>
                  <a:pt x="20200" y="1400"/>
                </a:lnTo>
                <a:close/>
              </a:path>
              <a:path fill="darkenLess" w="21600" h="43293">
                <a:moveTo>
                  <a:pt x="21600" y="43293"/>
                </a:moveTo>
                <a:lnTo>
                  <a:pt x="0" y="43293"/>
                </a:lnTo>
                <a:lnTo>
                  <a:pt x="1400" y="41893"/>
                </a:lnTo>
                <a:lnTo>
                  <a:pt x="20200" y="41893"/>
                </a:lnTo>
                <a:close/>
              </a:path>
              <a:path fill="lighten" w="21600" h="43293">
                <a:moveTo>
                  <a:pt x="0" y="4329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93"/>
                </a:lnTo>
                <a:close/>
              </a:path>
              <a:path fill="darken" w="21600" h="43293">
                <a:moveTo>
                  <a:pt x="3794" y="21646"/>
                </a:moveTo>
                <a:lnTo>
                  <a:pt x="17806" y="14640"/>
                </a:lnTo>
                <a:lnTo>
                  <a:pt x="17806" y="28653"/>
                </a:lnTo>
                <a:close/>
              </a:path>
            </a:pathLst>
          </a:custGeom>
          <a:solidFill>
            <a:srgbClr val="009e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8893080" y="3141720"/>
            <a:ext cx="250920" cy="504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4720"/>
              <a:gd name="textAreaBottom" fmla="*/ 488520 h 504720"/>
            </a:gdLst>
            <a:ahLst/>
            <a:rect l="textAreaLeft" t="textAreaTop" r="textAreaRight" b="textAreaBottom"/>
            <a:pathLst>
              <a:path w="21600" h="43417">
                <a:moveTo>
                  <a:pt x="0" y="0"/>
                </a:moveTo>
                <a:lnTo>
                  <a:pt x="21600" y="0"/>
                </a:lnTo>
                <a:lnTo>
                  <a:pt x="21600" y="43417"/>
                </a:lnTo>
                <a:lnTo>
                  <a:pt x="0" y="43417"/>
                </a:lnTo>
                <a:close/>
              </a:path>
              <a:path fill="lightenLess" w="21600" h="434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17">
                <a:moveTo>
                  <a:pt x="21600" y="0"/>
                </a:moveTo>
                <a:lnTo>
                  <a:pt x="21600" y="43417"/>
                </a:lnTo>
                <a:lnTo>
                  <a:pt x="20200" y="42017"/>
                </a:lnTo>
                <a:lnTo>
                  <a:pt x="20200" y="1400"/>
                </a:lnTo>
                <a:close/>
              </a:path>
              <a:path fill="darkenLess" w="21600" h="43417">
                <a:moveTo>
                  <a:pt x="21600" y="43417"/>
                </a:moveTo>
                <a:lnTo>
                  <a:pt x="0" y="43417"/>
                </a:lnTo>
                <a:lnTo>
                  <a:pt x="1400" y="42017"/>
                </a:lnTo>
                <a:lnTo>
                  <a:pt x="20200" y="42017"/>
                </a:lnTo>
                <a:close/>
              </a:path>
              <a:path fill="lighten" w="21600" h="43417">
                <a:moveTo>
                  <a:pt x="0" y="43417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17"/>
                </a:lnTo>
                <a:close/>
              </a:path>
              <a:path fill="darken" w="21600" h="43417">
                <a:moveTo>
                  <a:pt x="7301" y="21708"/>
                </a:moveTo>
                <a:lnTo>
                  <a:pt x="17806" y="14702"/>
                </a:lnTo>
                <a:lnTo>
                  <a:pt x="17806" y="28715"/>
                </a:lnTo>
                <a:close/>
              </a:path>
              <a:path fill="darken" w="21600" h="43417">
                <a:moveTo>
                  <a:pt x="3794" y="14702"/>
                </a:moveTo>
                <a:lnTo>
                  <a:pt x="5456" y="14702"/>
                </a:lnTo>
                <a:lnTo>
                  <a:pt x="5456" y="28715"/>
                </a:lnTo>
                <a:lnTo>
                  <a:pt x="3794" y="28715"/>
                </a:lnTo>
                <a:close/>
              </a:path>
            </a:pathLst>
          </a:custGeom>
          <a:solidFill>
            <a:srgbClr val="68e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14">
            <a:hlinkClick r:id="" action="ppaction://hlinkshowjump?jump=endshow"/>
          </p:cNvPr>
          <p:cNvSpPr/>
          <p:nvPr/>
        </p:nvSpPr>
        <p:spPr>
          <a:xfrm>
            <a:off x="8893080" y="5662440"/>
            <a:ext cx="250920" cy="5050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5080"/>
              <a:gd name="textAreaBottom" fmla="*/ 488880 h 505080"/>
            </a:gdLst>
            <a:ahLst/>
            <a:rect l="textAreaLeft" t="textAreaTop" r="textAreaRight" b="textAreaBottom"/>
            <a:pathLst>
              <a:path w="21600" h="43448">
                <a:moveTo>
                  <a:pt x="0" y="0"/>
                </a:moveTo>
                <a:lnTo>
                  <a:pt x="21600" y="0"/>
                </a:lnTo>
                <a:lnTo>
                  <a:pt x="21600" y="43448"/>
                </a:lnTo>
                <a:lnTo>
                  <a:pt x="0" y="43448"/>
                </a:lnTo>
                <a:close/>
              </a:path>
              <a:path fill="lightenLess" w="21600" h="4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48">
                <a:moveTo>
                  <a:pt x="21600" y="0"/>
                </a:moveTo>
                <a:lnTo>
                  <a:pt x="21600" y="43448"/>
                </a:lnTo>
                <a:lnTo>
                  <a:pt x="20200" y="42048"/>
                </a:lnTo>
                <a:lnTo>
                  <a:pt x="20200" y="1400"/>
                </a:lnTo>
                <a:close/>
              </a:path>
              <a:path fill="darkenLess" w="21600" h="43448">
                <a:moveTo>
                  <a:pt x="21600" y="43448"/>
                </a:moveTo>
                <a:lnTo>
                  <a:pt x="0" y="43448"/>
                </a:lnTo>
                <a:lnTo>
                  <a:pt x="1400" y="42048"/>
                </a:lnTo>
                <a:lnTo>
                  <a:pt x="20200" y="42048"/>
                </a:lnTo>
                <a:close/>
              </a:path>
              <a:path fill="lighten" w="21600" h="43448">
                <a:moveTo>
                  <a:pt x="0" y="4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48"/>
                </a:lnTo>
                <a:close/>
              </a:path>
              <a:path fill="darken" w="21600" h="43448">
                <a:moveTo>
                  <a:pt x="14299" y="21724"/>
                </a:moveTo>
                <a:lnTo>
                  <a:pt x="3794" y="28730"/>
                </a:lnTo>
                <a:lnTo>
                  <a:pt x="3794" y="14717"/>
                </a:lnTo>
                <a:close/>
              </a:path>
              <a:path fill="darken" w="21600" h="43448">
                <a:moveTo>
                  <a:pt x="16144" y="14717"/>
                </a:moveTo>
                <a:lnTo>
                  <a:pt x="16144" y="28730"/>
                </a:lnTo>
                <a:lnTo>
                  <a:pt x="17806" y="28730"/>
                </a:lnTo>
                <a:lnTo>
                  <a:pt x="17806" y="14717"/>
                </a:lnTo>
                <a:close/>
              </a:path>
            </a:pathLst>
          </a:custGeom>
          <a:solidFill>
            <a:srgbClr val="68e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8893080" y="3645000"/>
            <a:ext cx="250920" cy="504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4720"/>
              <a:gd name="textAreaBottom" fmla="*/ 488520 h 504720"/>
            </a:gdLst>
            <a:ahLst/>
            <a:rect l="textAreaLeft" t="textAreaTop" r="textAreaRight" b="textAreaBottom"/>
            <a:pathLst>
              <a:path w="21600" h="43417">
                <a:moveTo>
                  <a:pt x="0" y="0"/>
                </a:moveTo>
                <a:lnTo>
                  <a:pt x="21600" y="0"/>
                </a:lnTo>
                <a:lnTo>
                  <a:pt x="21600" y="43417"/>
                </a:lnTo>
                <a:lnTo>
                  <a:pt x="0" y="43417"/>
                </a:lnTo>
                <a:close/>
              </a:path>
              <a:path fill="lightenLess" w="21600" h="434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17">
                <a:moveTo>
                  <a:pt x="21600" y="0"/>
                </a:moveTo>
                <a:lnTo>
                  <a:pt x="21600" y="43417"/>
                </a:lnTo>
                <a:lnTo>
                  <a:pt x="20200" y="42017"/>
                </a:lnTo>
                <a:lnTo>
                  <a:pt x="20200" y="1400"/>
                </a:lnTo>
                <a:close/>
              </a:path>
              <a:path fill="darkenLess" w="21600" h="43417">
                <a:moveTo>
                  <a:pt x="21600" y="43417"/>
                </a:moveTo>
                <a:lnTo>
                  <a:pt x="0" y="43417"/>
                </a:lnTo>
                <a:lnTo>
                  <a:pt x="1400" y="42017"/>
                </a:lnTo>
                <a:lnTo>
                  <a:pt x="20200" y="42017"/>
                </a:lnTo>
                <a:close/>
              </a:path>
              <a:path fill="lighten" w="21600" h="43417">
                <a:moveTo>
                  <a:pt x="0" y="43417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17"/>
                </a:lnTo>
                <a:close/>
              </a:path>
              <a:path fill="darken" w="21600" h="43417">
                <a:moveTo>
                  <a:pt x="3794" y="21708"/>
                </a:moveTo>
                <a:lnTo>
                  <a:pt x="17806" y="14702"/>
                </a:lnTo>
                <a:lnTo>
                  <a:pt x="17806" y="287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Тест Элерса(модификация Дж. Аткинсона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. Я легко раздражаюсь, когда замечаю, что не могу на все 100 % выполнить задание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2.  Когда я работаю, это выглядит так, будто я все ставлю на карту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3. Когда возникает проблемная ситуация, я чаще всего принимаю решение одним из последних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4.  Когда у меня два дня подряд нет дела, я теряю покой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5. В некоторые дни мои успехи ниже средних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6. По отношению к себе я более строг, чем по отношению к другим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7. Я более доброжелателен, чем другие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8. В процессе работы я нуждаюсь в небольших паузах для отдых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9.  Порицание стимулирует меня сильнее, чем похвал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0. Я знаю, что мои коллеги считают меня дельным человеком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1. Препятствия делают мои решения более твердым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2. У меня легко вызвать честолюбие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3.  Когда я работаю без вдохновения, это обычно заметно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4.  Иногда я откладываю то, что должен был сделать сейчас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5. Нужно полагаться только на самого себ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6. В жизни мало вещей, более важных, чем деньги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7. В конце отпуска я обычно радуюсь, что скоро выйду на работу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8. Мне проще и легче общаться с людьми, которые могут упорно работать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9. Когда у меня нет дел, я чувствую, что мне не по себе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20. Мои друзья иногда считают меня ленивым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21. Мои успехи в какой-то мере зависят от моих коллег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22.  Когда я работаю вместе с другими, моя работа дает большие результаты, чем работы других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» 1, 2, 3,4, 6,7,8,9,10,11,12,15,16,17,18,19,21,2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т» 5,13,14,2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совпадении вашего ответа с ключом поставьт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 бал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611280" y="836640"/>
          <a:ext cx="8137440" cy="3911400"/>
        </p:xfrm>
        <a:graphic>
          <a:graphicData uri="http://schemas.openxmlformats.org/drawingml/2006/table">
            <a:tbl>
              <a:tblPr/>
              <a:tblGrid>
                <a:gridCol w="4105080"/>
                <a:gridCol w="4032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притяз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ь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иже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будет большого роста вертикальной карьеры (повышение в должност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ыше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будет большого роста горизонтальной карьеры (повышения мастерства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стич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дет обеспечен рост вертикальной и горизонтальной карье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208080" y="701640"/>
            <a:ext cx="856440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14:53:48Z</dcterms:created>
  <dc:creator>Admin</dc:creator>
  <dc:description/>
  <dc:language>en-US</dc:language>
  <cp:lastModifiedBy>Admin</cp:lastModifiedBy>
  <dcterms:modified xsi:type="dcterms:W3CDTF">2013-04-22T16:23:25Z</dcterms:modified>
  <cp:revision>9</cp:revision>
  <dc:subject/>
  <dc:title>Карьера</dc:title>
</cp:coreProperties>
</file>