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wmf" ContentType="image/x-wmf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ED6-F39B-425E-9544-8AA04B6E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919-C09E-4969-86F8-61C3AD6D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250-FEAA-4880-8FF8-9C132655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3B7-0D64-4C3F-8AB8-E2F217CA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AD6-5D63-4292-9546-696CBE34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C83-B498-4CC8-837F-B483724A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1D3-1EC7-40DF-9488-D96723A2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829-009B-4279-A0B5-23D293AB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720-4E35-43A0-868C-7CF1CF62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FF1-EA10-4636-ADF3-AB978B95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71A-9F59-428D-B83D-55832F8D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E86-113F-4D46-880D-12A3811F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5428-E548-4A6E-81D5-458D4E037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da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752720" cy="391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941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ЛЕГКО ЛИ БЫТЬ МОЛОДЫ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о результатам социологических исследований, более 60% респондентов заявляют, что с помощью честного труда добиться высокого уровня жизни невозможно; почти каждый третий респондент допускает для себя возможность участия в криминальных группировках, а в среднем каждый десятый считает это нормальным способом зарабатывать деньг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Лисовский, В.Т. Духовный мир и ценностные ориентации молодежи России. - СПб., 200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данным Министерства внутренних дел количество убийств и покушений на убийство, совершаемых подростками за год, возросло с 1991г. более чем в 3 раза; по данным министерства здравоохранения с 1991 по 2001 г. заболеваемость наркоманией среди подростков выросла в 17 раз; число смертей от употребления наркотиков выросло в 12 раз, в том числе среди детей и подростков – в 42 раз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рефьев, А.Л. Поколение, которое теряет Россия // «Социс». - 2002.- №8. – С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518680" cy="756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количество «защищенных» можно обнаружить среди наиболее молодых в возрасте до 20 лет, где общий уровень страха наиболее низкий, что вполне естественно. В следующих двух группах (20 - 29 и 30 - 39 лет) общий уровень тревожности примерно одинаков – 52%. Молодое поколение достаточно толерантно и открыто миру. Его волнуют глобальные, экологические, демографические проблемы. И слабую тревогу вызывают такие проблемы, как сионизм, исламский фундаментализм, преобладание людей с другим цветом кожи, это скорее  беспокоит людей старшего поколения (50 – старше 60 лет). Бездуховность общества, природные катаклизмы, снижение рождаемости вызывает одинаковую тревогу у людей всех покол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661000"/>
            <a:ext cx="914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Иванова В.А. Страхи и тревоги Россиян: «западники" и «традиционалисты" // Социс. - 2002. - № 3. -С.47-4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7981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Вслед за лозунгом «Молодежь – в политику!» уже начинает маячить лозунг «Молодежь – во власть!». Сейчас мы живем победами наших прадедов, дедов и отцов. Но у каждого поколения должны быть свои победы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000" y="5661000"/>
            <a:ext cx="8002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ван Демидов, лидер «Молодой гвардии» «ЕР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Новая газета. - 2005. - №87. - С.12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35280" y="620640"/>
            <a:ext cx="540072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36440"/>
          <a:ext cx="9144000" cy="681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6440"/>
                    <a:ext cx="9144000" cy="68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19640" y="5733720"/>
            <a:ext cx="3765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Опрос проведен ВЦИОМ.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Опрошено 1600 человек.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Все ясно. – 2005. - №13. – С.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dad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-1395360"/>
            <a:ext cx="6562800" cy="8253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58920" y="-171360"/>
            <a:ext cx="6624720" cy="1036440"/>
          </a:xfrm>
          <a:prstGeom prst="rect">
            <a:avLst/>
          </a:prstGeom>
          <a:solidFill>
            <a:srgbClr val="adadad"/>
          </a:solidFill>
          <a:ln w="9360">
            <a:solidFill>
              <a:srgbClr val="adad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330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9f270"/>
          </a:solidFill>
          <a:ln w="9360">
            <a:solidFill>
              <a:srgbClr val="79f2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СЕ В НАШИХ РУ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10920" y="2997360"/>
            <a:ext cx="2521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лексей Ча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24000" y="-171360"/>
            <a:ext cx="9864720" cy="739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11160" y="-57240"/>
            <a:ext cx="4583160" cy="360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24000" y="2997360"/>
            <a:ext cx="2879640" cy="69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ексей Ча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огласны ли вы с утверждением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Современная Российская молодежь способна сделать Россию великой, процветающей страной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 идеи, веду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истории, социологии, психоло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ГСХА им. академика Д.Н. Прянишни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лександр ЧЕРНЫШ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иа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в. интернет-залом культурно-информ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ГСХА им. академика Д.Н. Прянишни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стасия ХОВАН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содействии культурно-информационного центра 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тра Информатиза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ГСХ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5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5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5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5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5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5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5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50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5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50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5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5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 ответов следует, что респонденты значи-тельно критичнее оценивают своих сверстников по сравнению с собой. Значительная их часть (и до 30 лет и старше) причисляет себя к поколе-нию «надежд» и «романтическому». Заметна также доля «прагматиков», «скептиков», «отча-явшихся» и «потерянных». Но таковых среди сверстников отмечено существенно больше. Так, среди молодых до 30 лет «равнодушных» и «циничных» около 53%, а старше указанного возраста – свыше 19,7% и 25, 1%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исовский, В.Т. «Отцы» и «дети»: за диалог в отношениях // Социс. – 2002. - №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. – С.113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56689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55559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255559"/>
                </a:solidFill>
                <a:latin typeface="Arial"/>
              </a:rPr>
              <a:t>«42% молодых респондентов считают, что у их отцов была более содержательная жизнь со своими, пусть ошибочными, идейно-нравст-венными идеалами… Мы спрашивали у моло-дых людей: «Как Вы считаете, какие качества присущи молодежи и старшему поколению?»… По независимости суждений, самостоятельно-сти поступков и вере в будущее, по мнению ре-спондентов, молодежь значительно опережает старшее поколение. Что же касается чувства долга, гражданственности, патриотизма, духов-ности и способности к самопожертвованию впе-реди идут «отцы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5559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255559"/>
                </a:solidFill>
                <a:latin typeface="Arial"/>
              </a:rPr>
              <a:t>(Лисовский В.Т. «Отцы» и «дети»: за  диалог в отношениях //Социс. -2002. - №7.</a:t>
            </a:r>
            <a:r>
              <a:rPr b="0" i="1" lang="en-US" sz="2000" spc="-1" strike="noStrike">
                <a:solidFill>
                  <a:srgbClr val="255559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255559"/>
                </a:solidFill>
                <a:latin typeface="Arial"/>
              </a:rPr>
              <a:t>С.1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64% из полутора тысяч россиян, опрошенных фондом «общественное мнение» заявили, что сегодняшние 16-летние подростки стремятся только к одному – развлекаться и получать от жизни удовольствие. Наверно, эти же 64% сказали, что по нравственным, человеческим качествам сегодняшние 16-летние хуже их в этом возрасте. 14% не видят никакой разницы и всего 7% верят, что лучш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данным журнала «Профиль». – 2004. – 31 мая. – С. 2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5869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По данным различных социологи-ческих исследований, лишь 36% мо-лодежи ответило утвердительно, есть ли у них идеал; 87,5% не видят   героя нашего времени; 42,2% счита-ют, что современная молодежь де-градирует; мысли о самоубийстве возникали у каждого третьего рес-пондент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Лисовский В.Т. Духовный мир и ценностные ориентации молодежи России. - СПб., 200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685440" cy="726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7280" y="5589720"/>
            <a:ext cx="4319640" cy="144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дры из к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 «Брат-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6:32:05Z</dcterms:created>
  <dc:creator>Саша</dc:creator>
  <dc:description/>
  <dc:language>en-US</dc:language>
  <cp:lastModifiedBy>Саша</cp:lastModifiedBy>
  <dcterms:modified xsi:type="dcterms:W3CDTF">2013-04-23T07:16:45Z</dcterms:modified>
  <cp:revision>7</cp:revision>
  <dc:subject/>
  <dc:title>ЛЕГКО ЛИ БЫТЬ МОЛОДЫМ?</dc:title>
</cp:coreProperties>
</file>