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22.png" ContentType="image/png"/>
  <Override PartName="/ppt/media/camera.wav" ContentType="audio/x-wav"/>
  <Override PartName="/ppt/media/image15.png" ContentType="image/png"/>
  <Override PartName="/ppt/media/image14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1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F3F1-02BC-4BA1-9F54-8AFF7DADCE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2C3D-90E8-42B9-B5FA-A96F35EF9F25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168-C9E4-49CE-A112-55F91073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D61-E354-43DE-85F8-90467B8A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7C30-26E0-44EE-8E08-C8C1C97D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550-6E4D-41A8-8141-ECE00F56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B364-C327-4AD2-A603-EADA841D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AF3B-8090-43F6-AA45-7203D64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E766-58D7-4398-A42A-BD2FCB51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868E-E57E-42CA-B54C-50A60914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E44B-32AF-4F16-9CC0-4655F86C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28C-0AA7-4583-A294-88E6CC5F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46E7-0B35-4466-A714-F2BB71F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2D2-E644-4E80-97E6-1CD333D9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0B4E-E927-4546-8FAB-9D88D08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BAA-74D9-4A9E-9EE9-418C648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3F9-A2F0-4F51-9301-A43CDC6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C6B2-857A-4394-BEAD-480F2455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9697-3885-44C2-8FCB-DA6FA756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476C-BF22-4BCF-8964-0B4C8F7B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2077-E137-480C-9289-7FCE5574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ED85-5EE5-4805-9263-61986DFE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8022-BE60-4C13-9EDF-7A4FEA8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0AEA-5FE2-4A16-8B07-A3744364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5E6-85CA-4CE6-A3E2-422E72E9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2FDD-D483-4D3C-8403-DBD67E7D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F3D1-1681-4AFE-9341-F4A3C616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83D90-BC2D-47F5-9E3F-D9AF0F3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04AC-4B9F-4ECA-8FF6-A414560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8FB6-6F9A-4765-A7C8-48D4D2E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3B8E-D986-42F2-8AAF-D5FC4A37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01CE-2232-45B4-9D6E-4B5D169E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5315-883F-44A4-BC74-62B422A1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926B4-17AB-4627-88B0-80ED8D3E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68C4-9D82-40F7-A28F-FD8160AE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488-512A-48E1-B6B9-5C926A9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0247-BB36-433F-8524-6615AF0B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3FD0-E467-4BE9-ADE5-90EF52F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F463-EEA2-4F7B-AEA9-A3B89815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4868-84EC-4FA7-A4A5-AF625F5E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9EE7-85C0-465B-9520-28297AD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BF05-7083-4700-8441-57AE148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9514-F4FC-4B59-9A58-C6C5DB61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D9BA-AA97-467F-80B6-0817B22E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3EE6-F6CE-4997-9B9D-4751FCC6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7BC-5C7F-4AFB-A9C1-DF150A96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8EE-7DE3-4433-A572-1A19034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61E-A287-4E8E-9665-31CA4C2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596-45D4-4AB7-B63A-AA207E5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7F7-B858-4B22-B6A8-D51EE49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C6B-A2FB-453C-B1B7-5590521332F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218E-B703-43AD-8646-FD8609AFCF9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561-1EE3-4CA6-BF44-5CC1EA03D9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FB95-2F62-43BE-89C6-844FA308521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42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219240" y="426960"/>
            <a:ext cx="8242200" cy="4089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Татюшка\AppData\Local\Microsoft\Windows\Temporary Internet Files\Content.IE5\XML8U8DY\MC900343343[1].wmf"/>
          <p:cNvPicPr/>
          <p:nvPr/>
        </p:nvPicPr>
        <p:blipFill>
          <a:blip r:embed="rId2"/>
          <a:stretch/>
        </p:blipFill>
        <p:spPr>
          <a:xfrm>
            <a:off x="755640" y="3789360"/>
            <a:ext cx="2585880" cy="268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Татюшка\AppData\Local\Microsoft\Windows\Temporary Internet Files\Content.IE5\6643IEYC\MC900343355[1].wmf"/>
          <p:cNvPicPr/>
          <p:nvPr/>
        </p:nvPicPr>
        <p:blipFill>
          <a:blip r:embed="rId3"/>
          <a:stretch/>
        </p:blipFill>
        <p:spPr>
          <a:xfrm>
            <a:off x="5796000" y="4076640"/>
            <a:ext cx="2662200" cy="2662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3995640" y="3632040"/>
            <a:ext cx="1368360" cy="284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89720" cy="11574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68360" y="1989000"/>
            <a:ext cx="8136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2f2f2"/>
                </a:solidFill>
                <a:latin typeface="Trebuchet MS"/>
              </a:rPr>
              <a:t> 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463320" y="4428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Маш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1585800" y="44280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одарила 3 куклы младшей сестр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TextBox 7"/>
          <p:cNvSpPr/>
          <p:nvPr/>
        </p:nvSpPr>
        <p:spPr>
          <a:xfrm>
            <a:off x="499320" y="96696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5 кукол у неё осталос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TextBox 15"/>
          <p:cNvSpPr/>
          <p:nvPr/>
        </p:nvSpPr>
        <p:spPr>
          <a:xfrm>
            <a:off x="4090320" y="966960"/>
            <a:ext cx="232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колько было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6379560" y="9669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укол у Маш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763560" y="4508640"/>
            <a:ext cx="1360440" cy="22669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4152960" y="4519440"/>
            <a:ext cx="1228680" cy="20494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4"/>
          <a:stretch/>
        </p:blipFill>
        <p:spPr>
          <a:xfrm>
            <a:off x="6980400" y="4508640"/>
            <a:ext cx="1303200" cy="21715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4393440" y="1809720"/>
            <a:ext cx="8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?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9" name="Группа 23"/>
          <p:cNvGrpSpPr/>
          <p:nvPr/>
        </p:nvGrpSpPr>
        <p:grpSpPr>
          <a:xfrm>
            <a:off x="808200" y="1700280"/>
            <a:ext cx="7940520" cy="5083200"/>
            <a:chOff x="808200" y="1700280"/>
            <a:chExt cx="7940520" cy="5083200"/>
          </a:xfrm>
        </p:grpSpPr>
        <p:pic>
          <p:nvPicPr>
            <p:cNvPr id="320" name="Picture 2" descr=""/>
            <p:cNvPicPr/>
            <p:nvPr/>
          </p:nvPicPr>
          <p:blipFill>
            <a:blip r:embed="rId5"/>
            <a:stretch/>
          </p:blipFill>
          <p:spPr>
            <a:xfrm>
              <a:off x="808200" y="1700280"/>
              <a:ext cx="7940520" cy="50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Box 10"/>
            <p:cNvSpPr/>
            <p:nvPr/>
          </p:nvSpPr>
          <p:spPr>
            <a:xfrm>
              <a:off x="2126880" y="2448000"/>
              <a:ext cx="108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31489f"/>
                  </a:solidFill>
                  <a:latin typeface="Times New Roman"/>
                  <a:ea typeface="Times New Roman"/>
                </a:rPr>
                <a:t>подарил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2" name="TextBox 13"/>
            <p:cNvSpPr/>
            <p:nvPr/>
          </p:nvSpPr>
          <p:spPr>
            <a:xfrm>
              <a:off x="5653080" y="2355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1489f"/>
                  </a:solidFill>
                  <a:latin typeface="Trebuchet MS"/>
                </a:rPr>
                <a:t>ост</a:t>
              </a: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3" name="TextBox 24"/>
          <p:cNvSpPr/>
          <p:nvPr/>
        </p:nvSpPr>
        <p:spPr>
          <a:xfrm>
            <a:off x="4386240" y="1809720"/>
            <a:ext cx="86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rebuchet MS"/>
              </a:rPr>
              <a:t>?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TextBox 25"/>
          <p:cNvSpPr/>
          <p:nvPr/>
        </p:nvSpPr>
        <p:spPr>
          <a:xfrm>
            <a:off x="2589840" y="303372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3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5537160" y="303372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5 к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TextBox 27"/>
          <p:cNvSpPr/>
          <p:nvPr/>
        </p:nvSpPr>
        <p:spPr>
          <a:xfrm>
            <a:off x="1729080" y="426708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3 + 5 = 8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Овал 28"/>
          <p:cNvSpPr/>
          <p:nvPr/>
        </p:nvSpPr>
        <p:spPr>
          <a:xfrm>
            <a:off x="4308480" y="1650960"/>
            <a:ext cx="914400" cy="91440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6552720" y="4241880"/>
            <a:ext cx="6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TextBox 30"/>
          <p:cNvSpPr/>
          <p:nvPr/>
        </p:nvSpPr>
        <p:spPr>
          <a:xfrm>
            <a:off x="3876480" y="5557680"/>
            <a:ext cx="23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8 кукол</a:t>
            </a:r>
            <a:r>
              <a:rPr b="0" lang="ru-RU" sz="4800" spc="-1" strike="noStrike">
                <a:solidFill>
                  <a:srgbClr val="31489f"/>
                </a:solidFill>
                <a:latin typeface="Trebuchet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  <p:sndAc>
      <p:stSnd>
        <p:snd r:embed="rId6" name="camera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5"/>
          <p:cNvSpPr/>
          <p:nvPr/>
        </p:nvSpPr>
        <p:spPr>
          <a:xfrm>
            <a:off x="539640" y="47628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оставление и решение одной задачи дидактически гораздо поучительнее, чем решение двух готовых задач того же вида, причем первое осуществляется, в общем, за меньшее время: первый путь – углубление в структуру задачи, второй – тренаж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оэтому правильное сочетание синтетических и аналитических упражнений в итоге сокращает время изучения материа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Умение решать школьные задачи и умение составлять таковые – совершенно разные ум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3148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854b81"/>
                </a:solidFill>
                <a:latin typeface="Times New Roman"/>
                <a:ea typeface="Times New Roman"/>
              </a:rPr>
              <a:t>Решение взаимно обратных задач является одной из УДЕ   в образовательной области «Математика»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1"/>
          <p:cNvSpPr/>
          <p:nvPr/>
        </p:nvSpPr>
        <p:spPr>
          <a:xfrm>
            <a:off x="1914840" y="1628640"/>
            <a:ext cx="5145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резентацию подготовил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МОУ Прогимназии №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г. Воронежа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Лазарева Елена Николаевна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6578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1489f"/>
                </a:solidFill>
                <a:latin typeface="Arial"/>
              </a:rPr>
              <a:t>Роль взаимно обратных задач в развитии познавательной активности младших школьников: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200" y="333360"/>
            <a:ext cx="773136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1489f"/>
                </a:solidFill>
                <a:latin typeface="Arial"/>
              </a:rPr>
              <a:t>В одной из своих статей педагог, математик-методист, академик  П.М. Эрдниев написал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«Чтобы учить плохо, достаточно учить без обратных задач»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6732720" y="1557360"/>
            <a:ext cx="221436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250920" y="26028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ри этой методике одно и то же число, понятие, величина, фигура и т.п. входит в несколько различных рассуждений и находится существенно иными ходами мысли;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23716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2"/>
          <p:cNvSpPr/>
          <p:nvPr/>
        </p:nvSpPr>
        <p:spPr>
          <a:xfrm>
            <a:off x="250920" y="33336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в процессе преобразования прямой задачи в обратную учащийся выявляет и использует взаимно обратные связи между величинами задач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6052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4ac8b"/>
                </a:solidFill>
                <a:latin typeface="Trebuchet MS"/>
              </a:rPr>
              <a:t>прям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01760" y="193032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8d7c"/>
                </a:solidFill>
                <a:latin typeface="Trebuchet MS"/>
              </a:rPr>
              <a:t>обратн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33" name="Группа 20"/>
          <p:cNvGrpSpPr/>
          <p:nvPr/>
        </p:nvGrpSpPr>
        <p:grpSpPr>
          <a:xfrm>
            <a:off x="281160" y="2913120"/>
            <a:ext cx="3666960" cy="3738600"/>
            <a:chOff x="281160" y="2913120"/>
            <a:chExt cx="3666960" cy="3738600"/>
          </a:xfrm>
        </p:grpSpPr>
        <p:sp>
          <p:nvSpPr>
            <p:cNvPr id="234" name="Блок-схема: извлечение 6"/>
            <p:cNvSpPr/>
            <p:nvPr/>
          </p:nvSpPr>
          <p:spPr>
            <a:xfrm>
              <a:off x="281160" y="2913120"/>
              <a:ext cx="3666960" cy="3738600"/>
            </a:xfrm>
            <a:prstGeom prst="flowChartExtract">
              <a:avLst/>
            </a:prstGeom>
            <a:solidFill>
              <a:srgbClr val="a7ea52"/>
            </a:solidFill>
            <a:ln w="25560">
              <a:solidFill>
                <a:srgbClr val="ffffff"/>
              </a:solidFill>
              <a:miter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5" name="Прямая соединительная линия 8"/>
            <p:cNvSpPr/>
            <p:nvPr/>
          </p:nvSpPr>
          <p:spPr>
            <a:xfrm>
              <a:off x="1316160" y="5013360"/>
              <a:ext cx="1614240" cy="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6" name="Прямая соединительная линия 11"/>
            <p:cNvSpPr/>
            <p:nvPr/>
          </p:nvSpPr>
          <p:spPr>
            <a:xfrm>
              <a:off x="2114640" y="5013360"/>
              <a:ext cx="0" cy="1638360"/>
            </a:xfrm>
            <a:prstGeom prst="line">
              <a:avLst/>
            </a:prstGeom>
            <a:ln w="9360">
              <a:solidFill>
                <a:srgbClr val="4e67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37" name="Прямоугольник 17" descr=""/>
          <p:cNvPicPr/>
          <p:nvPr/>
        </p:nvPicPr>
        <p:blipFill>
          <a:blip r:embed="rId1"/>
          <a:stretch/>
        </p:blipFill>
        <p:spPr>
          <a:xfrm>
            <a:off x="1523880" y="3773520"/>
            <a:ext cx="1200240" cy="115884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18" descr=""/>
          <p:cNvPicPr/>
          <p:nvPr/>
        </p:nvPicPr>
        <p:blipFill>
          <a:blip r:embed="rId2"/>
          <a:stretch/>
        </p:blipFill>
        <p:spPr>
          <a:xfrm>
            <a:off x="579600" y="5486400"/>
            <a:ext cx="1468440" cy="67644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19" descr=""/>
          <p:cNvPicPr/>
          <p:nvPr/>
        </p:nvPicPr>
        <p:blipFill>
          <a:blip r:embed="rId3"/>
          <a:stretch/>
        </p:blipFill>
        <p:spPr>
          <a:xfrm>
            <a:off x="2054160" y="5291280"/>
            <a:ext cx="1438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40" name="Группа 33"/>
          <p:cNvGrpSpPr/>
          <p:nvPr/>
        </p:nvGrpSpPr>
        <p:grpSpPr>
          <a:xfrm>
            <a:off x="4946760" y="2913120"/>
            <a:ext cx="3529080" cy="3733920"/>
            <a:chOff x="4946760" y="2913120"/>
            <a:chExt cx="3529080" cy="3733920"/>
          </a:xfrm>
        </p:grpSpPr>
        <p:sp>
          <p:nvSpPr>
            <p:cNvPr id="241" name="Блок-схема: извлечение 21"/>
            <p:cNvSpPr/>
            <p:nvPr/>
          </p:nvSpPr>
          <p:spPr>
            <a:xfrm>
              <a:off x="4946760" y="2913120"/>
              <a:ext cx="3529080" cy="3733920"/>
            </a:xfrm>
            <a:prstGeom prst="flowChartExtract">
              <a:avLst/>
            </a:prstGeom>
            <a:gradFill rotWithShape="0">
              <a:gsLst>
                <a:gs pos="0">
                  <a:srgbClr val="ffc0ad"/>
                </a:gs>
                <a:gs pos="100000">
                  <a:srgbClr val="ff8a67"/>
                </a:gs>
              </a:gsLst>
              <a:lin ang="5400000"/>
            </a:gradFill>
            <a:ln w="9360">
              <a:solidFill>
                <a:srgbClr val="ff8021"/>
              </a:solidFill>
              <a:miter/>
            </a:ln>
            <a:effectLst>
              <a:outerShdw dist="50760" dir="54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242" name="Группа 32"/>
            <p:cNvGrpSpPr/>
            <p:nvPr/>
          </p:nvGrpSpPr>
          <p:grpSpPr>
            <a:xfrm>
              <a:off x="5891040" y="5013360"/>
              <a:ext cx="1764360" cy="1633680"/>
              <a:chOff x="5891040" y="5013360"/>
              <a:chExt cx="1764360" cy="1633680"/>
            </a:xfrm>
          </p:grpSpPr>
          <p:sp>
            <p:nvSpPr>
              <p:cNvPr id="243" name="Прямая соединительная линия 23"/>
              <p:cNvSpPr/>
              <p:nvPr/>
            </p:nvSpPr>
            <p:spPr>
              <a:xfrm>
                <a:off x="5891040" y="5013360"/>
                <a:ext cx="1764360" cy="0"/>
              </a:xfrm>
              <a:prstGeom prst="line">
                <a:avLst/>
              </a:prstGeom>
              <a:ln w="9360">
                <a:solidFill>
                  <a:srgbClr val="4e67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Прямая соединительная линия 26"/>
              <p:cNvSpPr/>
              <p:nvPr/>
            </p:nvSpPr>
            <p:spPr>
              <a:xfrm>
                <a:off x="6710400" y="5013360"/>
                <a:ext cx="0" cy="1633680"/>
              </a:xfrm>
              <a:prstGeom prst="line">
                <a:avLst/>
              </a:prstGeom>
              <a:ln w="9360">
                <a:solidFill>
                  <a:srgbClr val="4e67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pic>
        <p:nvPicPr>
          <p:cNvPr id="245" name="Прямоугольник 28" descr=""/>
          <p:cNvPicPr/>
          <p:nvPr/>
        </p:nvPicPr>
        <p:blipFill>
          <a:blip r:embed="rId4"/>
          <a:stretch/>
        </p:blipFill>
        <p:spPr>
          <a:xfrm>
            <a:off x="5827680" y="4456080"/>
            <a:ext cx="1889280" cy="54288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оугольник 29" descr=""/>
          <p:cNvPicPr/>
          <p:nvPr/>
        </p:nvPicPr>
        <p:blipFill>
          <a:blip r:embed="rId5"/>
          <a:stretch/>
        </p:blipFill>
        <p:spPr>
          <a:xfrm>
            <a:off x="5072040" y="5430960"/>
            <a:ext cx="1633680" cy="77472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31" descr=""/>
          <p:cNvPicPr/>
          <p:nvPr/>
        </p:nvPicPr>
        <p:blipFill>
          <a:blip r:embed="rId6"/>
          <a:stretch/>
        </p:blipFill>
        <p:spPr>
          <a:xfrm>
            <a:off x="6735600" y="5126040"/>
            <a:ext cx="1202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5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19240" y="404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решая обратную задачу, учащиеся самостоятельно перестраивают суждения и умозаключения. Овладевая более сложными формами рассуждений. Важный познавательный элемент заключается в процессе преобразования одной задачи в другую, т.е. в тех «невидимых» и трудноуловимых при логическом анализе элементах мысли, которые связывают процессы решения обеих задач;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3235320" y="3284640"/>
            <a:ext cx="26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50920" y="26028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овокупность прямой и обратной задач, скажем, задача в 2-3 действия, в дидактическом плане есть не только всего лишь две отдельные задачи в 2-3 действия; по существу, это единое упражнение, одна задача в 4-6 действий; вторая часть такого сложного упражнения целиком выступает продуктом творчества учащихся, будучи логическим продолжением первой час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C:\Users\Татюшка\AppData\Local\Microsoft\Windows\Temporary Internet Files\Content.IE5\6643IEYC\MC900415490[1].wmf"/>
          <p:cNvPicPr/>
          <p:nvPr/>
        </p:nvPicPr>
        <p:blipFill>
          <a:blip r:embed="rId1"/>
          <a:stretch/>
        </p:blipFill>
        <p:spPr>
          <a:xfrm>
            <a:off x="5435640" y="3343320"/>
            <a:ext cx="289404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5114880" cy="957600"/>
          </a:xfrm>
          <a:prstGeom prst="rect">
            <a:avLst/>
          </a:prstGeom>
          <a:ln w="0">
            <a:noFill/>
          </a:ln>
        </p:spPr>
      </p:pic>
      <p:grpSp>
        <p:nvGrpSpPr>
          <p:cNvPr id="253" name="Группа 1"/>
          <p:cNvGrpSpPr/>
          <p:nvPr/>
        </p:nvGrpSpPr>
        <p:grpSpPr>
          <a:xfrm>
            <a:off x="3276720" y="1125360"/>
            <a:ext cx="2881080" cy="2016360"/>
            <a:chOff x="3276720" y="1125360"/>
            <a:chExt cx="2881080" cy="2016360"/>
          </a:xfrm>
        </p:grpSpPr>
        <p:pic>
          <p:nvPicPr>
            <p:cNvPr id="254" name="Picture 3" descr=""/>
            <p:cNvPicPr/>
            <p:nvPr/>
          </p:nvPicPr>
          <p:blipFill>
            <a:blip r:embed="rId2"/>
            <a:stretch/>
          </p:blipFill>
          <p:spPr>
            <a:xfrm>
              <a:off x="3276720" y="1125360"/>
              <a:ext cx="288108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Box 1"/>
            <p:cNvSpPr/>
            <p:nvPr/>
          </p:nvSpPr>
          <p:spPr>
            <a:xfrm>
              <a:off x="5667120" y="1220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56" name="Группа 3"/>
          <p:cNvGrpSpPr/>
          <p:nvPr/>
        </p:nvGrpSpPr>
        <p:grpSpPr>
          <a:xfrm>
            <a:off x="6372360" y="1125360"/>
            <a:ext cx="2520720" cy="1798920"/>
            <a:chOff x="6372360" y="1125360"/>
            <a:chExt cx="2520720" cy="1798920"/>
          </a:xfrm>
        </p:grpSpPr>
        <p:pic>
          <p:nvPicPr>
            <p:cNvPr id="257" name="Picture 4" descr=""/>
            <p:cNvPicPr/>
            <p:nvPr/>
          </p:nvPicPr>
          <p:blipFill>
            <a:blip r:embed="rId3"/>
            <a:stretch/>
          </p:blipFill>
          <p:spPr>
            <a:xfrm>
              <a:off x="6372360" y="1210320"/>
              <a:ext cx="2520720" cy="171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3"/>
            <p:cNvSpPr/>
            <p:nvPr/>
          </p:nvSpPr>
          <p:spPr>
            <a:xfrm>
              <a:off x="8505360" y="1125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59" name="Группа 5"/>
          <p:cNvGrpSpPr/>
          <p:nvPr/>
        </p:nvGrpSpPr>
        <p:grpSpPr>
          <a:xfrm>
            <a:off x="250920" y="1197000"/>
            <a:ext cx="2722320" cy="1944720"/>
            <a:chOff x="250920" y="1197000"/>
            <a:chExt cx="2722320" cy="1944720"/>
          </a:xfrm>
        </p:grpSpPr>
        <p:pic>
          <p:nvPicPr>
            <p:cNvPr id="260" name="Picture 5" descr=""/>
            <p:cNvPicPr/>
            <p:nvPr/>
          </p:nvPicPr>
          <p:blipFill>
            <a:blip r:embed="rId4"/>
            <a:stretch/>
          </p:blipFill>
          <p:spPr>
            <a:xfrm>
              <a:off x="250920" y="1218240"/>
              <a:ext cx="2722320" cy="192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Box 5"/>
            <p:cNvSpPr/>
            <p:nvPr/>
          </p:nvSpPr>
          <p:spPr>
            <a:xfrm>
              <a:off x="2592720" y="1197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2" name="Группа 6"/>
          <p:cNvGrpSpPr/>
          <p:nvPr/>
        </p:nvGrpSpPr>
        <p:grpSpPr>
          <a:xfrm>
            <a:off x="5003640" y="3500280"/>
            <a:ext cx="3024360" cy="2160720"/>
            <a:chOff x="5003640" y="3500280"/>
            <a:chExt cx="3024360" cy="2160720"/>
          </a:xfrm>
        </p:grpSpPr>
        <p:pic>
          <p:nvPicPr>
            <p:cNvPr id="263" name="Picture 6" descr=""/>
            <p:cNvPicPr/>
            <p:nvPr/>
          </p:nvPicPr>
          <p:blipFill>
            <a:blip r:embed="rId5"/>
            <a:stretch/>
          </p:blipFill>
          <p:spPr>
            <a:xfrm>
              <a:off x="5003640" y="3500280"/>
              <a:ext cx="302436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Box 6"/>
            <p:cNvSpPr/>
            <p:nvPr/>
          </p:nvSpPr>
          <p:spPr>
            <a:xfrm>
              <a:off x="7687800" y="350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5" name="Группа 7"/>
          <p:cNvGrpSpPr/>
          <p:nvPr/>
        </p:nvGrpSpPr>
        <p:grpSpPr>
          <a:xfrm>
            <a:off x="611280" y="3500280"/>
            <a:ext cx="3097080" cy="2233800"/>
            <a:chOff x="611280" y="3500280"/>
            <a:chExt cx="3097080" cy="2233800"/>
          </a:xfrm>
        </p:grpSpPr>
        <p:pic>
          <p:nvPicPr>
            <p:cNvPr id="266" name="Picture 7" descr=""/>
            <p:cNvPicPr/>
            <p:nvPr/>
          </p:nvPicPr>
          <p:blipFill>
            <a:blip r:embed="rId6"/>
            <a:stretch/>
          </p:blipFill>
          <p:spPr>
            <a:xfrm>
              <a:off x="611280" y="3500280"/>
              <a:ext cx="309708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Box 7"/>
            <p:cNvSpPr/>
            <p:nvPr/>
          </p:nvSpPr>
          <p:spPr>
            <a:xfrm>
              <a:off x="3290400" y="350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185920" y="29700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арточки - перфокарты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9" name="Группа 3"/>
          <p:cNvGrpSpPr/>
          <p:nvPr/>
        </p:nvGrpSpPr>
        <p:grpSpPr>
          <a:xfrm>
            <a:off x="1403280" y="1141560"/>
            <a:ext cx="3166920" cy="2060280"/>
            <a:chOff x="1403280" y="1141560"/>
            <a:chExt cx="3166920" cy="2060280"/>
          </a:xfrm>
        </p:grpSpPr>
        <p:pic>
          <p:nvPicPr>
            <p:cNvPr id="270" name="Picture 4" descr=""/>
            <p:cNvPicPr/>
            <p:nvPr/>
          </p:nvPicPr>
          <p:blipFill>
            <a:blip r:embed="rId1"/>
            <a:stretch/>
          </p:blipFill>
          <p:spPr>
            <a:xfrm>
              <a:off x="1403280" y="1141560"/>
              <a:ext cx="3066120" cy="20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Box 2"/>
            <p:cNvSpPr/>
            <p:nvPr/>
          </p:nvSpPr>
          <p:spPr>
            <a:xfrm>
              <a:off x="4261320" y="12096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2" name="Группа 5"/>
          <p:cNvGrpSpPr/>
          <p:nvPr/>
        </p:nvGrpSpPr>
        <p:grpSpPr>
          <a:xfrm>
            <a:off x="4788000" y="1098720"/>
            <a:ext cx="3043440" cy="2058840"/>
            <a:chOff x="4788000" y="1098720"/>
            <a:chExt cx="3043440" cy="2058840"/>
          </a:xfrm>
        </p:grpSpPr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4788000" y="1141920"/>
              <a:ext cx="3034440" cy="20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4"/>
            <p:cNvSpPr/>
            <p:nvPr/>
          </p:nvSpPr>
          <p:spPr>
            <a:xfrm>
              <a:off x="7513560" y="1098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5" name="Группа 7"/>
          <p:cNvGrpSpPr/>
          <p:nvPr/>
        </p:nvGrpSpPr>
        <p:grpSpPr>
          <a:xfrm>
            <a:off x="471600" y="3747960"/>
            <a:ext cx="3421080" cy="2295720"/>
            <a:chOff x="471600" y="3747960"/>
            <a:chExt cx="3421080" cy="2295720"/>
          </a:xfrm>
        </p:grpSpPr>
        <p:pic>
          <p:nvPicPr>
            <p:cNvPr id="276" name="Picture 6" descr=""/>
            <p:cNvPicPr/>
            <p:nvPr/>
          </p:nvPicPr>
          <p:blipFill>
            <a:blip r:embed="rId3"/>
            <a:stretch/>
          </p:blipFill>
          <p:spPr>
            <a:xfrm>
              <a:off x="471600" y="3747960"/>
              <a:ext cx="324108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Box 6"/>
            <p:cNvSpPr/>
            <p:nvPr/>
          </p:nvSpPr>
          <p:spPr>
            <a:xfrm>
              <a:off x="3532680" y="37479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78" name="Группа 9"/>
          <p:cNvGrpSpPr/>
          <p:nvPr/>
        </p:nvGrpSpPr>
        <p:grpSpPr>
          <a:xfrm>
            <a:off x="5751360" y="3789360"/>
            <a:ext cx="3238920" cy="2212920"/>
            <a:chOff x="5751360" y="3789360"/>
            <a:chExt cx="3238920" cy="2212920"/>
          </a:xfrm>
        </p:grpSpPr>
        <p:pic>
          <p:nvPicPr>
            <p:cNvPr id="279" name="Picture 7" descr=""/>
            <p:cNvPicPr/>
            <p:nvPr/>
          </p:nvPicPr>
          <p:blipFill>
            <a:blip r:embed="rId4"/>
            <a:stretch/>
          </p:blipFill>
          <p:spPr>
            <a:xfrm>
              <a:off x="5751360" y="3789360"/>
              <a:ext cx="308916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8"/>
            <p:cNvSpPr/>
            <p:nvPr/>
          </p:nvSpPr>
          <p:spPr>
            <a:xfrm>
              <a:off x="8672400" y="3870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rebuchet MS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8289720" cy="11574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68360" y="1989000"/>
            <a:ext cx="81360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2f2f2"/>
                </a:solidFill>
                <a:latin typeface="Trebuchet MS"/>
              </a:rPr>
              <a:t>                     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909360" y="476280"/>
            <a:ext cx="14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У Маш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2514600" y="45720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было 8 куко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7"/>
          <p:cNvSpPr/>
          <p:nvPr/>
        </p:nvSpPr>
        <p:spPr>
          <a:xfrm>
            <a:off x="4773960" y="4446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3 кукл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Box 8"/>
          <p:cNvSpPr/>
          <p:nvPr/>
        </p:nvSpPr>
        <p:spPr>
          <a:xfrm>
            <a:off x="6165360" y="43020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она</a:t>
            </a:r>
            <a:r>
              <a:rPr b="0" lang="ru-RU" sz="1800" spc="-1" strike="noStrike">
                <a:solidFill>
                  <a:srgbClr val="31489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6926400" y="43020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подари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431640" y="100980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младшей сестре</a:t>
            </a:r>
            <a:r>
              <a:rPr b="0" lang="ru-RU" sz="1800" spc="-1" strike="noStrike">
                <a:solidFill>
                  <a:srgbClr val="31489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TextBox 15"/>
          <p:cNvSpPr/>
          <p:nvPr/>
        </p:nvSpPr>
        <p:spPr>
          <a:xfrm>
            <a:off x="3099960" y="9586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Сколько осталось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6004800" y="92376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кукол у Маш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763560" y="4508640"/>
            <a:ext cx="1360440" cy="2266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3"/>
          <a:stretch/>
        </p:blipFill>
        <p:spPr>
          <a:xfrm>
            <a:off x="4152960" y="4519440"/>
            <a:ext cx="1228680" cy="2049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4"/>
          <a:stretch/>
        </p:blipFill>
        <p:spPr>
          <a:xfrm>
            <a:off x="6980400" y="4508640"/>
            <a:ext cx="1303200" cy="21715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5"/>
          <a:stretch/>
        </p:blipFill>
        <p:spPr>
          <a:xfrm>
            <a:off x="1355760" y="1835280"/>
            <a:ext cx="1768320" cy="1131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6"/>
          <a:stretch/>
        </p:blipFill>
        <p:spPr>
          <a:xfrm>
            <a:off x="5214960" y="1677960"/>
            <a:ext cx="1905120" cy="1289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7"/>
          <a:stretch/>
        </p:blipFill>
        <p:spPr>
          <a:xfrm>
            <a:off x="1519200" y="3182760"/>
            <a:ext cx="1711440" cy="1165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"/>
          <p:cNvPicPr/>
          <p:nvPr/>
        </p:nvPicPr>
        <p:blipFill>
          <a:blip r:embed="rId8"/>
          <a:stretch/>
        </p:blipFill>
        <p:spPr>
          <a:xfrm>
            <a:off x="5227560" y="3046320"/>
            <a:ext cx="1962360" cy="1319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9"/>
          <a:stretch/>
        </p:blipFill>
        <p:spPr>
          <a:xfrm>
            <a:off x="611280" y="1574640"/>
            <a:ext cx="8093160" cy="5180040"/>
          </a:xfrm>
          <a:prstGeom prst="rect">
            <a:avLst/>
          </a:prstGeom>
          <a:ln w="0">
            <a:noFill/>
          </a:ln>
        </p:spPr>
      </p:pic>
      <p:sp>
        <p:nvSpPr>
          <p:cNvPr id="299" name="TextBox 26"/>
          <p:cNvSpPr/>
          <p:nvPr/>
        </p:nvSpPr>
        <p:spPr>
          <a:xfrm>
            <a:off x="4276080" y="1736640"/>
            <a:ext cx="8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68b0"/>
                </a:solidFill>
                <a:latin typeface="Trebuchet MS"/>
              </a:rPr>
              <a:t>8 к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1933560" y="2322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68b0"/>
                </a:solidFill>
                <a:latin typeface="Trebuchet MS"/>
              </a:rPr>
              <a:t>подари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TextBox 28"/>
          <p:cNvSpPr/>
          <p:nvPr/>
        </p:nvSpPr>
        <p:spPr>
          <a:xfrm>
            <a:off x="5567400" y="23511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68b0"/>
                </a:solidFill>
                <a:latin typeface="Trebuchet MS"/>
              </a:rPr>
              <a:t>Ост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TextBox 29"/>
          <p:cNvSpPr/>
          <p:nvPr/>
        </p:nvSpPr>
        <p:spPr>
          <a:xfrm>
            <a:off x="2536200" y="304632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68b0"/>
                </a:solidFill>
                <a:latin typeface="Trebuchet MS"/>
              </a:rPr>
              <a:t>3 к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TextBox 30"/>
          <p:cNvSpPr/>
          <p:nvPr/>
        </p:nvSpPr>
        <p:spPr>
          <a:xfrm>
            <a:off x="5580720" y="309240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68b0"/>
                </a:solidFill>
                <a:latin typeface="Trebuchet MS"/>
              </a:rPr>
              <a:t>? К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Овал 31"/>
          <p:cNvSpPr/>
          <p:nvPr/>
        </p:nvSpPr>
        <p:spPr>
          <a:xfrm>
            <a:off x="4129200" y="1620720"/>
            <a:ext cx="914400" cy="91440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TextBox 32"/>
          <p:cNvSpPr/>
          <p:nvPr/>
        </p:nvSpPr>
        <p:spPr>
          <a:xfrm>
            <a:off x="1741680" y="4164120"/>
            <a:ext cx="276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1489f"/>
                </a:solidFill>
                <a:latin typeface="Times New Roman"/>
                <a:ea typeface="Times New Roman"/>
              </a:rPr>
              <a:t>8 - 3 = 5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TextBox 33"/>
          <p:cNvSpPr/>
          <p:nvPr/>
        </p:nvSpPr>
        <p:spPr>
          <a:xfrm>
            <a:off x="6273720" y="4156200"/>
            <a:ext cx="10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1489f"/>
                </a:solidFill>
                <a:latin typeface="Trebuchet MS"/>
              </a:rPr>
              <a:t> </a:t>
            </a:r>
            <a:r>
              <a:rPr b="0" lang="ru-RU" sz="5400" spc="-1" strike="noStrike">
                <a:solidFill>
                  <a:srgbClr val="31489f"/>
                </a:solidFill>
                <a:latin typeface="Trebuchet MS"/>
              </a:rPr>
              <a:t>к. 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TextBox 34"/>
          <p:cNvSpPr/>
          <p:nvPr/>
        </p:nvSpPr>
        <p:spPr>
          <a:xfrm>
            <a:off x="3468600" y="5545080"/>
            <a:ext cx="41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1489f"/>
                </a:solidFill>
                <a:latin typeface="Trebuchet MS"/>
              </a:rPr>
              <a:t>5 кукол.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  <p:sndAc>
      <p:stSnd>
        <p:snd r:embed="rId10" name="camera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4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01:31Z</dcterms:created>
  <dc:creator>Танюшка</dc:creator>
  <dc:description/>
  <dc:language>en-US</dc:language>
  <cp:lastModifiedBy>User</cp:lastModifiedBy>
  <dcterms:modified xsi:type="dcterms:W3CDTF">2013-04-23T11:25:10Z</dcterms:modified>
  <cp:revision>66</cp:revision>
  <dc:subject/>
  <dc:title>Место и роль обратных задач в формировании способов аналитического мышления</dc:title>
</cp:coreProperties>
</file>