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22.png" ContentType="image/png"/>
  <Override PartName="/ppt/media/camera.wav" ContentType="audio/x-wav"/>
  <Override PartName="/ppt/media/image15.png" ContentType="image/png"/>
  <Override PartName="/ppt/media/image14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31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E453-793C-495C-9B00-9137428319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A526-D086-45C8-8D7F-CECADE9E3425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609-9606-4551-A678-33061EED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717-75B5-4359-8408-C514D0B9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FB4-54F8-40D9-B4A9-17A0E537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248-1D11-4293-AA55-08EBC771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7085-6E5B-4B0D-90F3-96D80C17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B456-EADD-4486-B754-D65E10B8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B5EB-813A-4295-B332-1B8703F3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0A8C-3C8D-4CEE-9704-5E69AEB3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DC3F-9998-43BF-AB2B-9323A02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77E4-45D6-45A5-B4DA-5ACF795C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8E20-86BF-4C6A-9C02-26C0521C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C5C-5F2A-4389-A34B-AEAB6840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AF85-B0A7-4F8D-997D-8B3798EB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8548-7873-42E5-9AB7-A05991FB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60B5-BCE4-42A2-ABFD-3947BEAB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265C-39BC-4A9B-B104-839C2E4E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2A05-F0B6-432B-8206-4E894D6B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6B16-2D9C-4D74-8649-E31B817F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BB47D-1042-45EA-A357-D61DFD97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6BA1B-CD06-4368-9118-B8820314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4FA49-8B74-43E1-8BDD-896DDB8D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EC26E-3979-4F9E-817E-2B9CD6E5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E39-72E8-49E9-827C-DF5BA0E1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B48CD-326D-455D-BE6D-B5828F51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63EAD-6D31-4651-9C8F-E2E7AD0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52A2A-8DD3-4878-A93C-045EC7FB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7295-E687-4EC8-B473-772035BC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6833-5F11-4666-BB36-39EFA8CF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F952-1049-48CE-B569-288D8B02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A2C3-4D8B-4EF5-BC7E-6A5773C4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B8800-CA1B-46FB-ABD7-A98E419A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3A44-E0DF-4412-9A2E-B78B89C8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CA2DF-F4B1-49E7-848D-9D984A82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5A3-4AFF-40F2-9979-E9BFBDCD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3F85E-D716-4B54-81D7-5AAE7E3E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71C9B-EB24-43E4-955E-F9EEF2D3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389D-20AC-49C6-AE70-80BF8912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A1A1-9EF5-44D3-AE16-B3A86190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7192D-B491-4DF6-950C-C25142B7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5C35-2CFB-4845-9996-71B98104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E1FE3-496B-4F56-9FC5-D082CEC5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8D29F-EF35-4616-B619-409F3949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9E67-1843-4DB0-9124-8C64503A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A6F-9D2C-4010-AF9D-B2F0A032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840-6DBC-4F0E-8B50-25E346A0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CE7-B69C-40E7-AE09-6FDF264A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89C-0BC4-49B0-9770-E8E9848B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0FB-C9F7-4A6C-8532-853B0950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4747-1826-4D62-9439-4AF71ACB029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1554-0EA5-4DA1-9EAC-C1AFB0A4C6F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50E5-7050-4F14-9ADD-4D19225DB6E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F148-FD14-4148-BFD0-B0D6601116F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42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219240" y="426960"/>
            <a:ext cx="8242200" cy="4089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Татюшка\AppData\Local\Microsoft\Windows\Temporary Internet Files\Content.IE5\XML8U8DY\MC900343343[1].wmf"/>
          <p:cNvPicPr/>
          <p:nvPr/>
        </p:nvPicPr>
        <p:blipFill>
          <a:blip r:embed="rId2"/>
          <a:stretch/>
        </p:blipFill>
        <p:spPr>
          <a:xfrm>
            <a:off x="755640" y="3789360"/>
            <a:ext cx="2585880" cy="2689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Users\Татюшка\AppData\Local\Microsoft\Windows\Temporary Internet Files\Content.IE5\6643IEYC\MC900343355[1].wmf"/>
          <p:cNvPicPr/>
          <p:nvPr/>
        </p:nvPicPr>
        <p:blipFill>
          <a:blip r:embed="rId3"/>
          <a:stretch/>
        </p:blipFill>
        <p:spPr>
          <a:xfrm>
            <a:off x="5796000" y="4076640"/>
            <a:ext cx="2662200" cy="2662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3995640" y="3632040"/>
            <a:ext cx="1368360" cy="2846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3680" y="396720"/>
            <a:ext cx="8289720" cy="1157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68360" y="1989000"/>
            <a:ext cx="8136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2f2f2"/>
                </a:solidFill>
                <a:latin typeface="Trebuchet MS"/>
              </a:rPr>
              <a:t>            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463320" y="4428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Маш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1585800" y="442800"/>
            <a:ext cx="54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одарила 3 куклы младшей сестр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499320" y="96696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5 кукол у неё осталос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4090320" y="966960"/>
            <a:ext cx="23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Сколько был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6379560" y="96696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кукол у Маши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763560" y="4508640"/>
            <a:ext cx="1360440" cy="2266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3"/>
          <a:stretch/>
        </p:blipFill>
        <p:spPr>
          <a:xfrm>
            <a:off x="4152960" y="4519440"/>
            <a:ext cx="1228680" cy="2049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4"/>
          <a:stretch/>
        </p:blipFill>
        <p:spPr>
          <a:xfrm>
            <a:off x="6980400" y="4508640"/>
            <a:ext cx="1303200" cy="21715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8"/>
          <p:cNvSpPr/>
          <p:nvPr/>
        </p:nvSpPr>
        <p:spPr>
          <a:xfrm>
            <a:off x="4393440" y="1809720"/>
            <a:ext cx="8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? к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9" name="Группа 23"/>
          <p:cNvGrpSpPr/>
          <p:nvPr/>
        </p:nvGrpSpPr>
        <p:grpSpPr>
          <a:xfrm>
            <a:off x="808200" y="1700280"/>
            <a:ext cx="7940520" cy="5083200"/>
            <a:chOff x="808200" y="1700280"/>
            <a:chExt cx="7940520" cy="5083200"/>
          </a:xfrm>
        </p:grpSpPr>
        <p:pic>
          <p:nvPicPr>
            <p:cNvPr id="320" name="Picture 2" descr=""/>
            <p:cNvPicPr/>
            <p:nvPr/>
          </p:nvPicPr>
          <p:blipFill>
            <a:blip r:embed="rId5"/>
            <a:stretch/>
          </p:blipFill>
          <p:spPr>
            <a:xfrm>
              <a:off x="808200" y="1700280"/>
              <a:ext cx="7940520" cy="50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Box 10"/>
            <p:cNvSpPr/>
            <p:nvPr/>
          </p:nvSpPr>
          <p:spPr>
            <a:xfrm>
              <a:off x="2126880" y="2448000"/>
              <a:ext cx="10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1489f"/>
                  </a:solidFill>
                  <a:latin typeface="Times New Roman"/>
                  <a:ea typeface="Times New Roman"/>
                </a:rPr>
                <a:t>подарила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TextBox 13"/>
            <p:cNvSpPr/>
            <p:nvPr/>
          </p:nvSpPr>
          <p:spPr>
            <a:xfrm>
              <a:off x="5653080" y="2355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1489f"/>
                  </a:solidFill>
                  <a:latin typeface="Trebuchet MS"/>
                </a:rPr>
                <a:t>ост</a:t>
              </a: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4"/>
          <p:cNvSpPr/>
          <p:nvPr/>
        </p:nvSpPr>
        <p:spPr>
          <a:xfrm>
            <a:off x="4386240" y="1809720"/>
            <a:ext cx="86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rebuchet MS"/>
              </a:rPr>
              <a:t>? к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5"/>
          <p:cNvSpPr/>
          <p:nvPr/>
        </p:nvSpPr>
        <p:spPr>
          <a:xfrm>
            <a:off x="2589840" y="303372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3 к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TextBox 26"/>
          <p:cNvSpPr/>
          <p:nvPr/>
        </p:nvSpPr>
        <p:spPr>
          <a:xfrm>
            <a:off x="5537160" y="303372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5 к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TextBox 27"/>
          <p:cNvSpPr/>
          <p:nvPr/>
        </p:nvSpPr>
        <p:spPr>
          <a:xfrm>
            <a:off x="1729080" y="426708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3 + 5 = 8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Овал 28"/>
          <p:cNvSpPr/>
          <p:nvPr/>
        </p:nvSpPr>
        <p:spPr>
          <a:xfrm>
            <a:off x="4308480" y="1650960"/>
            <a:ext cx="914400" cy="914400"/>
          </a:xfrm>
          <a:prstGeom prst="ellipse">
            <a:avLst/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TextBox 29"/>
          <p:cNvSpPr/>
          <p:nvPr/>
        </p:nvSpPr>
        <p:spPr>
          <a:xfrm>
            <a:off x="6552720" y="4241880"/>
            <a:ext cx="6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к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TextBox 30"/>
          <p:cNvSpPr/>
          <p:nvPr/>
        </p:nvSpPr>
        <p:spPr>
          <a:xfrm>
            <a:off x="3876480" y="5557680"/>
            <a:ext cx="23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8 кукол</a:t>
            </a:r>
            <a:r>
              <a:rPr b="0" lang="ru-RU" sz="4800" spc="-1" strike="noStrike">
                <a:solidFill>
                  <a:srgbClr val="31489f"/>
                </a:solidFill>
                <a:latin typeface="Trebuchet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  <p:sndAc>
      <p:stSnd>
        <p:snd r:embed="rId6" name="camera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5"/>
          <p:cNvSpPr/>
          <p:nvPr/>
        </p:nvSpPr>
        <p:spPr>
          <a:xfrm>
            <a:off x="539640" y="47628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148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Составление и решение одной задачи дидактически гораздо поучительнее, чем решение двух готовых задач того же вида, причем первое осуществляется, в общем, за меньшее время: первый путь – углубление в структуру задачи, второй – тренаж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3148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оэтому правильное сочетание синтетических и аналитических упражнений в итоге сокращает время изучения материал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3148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Умение решать школьные задачи и умение составлять таковые – совершенно разные ум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3148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854b81"/>
                </a:solidFill>
                <a:latin typeface="Times New Roman"/>
                <a:ea typeface="Times New Roman"/>
              </a:rPr>
              <a:t>Решение взаимно обратных задач является одной из УДЕ   в образовательной области «Математика»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1"/>
          <p:cNvSpPr/>
          <p:nvPr/>
        </p:nvSpPr>
        <p:spPr>
          <a:xfrm>
            <a:off x="1914840" y="1628640"/>
            <a:ext cx="5145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МОУ Прогимназии № 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г. Воронеж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Лазарева Елена Николаевна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6578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1489f"/>
                </a:solidFill>
                <a:latin typeface="Arial"/>
              </a:rPr>
              <a:t>Роль взаимно обратных задач в развитии познавательной активности младших школьников: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200" y="333360"/>
            <a:ext cx="7731360" cy="38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1489f"/>
                </a:solidFill>
                <a:latin typeface="Arial"/>
              </a:rPr>
              <a:t>В одной из своих статей педагог, математик-методист, академик  П.М. Эрдниев написал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«Чтобы учить плохо, достаточно учить без обратных задач»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6732720" y="1557360"/>
            <a:ext cx="22143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250920" y="26028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ри этой методике одно и то же число, понятие, величина, фигура и т.п. входит в несколько различных рассуждений и находится существенно иными ходами мысли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23716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2"/>
          <p:cNvSpPr/>
          <p:nvPr/>
        </p:nvSpPr>
        <p:spPr>
          <a:xfrm>
            <a:off x="250920" y="33336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в процессе преобразования прямой задачи в обратную учащийся выявляет и использует взаимно обратные связи между величинами задач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60520" y="1916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ac8b"/>
                </a:solidFill>
                <a:latin typeface="Trebuchet MS"/>
              </a:rPr>
              <a:t>пряма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01760" y="193032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8d7c"/>
                </a:solidFill>
                <a:latin typeface="Trebuchet MS"/>
              </a:rPr>
              <a:t>обратна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3" name="Группа 20"/>
          <p:cNvGrpSpPr/>
          <p:nvPr/>
        </p:nvGrpSpPr>
        <p:grpSpPr>
          <a:xfrm>
            <a:off x="281160" y="2913120"/>
            <a:ext cx="3666960" cy="3738600"/>
            <a:chOff x="281160" y="2913120"/>
            <a:chExt cx="3666960" cy="3738600"/>
          </a:xfrm>
        </p:grpSpPr>
        <p:sp>
          <p:nvSpPr>
            <p:cNvPr id="234" name="Блок-схема: извлечение 6"/>
            <p:cNvSpPr/>
            <p:nvPr/>
          </p:nvSpPr>
          <p:spPr>
            <a:xfrm>
              <a:off x="281160" y="2913120"/>
              <a:ext cx="3666960" cy="3738600"/>
            </a:xfrm>
            <a:prstGeom prst="flowChartExtract">
              <a:avLst/>
            </a:prstGeom>
            <a:solidFill>
              <a:srgbClr val="a7ea52"/>
            </a:solidFill>
            <a:ln w="2556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5" name="Прямая соединительная линия 8"/>
            <p:cNvSpPr/>
            <p:nvPr/>
          </p:nvSpPr>
          <p:spPr>
            <a:xfrm>
              <a:off x="1316160" y="5013360"/>
              <a:ext cx="1614240" cy="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6" name="Прямая соединительная линия 11"/>
            <p:cNvSpPr/>
            <p:nvPr/>
          </p:nvSpPr>
          <p:spPr>
            <a:xfrm>
              <a:off x="2114640" y="5013360"/>
              <a:ext cx="0" cy="163836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7" name="Прямоугольник 17" descr=""/>
          <p:cNvPicPr/>
          <p:nvPr/>
        </p:nvPicPr>
        <p:blipFill>
          <a:blip r:embed="rId1"/>
          <a:stretch/>
        </p:blipFill>
        <p:spPr>
          <a:xfrm>
            <a:off x="1523880" y="3773520"/>
            <a:ext cx="1200240" cy="11588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18" descr=""/>
          <p:cNvPicPr/>
          <p:nvPr/>
        </p:nvPicPr>
        <p:blipFill>
          <a:blip r:embed="rId2"/>
          <a:stretch/>
        </p:blipFill>
        <p:spPr>
          <a:xfrm>
            <a:off x="579600" y="5486400"/>
            <a:ext cx="1468440" cy="67644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19" descr=""/>
          <p:cNvPicPr/>
          <p:nvPr/>
        </p:nvPicPr>
        <p:blipFill>
          <a:blip r:embed="rId3"/>
          <a:stretch/>
        </p:blipFill>
        <p:spPr>
          <a:xfrm>
            <a:off x="2054160" y="5291280"/>
            <a:ext cx="1438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40" name="Группа 33"/>
          <p:cNvGrpSpPr/>
          <p:nvPr/>
        </p:nvGrpSpPr>
        <p:grpSpPr>
          <a:xfrm>
            <a:off x="4946760" y="2913120"/>
            <a:ext cx="3529080" cy="3733920"/>
            <a:chOff x="4946760" y="2913120"/>
            <a:chExt cx="3529080" cy="3733920"/>
          </a:xfrm>
        </p:grpSpPr>
        <p:sp>
          <p:nvSpPr>
            <p:cNvPr id="241" name="Блок-схема: извлечение 21"/>
            <p:cNvSpPr/>
            <p:nvPr/>
          </p:nvSpPr>
          <p:spPr>
            <a:xfrm>
              <a:off x="4946760" y="2913120"/>
              <a:ext cx="3529080" cy="3733920"/>
            </a:xfrm>
            <a:prstGeom prst="flowChartExtract">
              <a:avLst/>
            </a:prstGeom>
            <a:gradFill rotWithShape="0">
              <a:gsLst>
                <a:gs pos="0">
                  <a:srgbClr val="ffc0ad"/>
                </a:gs>
                <a:gs pos="100000">
                  <a:srgbClr val="ff8a67"/>
                </a:gs>
              </a:gsLst>
              <a:lin ang="5400000"/>
            </a:gradFill>
            <a:ln w="9360">
              <a:solidFill>
                <a:srgbClr val="ff8021"/>
              </a:solidFill>
              <a:miter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42" name="Группа 32"/>
            <p:cNvGrpSpPr/>
            <p:nvPr/>
          </p:nvGrpSpPr>
          <p:grpSpPr>
            <a:xfrm>
              <a:off x="5891040" y="5013360"/>
              <a:ext cx="1764360" cy="1633680"/>
              <a:chOff x="5891040" y="5013360"/>
              <a:chExt cx="1764360" cy="1633680"/>
            </a:xfrm>
          </p:grpSpPr>
          <p:sp>
            <p:nvSpPr>
              <p:cNvPr id="243" name="Прямая соединительная линия 23"/>
              <p:cNvSpPr/>
              <p:nvPr/>
            </p:nvSpPr>
            <p:spPr>
              <a:xfrm>
                <a:off x="5891040" y="5013360"/>
                <a:ext cx="1764360" cy="0"/>
              </a:xfrm>
              <a:prstGeom prst="line">
                <a:avLst/>
              </a:prstGeom>
              <a:ln w="9360">
                <a:solidFill>
                  <a:srgbClr val="4e67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Прямая соединительная линия 26"/>
              <p:cNvSpPr/>
              <p:nvPr/>
            </p:nvSpPr>
            <p:spPr>
              <a:xfrm>
                <a:off x="6710400" y="5013360"/>
                <a:ext cx="0" cy="1633680"/>
              </a:xfrm>
              <a:prstGeom prst="line">
                <a:avLst/>
              </a:prstGeom>
              <a:ln w="9360">
                <a:solidFill>
                  <a:srgbClr val="4e67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pic>
        <p:nvPicPr>
          <p:cNvPr id="245" name="Прямоугольник 28" descr=""/>
          <p:cNvPicPr/>
          <p:nvPr/>
        </p:nvPicPr>
        <p:blipFill>
          <a:blip r:embed="rId4"/>
          <a:stretch/>
        </p:blipFill>
        <p:spPr>
          <a:xfrm>
            <a:off x="5827680" y="4456080"/>
            <a:ext cx="1889280" cy="54288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29" descr=""/>
          <p:cNvPicPr/>
          <p:nvPr/>
        </p:nvPicPr>
        <p:blipFill>
          <a:blip r:embed="rId5"/>
          <a:stretch/>
        </p:blipFill>
        <p:spPr>
          <a:xfrm>
            <a:off x="5072040" y="5430960"/>
            <a:ext cx="1633680" cy="77472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31" descr=""/>
          <p:cNvPicPr/>
          <p:nvPr/>
        </p:nvPicPr>
        <p:blipFill>
          <a:blip r:embed="rId6"/>
          <a:stretch/>
        </p:blipFill>
        <p:spPr>
          <a:xfrm>
            <a:off x="6735600" y="5126040"/>
            <a:ext cx="1202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219240" y="404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решая обратную задачу, учащиеся самостоятельно перестраивают суждения и умозаключения. Овладевая более сложными формами рассуждений. Важный познавательный элемент заключается в процессе преобразования одной задачи в другую, т.е. в тех «невидимых» и трудноуловимых при логическом анализе элементах мысли, которые связывают процессы решения обеих задач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3235320" y="3284640"/>
            <a:ext cx="26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250920" y="26028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совокупность прямой и обратной задач, скажем, задача в 2-3 действия, в дидактическом плане есть не только всего лишь две отдельные задачи в 2-3 действия; по существу, это единое упражнение, одна задача в 4-6 действий; вторая часть такого сложного упражнения целиком выступает продуктом творчества учащихся, будучи логическим продолжением первой ча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3" descr="C:\Users\Татюшка\AppData\Local\Microsoft\Windows\Temporary Internet Files\Content.IE5\6643IEYC\MC900415490[1].wmf"/>
          <p:cNvPicPr/>
          <p:nvPr/>
        </p:nvPicPr>
        <p:blipFill>
          <a:blip r:embed="rId1"/>
          <a:stretch/>
        </p:blipFill>
        <p:spPr>
          <a:xfrm>
            <a:off x="5435640" y="3343320"/>
            <a:ext cx="289404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114880" cy="957600"/>
          </a:xfrm>
          <a:prstGeom prst="rect">
            <a:avLst/>
          </a:prstGeom>
          <a:ln w="0">
            <a:noFill/>
          </a:ln>
        </p:spPr>
      </p:pic>
      <p:grpSp>
        <p:nvGrpSpPr>
          <p:cNvPr id="253" name="Группа 1"/>
          <p:cNvGrpSpPr/>
          <p:nvPr/>
        </p:nvGrpSpPr>
        <p:grpSpPr>
          <a:xfrm>
            <a:off x="3276720" y="1125360"/>
            <a:ext cx="2881080" cy="2016360"/>
            <a:chOff x="3276720" y="1125360"/>
            <a:chExt cx="2881080" cy="2016360"/>
          </a:xfrm>
        </p:grpSpPr>
        <p:pic>
          <p:nvPicPr>
            <p:cNvPr id="254" name="Picture 3" descr=""/>
            <p:cNvPicPr/>
            <p:nvPr/>
          </p:nvPicPr>
          <p:blipFill>
            <a:blip r:embed="rId2"/>
            <a:stretch/>
          </p:blipFill>
          <p:spPr>
            <a:xfrm>
              <a:off x="3276720" y="1125360"/>
              <a:ext cx="288108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1"/>
            <p:cNvSpPr/>
            <p:nvPr/>
          </p:nvSpPr>
          <p:spPr>
            <a:xfrm>
              <a:off x="5667120" y="1220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56" name="Группа 3"/>
          <p:cNvGrpSpPr/>
          <p:nvPr/>
        </p:nvGrpSpPr>
        <p:grpSpPr>
          <a:xfrm>
            <a:off x="6372360" y="1125360"/>
            <a:ext cx="2520720" cy="1798920"/>
            <a:chOff x="6372360" y="1125360"/>
            <a:chExt cx="2520720" cy="1798920"/>
          </a:xfrm>
        </p:grpSpPr>
        <p:pic>
          <p:nvPicPr>
            <p:cNvPr id="257" name="Picture 4" descr=""/>
            <p:cNvPicPr/>
            <p:nvPr/>
          </p:nvPicPr>
          <p:blipFill>
            <a:blip r:embed="rId3"/>
            <a:stretch/>
          </p:blipFill>
          <p:spPr>
            <a:xfrm>
              <a:off x="6372360" y="1210320"/>
              <a:ext cx="252072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3"/>
            <p:cNvSpPr/>
            <p:nvPr/>
          </p:nvSpPr>
          <p:spPr>
            <a:xfrm>
              <a:off x="8505360" y="1125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59" name="Группа 5"/>
          <p:cNvGrpSpPr/>
          <p:nvPr/>
        </p:nvGrpSpPr>
        <p:grpSpPr>
          <a:xfrm>
            <a:off x="250920" y="1197000"/>
            <a:ext cx="2722320" cy="1944720"/>
            <a:chOff x="250920" y="1197000"/>
            <a:chExt cx="2722320" cy="1944720"/>
          </a:xfrm>
        </p:grpSpPr>
        <p:pic>
          <p:nvPicPr>
            <p:cNvPr id="260" name="Picture 5" descr=""/>
            <p:cNvPicPr/>
            <p:nvPr/>
          </p:nvPicPr>
          <p:blipFill>
            <a:blip r:embed="rId4"/>
            <a:stretch/>
          </p:blipFill>
          <p:spPr>
            <a:xfrm>
              <a:off x="250920" y="1218240"/>
              <a:ext cx="2722320" cy="192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Box 5"/>
            <p:cNvSpPr/>
            <p:nvPr/>
          </p:nvSpPr>
          <p:spPr>
            <a:xfrm>
              <a:off x="2592720" y="1197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2" name="Группа 6"/>
          <p:cNvGrpSpPr/>
          <p:nvPr/>
        </p:nvGrpSpPr>
        <p:grpSpPr>
          <a:xfrm>
            <a:off x="5003640" y="3500280"/>
            <a:ext cx="3024360" cy="2160720"/>
            <a:chOff x="5003640" y="3500280"/>
            <a:chExt cx="3024360" cy="2160720"/>
          </a:xfrm>
        </p:grpSpPr>
        <p:pic>
          <p:nvPicPr>
            <p:cNvPr id="263" name="Picture 6" descr=""/>
            <p:cNvPicPr/>
            <p:nvPr/>
          </p:nvPicPr>
          <p:blipFill>
            <a:blip r:embed="rId5"/>
            <a:stretch/>
          </p:blipFill>
          <p:spPr>
            <a:xfrm>
              <a:off x="5003640" y="3500280"/>
              <a:ext cx="302436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Box 6"/>
            <p:cNvSpPr/>
            <p:nvPr/>
          </p:nvSpPr>
          <p:spPr>
            <a:xfrm>
              <a:off x="7687800" y="3500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5" name="Группа 7"/>
          <p:cNvGrpSpPr/>
          <p:nvPr/>
        </p:nvGrpSpPr>
        <p:grpSpPr>
          <a:xfrm>
            <a:off x="611280" y="3500280"/>
            <a:ext cx="3097080" cy="2233800"/>
            <a:chOff x="611280" y="3500280"/>
            <a:chExt cx="3097080" cy="2233800"/>
          </a:xfrm>
        </p:grpSpPr>
        <p:pic>
          <p:nvPicPr>
            <p:cNvPr id="266" name="Picture 7" descr=""/>
            <p:cNvPicPr/>
            <p:nvPr/>
          </p:nvPicPr>
          <p:blipFill>
            <a:blip r:embed="rId6"/>
            <a:stretch/>
          </p:blipFill>
          <p:spPr>
            <a:xfrm>
              <a:off x="611280" y="3500280"/>
              <a:ext cx="3097080" cy="22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7"/>
            <p:cNvSpPr/>
            <p:nvPr/>
          </p:nvSpPr>
          <p:spPr>
            <a:xfrm>
              <a:off x="3290400" y="3500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2185920" y="2970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Карточки - перфокарт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69" name="Группа 3"/>
          <p:cNvGrpSpPr/>
          <p:nvPr/>
        </p:nvGrpSpPr>
        <p:grpSpPr>
          <a:xfrm>
            <a:off x="1403280" y="1141560"/>
            <a:ext cx="3166920" cy="2060280"/>
            <a:chOff x="1403280" y="1141560"/>
            <a:chExt cx="3166920" cy="2060280"/>
          </a:xfrm>
        </p:grpSpPr>
        <p:pic>
          <p:nvPicPr>
            <p:cNvPr id="270" name="Picture 4" descr=""/>
            <p:cNvPicPr/>
            <p:nvPr/>
          </p:nvPicPr>
          <p:blipFill>
            <a:blip r:embed="rId1"/>
            <a:stretch/>
          </p:blipFill>
          <p:spPr>
            <a:xfrm>
              <a:off x="1403280" y="1141560"/>
              <a:ext cx="3066120" cy="20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2"/>
            <p:cNvSpPr/>
            <p:nvPr/>
          </p:nvSpPr>
          <p:spPr>
            <a:xfrm>
              <a:off x="4261320" y="1209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2" name="Группа 5"/>
          <p:cNvGrpSpPr/>
          <p:nvPr/>
        </p:nvGrpSpPr>
        <p:grpSpPr>
          <a:xfrm>
            <a:off x="4788000" y="1098720"/>
            <a:ext cx="3043440" cy="2058840"/>
            <a:chOff x="4788000" y="1098720"/>
            <a:chExt cx="3043440" cy="2058840"/>
          </a:xfrm>
        </p:grpSpPr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4788000" y="1141920"/>
              <a:ext cx="3034440" cy="20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4"/>
            <p:cNvSpPr/>
            <p:nvPr/>
          </p:nvSpPr>
          <p:spPr>
            <a:xfrm>
              <a:off x="7513560" y="1098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5" name="Группа 7"/>
          <p:cNvGrpSpPr/>
          <p:nvPr/>
        </p:nvGrpSpPr>
        <p:grpSpPr>
          <a:xfrm>
            <a:off x="471600" y="3747960"/>
            <a:ext cx="3421080" cy="2295720"/>
            <a:chOff x="471600" y="3747960"/>
            <a:chExt cx="3421080" cy="2295720"/>
          </a:xfrm>
        </p:grpSpPr>
        <p:pic>
          <p:nvPicPr>
            <p:cNvPr id="276" name="Picture 6" descr=""/>
            <p:cNvPicPr/>
            <p:nvPr/>
          </p:nvPicPr>
          <p:blipFill>
            <a:blip r:embed="rId3"/>
            <a:stretch/>
          </p:blipFill>
          <p:spPr>
            <a:xfrm>
              <a:off x="471600" y="3747960"/>
              <a:ext cx="324108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Box 6"/>
            <p:cNvSpPr/>
            <p:nvPr/>
          </p:nvSpPr>
          <p:spPr>
            <a:xfrm>
              <a:off x="3532680" y="37479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8" name="Группа 9"/>
          <p:cNvGrpSpPr/>
          <p:nvPr/>
        </p:nvGrpSpPr>
        <p:grpSpPr>
          <a:xfrm>
            <a:off x="5751360" y="3789360"/>
            <a:ext cx="3238920" cy="2212920"/>
            <a:chOff x="5751360" y="3789360"/>
            <a:chExt cx="3238920" cy="2212920"/>
          </a:xfrm>
        </p:grpSpPr>
        <p:pic>
          <p:nvPicPr>
            <p:cNvPr id="279" name="Picture 7" descr=""/>
            <p:cNvPicPr/>
            <p:nvPr/>
          </p:nvPicPr>
          <p:blipFill>
            <a:blip r:embed="rId4"/>
            <a:stretch/>
          </p:blipFill>
          <p:spPr>
            <a:xfrm>
              <a:off x="5751360" y="3789360"/>
              <a:ext cx="308916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8"/>
            <p:cNvSpPr/>
            <p:nvPr/>
          </p:nvSpPr>
          <p:spPr>
            <a:xfrm>
              <a:off x="8672400" y="3870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63680" y="396720"/>
            <a:ext cx="8289720" cy="1157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68360" y="1989000"/>
            <a:ext cx="8136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2f2f2"/>
                </a:solidFill>
                <a:latin typeface="Trebuchet MS"/>
              </a:rPr>
              <a:t>            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909360" y="476280"/>
            <a:ext cx="14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У Маш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2514600" y="45720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было 8 куко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4773960" y="4446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3 кукл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6165360" y="430200"/>
            <a:ext cx="7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она</a:t>
            </a:r>
            <a:r>
              <a:rPr b="0" lang="ru-RU" sz="1800" spc="-1" strike="noStrike">
                <a:solidFill>
                  <a:srgbClr val="31489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6926400" y="43020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одари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431640" y="100980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младшей сестре</a:t>
            </a:r>
            <a:r>
              <a:rPr b="0" lang="ru-RU" sz="1800" spc="-1" strike="noStrike">
                <a:solidFill>
                  <a:srgbClr val="31489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3099960" y="95868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Сколько осталос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6004800" y="92376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кукол у Маши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763560" y="4508640"/>
            <a:ext cx="1360440" cy="2266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3"/>
          <a:stretch/>
        </p:blipFill>
        <p:spPr>
          <a:xfrm>
            <a:off x="4152960" y="4519440"/>
            <a:ext cx="1228680" cy="2049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4"/>
          <a:stretch/>
        </p:blipFill>
        <p:spPr>
          <a:xfrm>
            <a:off x="6980400" y="4508640"/>
            <a:ext cx="1303200" cy="2171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5"/>
          <a:stretch/>
        </p:blipFill>
        <p:spPr>
          <a:xfrm>
            <a:off x="1355760" y="1835280"/>
            <a:ext cx="1768320" cy="1131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6"/>
          <a:stretch/>
        </p:blipFill>
        <p:spPr>
          <a:xfrm>
            <a:off x="5214960" y="1677960"/>
            <a:ext cx="1905120" cy="1289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7"/>
          <a:stretch/>
        </p:blipFill>
        <p:spPr>
          <a:xfrm>
            <a:off x="1519200" y="3182760"/>
            <a:ext cx="1711440" cy="1165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"/>
          <p:cNvPicPr/>
          <p:nvPr/>
        </p:nvPicPr>
        <p:blipFill>
          <a:blip r:embed="rId8"/>
          <a:stretch/>
        </p:blipFill>
        <p:spPr>
          <a:xfrm>
            <a:off x="5227560" y="3046320"/>
            <a:ext cx="1962360" cy="1319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9"/>
          <a:stretch/>
        </p:blipFill>
        <p:spPr>
          <a:xfrm>
            <a:off x="611280" y="1574640"/>
            <a:ext cx="8093160" cy="51800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6"/>
          <p:cNvSpPr/>
          <p:nvPr/>
        </p:nvSpPr>
        <p:spPr>
          <a:xfrm>
            <a:off x="4276080" y="1736640"/>
            <a:ext cx="8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68b0"/>
                </a:solidFill>
                <a:latin typeface="Trebuchet MS"/>
              </a:rPr>
              <a:t>8 к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TextBox 27"/>
          <p:cNvSpPr/>
          <p:nvPr/>
        </p:nvSpPr>
        <p:spPr>
          <a:xfrm>
            <a:off x="1933560" y="2322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68b0"/>
                </a:solidFill>
                <a:latin typeface="Trebuchet MS"/>
              </a:rPr>
              <a:t>подари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TextBox 28"/>
          <p:cNvSpPr/>
          <p:nvPr/>
        </p:nvSpPr>
        <p:spPr>
          <a:xfrm>
            <a:off x="5567400" y="23511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68b0"/>
                </a:solidFill>
                <a:latin typeface="Trebuchet MS"/>
              </a:rPr>
              <a:t>Ос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TextBox 29"/>
          <p:cNvSpPr/>
          <p:nvPr/>
        </p:nvSpPr>
        <p:spPr>
          <a:xfrm>
            <a:off x="2536200" y="30463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68b0"/>
                </a:solidFill>
                <a:latin typeface="Trebuchet MS"/>
              </a:rPr>
              <a:t>3 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TextBox 30"/>
          <p:cNvSpPr/>
          <p:nvPr/>
        </p:nvSpPr>
        <p:spPr>
          <a:xfrm>
            <a:off x="5580720" y="309240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68b0"/>
                </a:solidFill>
                <a:latin typeface="Trebuchet MS"/>
              </a:rPr>
              <a:t>? К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Овал 31"/>
          <p:cNvSpPr/>
          <p:nvPr/>
        </p:nvSpPr>
        <p:spPr>
          <a:xfrm>
            <a:off x="4129200" y="1620720"/>
            <a:ext cx="914400" cy="914400"/>
          </a:xfrm>
          <a:prstGeom prst="ellipse">
            <a:avLst/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TextBox 32"/>
          <p:cNvSpPr/>
          <p:nvPr/>
        </p:nvSpPr>
        <p:spPr>
          <a:xfrm>
            <a:off x="1741680" y="4164120"/>
            <a:ext cx="276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8 - 3 = 5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TextBox 33"/>
          <p:cNvSpPr/>
          <p:nvPr/>
        </p:nvSpPr>
        <p:spPr>
          <a:xfrm>
            <a:off x="6273720" y="4156200"/>
            <a:ext cx="108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1489f"/>
                </a:solidFill>
                <a:latin typeface="Trebuchet MS"/>
              </a:rPr>
              <a:t> </a:t>
            </a:r>
            <a:r>
              <a:rPr b="0" lang="ru-RU" sz="5400" spc="-1" strike="noStrike">
                <a:solidFill>
                  <a:srgbClr val="31489f"/>
                </a:solidFill>
                <a:latin typeface="Trebuchet MS"/>
              </a:rPr>
              <a:t>к.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TextBox 34"/>
          <p:cNvSpPr/>
          <p:nvPr/>
        </p:nvSpPr>
        <p:spPr>
          <a:xfrm>
            <a:off x="3468600" y="5545080"/>
            <a:ext cx="41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1489f"/>
                </a:solidFill>
                <a:latin typeface="Trebuchet MS"/>
              </a:rPr>
              <a:t>5 кукол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  <p:sndAc>
      <p:stSnd>
        <p:snd r:embed="rId10" name="camera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6:01:31Z</dcterms:created>
  <dc:creator>Танюшка</dc:creator>
  <dc:description/>
  <dc:language>en-US</dc:language>
  <cp:lastModifiedBy>User</cp:lastModifiedBy>
  <dcterms:modified xsi:type="dcterms:W3CDTF">2013-04-23T11:25:10Z</dcterms:modified>
  <cp:revision>66</cp:revision>
  <dc:subject/>
  <dc:title>Место и роль обратных задач в формировании способов аналитического мышления</dc:title>
</cp:coreProperties>
</file>