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855-A62D-4BB2-9149-D37E9656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475-CADA-4D2A-AD5E-08BFD137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420-2995-4A52-B750-CDB335AD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DAD-C441-4ED3-B27C-6C09B123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0DB3-1FE5-4D35-A214-86403A11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3061-CCC2-447A-A72B-165C4458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8148-1BDC-4CD6-81B6-735A1EE4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DC33-3B9A-4484-BFE5-85F287FB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378F-9059-429D-8B0E-4FF21713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07E9-D269-4DDA-9BB0-797A1B53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A5B6-041F-4AF0-BDE5-E6FD802D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984-868D-4F76-BC28-6E5015B0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88B9-4B51-4E84-A186-728DD5FC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011A-03C9-4694-82DD-26A6D3D8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C703-927D-480F-AACE-8CBF6913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DDDB-9481-4C9E-B0CD-9CB3AC4F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B165-F37B-448C-85EE-F25B7A58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BB5-2862-4298-95C7-779B699C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BC2-7031-47EA-8731-DD16D4B1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D4A-E7D6-4C7A-BD48-204CA054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5CB-BE00-40BD-9126-215F1E78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573-AA1B-42DB-8384-318D2254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4A5-5E3A-4D0D-B707-E3C7179B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384-FB11-4973-A274-03081115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04A6-8892-4C7C-88F0-3771AA282F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FB92-C20F-4F7D-8D4A-788387CA83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ехнология модульного обуч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ория и прак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39"/>
                </a:solidFill>
                <a:latin typeface="Arial"/>
              </a:rPr>
              <a:t>Цель модульного обучения: содействие развитию самостоятельности учащихся, их умения работать с учетом индивидуальных способов проработки учебного материала.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дцевина модульного обучения - учебный модуль, включающий: законченный блок информации; целевую программу действий ученика; рекомендации (советы) учителя по ее успешной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дульная технология обеспечивает индивидуализацию обучения: по содержанию обучения, по темпу усвоения, по уровню самостоятельности, по методам и способам учения, по способам контроля и самоконтрол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39"/>
                </a:solidFill>
                <a:latin typeface="Arial"/>
              </a:rPr>
              <a:t>Принципиальные отличия модульного обучения от других систем обучения состоят в следующем: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 обучения представляется в законченных самостоятельных комплексах, усвоение которых осуществляется в соответствии с поставленной целью. Цель формируется для обучающегося и содержит в себе не только указание на объем изучаемого содержания, но и на уровень его усво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яется форма общения учителя с учащимися. Оно осуществляется через модули и, безусловно, реализуется процесс индивидуального общения управляемого и управляющег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работает максимум времени самостоятельно, учится целеполаганию, самопланированию, самоорганизации и самоконтрол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ует проблема индивидуального консультирования, дозированной помощи учащим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ИСХОДНЫЕ НАУЧНЫЕ ИДЕ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ное обучение базируется на деятельностном принцип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ная технология строится на идеях развивающего обу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основании модульной технологии находится и программированное обучение. Четкость и логичность действий, активность и самостоятельность школьника, индивидуализированный темп работы, регулярная сверка результа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нсивный характер технологии требует оптимизации процесса обучения, т.е. достижения наилучшего результата с наименьшей затратой сил, време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8c0039"/>
                </a:solidFill>
                <a:latin typeface="Arial"/>
              </a:rPr>
              <a:t>Структура модульной программы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разработке модулей следует исходить из известных принци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астные дидактические цели учебных элементов в своей совокупности обеспечивают достижение интегрированной цели модуля; реализация интегрированных целей всех модулей, в свою очередь, приводит к комплексной дидактической цели модульной программ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ализованная обратная связь - основа управляемости и контролируемости процесса усвоения знаний. При этом входной и выходной контроль более жесткий, осуществляется учителем, а текущий и промежуточный (на стыке учебных элементов) - мягкий, проходит в виде само- и взаимоконтроля учащихс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ебный и дидактический материал излагается доступно, конкретно, выразительно, в диалоговой форм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 построении модуля соблюдается логика усвоения учащимися знаний: восприятие, осмысление, запоминание, применение, обобщение и систематизац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руктура модуля должна соответствовать логике учебного занятия того или иного тип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ГРАНИЧЕНИЯ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вень готовности школьников к выполнению самостоятельной учеб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альные возможности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ключение в модуль очень большого объема содержания деятельности, что создает дефицит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3:58:55Z</dcterms:created>
  <dc:creator>User</dc:creator>
  <dc:description/>
  <dc:language>en-US</dc:language>
  <cp:lastModifiedBy>User</cp:lastModifiedBy>
  <dcterms:modified xsi:type="dcterms:W3CDTF">2012-12-11T13:34:1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