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CA8-15BE-4F25-B89E-46704132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E16-DCB8-4DBA-B06B-EB6610F8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731-BCF5-4E49-95F9-713C3E29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44A-0942-4D67-971C-3DC3137B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AF4C-D5B1-49FC-8614-FF2EE81C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27AE-9619-4A57-89B1-014761E7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EC29-392E-46F4-BEDD-15266F94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2D98-B0F7-4D03-AD8E-E4D9C581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D65C-CED0-42BF-957C-E68B2F24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ABA4-C076-4062-B545-862E116C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8537-DA07-43BE-913A-58D99960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E8A7-7B3E-4FAF-9D74-18E53A53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2040-7CE4-4C33-B518-9437AA1C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911B-E3C1-43AD-A69C-AD67E869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7E1B-E93E-4C35-932E-016BB461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1B71-0644-460D-9C1A-A37E3EAD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A289-E904-4D9E-A6A6-B0B301D4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C1D0-523B-4F87-89C9-7C4F3F49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F98-23AB-4EE8-8073-D1AB29DA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398-851C-4E44-8B0B-902938EA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6A1-0193-420F-ADF7-A1D3936F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251-F7B0-47A8-875B-BC3459A4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145-A44C-4C9E-92C8-CA30F7E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CE4-B40A-4FF3-B68D-F4A71E96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FA75-63B0-4522-A653-FFEC65543A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2DB2-2FB8-4ACE-8248-F6851BA25E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Технология модульного обуч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рия и прак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39"/>
                </a:solidFill>
                <a:latin typeface="Arial"/>
              </a:rPr>
              <a:t>Цель модульного обучения: содействие развитию самостоятельности учащихся, их умения работать с учетом индивидуальных способов проработки учебного материала.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ердцевина модульного обучения - учебный модуль, включающий: законченный блок информации; целевую программу действий ученика; рекомендации (советы) учителя по ее успешной реал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дульная технология обеспечивает индивидуализацию обучения: по содержанию обучения, по темпу усвоения, по уровню самостоятельности, по методам и способам учения, по способам контроля и самоконтрол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39"/>
                </a:solidFill>
                <a:latin typeface="Arial"/>
              </a:rPr>
              <a:t>Принципиальные отличия модульного обучения от других систем обучения состоят в следующем: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обучения представляется в законченных самостоятельных комплексах, усвоение которых осуществляется в соответствии с поставленной целью. Цель формируется для обучающегося и содержит в себе не только указание на объем изучаемого содержания, но и на уровень его усво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няется форма общения учителя с учащимися. Оно осуществляется через модули и, безусловно, реализуется процесс индивидуального общения управляемого и управляющег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работает максимум времени самостоятельно, учится целеполаганию, самопланированию, самоорганизации и самоконтрол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ует проблема индивидуального консультирования, дозированной помощи учащим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ИСХОДНЫЕ НАУЧНЫЕ ИДЕ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ное обучение базируется на деятельностном принцип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ьная технология строится на идеях развивающего обу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основании модульной технологии находится и программированное обучение. Четкость и логичность действий, активность и самостоятельность школьника, индивидуализированный темп работы, регулярная сверка результа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нсивный характер технологии требует оптимизации процесса обучения, т.е. достижения наилучшего результата с наименьшей затратой сил, време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8c0039"/>
                </a:solidFill>
                <a:latin typeface="Arial"/>
              </a:rPr>
              <a:t>Структура модульной программы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разработке модулей следует исходить из известных принцип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астные дидактические цели учебных элементов в своей совокупности обеспечивают достижение интегрированной цели модуля; реализация интегрированных целей всех модулей, в свою очередь, приводит к комплексной дидактической цели модульной программ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ализованная обратная связь - основа управляемости и контролируемости процесса усвоения знаний. При этом входной и выходной контроль более жесткий, осуществляется учителем, а текущий и промежуточный (на стыке учебных элементов) - мягкий, проходит в виде само- и взаимоконтроля учащих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ебный и дидактический материал излагается доступно, конкретно, выразительно, в диалоговой форм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 построении модуля соблюдается логика усвоения учащимися знаний: восприятие, осмысление, запоминание, применение, обобщение и систематизац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руктура модуля должна соответствовать логике учебного занятия того или иного тип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ГРАНИЧЕНИЯ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вень готовности школьников к выполнению самостоятельной учеб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териальные возможности шко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ключение в модуль очень большого объема содержания деятельности, что создает дефицит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3:58:55Z</dcterms:created>
  <dc:creator>User</dc:creator>
  <dc:description/>
  <dc:language>en-US</dc:language>
  <cp:lastModifiedBy>User</cp:lastModifiedBy>
  <dcterms:modified xsi:type="dcterms:W3CDTF">2012-12-11T13:34:1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