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7.jpeg" ContentType="image/jpeg"/>
  <Override PartName="/ppt/media/image9.png" ContentType="image/png"/>
  <Override PartName="/ppt/media/image15.gif" ContentType="image/gif"/>
  <Override PartName="/ppt/media/image6.png" ContentType="image/png"/>
  <Override PartName="/ppt/media/image3.gif" ContentType="image/gif"/>
  <Override PartName="/ppt/media/image10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6.png" ContentType="image/pn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E64-9535-4650-B58E-1806BB45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689-D0BB-4A89-8AFA-1063E051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8C6-01E5-4687-831D-5D11E1AA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D97-FB8F-4481-A5A7-7C64183A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130D-97E4-4F39-BC55-B2662CEA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534D-8F82-4C7A-B82C-4722A53B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5653-68C9-4A70-9CDC-F47D23C7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93FC-661C-453C-8453-4D07940A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E29B-2362-4719-80B7-3692BCA4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DB95-5FFF-4D93-80D9-E10B38E3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FE1F-8EFE-4033-9EFD-23ACC85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021-85FB-43D0-82DF-2E293696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C499-8458-4E1C-BF2C-F45E61EC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B278-6808-4B71-8122-18BE1A76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4742-F7B2-42D7-A186-932DD6A8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1BD0-CBE1-4C34-8596-2AB9C595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9E99-69FF-4B66-9D0E-CE1045F1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1EB-4DED-4FF9-A84F-3CACD1AE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F3A-BD69-4812-8DC4-5964EEA6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7F6-508E-47F9-A070-48F375D4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E72-AC9C-46C7-BD15-25F90748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9AD-ABB1-4F91-A102-5095F348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E7A-E00D-4010-BE87-FA0B69E7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2E6-19CF-4644-B472-E7F7FE94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CAEF-6F39-4679-A8D9-A2D4C21014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5631-6F10-4CCB-9BD5-188585FFB0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6666"/>
                </a:solidFill>
                <a:latin typeface="Times New Roman"/>
              </a:rPr>
              <a:t>Восемнадцатое мая.</a:t>
            </a:r>
            <a:br>
              <a:rPr sz="4800"/>
            </a:br>
            <a:r>
              <a:rPr b="0" i="1" lang="en-US" sz="4800" spc="-1" strike="noStrike">
                <a:solidFill>
                  <a:srgbClr val="006666"/>
                </a:solidFill>
                <a:latin typeface="Times New Roman"/>
              </a:rPr>
              <a:t>Классная работа.</a:t>
            </a:r>
            <a:br>
              <a:rPr sz="4800"/>
            </a:br>
            <a:r>
              <a:rPr b="0" i="1" lang="en-US" sz="4800" spc="-1" strike="noStrike">
                <a:solidFill>
                  <a:srgbClr val="006666"/>
                </a:solidFill>
                <a:latin typeface="Times New Roman"/>
              </a:rPr>
              <a:t>Разделы науки о языке.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32000" y="4211640"/>
            <a:ext cx="28083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фография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изк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чер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рустн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71640" y="549360"/>
            <a:ext cx="7711920" cy="53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Очень-очень странный вид: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Речка за окном горит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Чей-то дом хвостом виляет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Пёсик из ружья стреляет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Мальчик чуть не слопал мышку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Кот в очках читает книжку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Старый дед влетел в окно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Воробей схватил зерно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Да как крикнет, улетая: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Вот что значит запятая!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нктуация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таксис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3335400" cy="5048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763640" y="836640"/>
            <a:ext cx="612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одчеркните существительное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хлеб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как член предложения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леб в этом году уродился на славу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я существительное – хлеб язы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рёжа, сходи за хлебом к ужину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хлебом и еда сытнее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фология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фемик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15640" y="1557360"/>
            <a:ext cx="748836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акую роль в письменном общении играет почерк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227640" y="3716280"/>
            <a:ext cx="24624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ип уро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вторительно-обобщающ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О грамоте и больной ноге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дин неграмотный пришел с поклоном к грамотею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Будь другом, напиши письмо, а то я не умею…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Нет, не могу. Нога болит, - ответил хмуро тот. –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Через неделю приходи, авось, болезнь пройдет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Да разве пишешь ты ногой? – неграмотный спросил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Нет, мне по адресу с письмом ходить не хватит сил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очерк у меня такой, трудись хоть целый год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Но без меня мое письмо никто не разбере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ослание для любознательных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4830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Times New Roman"/>
              </a:rPr>
              <a:t>Подведем итог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аспределить слова по колонкам (колонки заранее расчерчены на доске): учителю помогают два экспер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4021200"/>
            <a:ext cx="3097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333600" cy="4152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3672000" y="2001960"/>
            <a:ext cx="4645080" cy="37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,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...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омашнее задание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пр. 723, стр. 28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30099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32000" y="476280"/>
            <a:ext cx="691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!!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1619280" y="2421000"/>
            <a:ext cx="65880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вторить основные понятия разделов о язык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азвить умение определять границы каждой науки о язык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оспитать чувство товарищества в классном коллектив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2360" y="4724280"/>
            <a:ext cx="17636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бъясни значение пословиц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дин за всех, все за одног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ксик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ловарная работа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одобрать антонимы к данным словам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изк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ава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Учень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ыты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обры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оровы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Черны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ашег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Ложитс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тар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есел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Груст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5280" y="476280"/>
            <a:ext cx="60498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выученных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ов!!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468360" y="3716280"/>
            <a:ext cx="1828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920" y="1827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 algn="ctr">
              <a:lnSpc>
                <a:spcPct val="10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изкий[н’изкий]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ctr">
              <a:lnSpc>
                <a:spcPct val="10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рный [ч’ёрный]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ctr">
              <a:lnSpc>
                <a:spcPct val="10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устно [грусно]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??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20:00Z</dcterms:created>
  <dc:creator>XTreme</dc:creator>
  <dc:description/>
  <dc:language>en-US</dc:language>
  <cp:lastModifiedBy>XTreme</cp:lastModifiedBy>
  <dcterms:modified xsi:type="dcterms:W3CDTF">2011-05-17T18:40:08Z</dcterms:modified>
  <cp:revision>15</cp:revision>
  <dc:subject/>
  <dc:title>Слайд 1</dc:title>
</cp:coreProperties>
</file>