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17.jpeg" ContentType="image/jpeg"/>
  <Override PartName="/ppt/media/image9.png" ContentType="image/png"/>
  <Override PartName="/ppt/media/image15.gif" ContentType="image/gif"/>
  <Override PartName="/ppt/media/image6.png" ContentType="image/png"/>
  <Override PartName="/ppt/media/image3.gif" ContentType="image/gif"/>
  <Override PartName="/ppt/media/image10.jpeg" ContentType="image/jpeg"/>
  <Override PartName="/ppt/media/image2.gif" ContentType="image/gif"/>
  <Override PartName="/ppt/media/image5.png" ContentType="image/png"/>
  <Override PartName="/ppt/media/image1.gif" ContentType="image/gif"/>
  <Override PartName="/ppt/media/image4.png" ContentType="image/png"/>
  <Override PartName="/ppt/media/image7.gif" ContentType="image/gif"/>
  <Override PartName="/ppt/media/image12.gif" ContentType="image/gif"/>
  <Override PartName="/ppt/media/image8.gif" ContentType="image/gif"/>
  <Override PartName="/ppt/media/image16.png" ContentType="image/png"/>
  <Override PartName="/ppt/media/image1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227E-B831-40C0-8C10-03491DD0A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8547-7AD9-4AC6-99F6-416E25BD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D514-3491-49C3-94CB-BE80C868A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6902-1F2D-4B2A-9A73-FD0CD6C19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C4D8-B8C9-495E-9F88-837AB8953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513F-9F6D-437D-8D37-7804FBF6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0434-E8E1-4BF7-A7B1-6088903E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BFCE-19CE-4220-92EC-24EDEE7E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E9BB-AECF-4655-A81C-10AD381F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20D3-0A24-4081-8FA7-7440BCA3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2B67-B91E-4594-B2C4-1EC7FCAC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9617-A189-4B3D-81C6-4E41C351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DEDB-9647-4E2C-9740-15CE3D9B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2CA8-6DEC-4A16-9F5F-E0764B57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FF6D-3482-4B43-A6B1-8F036C76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DBB6-BAD2-43CE-9857-E64901454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8A47-560E-4B17-9101-744DBFA8F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0032-860D-4195-A5E3-6334F1A5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24D7-F504-42CD-8BE7-DE419A06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9E76-AC34-4FAE-9B0C-24F965D4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F989-2FF4-444F-AFCD-15239B5B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0EE5-85DB-4E41-A2A3-1328D60C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F87D-46F2-42A4-B2F6-A017CC07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739A-A7E5-4F47-A4C8-4AA11242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49F6-93F6-420B-8F9D-6AD5DF8A6C0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60AC-E8B3-481E-903B-3B7A22F9FE3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2090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6666"/>
                </a:solidFill>
                <a:latin typeface="Times New Roman"/>
              </a:rPr>
              <a:t>Восемнадцатое мая.</a:t>
            </a:r>
            <a:br>
              <a:rPr sz="4800"/>
            </a:br>
            <a:r>
              <a:rPr b="0" i="1" lang="en-US" sz="4800" spc="-1" strike="noStrike">
                <a:solidFill>
                  <a:srgbClr val="006666"/>
                </a:solidFill>
                <a:latin typeface="Times New Roman"/>
              </a:rPr>
              <a:t>Классная работа.</a:t>
            </a:r>
            <a:br>
              <a:rPr sz="4800"/>
            </a:br>
            <a:r>
              <a:rPr b="0" i="1" lang="en-US" sz="4800" spc="-1" strike="noStrike">
                <a:solidFill>
                  <a:srgbClr val="006666"/>
                </a:solidFill>
                <a:latin typeface="Times New Roman"/>
              </a:rPr>
              <a:t>Разделы науки о языке.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132000" y="4211640"/>
            <a:ext cx="28083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411280" y="2349360"/>
            <a:ext cx="1368720" cy="2159280"/>
          </a:xfrm>
          <a:custGeom>
            <a:avLst/>
            <a:gdLst>
              <a:gd name="textAreaLeft" fmla="*/ 0 w 1368720"/>
              <a:gd name="textAreaRight" fmla="*/ 1369080 w 1368720"/>
              <a:gd name="textAreaTop" fmla="*/ 0 h 2159280"/>
              <a:gd name="textAreaBottom" fmla="*/ 2159640 h 215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0920" y="4221000"/>
            <a:ext cx="380988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284720" y="2349360"/>
            <a:ext cx="2374920" cy="2087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80000" y="1052640"/>
            <a:ext cx="3311280" cy="12240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03640" y="2924280"/>
            <a:ext cx="935280" cy="93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08720" y="292428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03640" y="3429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476360" y="549360"/>
            <a:ext cx="259236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тановк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№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716360" y="4724280"/>
            <a:ext cx="410364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рфография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изкий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черный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грустно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71640" y="549360"/>
            <a:ext cx="7711920" cy="53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Очень-очень странный вид: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Речка за окном горит,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Чей-то дом хвостом виляет,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Пёсик из ружья стреляет,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Мальчик чуть не слопал мышку,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Кот в очках читает книжку,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Старый дед влетел в окно,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Воробей схватил зерно,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Да как крикнет, улетая: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 Вот что значит запятая!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411280" y="2349360"/>
            <a:ext cx="1368720" cy="2159280"/>
          </a:xfrm>
          <a:custGeom>
            <a:avLst/>
            <a:gdLst>
              <a:gd name="textAreaLeft" fmla="*/ 0 w 1368720"/>
              <a:gd name="textAreaRight" fmla="*/ 1369080 w 1368720"/>
              <a:gd name="textAreaTop" fmla="*/ 0 h 2159280"/>
              <a:gd name="textAreaBottom" fmla="*/ 2159640 h 215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0920" y="4221000"/>
            <a:ext cx="3809880" cy="2057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284720" y="2349360"/>
            <a:ext cx="2374920" cy="2087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80000" y="1052640"/>
            <a:ext cx="3311280" cy="12240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03640" y="2924280"/>
            <a:ext cx="935280" cy="93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08720" y="292428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03640" y="3429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476360" y="549360"/>
            <a:ext cx="259236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тановк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№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716360" y="4724280"/>
            <a:ext cx="410364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унктуация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11280" y="2349360"/>
            <a:ext cx="1368720" cy="2159280"/>
          </a:xfrm>
          <a:custGeom>
            <a:avLst/>
            <a:gdLst>
              <a:gd name="textAreaLeft" fmla="*/ 0 w 1368720"/>
              <a:gd name="textAreaRight" fmla="*/ 1369080 w 1368720"/>
              <a:gd name="textAreaTop" fmla="*/ 0 h 2159280"/>
              <a:gd name="textAreaBottom" fmla="*/ 2159640 h 215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4221000"/>
            <a:ext cx="3809880" cy="20574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284720" y="2349360"/>
            <a:ext cx="2374920" cy="2087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80000" y="1052640"/>
            <a:ext cx="3311280" cy="12240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03640" y="2924280"/>
            <a:ext cx="935280" cy="93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08720" y="292428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3429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76360" y="549360"/>
            <a:ext cx="259236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тановк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№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716360" y="4724280"/>
            <a:ext cx="410364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нтаксис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987640" y="1052640"/>
            <a:ext cx="3335400" cy="5048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1763640" y="836640"/>
            <a:ext cx="6121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зминутк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Подчеркните существительное </a:t>
            </a: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хлеб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как член предложения: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Хлеб в этом году уродился на славу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мя существительное – хлеб языка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рёжа, сходи за хлебом к ужину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 хлебом и еда сытнее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411280" y="2349360"/>
            <a:ext cx="1368720" cy="2159280"/>
          </a:xfrm>
          <a:custGeom>
            <a:avLst/>
            <a:gdLst>
              <a:gd name="textAreaLeft" fmla="*/ 0 w 1368720"/>
              <a:gd name="textAreaRight" fmla="*/ 1369080 w 1368720"/>
              <a:gd name="textAreaTop" fmla="*/ 0 h 2159280"/>
              <a:gd name="textAreaBottom" fmla="*/ 2159640 h 215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50920" y="4221000"/>
            <a:ext cx="3809880" cy="20574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284720" y="2349360"/>
            <a:ext cx="2374920" cy="2087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80000" y="1052640"/>
            <a:ext cx="3311280" cy="12240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03640" y="2924280"/>
            <a:ext cx="935280" cy="93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08720" y="292428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03640" y="3429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476360" y="549360"/>
            <a:ext cx="259236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тановк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№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716360" y="4724280"/>
            <a:ext cx="410364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рфология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411280" y="2349360"/>
            <a:ext cx="1368720" cy="2159280"/>
          </a:xfrm>
          <a:custGeom>
            <a:avLst/>
            <a:gdLst>
              <a:gd name="textAreaLeft" fmla="*/ 0 w 1368720"/>
              <a:gd name="textAreaRight" fmla="*/ 1369080 w 1368720"/>
              <a:gd name="textAreaTop" fmla="*/ 0 h 2159280"/>
              <a:gd name="textAreaBottom" fmla="*/ 2159640 h 215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4221000"/>
            <a:ext cx="3809880" cy="20574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284720" y="2349360"/>
            <a:ext cx="2374920" cy="2087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80000" y="1052640"/>
            <a:ext cx="3311280" cy="12240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03640" y="2924280"/>
            <a:ext cx="935280" cy="93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08720" y="292428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03640" y="3429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476360" y="549360"/>
            <a:ext cx="259236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тановк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№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716360" y="4724280"/>
            <a:ext cx="410364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рфемика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115640" y="1557360"/>
            <a:ext cx="748836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Какую роль в письменном общении играет почерк?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227640" y="3716280"/>
            <a:ext cx="246240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Тип урок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овторительно-обобщающи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О грамоте и больной ноге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Один неграмотный пришел с поклоном к грамотею: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- Будь другом, напиши письмо, а то я не умею…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- Нет, не могу. Нога болит, - ответил хмуро тот. –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Через неделю приходи, авось, болезнь пройдет.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- Да разве пишешь ты ногой? – неграмотный спросил.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- Нет, мне по адресу с письмом ходить не хватит сил.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Почерк у меня такой, трудись хоть целый год,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Но без меня мое письмо никто не разберет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411280" y="2349360"/>
            <a:ext cx="1368720" cy="2159280"/>
          </a:xfrm>
          <a:custGeom>
            <a:avLst/>
            <a:gdLst>
              <a:gd name="textAreaLeft" fmla="*/ 0 w 1368720"/>
              <a:gd name="textAreaRight" fmla="*/ 1369080 w 1368720"/>
              <a:gd name="textAreaTop" fmla="*/ 0 h 2159280"/>
              <a:gd name="textAreaBottom" fmla="*/ 2159640 h 215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50920" y="4221000"/>
            <a:ext cx="3809880" cy="20574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284720" y="2349360"/>
            <a:ext cx="2374920" cy="2087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80000" y="1052640"/>
            <a:ext cx="3311280" cy="12240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03640" y="2924280"/>
            <a:ext cx="935280" cy="93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08720" y="292428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03640" y="3429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476360" y="549360"/>
            <a:ext cx="259236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тановк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№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716360" y="4724280"/>
            <a:ext cx="410364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рафика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Послание для любознательных…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348000" y="1628640"/>
            <a:ext cx="348300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Times New Roman"/>
              </a:rPr>
              <a:t>Подведем итоги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Распределить слова по колонкам (колонки заранее расчерчены на доске): учителю помогают два эксперт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79280" y="4021200"/>
            <a:ext cx="309744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3333600" cy="41529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3672000" y="2001960"/>
            <a:ext cx="4645080" cy="373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,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,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,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    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,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         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...</a:t>
            </a:r>
            <a:endParaRPr b="0" lang="en-US" sz="18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Домашнее задание…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Упр. 723, стр. 285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796000" y="3429000"/>
            <a:ext cx="30099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332000" y="476280"/>
            <a:ext cx="6912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 внимание!!!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6"/>
          <a:stretch/>
        </p:blipFill>
        <p:spPr>
          <a:xfrm>
            <a:off x="1619280" y="2421000"/>
            <a:ext cx="658800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Цели урока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овторить основные понятия разделов о язык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развить умение определять границы каждой науки о язык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воспитать чувство товарищества в классном коллектив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2360" y="4724280"/>
            <a:ext cx="176364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Объясни значение пословиц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Один за всех, все за одного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411280" y="2349360"/>
            <a:ext cx="1368720" cy="2159280"/>
          </a:xfrm>
          <a:custGeom>
            <a:avLst/>
            <a:gdLst>
              <a:gd name="textAreaLeft" fmla="*/ 0 w 1368720"/>
              <a:gd name="textAreaRight" fmla="*/ 1369080 w 1368720"/>
              <a:gd name="textAreaTop" fmla="*/ 0 h 2159280"/>
              <a:gd name="textAreaBottom" fmla="*/ 2159640 h 215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4221000"/>
            <a:ext cx="3809880" cy="2057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284720" y="2349360"/>
            <a:ext cx="2374920" cy="2087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80000" y="1052640"/>
            <a:ext cx="3311280" cy="12240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03640" y="2924280"/>
            <a:ext cx="935280" cy="93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08720" y="292428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03640" y="3429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76360" y="549360"/>
            <a:ext cx="259236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тановк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№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716360" y="4724280"/>
            <a:ext cx="410364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ксика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ловарная работа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подобрать антонимы к данным словам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Низки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Права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Учень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Сыты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Добры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Здоровы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Черны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Нашего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Ложитс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Стары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Веселы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Грустно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5280" y="476280"/>
            <a:ext cx="6049800" cy="489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ан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выученных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роков!!!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468360" y="3716280"/>
            <a:ext cx="18288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42920" y="182736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 algn="ctr">
              <a:lnSpc>
                <a:spcPct val="100000"/>
              </a:lnSpc>
              <a:spcBef>
                <a:spcPts val="1100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изкий[н’изкий]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ctr">
              <a:lnSpc>
                <a:spcPct val="100000"/>
              </a:lnSpc>
              <a:spcBef>
                <a:spcPts val="1100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ерный [ч’ёрный]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ctr">
              <a:lnSpc>
                <a:spcPct val="100000"/>
              </a:lnSpc>
              <a:spcBef>
                <a:spcPts val="1100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рустно [грусно]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411280" y="2349360"/>
            <a:ext cx="1368720" cy="2159280"/>
          </a:xfrm>
          <a:custGeom>
            <a:avLst/>
            <a:gdLst>
              <a:gd name="textAreaLeft" fmla="*/ 0 w 1368720"/>
              <a:gd name="textAreaRight" fmla="*/ 1369080 w 1368720"/>
              <a:gd name="textAreaTop" fmla="*/ 0 h 2159280"/>
              <a:gd name="textAreaBottom" fmla="*/ 2159640 h 215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0920" y="4221000"/>
            <a:ext cx="3809880" cy="2057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284720" y="2349360"/>
            <a:ext cx="2374920" cy="2087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80000" y="1052640"/>
            <a:ext cx="3311280" cy="122400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03640" y="2924280"/>
            <a:ext cx="935280" cy="93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08720" y="292428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03640" y="3429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476360" y="549360"/>
            <a:ext cx="259236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тановк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№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716360" y="4724280"/>
            <a:ext cx="410364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???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5:20:00Z</dcterms:created>
  <dc:creator>XTreme</dc:creator>
  <dc:description/>
  <dc:language>en-US</dc:language>
  <cp:lastModifiedBy>XTreme</cp:lastModifiedBy>
  <dcterms:modified xsi:type="dcterms:W3CDTF">2011-05-17T18:40:08Z</dcterms:modified>
  <cp:revision>15</cp:revision>
  <dc:subject/>
  <dc:title>Слайд 1</dc:title>
</cp:coreProperties>
</file>