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7.wmf" ContentType="image/x-wmf"/>
  <Override PartName="/ppt/media/image20.jpeg" ContentType="image/jpeg"/>
  <Override PartName="/ppt/media/image12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3.png" ContentType="image/png"/>
  <Override PartName="/ppt/media/image26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EF0A-CEDA-4E05-AFFD-393B9E0F5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CD0E-CC24-4E52-8D75-796ADBFD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EB55-5ED4-477A-B4D1-8AE010D01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F05C-F1FD-478E-BF36-11A70CF24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8A04C-07CF-46D8-83DE-8EC0CCCB5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323C-AE92-47B8-A40B-F3B59BBC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AF8F-CBBC-444D-9F8B-53A06ACC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FE345-61D4-4C5F-BC7A-4FA9BB39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BD3B-965E-4347-9553-700F7FC0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EC1A-2116-4489-9E34-E7E409EB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67765-73B9-47CF-8A95-B6C8571E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EA81-C894-4959-96F2-591F8CD8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D081-9D34-4B50-9C0D-6C236E2C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B435E-A38F-41DB-BA11-CE26DB09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66D98-1B7D-4BC7-A395-1FF302BF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8773-CFB9-46F2-8F39-9AD2BF1D2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8622C-C50A-496A-8E3D-C4209D717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B557F-CF4F-4660-AA42-A2B9B3710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3CEB7-AE66-48C4-A433-E0CFDB67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90308-04C5-4265-9DF7-0C8049ED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14A7A-F6DD-4088-B08C-37D71EFFA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DB3CF-B2DE-4EC7-A97A-46FD2607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881C-FF27-42BA-8B75-59C98B1C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45D21-742A-4104-AFA5-AFB09746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6B670-BAE2-4E13-84FE-1F541554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72636-A771-4FBE-B186-8EF425C9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8EF54-A678-46DA-9A64-0DFE5174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5453D-0E82-4FC6-BD6A-BB1B5518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4F98C-3C02-4258-8CC1-980C700AB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4B423-6128-47D3-8D61-A184D4633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05D34-2DAA-46F5-926D-40E3087BD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834B3-45E4-4888-9AF6-6EC6C512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398D6-FBD4-42B6-A21D-46EFF9BC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5097-4056-4BA5-BC20-20FEE355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5BA7D-556D-470A-AF11-04B21022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D13D0-7D0C-4710-BE61-9884DF85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3602B-9286-4132-97D9-6693383D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D67C9-4B66-45CA-955D-DAB32E6C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976B6-00E1-434E-B28E-3CA97EF9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9353E-B74C-4475-A69A-A1016A32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50582-A305-4C65-9593-73FF0AEC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E3EBE-0CE3-4677-BE0E-C3EB9C7FB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AF812-A1E0-424B-A6D1-0B4693424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204B4-3715-4916-9A7D-670310110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74B9-A6AB-4555-B167-2ECCCB01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FF317-C8ED-49FE-A3E0-1FD8C758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E67CB-AA49-4CAE-A8BF-9C34B02B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8E2E4-8BB3-4EBF-B0EB-DC7E3B88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B6DD2-40CF-4EB2-B8D1-43F7AFF7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34EF5-BED7-4C1F-ACD8-3BC42309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357E8-734E-4407-9899-8E35D393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DB148-2A86-4286-B2F5-6B1D5F8E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52DC2-659F-466A-9BF8-163C46CE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D5D0C-6D87-4AF1-B4DC-7976BBF7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F528A-4966-4A00-BAD3-E09F18D49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4503-8132-46BD-A529-364299F2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A6E45-BE25-4716-AF38-C652314E8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A5FA-B799-47F9-BE8A-4A7D24CB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A782-556E-4CB9-AF83-F1A28049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2C17-2B72-4868-A9F7-33DCE3BB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56E7-B57D-4DA0-A98F-DAA29C3F8568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A852-8D57-482F-9EE1-97F1ACEA065C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8051-EC46-4BC3-A732-5E3B1231EE68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1D43-E434-4A76-BD36-65581C139EFB}" type="slidenum">
              <a:rPr b="0" lang="ru-RU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F10B-9BC6-4256-A8A1-C9389D7AA622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4" descr=""/>
          <p:cNvPicPr/>
          <p:nvPr/>
        </p:nvPicPr>
        <p:blipFill>
          <a:blip r:embed="rId1"/>
          <a:stretch/>
        </p:blipFill>
        <p:spPr>
          <a:xfrm>
            <a:off x="139680" y="225360"/>
            <a:ext cx="8967960" cy="57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539640" y="527040"/>
          <a:ext cx="7848720" cy="6372360"/>
        </p:xfrm>
        <a:graphic>
          <a:graphicData uri="http://schemas.openxmlformats.org/drawingml/2006/table">
            <a:tbl>
              <a:tblPr/>
              <a:tblGrid>
                <a:gridCol w="1251000"/>
                <a:gridCol w="6597720"/>
              </a:tblGrid>
              <a:tr h="243720"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Цв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Характерис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973800"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и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Цвет глубины, далёкого неба. Ассоциируется с тишиной, покоем, прохладой. Чем темнее и насыщеннее цвет, тем большее ощущение покоя и расслабления он вызывает в человек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487080"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Голу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Даёт ощущение беззаботности и лёгкости, символизирует непосредственность, вызывает желание игра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730440"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Фиолет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В тёмном и насыщенном исполнении считается цветом богатства. Придаёт интерьеру драматизм и утончённость. Ассоциируется с роскошью и креативностью (творчеством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730440"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Роз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Цвет аппетита, должен использоваться в пищевой промышленности. Цвет южный, счастливый, легкомысленный, игривый, праздничны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1460520"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Жёлт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Его значение двойственно. С одной стороны означает радость, солнце, богатство и освобождение. С другой стороны это цвет измены, предательства. Этот цвет выбирают люди, которые ищут освобождения и надеются на разгрузку, которая поможет им раскрыться, достичь большего и реализовать себ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973800"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Зелё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остоит из синего и жёлтого цветов. Это наиболее спокойный цвет для наших глаз. Цвет статичности, потенциальной энергии, покоя, прохлады. Его выбирают люди спокойные, верные и надёжны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487080"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Крас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Цвет тёплый и раздражающий, возбуждает нервную систему. Символ силы и энерг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487080">
                <a:tc>
                  <a:txBody>
                    <a:bodyPr lIns="26280" rIns="26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Коричне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26280" rIns="26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Цвет основательный, дружественный. Цвет трудолюбия и усидчивос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</a:tbl>
          </a:graphicData>
        </a:graphic>
      </p:graphicFrame>
      <p:sp>
        <p:nvSpPr>
          <p:cNvPr id="253" name="Rectangle 1"/>
          <p:cNvSpPr/>
          <p:nvPr/>
        </p:nvSpPr>
        <p:spPr>
          <a:xfrm>
            <a:off x="2621520" y="145080"/>
            <a:ext cx="393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начение цвета в помещ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468360" y="1844640"/>
          <a:ext cx="6048360" cy="2952720"/>
        </p:xfrm>
        <a:graphic>
          <a:graphicData uri="http://schemas.openxmlformats.org/drawingml/2006/table">
            <a:tbl>
              <a:tblPr/>
              <a:tblGrid>
                <a:gridCol w="3730680"/>
                <a:gridCol w="2317680"/>
              </a:tblGrid>
              <a:tr h="3700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Кабинет № 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7380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Наличие растений (количеств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682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Ухож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ысо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700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Размещ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ациона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7380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Наличие фитонцидных раст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исутствую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682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тепень озеле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остато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sp>
        <p:nvSpPr>
          <p:cNvPr id="255" name="Rectangle 1"/>
          <p:cNvSpPr/>
          <p:nvPr/>
        </p:nvSpPr>
        <p:spPr>
          <a:xfrm>
            <a:off x="108000" y="267120"/>
            <a:ext cx="8148600" cy="12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mbria"/>
                <a:ea typeface="Times New Roman"/>
              </a:rPr>
              <a:t>Оценка степени озеленения кабин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вод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В кабинете №42 – 18 растений. В кабинетах они устанавливаются на подставках-цветочницах, подвешиваются на стенах, при этом, не затеняя естественного освещения. Растения - здоровые и ухоженные. Они придают помещению более эстетичный вид. Являются очистителями воздуха от загрязняющих вещест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2"/>
          <p:cNvSpPr/>
          <p:nvPr/>
        </p:nvSpPr>
        <p:spPr>
          <a:xfrm>
            <a:off x="250920" y="333360"/>
            <a:ext cx="792144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м образом, я считаю, что окружающий нас мир и наш организм, это единое целое, и все выбросы и загрязнения, поступающие в атмосферу это урон нашему здоровь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же мы будем стараться как можно больше положительного сделать для окружающей среды, этим мы продлеваем свою жизнь и оздоровляем свой организ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нельзя не согласиться со словами, что все в этом мире взаимосвязано, ничто не исчезает и ничто не появляется ниотку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ш окружающий мир – это наш организм, оберегая окружающую среду – мы оберегаем свое здоровь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оровье – это не только отсутствие болезней, но и физическое, психическое и социальное благополучие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оровье – это капитал, данный нам не только природой от рождения, но и теми условиями, в которых мы живем и созда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2"/>
          <p:cNvSpPr/>
          <p:nvPr/>
        </p:nvSpPr>
        <p:spPr>
          <a:xfrm>
            <a:off x="179280" y="404640"/>
            <a:ext cx="81378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коменда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одить  проветривания классных помещ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ить количество раст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зводить тщательную влажную уборку помещ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формить несколько «цветовых пятен» на стенах классных помещений  для зрительной разгруз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еть возможность установки в классных помещениях пластиковых окон, как обеспечивающих лучшую проветриваемость, температурный режим и шумоизоля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будущем работу над  проектом  необходимо продолжить и привлечь к ней большее количество обучаю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320400"/>
            <a:ext cx="72421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9" name="Рисунок 1" descr="Описание: D:\МАМА\Проекты детей\экологическая комфортность класса\Фитонцидные растения\алоэ.jpg"/>
          <p:cNvPicPr/>
          <p:nvPr/>
        </p:nvPicPr>
        <p:blipFill>
          <a:blip r:embed="rId1"/>
          <a:stretch/>
        </p:blipFill>
        <p:spPr>
          <a:xfrm>
            <a:off x="6477120" y="0"/>
            <a:ext cx="2666880" cy="354348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2" descr="Описание: D:\МАМА\Проекты детей\экологическая комфортность класса\Фитонцидные растения\апельсин.jpg"/>
          <p:cNvPicPr/>
          <p:nvPr/>
        </p:nvPicPr>
        <p:blipFill>
          <a:blip r:embed="rId2"/>
          <a:stretch/>
        </p:blipFill>
        <p:spPr>
          <a:xfrm>
            <a:off x="3971880" y="0"/>
            <a:ext cx="2505240" cy="314316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3" descr="Описание: D:\МАМА\Проекты детей\экологическая комфортность класса\Фитонцидные растения\аспидистра.jpg"/>
          <p:cNvPicPr/>
          <p:nvPr/>
        </p:nvPicPr>
        <p:blipFill>
          <a:blip r:embed="rId3"/>
          <a:stretch/>
        </p:blipFill>
        <p:spPr>
          <a:xfrm>
            <a:off x="1724040" y="465120"/>
            <a:ext cx="2247840" cy="340992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4" descr="Описание: D:\МАМА\Проекты детей\экологическая комфортность класса\Фитонцидные растения\герань.jpg"/>
          <p:cNvPicPr/>
          <p:nvPr/>
        </p:nvPicPr>
        <p:blipFill>
          <a:blip r:embed="rId4"/>
          <a:stretch/>
        </p:blipFill>
        <p:spPr>
          <a:xfrm>
            <a:off x="5324400" y="3367080"/>
            <a:ext cx="2819520" cy="36957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4" descr="Описание: D:\МАМА\Проекты детей\экологическая комфортность класса\Фитонцидные растения\гибискус.jpg"/>
          <p:cNvPicPr/>
          <p:nvPr/>
        </p:nvPicPr>
        <p:blipFill>
          <a:blip r:embed="rId5"/>
          <a:stretch/>
        </p:blipFill>
        <p:spPr>
          <a:xfrm>
            <a:off x="-47520" y="620640"/>
            <a:ext cx="1969920" cy="2376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3" descr="Описание: D:\МАМА\Проекты детей\экологическая комфортность класса\Фитонцидные растения\каланхоэ.jpg"/>
          <p:cNvPicPr/>
          <p:nvPr/>
        </p:nvPicPr>
        <p:blipFill>
          <a:blip r:embed="rId6"/>
          <a:stretch/>
        </p:blipFill>
        <p:spPr>
          <a:xfrm>
            <a:off x="-47520" y="3571920"/>
            <a:ext cx="2600280" cy="3286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1" descr="Описание: D:\МАМА\Проекты детей\экологическая комфортность класса\Фитонцидные растения\лавр.jpg"/>
          <p:cNvPicPr/>
          <p:nvPr/>
        </p:nvPicPr>
        <p:blipFill>
          <a:blip r:embed="rId7"/>
          <a:stretch/>
        </p:blipFill>
        <p:spPr>
          <a:xfrm>
            <a:off x="2752560" y="3772080"/>
            <a:ext cx="2438640" cy="308592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0"/>
          <p:cNvSpPr/>
          <p:nvPr/>
        </p:nvSpPr>
        <p:spPr>
          <a:xfrm>
            <a:off x="4332240" y="38628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2"/>
          <p:cNvSpPr/>
          <p:nvPr/>
        </p:nvSpPr>
        <p:spPr>
          <a:xfrm>
            <a:off x="4332240" y="108730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4"/>
          <p:cNvSpPr/>
          <p:nvPr/>
        </p:nvSpPr>
        <p:spPr>
          <a:xfrm>
            <a:off x="4353480" y="1770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6"/>
          <p:cNvSpPr/>
          <p:nvPr/>
        </p:nvSpPr>
        <p:spPr>
          <a:xfrm>
            <a:off x="4374720" y="2460816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8"/>
          <p:cNvSpPr/>
          <p:nvPr/>
        </p:nvSpPr>
        <p:spPr>
          <a:xfrm>
            <a:off x="4417560" y="309708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320400"/>
            <a:ext cx="72421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3" name="Picture 12" descr="Описание: D:\МАМА\Проекты детей\экологическая комфортность класса\Фитонцидные растения\кофе.jpg"/>
          <p:cNvPicPr/>
          <p:nvPr/>
        </p:nvPicPr>
        <p:blipFill>
          <a:blip r:embed="rId1"/>
          <a:stretch/>
        </p:blipFill>
        <p:spPr>
          <a:xfrm>
            <a:off x="34920" y="31680"/>
            <a:ext cx="2381400" cy="316224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7" descr="Описание: D:\МАМА\Проекты детей\экологическая комфортность класса\Растения - биофильтры\эпипремниум.jpg"/>
          <p:cNvPicPr/>
          <p:nvPr/>
        </p:nvPicPr>
        <p:blipFill>
          <a:blip r:embed="rId2"/>
          <a:stretch/>
        </p:blipFill>
        <p:spPr>
          <a:xfrm>
            <a:off x="114480" y="3357720"/>
            <a:ext cx="2124000" cy="300960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5" descr="Описание: D:\МАМА\Проекты детей\экологическая комфортность класса\Фитонцидные растения\мирт.jpg"/>
          <p:cNvPicPr/>
          <p:nvPr/>
        </p:nvPicPr>
        <p:blipFill>
          <a:blip r:embed="rId3"/>
          <a:stretch/>
        </p:blipFill>
        <p:spPr>
          <a:xfrm>
            <a:off x="2416320" y="31680"/>
            <a:ext cx="2752560" cy="281952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6" descr="Описание: D:\МАМА\Проекты детей\экологическая комфортность класса\Фитонцидные растения\хлорофитум.jpg"/>
          <p:cNvPicPr/>
          <p:nvPr/>
        </p:nvPicPr>
        <p:blipFill>
          <a:blip r:embed="rId4"/>
          <a:stretch/>
        </p:blipFill>
        <p:spPr>
          <a:xfrm>
            <a:off x="5156280" y="349200"/>
            <a:ext cx="2438280" cy="282888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15" descr="Описание: D:\МАМА\Проекты детей\экологическая комфортность класса\Растения - биофильтры\папоротник Венерин волос.jpg"/>
          <p:cNvPicPr/>
          <p:nvPr/>
        </p:nvPicPr>
        <p:blipFill>
          <a:blip r:embed="rId5"/>
          <a:stretch/>
        </p:blipFill>
        <p:spPr>
          <a:xfrm>
            <a:off x="2306520" y="2637000"/>
            <a:ext cx="2971800" cy="395280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14" descr="Описание: D:\МАМА\Проекты детей\экологическая комфортность класса\Растения - биофильтры\финиковая пальма.jpg"/>
          <p:cNvPicPr/>
          <p:nvPr/>
        </p:nvPicPr>
        <p:blipFill>
          <a:blip r:embed="rId6"/>
          <a:stretch/>
        </p:blipFill>
        <p:spPr>
          <a:xfrm>
            <a:off x="5580000" y="2946240"/>
            <a:ext cx="255276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320400"/>
            <a:ext cx="72421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0" name="Рисунок 8" descr="Описание: D:\МАМА\Проекты детей\экологическая комфортность класса\Растения - биофильтры\фикус Бенджамина.jpeg"/>
          <p:cNvPicPr/>
          <p:nvPr/>
        </p:nvPicPr>
        <p:blipFill>
          <a:blip r:embed="rId1"/>
          <a:srcRect l="0" t="0" r="0" b="10353"/>
          <a:stretch/>
        </p:blipFill>
        <p:spPr>
          <a:xfrm>
            <a:off x="2916360" y="409680"/>
            <a:ext cx="2485800" cy="340020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10" descr="Описание: D:\МАМА\Проекты детей\экологическая комфортность класса\Растения - биофильтры\спатифилум.jpg"/>
          <p:cNvPicPr/>
          <p:nvPr/>
        </p:nvPicPr>
        <p:blipFill>
          <a:blip r:embed="rId2"/>
          <a:stretch/>
        </p:blipFill>
        <p:spPr>
          <a:xfrm>
            <a:off x="81000" y="189000"/>
            <a:ext cx="2467080" cy="314316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11" descr="Описание: D:\МАМА\Проекты детей\экологическая комфортность класса\Растения - биофильтры\драцена.jpg"/>
          <p:cNvPicPr/>
          <p:nvPr/>
        </p:nvPicPr>
        <p:blipFill>
          <a:blip r:embed="rId3"/>
          <a:stretch/>
        </p:blipFill>
        <p:spPr>
          <a:xfrm>
            <a:off x="63360" y="3119400"/>
            <a:ext cx="3038760" cy="370512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12" descr="Описание: D:\МАМА\Проекты детей\экологическая комфортность класса\Растения - биофильтры\хлорофитум.jpg"/>
          <p:cNvPicPr/>
          <p:nvPr/>
        </p:nvPicPr>
        <p:blipFill>
          <a:blip r:embed="rId4"/>
          <a:srcRect l="16485" t="0" r="13915" b="0"/>
          <a:stretch/>
        </p:blipFill>
        <p:spPr>
          <a:xfrm>
            <a:off x="3419640" y="3332160"/>
            <a:ext cx="2562120" cy="316224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13" descr="Описание: D:\МАМА\Проекты детей\экологическая комфортность класса\Растения - биофильтры\фикус.jpg"/>
          <p:cNvPicPr/>
          <p:nvPr/>
        </p:nvPicPr>
        <p:blipFill>
          <a:blip r:embed="rId5"/>
          <a:stretch/>
        </p:blipFill>
        <p:spPr>
          <a:xfrm>
            <a:off x="5791320" y="4680"/>
            <a:ext cx="27716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Заголовок 1" descr=""/>
          <p:cNvPicPr/>
          <p:nvPr/>
        </p:nvPicPr>
        <p:blipFill>
          <a:blip r:embed="rId1"/>
          <a:stretch/>
        </p:blipFill>
        <p:spPr>
          <a:xfrm>
            <a:off x="1401840" y="1096920"/>
            <a:ext cx="651672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2"/>
          <p:cNvSpPr/>
          <p:nvPr/>
        </p:nvSpPr>
        <p:spPr>
          <a:xfrm>
            <a:off x="500040" y="214200"/>
            <a:ext cx="83930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Кабинет, именно Кабинет с большой буквы, позволяет создать тот рабочий и тонкий эмоциональный настрой, при котором все слова учителя моментально могут быть подхвачены учениками. Настоящий кабинет является не только фоном, красивым дополнением, но и инструментом, который мощно стимулирует ученика и становится помощником учителя. Именно поэтому кабинет является одной из важных составляющих образовательного процесса».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А. Ю. Ива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4" descr=""/>
          <p:cNvPicPr/>
          <p:nvPr/>
        </p:nvPicPr>
        <p:blipFill>
          <a:blip r:embed="rId1"/>
          <a:stretch/>
        </p:blipFill>
        <p:spPr>
          <a:xfrm>
            <a:off x="36360" y="225360"/>
            <a:ext cx="813780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1315080" y="90720"/>
            <a:ext cx="6538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 этой целью было проведен опрос среди обучающихся  5 В класс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ет ли длительное пребывание учащихся в школьном кабинете на их здоровье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Объект 3"/>
          <p:cNvGraphicFramePr/>
          <p:nvPr/>
        </p:nvGraphicFramePr>
        <p:xfrm>
          <a:off x="1619280" y="836640"/>
          <a:ext cx="6486480" cy="273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836640"/>
                    <a:ext cx="648648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Rectangle 3"/>
          <p:cNvSpPr/>
          <p:nvPr/>
        </p:nvSpPr>
        <p:spPr>
          <a:xfrm>
            <a:off x="179280" y="3873240"/>
            <a:ext cx="7594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ыв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Из полученных результатов мы видим, что обучающиеся лицея понимают (но не все), что длительное пребывание в кабинете влияет на их здоров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ак как большую часть времени обучающиеся  проводят в лицее, находясь в классных помещениях, считаю необходимым провести объективное исслед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ных помещений на экологическую комфортность и безопасность. По итогам данной работы оформить экологический паспорт кабинета №4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"/>
          <p:cNvSpPr/>
          <p:nvPr/>
        </p:nvSpPr>
        <p:spPr>
          <a:xfrm>
            <a:off x="361800" y="1175040"/>
            <a:ext cx="868392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Действия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14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измерить длину, ширину, высоту кабине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14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вычислить площадь кабинета по формул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14"/>
                <a:ea typeface="Times New Roman"/>
              </a:rPr>
              <a:t>S</a:t>
            </a:r>
            <a:r>
              <a:rPr b="1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 = а х в</a:t>
            </a: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, где 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 длина; в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 шири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14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вычислить кубатуру класса по формуле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14"/>
                <a:ea typeface="Times New Roman"/>
              </a:rPr>
              <a:t>V</a:t>
            </a:r>
            <a:r>
              <a:rPr b="1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 = а х в х </a:t>
            </a:r>
            <a:r>
              <a:rPr b="1" lang="en-US" sz="1400" spc="-1" strike="noStrike">
                <a:solidFill>
                  <a:srgbClr val="000000"/>
                </a:solidFill>
                <a:latin typeface="14"/>
                <a:ea typeface="Times New Roman"/>
              </a:rPr>
              <a:t>h</a:t>
            </a: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, где </a:t>
            </a:r>
            <a:r>
              <a:rPr b="0" lang="en-US" sz="1400" spc="-1" strike="noStrike">
                <a:solidFill>
                  <a:srgbClr val="000000"/>
                </a:solidFill>
                <a:latin typeface="14"/>
                <a:ea typeface="Times New Roman"/>
              </a:rPr>
              <a:t>h</a:t>
            </a: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 высо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14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рассчитать, какая площадь приходится на одного учащегося в зависимости от количества посадочных мест по формул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14"/>
                <a:ea typeface="Times New Roman"/>
              </a:rPr>
              <a:t>S</a:t>
            </a:r>
            <a:r>
              <a:rPr b="1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 на 1 уч-ся = </a:t>
            </a:r>
            <a:r>
              <a:rPr b="1" lang="en-US" sz="1400" spc="-1" strike="noStrike">
                <a:solidFill>
                  <a:srgbClr val="000000"/>
                </a:solidFill>
                <a:latin typeface="14"/>
                <a:ea typeface="Times New Roman"/>
              </a:rPr>
              <a:t>S</a:t>
            </a:r>
            <a:r>
              <a:rPr b="1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 : кол-во мест</a:t>
            </a: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14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рассчитать, какая кубатура приходится на одного учащегося в зависимости от количества посадочных мест по формул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14"/>
                <a:ea typeface="Times New Roman"/>
              </a:rPr>
              <a:t>V</a:t>
            </a:r>
            <a:r>
              <a:rPr b="1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 на 1 уч-ся = </a:t>
            </a:r>
            <a:r>
              <a:rPr b="1" lang="en-US" sz="1400" spc="-1" strike="noStrike">
                <a:solidFill>
                  <a:srgbClr val="000000"/>
                </a:solidFill>
                <a:latin typeface="14"/>
                <a:ea typeface="Times New Roman"/>
              </a:rPr>
              <a:t>V</a:t>
            </a:r>
            <a:r>
              <a:rPr b="1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 : кол-во мест</a:t>
            </a: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14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сопоставить полученные данные с санитарно-гигиеническими нормами, принятыми для школьных помещен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14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занести полученные данные в таблицу и сформулировать выво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4"/>
          <p:cNvSpPr/>
          <p:nvPr/>
        </p:nvSpPr>
        <p:spPr>
          <a:xfrm>
            <a:off x="361800" y="115920"/>
            <a:ext cx="835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итерии экологической оценки кабин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пределение полезной площади и кубатуры кабин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361800" y="4508640"/>
          <a:ext cx="7666200" cy="1419120"/>
        </p:xfrm>
        <a:graphic>
          <a:graphicData uri="http://schemas.openxmlformats.org/drawingml/2006/table">
            <a:tbl>
              <a:tblPr/>
              <a:tblGrid>
                <a:gridCol w="1095480"/>
                <a:gridCol w="1095480"/>
                <a:gridCol w="1095480"/>
                <a:gridCol w="1093680"/>
                <a:gridCol w="1095480"/>
                <a:gridCol w="1095120"/>
                <a:gridCol w="1095480"/>
              </a:tblGrid>
              <a:tr h="8528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кабин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Площад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кабин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Площад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на од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учащего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Нор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Куба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кабин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Куба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на од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учащего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Нор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48 кв.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48:30= кв.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            </a:t>
                      </a: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кв.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144 куб.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куб.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4 – 5 куб.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30" name="Объект 3"/>
              <p:cNvSpPr txBox="1"/>
              <p:nvPr/>
            </p:nvSpPr>
            <p:spPr>
              <a:xfrm>
                <a:off x="3419640" y="5229360"/>
                <a:ext cx="19980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Объект 4"/>
              <p:cNvSpPr txBox="1"/>
              <p:nvPr/>
            </p:nvSpPr>
            <p:spPr>
              <a:xfrm>
                <a:off x="4067280" y="5084640"/>
                <a:ext cx="5112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Объект 5"/>
              <p:cNvSpPr txBox="1"/>
              <p:nvPr/>
            </p:nvSpPr>
            <p:spPr>
              <a:xfrm>
                <a:off x="5940360" y="5229360"/>
                <a:ext cx="23832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" name="Прямоугольник 7"/>
          <p:cNvSpPr/>
          <p:nvPr/>
        </p:nvSpPr>
        <p:spPr>
          <a:xfrm>
            <a:off x="0" y="5911920"/>
            <a:ext cx="89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в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площад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следуемого помещения  кабинета №42 ниже нормы. Объем исследуемого классного помещения  соответствует  санитарной н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287280" y="4707000"/>
          <a:ext cx="7813800" cy="1182600"/>
        </p:xfrm>
        <a:graphic>
          <a:graphicData uri="http://schemas.openxmlformats.org/drawingml/2006/table">
            <a:tbl>
              <a:tblPr/>
              <a:tblGrid>
                <a:gridCol w="1562040"/>
                <a:gridCol w="1563840"/>
                <a:gridCol w="1562040"/>
                <a:gridCol w="1563840"/>
                <a:gridCol w="1562040"/>
              </a:tblGrid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кабин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Светов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коэффици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Нор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Искусстве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коэффици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Нор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36*18:48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Ватт на 1 кв.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не менее 45 Ват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на 1 кв.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Rectangle 1"/>
          <p:cNvSpPr/>
          <p:nvPr/>
        </p:nvSpPr>
        <p:spPr>
          <a:xfrm>
            <a:off x="324000" y="176760"/>
            <a:ext cx="871200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ритерии экологической оценки кабин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ение естественной и искусственной освещённости кабин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Действ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14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измерить высоту и ширину окон (стёкол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14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вычислить общую площадь окон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14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вычислить площадь пола класса (длина и ширина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14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подсчитать световой коэффициент по формул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Кс= п/о: п/п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где Кс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 световой коэффициен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п/о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 площадь окон помещени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п/п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 площадь пола; 8*6=48 кв.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14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подсчитать коэффициент искусственного освещения по формул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Кио= М х </a:t>
            </a:r>
            <a:r>
              <a:rPr b="1" lang="en-US" sz="1400" spc="-1" strike="noStrike">
                <a:solidFill>
                  <a:srgbClr val="000000"/>
                </a:solidFill>
                <a:latin typeface="14"/>
                <a:ea typeface="Times New Roman"/>
              </a:rPr>
              <a:t>N</a:t>
            </a:r>
            <a:r>
              <a:rPr b="1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 : п/п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где Кио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 коэффициент искусственного освещ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М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 мощность лампы в ваттах; 18 Ват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14"/>
                <a:ea typeface="Times New Roman"/>
              </a:rPr>
              <a:t>N</a:t>
            </a: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 количество ламп; 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п/п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 площадь пола; 48 кв. 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14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занести полученные данные в таблицу и сформулировать выво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14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сопоставить полученные данные с санитарно-гигиеническими нормами, принятыми для школьных помещен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Объект 3"/>
              <p:cNvSpPr txBox="1"/>
              <p:nvPr/>
            </p:nvSpPr>
            <p:spPr>
              <a:xfrm>
                <a:off x="2411280" y="5229360"/>
                <a:ext cx="27648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8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Объект 5"/>
              <p:cNvSpPr txBox="1"/>
              <p:nvPr/>
            </p:nvSpPr>
            <p:spPr>
              <a:xfrm>
                <a:off x="3780000" y="5157720"/>
                <a:ext cx="6570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0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Объект 7"/>
              <p:cNvSpPr txBox="1"/>
              <p:nvPr/>
            </p:nvSpPr>
            <p:spPr>
              <a:xfrm>
                <a:off x="6012000" y="5157720"/>
                <a:ext cx="3045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2"/>
          <p:cNvSpPr/>
          <p:nvPr/>
        </p:nvSpPr>
        <p:spPr>
          <a:xfrm>
            <a:off x="157320" y="67788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вод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свещённость исследуемого помещения достаточная. Имеющийся  естественный  свет (чуть выше нормы) и искусственное освещение (чуть ниже нормы), не ослепляет  глаза обучающихся, не  создается  блеск на поверхностях столов и досках. Естественный свет  падает  на рабочие столы обучающихся слева, что соответствует нормам СанПиНа, оконные стекла  на момент проверки чисты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19080" y="3213000"/>
          <a:ext cx="8008920" cy="1685880"/>
        </p:xfrm>
        <a:graphic>
          <a:graphicData uri="http://schemas.openxmlformats.org/drawingml/2006/table">
            <a:tbl>
              <a:tblPr/>
              <a:tblGrid>
                <a:gridCol w="1601640"/>
                <a:gridCol w="1602000"/>
                <a:gridCol w="1601640"/>
                <a:gridCol w="1602000"/>
                <a:gridCol w="1601640"/>
              </a:tblGrid>
              <a:tr h="8794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кабин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Коэффици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аэ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Нор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Част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проветри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Нор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10 мину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не реже 1 раз в ч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10 – 15 мину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d0d0d"/>
                          </a:solidFill>
                          <a:latin typeface="Trebuchet MS"/>
                        </a:rPr>
                        <a:t>не реже 1 раз в ч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Rectangle 1"/>
          <p:cNvSpPr/>
          <p:nvPr/>
        </p:nvSpPr>
        <p:spPr>
          <a:xfrm>
            <a:off x="250920" y="123840"/>
            <a:ext cx="7653240" cy="34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ритерии экологической оценки кабин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ение вентиляционного режима кабин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Действ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14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вычислить общую площадь вентиляционных отверстий (фрамуги, форточки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14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подсчитать коэффициент аэрации (проветривания) по формул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Ка= п/в : п/п, </a:t>
            </a: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г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К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 коэффициент аэра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п/в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 площадь всех вентиляционных отверст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п/п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 площадь пола; 48 кв. 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14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сопоставить полученные данные с санитарно-гигиеническими нормами, принятыми для школьных помещен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14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14"/>
                <a:ea typeface="Times New Roman"/>
              </a:rPr>
              <a:t>занести полученные данные в таблицу и сформулировать выво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Объект 3"/>
              <p:cNvSpPr txBox="1"/>
              <p:nvPr/>
            </p:nvSpPr>
            <p:spPr>
              <a:xfrm>
                <a:off x="2195640" y="3933720"/>
                <a:ext cx="3524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7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Объект 5"/>
              <p:cNvSpPr txBox="1"/>
              <p:nvPr/>
            </p:nvSpPr>
            <p:spPr>
              <a:xfrm>
                <a:off x="3938760" y="4005360"/>
                <a:ext cx="2761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9" name="Прямоугольник 1"/>
          <p:cNvSpPr/>
          <p:nvPr/>
        </p:nvSpPr>
        <p:spPr>
          <a:xfrm>
            <a:off x="61920" y="49417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вод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бинете №42 коэффициент аэрации ниже нормы. Частота проветривания в норме (но только в период весны и осени, так как зимой проветрить класс нет возможности из-за заклеенных око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539640" y="1125360"/>
          <a:ext cx="6918480" cy="4367520"/>
        </p:xfrm>
        <a:graphic>
          <a:graphicData uri="http://schemas.openxmlformats.org/drawingml/2006/table">
            <a:tbl>
              <a:tblPr/>
              <a:tblGrid>
                <a:gridCol w="1278000"/>
                <a:gridCol w="3299040"/>
                <a:gridCol w="234144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Элемент интерье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Гигиенические рекомендаци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Кабинет №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13449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Цвет стен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ля южных помещений рекомендуются холодные тона, для северных - теплые тон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ежев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окрытие пол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ез щелей, дощатое, паркетное или линолеу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Линолеу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отолок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елого цвет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елого цвет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Двери и рам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елого цвет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верь белого цвета, рамы белы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Мебел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Цвета натурального дерева или светло-зелено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Цвет светлого дере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8226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Дос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Темно-коричневая или зеленая. Рабочая поверхность доски ровная, прочно удерживает мел при написании текста, обеспечивает легкое его стир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елая – маркерная ровная, при написании  текста  обеспечивает лёгкое его стирание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  <p:sp>
        <p:nvSpPr>
          <p:cNvPr id="251" name="Rectangle 1"/>
          <p:cNvSpPr/>
          <p:nvPr/>
        </p:nvSpPr>
        <p:spPr>
          <a:xfrm>
            <a:off x="108000" y="120600"/>
            <a:ext cx="712296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mbria"/>
                <a:ea typeface="Times New Roman"/>
              </a:rPr>
              <a:t>Оценка визуальной сре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вод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изуальная среда исследуемых помещений не является ни гомогенной, ни агрессивной, что соответствует санитарно-гигиеническим норм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4:31:23Z</dcterms:created>
  <dc:creator>User</dc:creator>
  <dc:description/>
  <dc:language>en-US</dc:language>
  <cp:lastModifiedBy>Учитель03</cp:lastModifiedBy>
  <dcterms:modified xsi:type="dcterms:W3CDTF">2013-04-23T09:23:37Z</dcterms:modified>
  <cp:revision>21</cp:revision>
  <dc:subject/>
  <dc:title>Экологический  паспорт  кабинета</dc:title>
</cp:coreProperties>
</file>