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F27-2CEF-4CF5-890C-8BFC92F8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A4D-84E5-461A-9079-2A399C39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58B-4799-4648-A490-A443FF1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FAE-73AF-451B-AD60-59676E78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CD09-0BBE-4A67-B3A8-307C59BC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6BA-119B-42E5-A1C3-ED1921D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6DC-050D-461A-9EB8-0C530EF1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05C7-20A7-4515-9705-287EFB9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A89D-ABFB-43A0-BEF5-AEFEFE85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80F3-D18D-4283-BE56-59A68F7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0AD7-A0F1-4B62-9CBE-B7DD108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789-DEA9-43E3-B4B5-9C475B45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43DF-AA0D-40DC-BE3B-1BBBD8E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60D9-DA7A-4ABD-A687-515EF2D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91F5-5807-422C-BA97-9E15CFFA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C0D-59F3-4E85-AAD5-ACF5FE01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0C31-DCE9-4312-80F0-341C883B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CA47-C2A1-40FB-BD57-4EE7A178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86EF-EEAB-4D82-9697-4935C8ED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0652-AF90-41F3-A0B4-CA99584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9543-1B24-487F-95B1-B10FD71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4D40-D3B5-4089-9BED-1892717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439-341A-4271-A262-1C517F9E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DFB7-3595-4321-B86C-B19BF58B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1F11-241D-4481-A0B6-1BD6828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E0A4-AD7E-4054-BE5C-298CCC2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407F-898A-4C50-B9E2-8600028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A28E-96B6-4E5E-88F8-1289458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B6A2-4AA8-4EBC-8629-E469A040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E343-42AB-4446-909B-B4FBFC9D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33FE-7466-476D-B558-0BDEE1D1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04FB-E48C-4A6E-9E17-837F360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ADF9-0EDB-4985-BC85-461068A1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C05-61F4-4B48-9A38-717193E3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6CCB-22BD-4B9F-874B-4B1153D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1F13-41BE-4CB2-A9E3-62D2673F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8115-ADA3-42C8-8E90-164026B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6E10-239F-4DC7-B655-973ECF6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41EF-7D93-4BF0-90D1-BBAC0F7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9CEC-14B3-45A4-A0A6-BD0A9A9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91CE-3618-4D27-8096-92AF74E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85CB-0108-48D0-BE30-DF9238F4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5A4D-99D4-4B53-AAFE-8476763C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DB9D-BB0D-4C9A-8147-188AA466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132-F7C4-46F6-8B69-DBA40A3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FB55B-8922-42B5-8C64-16BF4368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F55D-B29C-484E-9A81-AFF45015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8C3E-221C-4DC4-9E9A-0DA559A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EA712-DF62-490B-AFC8-DEC2E04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59D7-337D-458D-B143-8DFF065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1A64-B151-4F79-8064-A325B2F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4BE1-59C0-443C-B680-3704DC8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AD67-F6D9-4E36-838A-A755300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74D4-7D43-48C1-9D41-7ECC2493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B151-EA84-4210-A738-B02C7EFA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A67-3EDD-4746-99AD-8CFBBC6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F1BB-ADD0-4327-91C4-7260BEDC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605-8B5F-4C2C-9BEA-1FF38A7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DBE-6A7D-4976-B31D-1536991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476-D4B8-418D-8A5D-3F7A176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33E-4BF2-4E88-A71B-6D0D6F31EF1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755-656F-4162-B582-558FE123046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EC3-34D4-47C4-9060-166155DA284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4A13-47FC-456C-87F2-D3F9EDF7CC21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165D-594A-4EEE-BFA2-F137E60B124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39680" y="225360"/>
            <a:ext cx="896796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539640" y="527040"/>
          <a:ext cx="7848720" cy="6372360"/>
        </p:xfrm>
        <a:graphic>
          <a:graphicData uri="http://schemas.openxmlformats.org/drawingml/2006/table">
            <a:tbl>
              <a:tblPr/>
              <a:tblGrid>
                <a:gridCol w="1251000"/>
                <a:gridCol w="6597720"/>
              </a:tblGrid>
              <a:tr h="2437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7380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глубины, далёкого неба. Ассоциируется с тишиной, покоем, прохладой. Чем темнее и насыщеннее цвет, тем большее ощущение покоя и расслабления он вызывает в челове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ёт ощущение беззаботности и лёгкости, символизирует непосредственность, вызывает желание игр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ёмном и насыщенном исполнении считается цветом богатства. Придаёт интерьеру драматизм и утончённость. Ассоциируется с роскошью и креативностью (творчеством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аппетита, должен использоваться в пищевой промышленности. Цвет южный, счастливый, легкомысленный, игривый, празднич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05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го значение двойственно. С одной стороны означает радость, солнце, богатство и освобождение. С другой стороны это цвет измены, предательства. Этот цвет выбирают люди, которые ищут освобождения и надеются на разгрузку, которая поможет им раскрыться, достичь большего и реализовать себ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7380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стоит из синего и жёлтого цветов. Это наиболее спокойный цвет для наших глаз. Цвет статичности, потенциальной энергии, покоя, прохлады. Его выбирают люди спокойные, верные и надёж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тёплый и раздражающий, возбуждает нервную систему. Символ силы и энерг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основательный, дружественный. Цвет трудолюбия и усидчив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1"/>
          <p:cNvSpPr/>
          <p:nvPr/>
        </p:nvSpPr>
        <p:spPr>
          <a:xfrm>
            <a:off x="2621520" y="14508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 цвета в поме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68360" y="1844640"/>
          <a:ext cx="6048360" cy="2952720"/>
        </p:xfrm>
        <a:graphic>
          <a:graphicData uri="http://schemas.openxmlformats.org/drawingml/2006/table">
            <a:tbl>
              <a:tblPr/>
              <a:tblGrid>
                <a:gridCol w="3730680"/>
                <a:gridCol w="2317680"/>
              </a:tblGrid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бинет №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растений (коли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хо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зм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цион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фитонцидных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епень озел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ат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1"/>
          <p:cNvSpPr/>
          <p:nvPr/>
        </p:nvSpPr>
        <p:spPr>
          <a:xfrm>
            <a:off x="108000" y="267120"/>
            <a:ext cx="81486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ценка степени озеленения кабин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абинете №42 – 18 растений. В кабинетах они устанавливаются на подставках-цветочницах, подвешиваются на стенах, при этом, не затеняя естественного освещения. Растения - здоровые и ухоженные. Они придают помещению более эстетичный вид. Являются очистителями воздуха от загрязняющих веще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250920" y="333360"/>
            <a:ext cx="792144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я считаю, что окружающий нас мир и наш организм, это единое целое, и все выбросы и загрязнения, поступающие в атмосферу это урон нашему здоров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же мы будем стараться как можно больше положительного сделать для окружающей среды, этим мы продлеваем свою жизнь и оздоровляем свой орган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льзя не согласиться со словами, что все в этом мире взаимосвязано, ничто не исчезает и ничто не появляется ниотк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окружающий мир – это наш организм, оберегая окружающую среду – мы оберегаем свое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это не только отсутствие болезней, но и физическое, психическое и социальное благополуч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это капитал, данный нам не только природой от рождения, но и теми условиями, в которых мы живем и созд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79280" y="404640"/>
            <a:ext cx="8137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проветривания классных по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количество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ь тщательную влажную уборку по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ить несколько «цветовых пятен» на стенах классных помещений  для зрительной разгру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возможность установки в классных помещениях пластиковых окон, как обеспечивающих лучшую проветриваемость, температурный режим и шумоизоля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удущем работу над  проектом  необходимо продолжить и привлечь к ней большее количество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Рисунок 1" descr="Описание: D:\МАМА\Проекты детей\экологическая комфортность класса\Фитонцидные растения\алоэ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543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Описание: D:\МАМА\Проекты детей\экологическая комфортность класса\Фитонцидные растения\апельсин.jpg"/>
          <p:cNvPicPr/>
          <p:nvPr/>
        </p:nvPicPr>
        <p:blipFill>
          <a:blip r:embed="rId2"/>
          <a:stretch/>
        </p:blipFill>
        <p:spPr>
          <a:xfrm>
            <a:off x="3971880" y="0"/>
            <a:ext cx="2505240" cy="31431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Описание: D:\МАМА\Проекты детей\экологическая комфортность класса\Фитонцидные растения\аспидистра.jpg"/>
          <p:cNvPicPr/>
          <p:nvPr/>
        </p:nvPicPr>
        <p:blipFill>
          <a:blip r:embed="rId3"/>
          <a:stretch/>
        </p:blipFill>
        <p:spPr>
          <a:xfrm>
            <a:off x="1724040" y="465120"/>
            <a:ext cx="2247840" cy="3409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Описание: D:\МАМА\Проекты детей\экологическая комфортность класса\Фитонцидные растения\герань.jpg"/>
          <p:cNvPicPr/>
          <p:nvPr/>
        </p:nvPicPr>
        <p:blipFill>
          <a:blip r:embed="rId4"/>
          <a:stretch/>
        </p:blipFill>
        <p:spPr>
          <a:xfrm>
            <a:off x="5324400" y="3367080"/>
            <a:ext cx="2819520" cy="3695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Описание: D:\МАМА\Проекты детей\экологическая комфортность класса\Фитонцидные растения\гибискус.jpg"/>
          <p:cNvPicPr/>
          <p:nvPr/>
        </p:nvPicPr>
        <p:blipFill>
          <a:blip r:embed="rId5"/>
          <a:stretch/>
        </p:blipFill>
        <p:spPr>
          <a:xfrm>
            <a:off x="-47520" y="620640"/>
            <a:ext cx="1969920" cy="237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Описание: D:\МАМА\Проекты детей\экологическая комфортность класса\Фитонцидные растения\каланхоэ.jpg"/>
          <p:cNvPicPr/>
          <p:nvPr/>
        </p:nvPicPr>
        <p:blipFill>
          <a:blip r:embed="rId6"/>
          <a:stretch/>
        </p:blipFill>
        <p:spPr>
          <a:xfrm>
            <a:off x="-47520" y="3571920"/>
            <a:ext cx="26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Описание: D:\МАМА\Проекты детей\экологическая комфортность класса\Фитонцидные растения\лавр.jpg"/>
          <p:cNvPicPr/>
          <p:nvPr/>
        </p:nvPicPr>
        <p:blipFill>
          <a:blip r:embed="rId7"/>
          <a:stretch/>
        </p:blipFill>
        <p:spPr>
          <a:xfrm>
            <a:off x="2752560" y="3772080"/>
            <a:ext cx="2438640" cy="30859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332240" y="3862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332240" y="10873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4353480" y="1770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4374720" y="246081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4417560" y="309708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12" descr="Описание: D:\МАМА\Проекты детей\экологическая комфортность класса\Фитонцидные растения\кофе.jpg"/>
          <p:cNvPicPr/>
          <p:nvPr/>
        </p:nvPicPr>
        <p:blipFill>
          <a:blip r:embed="rId1"/>
          <a:stretch/>
        </p:blipFill>
        <p:spPr>
          <a:xfrm>
            <a:off x="34920" y="31680"/>
            <a:ext cx="2381400" cy="31622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Описание: D:\МАМА\Проекты детей\экологическая комфортность класса\Растения - биофильтры\эпипремниум.jpg"/>
          <p:cNvPicPr/>
          <p:nvPr/>
        </p:nvPicPr>
        <p:blipFill>
          <a:blip r:embed="rId2"/>
          <a:stretch/>
        </p:blipFill>
        <p:spPr>
          <a:xfrm>
            <a:off x="114480" y="3357720"/>
            <a:ext cx="2124000" cy="30096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5" descr="Описание: D:\МАМА\Проекты детей\экологическая комфортность класса\Фитонцидные растения\мирт.jpg"/>
          <p:cNvPicPr/>
          <p:nvPr/>
        </p:nvPicPr>
        <p:blipFill>
          <a:blip r:embed="rId3"/>
          <a:stretch/>
        </p:blipFill>
        <p:spPr>
          <a:xfrm>
            <a:off x="2416320" y="31680"/>
            <a:ext cx="275256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Описание: D:\МАМА\Проекты детей\экологическая комфортность класса\Фитонцидные растения\хлорофитум.jpg"/>
          <p:cNvPicPr/>
          <p:nvPr/>
        </p:nvPicPr>
        <p:blipFill>
          <a:blip r:embed="rId4"/>
          <a:stretch/>
        </p:blipFill>
        <p:spPr>
          <a:xfrm>
            <a:off x="5156280" y="349200"/>
            <a:ext cx="243828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Описание: D:\МАМА\Проекты детей\экологическая комфортность класса\Растения - биофильтры\папоротник Венерин волос.jpg"/>
          <p:cNvPicPr/>
          <p:nvPr/>
        </p:nvPicPr>
        <p:blipFill>
          <a:blip r:embed="rId5"/>
          <a:stretch/>
        </p:blipFill>
        <p:spPr>
          <a:xfrm>
            <a:off x="2306520" y="2637000"/>
            <a:ext cx="2971800" cy="3952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4" descr="Описание: D:\МАМА\Проекты детей\экологическая комфортность класса\Растения - биофильтры\финиковая пальма.jpg"/>
          <p:cNvPicPr/>
          <p:nvPr/>
        </p:nvPicPr>
        <p:blipFill>
          <a:blip r:embed="rId6"/>
          <a:stretch/>
        </p:blipFill>
        <p:spPr>
          <a:xfrm>
            <a:off x="5580000" y="2946240"/>
            <a:ext cx="25527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Рисунок 8" descr="Описание: D:\МАМА\Проекты детей\экологическая комфортность класса\Растения - биофильтры\фикус Бенджамина.jpeg"/>
          <p:cNvPicPr/>
          <p:nvPr/>
        </p:nvPicPr>
        <p:blipFill>
          <a:blip r:embed="rId1"/>
          <a:srcRect l="0" t="0" r="0" b="10353"/>
          <a:stretch/>
        </p:blipFill>
        <p:spPr>
          <a:xfrm>
            <a:off x="2916360" y="409680"/>
            <a:ext cx="2485800" cy="340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Описание: D:\МАМА\Проекты детей\экологическая комфортность класса\Растения - биофильтры\спатифилум.jpg"/>
          <p:cNvPicPr/>
          <p:nvPr/>
        </p:nvPicPr>
        <p:blipFill>
          <a:blip r:embed="rId2"/>
          <a:stretch/>
        </p:blipFill>
        <p:spPr>
          <a:xfrm>
            <a:off x="81000" y="189000"/>
            <a:ext cx="2467080" cy="3143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Описание: D:\МАМА\Проекты детей\экологическая комфортность класса\Растения - биофильтры\драцена.jpg"/>
          <p:cNvPicPr/>
          <p:nvPr/>
        </p:nvPicPr>
        <p:blipFill>
          <a:blip r:embed="rId3"/>
          <a:stretch/>
        </p:blipFill>
        <p:spPr>
          <a:xfrm>
            <a:off x="63360" y="3119400"/>
            <a:ext cx="3038760" cy="37051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Описание: D:\МАМА\Проекты детей\экологическая комфортность класса\Растения - биофильтры\хлорофитум.jpg"/>
          <p:cNvPicPr/>
          <p:nvPr/>
        </p:nvPicPr>
        <p:blipFill>
          <a:blip r:embed="rId4"/>
          <a:srcRect l="16485" t="0" r="13915" b="0"/>
          <a:stretch/>
        </p:blipFill>
        <p:spPr>
          <a:xfrm>
            <a:off x="3419640" y="3332160"/>
            <a:ext cx="2562120" cy="3162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3" descr="Описание: D:\МАМА\Проекты детей\экологическая комфортность класса\Растения - биофильтры\фикус.jpg"/>
          <p:cNvPicPr/>
          <p:nvPr/>
        </p:nvPicPr>
        <p:blipFill>
          <a:blip r:embed="rId5"/>
          <a:stretch/>
        </p:blipFill>
        <p:spPr>
          <a:xfrm>
            <a:off x="5791320" y="4680"/>
            <a:ext cx="2771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1401840" y="1096920"/>
            <a:ext cx="651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500040" y="214200"/>
            <a:ext cx="8393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абинет, именно Кабинет с большой буквы, позволяет создать тот рабочий и тонкий эмоциональный настрой, при котором все слова учителя моментально могут быть подхвачены учениками. Настоящий кабинет является не только фоном, красивым дополнением, но и инструментом, который мощно стимулирует ученика и становится помощником учителя. Именно поэтому кабинет является одной из важных составляющих образовательного процесса»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А. Ю. Ив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4" descr=""/>
          <p:cNvPicPr/>
          <p:nvPr/>
        </p:nvPicPr>
        <p:blipFill>
          <a:blip r:embed="rId1"/>
          <a:stretch/>
        </p:blipFill>
        <p:spPr>
          <a:xfrm>
            <a:off x="36360" y="225360"/>
            <a:ext cx="81378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315080" y="90720"/>
            <a:ext cx="65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этой целью было проведен опрос среди обучающихся  5 В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ли длительное пребывание учащихся в школьном кабинете на их здоровь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Объект 3"/>
          <p:cNvGraphicFramePr/>
          <p:nvPr/>
        </p:nvGraphicFramePr>
        <p:xfrm>
          <a:off x="1619280" y="836640"/>
          <a:ext cx="648648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648648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"/>
          <p:cNvSpPr/>
          <p:nvPr/>
        </p:nvSpPr>
        <p:spPr>
          <a:xfrm>
            <a:off x="179280" y="3873240"/>
            <a:ext cx="759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Из полученных результатов мы видим, что обучающиеся лицея понимают (но не все), что длительное пребывание в кабинете влияет на их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большую часть времени обучающиеся  проводят в лицее, находясь в классных помещениях, считаю необходимым провести объективн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ных помещений на экологическую комфортность и безопасность. По итогам данной работы оформить экологический паспорт кабинета №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61800" y="1175040"/>
            <a:ext cx="8683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измерить длину, ширину, высоту кабин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площадь кабинета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= а х в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, где 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длина; 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шир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кубатуру класса по формул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= а х в х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, где </a:t>
            </a:r>
            <a:r>
              <a:rPr b="0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выс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рассчитать, какая площадь приходится на одного учащегося в зависимости от количества посадочных мес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на 1 уч-ся =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кол-во мест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рассчитать, какая кубатура приходится на одного учащегося в зависимости от количества посадочных мес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на 1 уч-ся =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кол-во мест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361800" y="115920"/>
            <a:ext cx="83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 полезной площади и кубатуры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61800" y="4508640"/>
          <a:ext cx="7666200" cy="1419120"/>
        </p:xfrm>
        <a:graphic>
          <a:graphicData uri="http://schemas.openxmlformats.org/drawingml/2006/table">
            <a:tbl>
              <a:tblPr/>
              <a:tblGrid>
                <a:gridCol w="1095480"/>
                <a:gridCol w="1095480"/>
                <a:gridCol w="1095480"/>
                <a:gridCol w="1093680"/>
                <a:gridCol w="1095480"/>
                <a:gridCol w="1095120"/>
                <a:gridCol w="1095480"/>
              </a:tblGrid>
              <a:tr h="852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од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од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8 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8:30= 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44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 – 5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Объект 3"/>
              <p:cNvSpPr txBox="1"/>
              <p:nvPr/>
            </p:nvSpPr>
            <p:spPr>
              <a:xfrm>
                <a:off x="3419640" y="5229360"/>
                <a:ext cx="199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Объект 4"/>
              <p:cNvSpPr txBox="1"/>
              <p:nvPr/>
            </p:nvSpPr>
            <p:spPr>
              <a:xfrm>
                <a:off x="4067280" y="5084640"/>
                <a:ext cx="511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Объект 5"/>
              <p:cNvSpPr txBox="1"/>
              <p:nvPr/>
            </p:nvSpPr>
            <p:spPr>
              <a:xfrm>
                <a:off x="5940360" y="5229360"/>
                <a:ext cx="2383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Прямоугольник 7"/>
          <p:cNvSpPr/>
          <p:nvPr/>
        </p:nvSpPr>
        <p:spPr>
          <a:xfrm>
            <a:off x="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лощад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уемого помещения  кабинета №42 ниже нормы. Объем исследуемого классного помещения  соответствует  санитарной н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87280" y="4707000"/>
          <a:ext cx="7813800" cy="1182600"/>
        </p:xfrm>
        <a:graphic>
          <a:graphicData uri="http://schemas.openxmlformats.org/drawingml/2006/table">
            <a:tbl>
              <a:tblPr/>
              <a:tblGrid>
                <a:gridCol w="1562040"/>
                <a:gridCol w="1563840"/>
                <a:gridCol w="1562040"/>
                <a:gridCol w="1563840"/>
                <a:gridCol w="156204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Свет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Искусств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36*18:48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Ватт на 1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менее 45 Ват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1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1"/>
          <p:cNvSpPr/>
          <p:nvPr/>
        </p:nvSpPr>
        <p:spPr>
          <a:xfrm>
            <a:off x="324000" y="176760"/>
            <a:ext cx="871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естественной и искусственной освещённост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измерить высоту и ширину окон (стёкол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общую площадь око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площадь пола класса (длина и ширин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световой коэффициен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с= п/о: п/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 К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световой коэф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окон помещ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8*6=48 кв.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коэффициент искусственного освещения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ио= М х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п/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 Ки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эффициент искусственного осв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мощность лампы в ваттах; 18 Ват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личество ламп;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48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3"/>
              <p:cNvSpPr txBox="1"/>
              <p:nvPr/>
            </p:nvSpPr>
            <p:spPr>
              <a:xfrm>
                <a:off x="2411280" y="5229360"/>
                <a:ext cx="276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Объект 5"/>
              <p:cNvSpPr txBox="1"/>
              <p:nvPr/>
            </p:nvSpPr>
            <p:spPr>
              <a:xfrm>
                <a:off x="3780000" y="5157720"/>
                <a:ext cx="65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Объект 7"/>
              <p:cNvSpPr txBox="1"/>
              <p:nvPr/>
            </p:nvSpPr>
            <p:spPr>
              <a:xfrm>
                <a:off x="6012000" y="5157720"/>
                <a:ext cx="30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157320" y="6778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вещённость исследуемого помещения достаточная. Имеющийся  естественный  свет (чуть выше нормы) и искусственное освещение (чуть ниже нормы), не ослепляет  глаза обучающихся, не  создается  блеск на поверхностях столов и досках. Естественный свет  падает  на рабочие столы обучающихся слева, что соответствует нормам СанПиНа, оконные стекла  на момент проверки чист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9080" y="3213000"/>
          <a:ext cx="8008920" cy="168588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1640"/>
                <a:gridCol w="1602000"/>
                <a:gridCol w="1601640"/>
              </a:tblGrid>
              <a:tr h="87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аэ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роветр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0 мину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реже 1 раз в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0 – 15 мину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реже 1 раз в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250920" y="123840"/>
            <a:ext cx="76532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вентиляционного режима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общую площадь вентиляционных отверстий (фрамуги, форточк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коэффициент аэрации (проветривания)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а= п/в : п/п,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эффициент аэ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всех вентиляционных отверс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48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Объект 3"/>
              <p:cNvSpPr txBox="1"/>
              <p:nvPr/>
            </p:nvSpPr>
            <p:spPr>
              <a:xfrm>
                <a:off x="2195640" y="3933720"/>
                <a:ext cx="352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Объект 5"/>
              <p:cNvSpPr txBox="1"/>
              <p:nvPr/>
            </p:nvSpPr>
            <p:spPr>
              <a:xfrm>
                <a:off x="3938760" y="4005360"/>
                <a:ext cx="276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Прямоугольник 1"/>
          <p:cNvSpPr/>
          <p:nvPr/>
        </p:nvSpPr>
        <p:spPr>
          <a:xfrm>
            <a:off x="61920" y="4941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бинете №42 коэффициент аэрации ниже нормы. Частота проветривания в норме (но только в период весны и осени, так как зимой проветрить класс нет возможности из-за заклеенных ок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39640" y="1125360"/>
          <a:ext cx="6918480" cy="4367520"/>
        </p:xfrm>
        <a:graphic>
          <a:graphicData uri="http://schemas.openxmlformats.org/drawingml/2006/table">
            <a:tbl>
              <a:tblPr/>
              <a:tblGrid>
                <a:gridCol w="1278000"/>
                <a:gridCol w="3299040"/>
                <a:gridCol w="2341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мент интерье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гиенические рекоменд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бинет №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344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ст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я южных помещений рекомендуются холодные тона, для северных - теплые т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же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крытие по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з щелей, дощатое, паркетное или линолеу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ноле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тол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вери и ра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верь белого цвета, рамы белы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еб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а натурального дерева или светло-зелен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 светлого дере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но-коричневая или зеленая. Рабочая поверхность доски ровная, прочно удерживает мел при написании текста, обеспечивает легкое его стир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ая – маркерная ровная, при написании  текста  обеспечивает лёгкое его стирани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1"/>
          <p:cNvSpPr/>
          <p:nvPr/>
        </p:nvSpPr>
        <p:spPr>
          <a:xfrm>
            <a:off x="108000" y="120600"/>
            <a:ext cx="71229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ценка визуально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уальная среда исследуемых помещений не является ни гомогенной, ни агрессивной, что соответствует санитарно-гигиеническим нор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31:23Z</dcterms:created>
  <dc:creator>User</dc:creator>
  <dc:description/>
  <dc:language>en-US</dc:language>
  <cp:lastModifiedBy>Учитель03</cp:lastModifiedBy>
  <dcterms:modified xsi:type="dcterms:W3CDTF">2013-04-23T09:23:37Z</dcterms:modified>
  <cp:revision>21</cp:revision>
  <dc:subject/>
  <dc:title>Экологический  паспорт  кабинета</dc:title>
</cp:coreProperties>
</file>