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chimes.wav" ContentType="audio/x-wav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AD6-827A-4260-8523-47B51B90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9DB-29BA-4CB8-9A0B-106C2F5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EA6-CF69-4499-8FFF-4D2880C3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4CC-FCAB-4E79-8F29-468D9D8E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332-9B81-435D-A64E-FBEF328D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BCF-D436-4037-BAD7-3A90A8C0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A7D-BA97-4538-9EA5-B8344BAE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200-99F9-4DFC-8E67-D350D79A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154-80CD-45B5-A037-BEC1658C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AAE-22F3-4D06-96C5-83FE084D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018-2EF2-4CDC-B8AD-50441505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F84-0AC2-4AFD-BF75-47F6737A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03EE-9944-4950-A615-D76CEC41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0" descr="j0332364"/>
          <p:cNvPicPr/>
          <p:nvPr/>
        </p:nvPicPr>
        <p:blipFill>
          <a:blip r:embed="rId1"/>
          <a:stretch/>
        </p:blipFill>
        <p:spPr>
          <a:xfrm>
            <a:off x="6227640" y="1557360"/>
            <a:ext cx="2305080" cy="2273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2" descr="аист"/>
          <p:cNvPicPr/>
          <p:nvPr/>
        </p:nvPicPr>
        <p:blipFill>
          <a:blip r:embed="rId2"/>
          <a:stretch/>
        </p:blipFill>
        <p:spPr>
          <a:xfrm>
            <a:off x="6300720" y="4005360"/>
            <a:ext cx="219564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4" descr="собака"/>
          <p:cNvPicPr/>
          <p:nvPr/>
        </p:nvPicPr>
        <p:blipFill>
          <a:blip r:embed="rId3"/>
          <a:stretch/>
        </p:blipFill>
        <p:spPr>
          <a:xfrm>
            <a:off x="684360" y="4029120"/>
            <a:ext cx="2519280" cy="254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ananas"/>
          <p:cNvPicPr/>
          <p:nvPr/>
        </p:nvPicPr>
        <p:blipFill>
          <a:blip r:embed="rId4"/>
          <a:stretch/>
        </p:blipFill>
        <p:spPr>
          <a:xfrm>
            <a:off x="3492360" y="3894120"/>
            <a:ext cx="2454480" cy="2630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ЙДИТЕ «ЛИШНЮЮ» КАРТИНКУ.</a:t>
            </a:r>
            <a:br>
              <a:rPr sz="24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0" descr="слон"/>
          <p:cNvPicPr/>
          <p:nvPr/>
        </p:nvPicPr>
        <p:blipFill>
          <a:blip r:embed="rId5"/>
          <a:stretch/>
        </p:blipFill>
        <p:spPr>
          <a:xfrm>
            <a:off x="611280" y="1628640"/>
            <a:ext cx="2448000" cy="21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1" descr="паук"/>
          <p:cNvPicPr/>
          <p:nvPr/>
        </p:nvPicPr>
        <p:blipFill>
          <a:blip r:embed="rId6"/>
          <a:stretch/>
        </p:blipFill>
        <p:spPr>
          <a:xfrm>
            <a:off x="3492360" y="1555920"/>
            <a:ext cx="249084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7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3300"/>
                </a:solidFill>
                <a:uFillTx/>
                <a:latin typeface="Arial"/>
              </a:rPr>
              <a:t>Домашнее задани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1.Прочитать статью «Разнообразие животных» (Учебник, с.89-94). Ответить на вопросы раздела «Проверь себя» (с.95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2.Выполнить задания 1,2,3 (с.95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6920" y="4797360"/>
            <a:ext cx="75614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26" repeatCount="200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ТЕМА УРОКА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2133720"/>
            <a:ext cx="748836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Разнообразие</a:t>
            </a:r>
            <a:endParaRPr b="0" lang="en-US" sz="1800" spc="1" strike="noStrike">
              <a:ln w="3240">
                <a:solidFill>
                  <a:srgbClr val="eaeaea"/>
                </a:solidFill>
                <a:miter/>
              </a:ln>
              <a:solidFill>
                <a:srgbClr val="ff0000">
                  <a:alpha val="90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отных"</a:t>
            </a:r>
            <a:endParaRPr b="0" lang="en-US" sz="1800" spc="1" strike="noStrike">
              <a:ln w="3240">
                <a:solidFill>
                  <a:srgbClr val="eaeaea"/>
                </a:solidFill>
                <a:miter/>
              </a:ln>
              <a:solidFill>
                <a:srgbClr val="ff0000">
                  <a:alpha val="90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Е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точка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Обозначить цифрами последовательность стадий развития раст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Сем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Взрослое растение с плодами и семен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Проросток с развивающимся кореш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Взрослое растение с цвет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__ Проросток с развивающимися стеблем и лист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125000"/>
            <a:ext cx="4042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точка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Как расселяются растения? Напиши после названия каждого растения, как распространяются у него сем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Клен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Одуванчи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Сосна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Репейни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Ель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гадайте кроссвор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9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572000" cy="484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 3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00200"/>
          <a:ext cx="8291520" cy="4687920"/>
        </p:xfrm>
        <a:graphic>
          <a:graphicData uri="http://schemas.openxmlformats.org/drawingml/2006/table">
            <a:tbl>
              <a:tblPr/>
              <a:tblGrid>
                <a:gridCol w="4176720"/>
                <a:gridCol w="4114800"/>
              </a:tblGrid>
              <a:tr h="71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животные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икие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омашние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соба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ен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лягу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ур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кор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ли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жи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ош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голу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бел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свинь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Line 127"/>
          <p:cNvSpPr/>
          <p:nvPr/>
        </p:nvSpPr>
        <p:spPr>
          <a:xfrm flipH="1">
            <a:off x="3276360" y="2276640"/>
            <a:ext cx="64764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8"/>
          <p:cNvSpPr/>
          <p:nvPr/>
        </p:nvSpPr>
        <p:spPr>
          <a:xfrm>
            <a:off x="4932360" y="2276640"/>
            <a:ext cx="576360" cy="28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31640" y="765000"/>
            <a:ext cx="8208000" cy="5686560"/>
            <a:chOff x="431640" y="765000"/>
            <a:chExt cx="8208000" cy="5686560"/>
          </a:xfrm>
        </p:grpSpPr>
        <p:cxnSp>
          <p:nvCxnSpPr>
            <p:cNvPr id="63" name="_s37902"/>
            <p:cNvCxnSpPr>
              <a:stCxn id="64" idx="0"/>
              <a:endCxn id="65" idx="2"/>
            </p:cNvCxnSpPr>
            <p:nvPr/>
          </p:nvCxnSpPr>
          <p:spPr>
            <a:xfrm flipV="1" rot="16200000">
              <a:off x="5072040" y="2502720"/>
              <a:ext cx="1137600" cy="221004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6" name="_s37901"/>
            <p:cNvCxnSpPr>
              <a:stCxn id="67" idx="0"/>
              <a:endCxn id="65" idx="2"/>
            </p:cNvCxnSpPr>
            <p:nvPr/>
          </p:nvCxnSpPr>
          <p:spPr>
            <a:xfrm flipH="1" flipV="1" rot="5400000">
              <a:off x="2862000" y="2502360"/>
              <a:ext cx="1137600" cy="2210760"/>
            </a:xfrm>
            <a:prstGeom prst="bentConnector3">
              <a:avLst>
                <a:gd name="adj1" fmla="val 12788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5" name="_s37896"/>
            <p:cNvSpPr/>
            <p:nvPr/>
          </p:nvSpPr>
          <p:spPr>
            <a:xfrm>
              <a:off x="2642040" y="765000"/>
              <a:ext cx="3788280" cy="227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66"/>
                  </a:solidFill>
                  <a:latin typeface="Goudy Stout"/>
                </a:rPr>
                <a:t>БИОЛОГ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898"/>
            <p:cNvSpPr/>
            <p:nvPr/>
          </p:nvSpPr>
          <p:spPr>
            <a:xfrm>
              <a:off x="431640" y="4177080"/>
              <a:ext cx="3788280" cy="227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Goudy Stout"/>
                </a:rPr>
                <a:t>Ботаник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Goudy Stout"/>
                </a:rPr>
                <a:t>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Goudy Stout"/>
                </a:rPr>
                <a:t>наука о растениях</a:t>
              </a:r>
              <a:r>
                <a:rPr b="1" lang="en-US" sz="2800" spc="-1" strike="noStrike">
                  <a:solidFill>
                    <a:srgbClr val="000066"/>
                  </a:solidFill>
                  <a:latin typeface="Goudy Stou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899"/>
            <p:cNvSpPr/>
            <p:nvPr/>
          </p:nvSpPr>
          <p:spPr>
            <a:xfrm>
              <a:off x="4851360" y="4177080"/>
              <a:ext cx="3788280" cy="2274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Goudy Stout"/>
                </a:rPr>
                <a:t>Зоологи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Goudy Stout"/>
                </a:rPr>
                <a:t>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Goudy Stout"/>
                </a:rPr>
                <a:t>наука о животных</a:t>
              </a:r>
              <a:r>
                <a:rPr b="1" lang="en-US" sz="2800" spc="-1" strike="noStrike">
                  <a:solidFill>
                    <a:srgbClr val="000066"/>
                  </a:solidFill>
                  <a:latin typeface="Goudy Stout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Organization Chart 35"/>
          <p:cNvGrpSpPr/>
          <p:nvPr/>
        </p:nvGrpSpPr>
        <p:grpSpPr>
          <a:xfrm>
            <a:off x="431640" y="549360"/>
            <a:ext cx="8532720" cy="6118920"/>
            <a:chOff x="431640" y="549360"/>
            <a:chExt cx="8532720" cy="6118920"/>
          </a:xfrm>
        </p:grpSpPr>
        <p:cxnSp>
          <p:nvCxnSpPr>
            <p:cNvPr id="70" name="_s1028"/>
            <p:cNvCxnSpPr>
              <a:stCxn id="71" idx="1"/>
              <a:endCxn id="72" idx="2"/>
            </p:cNvCxnSpPr>
            <p:nvPr/>
          </p:nvCxnSpPr>
          <p:spPr>
            <a:xfrm rot="10800000">
              <a:off x="2868840" y="4999320"/>
              <a:ext cx="406800" cy="1112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3" name="_s1029"/>
            <p:cNvCxnSpPr>
              <a:stCxn id="74" idx="1"/>
              <a:endCxn id="75" idx="2"/>
            </p:cNvCxnSpPr>
            <p:nvPr/>
          </p:nvCxnSpPr>
          <p:spPr>
            <a:xfrm rot="10800000">
              <a:off x="6119280" y="4999320"/>
              <a:ext cx="406800" cy="1112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6" name="_s1030"/>
            <p:cNvCxnSpPr>
              <a:stCxn id="75" idx="0"/>
              <a:endCxn id="77" idx="2"/>
            </p:cNvCxnSpPr>
            <p:nvPr/>
          </p:nvCxnSpPr>
          <p:spPr>
            <a:xfrm flipV="1" rot="16200000">
              <a:off x="5028840" y="2795400"/>
              <a:ext cx="556560" cy="1625760"/>
            </a:xfrm>
            <a:prstGeom prst="bentConnector3">
              <a:avLst>
                <a:gd name="adj1" fmla="val 2433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8" name="_s1031"/>
            <p:cNvCxnSpPr>
              <a:stCxn id="72" idx="0"/>
              <a:endCxn id="77" idx="2"/>
            </p:cNvCxnSpPr>
            <p:nvPr/>
          </p:nvCxnSpPr>
          <p:spPr>
            <a:xfrm flipH="1" flipV="1" rot="5400000">
              <a:off x="3403800" y="2795760"/>
              <a:ext cx="556560" cy="1625760"/>
            </a:xfrm>
            <a:prstGeom prst="bentConnector3">
              <a:avLst>
                <a:gd name="adj1" fmla="val 24336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79" name="_s1032"/>
            <p:cNvCxnSpPr>
              <a:stCxn id="77" idx="0"/>
              <a:endCxn id="80" idx="2"/>
            </p:cNvCxnSpPr>
            <p:nvPr/>
          </p:nvCxnSpPr>
          <p:spPr>
            <a:xfrm flipV="1" rot="16200000">
              <a:off x="3505320" y="1228320"/>
              <a:ext cx="556560" cy="1422360"/>
            </a:xfrm>
            <a:prstGeom prst="bentConnector3">
              <a:avLst>
                <a:gd name="adj1" fmla="val 242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81" name="_s1033"/>
            <p:cNvCxnSpPr>
              <a:stCxn id="82" idx="0"/>
              <a:endCxn id="80" idx="2"/>
            </p:cNvCxnSpPr>
            <p:nvPr/>
          </p:nvCxnSpPr>
          <p:spPr>
            <a:xfrm flipH="1" flipV="1" rot="5400000">
              <a:off x="2083320" y="1227960"/>
              <a:ext cx="556560" cy="1423080"/>
            </a:xfrm>
            <a:prstGeom prst="bentConnector3">
              <a:avLst>
                <a:gd name="adj1" fmla="val 24207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80" name="_s1034"/>
            <p:cNvSpPr/>
            <p:nvPr/>
          </p:nvSpPr>
          <p:spPr>
            <a:xfrm>
              <a:off x="1854000" y="54936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живот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35"/>
            <p:cNvSpPr/>
            <p:nvPr/>
          </p:nvSpPr>
          <p:spPr>
            <a:xfrm>
              <a:off x="431640" y="221796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одноклеточ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6"/>
            <p:cNvSpPr/>
            <p:nvPr/>
          </p:nvSpPr>
          <p:spPr>
            <a:xfrm>
              <a:off x="3275640" y="221796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многоклеточ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7"/>
            <p:cNvSpPr/>
            <p:nvPr/>
          </p:nvSpPr>
          <p:spPr>
            <a:xfrm>
              <a:off x="1650600" y="388692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беспозвоноч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8"/>
            <p:cNvSpPr/>
            <p:nvPr/>
          </p:nvSpPr>
          <p:spPr>
            <a:xfrm>
              <a:off x="4901040" y="388692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100" spc="-1" strike="noStrike">
                  <a:solidFill>
                    <a:srgbClr val="000000"/>
                  </a:solidFill>
                  <a:latin typeface="Arial"/>
                </a:rPr>
                <a:t>позвоноч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9"/>
            <p:cNvSpPr/>
            <p:nvPr/>
          </p:nvSpPr>
          <p:spPr>
            <a:xfrm>
              <a:off x="6526440" y="555588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рыбы, земновод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пресмыкающие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птиц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млекопитающ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40"/>
            <p:cNvSpPr/>
            <p:nvPr/>
          </p:nvSpPr>
          <p:spPr>
            <a:xfrm>
              <a:off x="3275640" y="5555880"/>
              <a:ext cx="2437920" cy="1112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черви, моллю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иглокожие, ра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паукообраз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насеком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ircl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640" y="360"/>
            <a:ext cx="70106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4920" y="476280"/>
          <a:ext cx="9001080" cy="6570360"/>
        </p:xfrm>
        <a:graphic>
          <a:graphicData uri="http://schemas.openxmlformats.org/drawingml/2006/table">
            <a:tbl>
              <a:tblPr/>
              <a:tblGrid>
                <a:gridCol w="4543560"/>
                <a:gridCol w="445752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ы живо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 живот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32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</a:rPr>
                        <a:t>Беспозвоночные живот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в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ждевой червь, пия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люск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улитки, слизни, осьминоги, кальмары, каракат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ягкое тело обычно защищено ракови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локожи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ские звезды, морские ежи, морские лилии, морские огур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ся игол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кообраз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ки, крабы, креветки, мокр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укообраз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пионы, пауки, сенокосцы, кле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восемь н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ком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ки, бабочки, стрекозы, пчелы, мух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еют шесть н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</a:rPr>
                        <a:t>Позвоночные живот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ыб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вут в воде, тело покрыто чешуей, передвигаются при помощи плавников, дышат жабр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новодные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лягушки, жабы, трит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жизни живут на суше, часть – в воде. Кожа голая, неж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смыкающиеся (рептилии)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ящерицы, змеи, черепахи, крокоди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сухими чешуйками или панцир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тиц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перь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ери или млекопитающ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ло покрыто шерстью, Детенышей кормят молоко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ircl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ЗАДАНИЕ 4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6000" y="1773360"/>
            <a:ext cx="701028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) Морская звезда, морской еж, морская лилия, морской огурец, осьмино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) Жук, бабочка, паук, стрекоза, пчела, м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)  Лягушка, ящерица, змея, черепаха, крокод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)  Речной рак, краб, креветка, пия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6:19:55Z</dcterms:created>
  <dc:creator>мыша</dc:creator>
  <dc:description/>
  <dc:language>en-US</dc:language>
  <cp:lastModifiedBy>мыша</cp:lastModifiedBy>
  <dcterms:modified xsi:type="dcterms:W3CDTF">2008-12-18T18:29:00Z</dcterms:modified>
  <cp:revision>24</cp:revision>
  <dc:subject/>
  <dc:title>ЗАДАНИЕ 1 НАЙДИТЕ «ЛИШНИЮ» КАРТИНКУ </dc:title>
</cp:coreProperties>
</file>