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6D7-C61A-4E0D-AC7C-AD906E0E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DE2-FA4B-4E2E-A1D1-992E020E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A51-BC61-4E1E-9AB9-D4945E45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146E-C7FD-4DDA-A2DB-E069C637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04B-EF60-4837-9123-27520A79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64A-F243-403D-91B7-03ADC841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0BD-A5C0-440E-80BE-3F017CB7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347-5C2A-45AA-A89B-CF3032B5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9A2-55C1-442A-96A8-8430CAC9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BB5-F34C-4CFA-9D94-63281CC9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E55-2E71-4063-A874-E9F6923E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31E-C62C-4CA8-962F-E322EF15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F40D-5B80-4961-A80C-29C147287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gtours.ru/zheleznodorozhnie-bileti/numeratsiya-mest-v-vagone-poezda.html" TargetMode="External"/><Relationship Id="rId2" Type="http://schemas.openxmlformats.org/officeDocument/2006/relationships/hyperlink" Target="http://www.mgtours.ru/zheleznodorozhnie-bileti/numeratsiya-mest-v-vagone-poezda.html" TargetMode="External"/><Relationship Id="rId3" Type="http://schemas.openxmlformats.org/officeDocument/2006/relationships/hyperlink" Target="http://www.mgtours.ru/zheleznodorozhnie-bileti/numeratsiya-mest-v-vagone-poezda.html" TargetMode="External"/><Relationship Id="rId4" Type="http://schemas.openxmlformats.org/officeDocument/2006/relationships/hyperlink" Target="http://www.mgtours.ru/zheleznodorozhnie-bileti/numeratsiya-mest-v-vagone-poezda.html" TargetMode="External"/><Relationship Id="rId5" Type="http://schemas.openxmlformats.org/officeDocument/2006/relationships/hyperlink" Target="http://www.mgtours.ru/zheleznodorozhnie-bileti/numeratsiya-mest-v-vagone-poezda.html" TargetMode="External"/><Relationship Id="rId6" Type="http://schemas.openxmlformats.org/officeDocument/2006/relationships/hyperlink" Target="http://www.mgtours.ru/zheleznodorozhnie-bileti/numeratsiya-mest-v-vagone-poezda.html" TargetMode="External"/><Relationship Id="rId7" Type="http://schemas.openxmlformats.org/officeDocument/2006/relationships/hyperlink" Target="http://www.mgtours.ru/zheleznodorozhnie-bileti/numeratsiya-mest-v-vagone-poezda.html" TargetMode="External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ИДЫ </a:t>
            </a:r>
            <a:br>
              <a:rPr sz="5400"/>
            </a:br>
            <a:br>
              <a:rPr sz="2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АССАЖИРСКИХ  </a:t>
            </a:r>
            <a:br>
              <a:rPr sz="5400"/>
            </a:br>
            <a:br>
              <a:rPr sz="2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АГОНОВ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часть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УПЕ  - 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УПЕ  - 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346640" cy="5791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купейный СВ"/>
          <p:cNvPicPr/>
          <p:nvPr/>
        </p:nvPicPr>
        <p:blipFill>
          <a:blip r:embed="rId2"/>
          <a:stretch/>
        </p:blipFill>
        <p:spPr>
          <a:xfrm>
            <a:off x="4618080" y="1066680"/>
            <a:ext cx="4525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УПЕ  - 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Купе и плацкарт снова подорожают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СПАЛЬНЫЙ - С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льный пассажирский вагон (СВ) имеет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ухместных купе. Вагон предназначен для перевозк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пассажи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места в вагоне СВ, расположение мест в вагоне СВ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СПАЛЬНЫЙ - С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вагон СВ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СПАЛЬНЫЙ - С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вагон СВ"/>
          <p:cNvPicPr/>
          <p:nvPr/>
        </p:nvPicPr>
        <p:blipFill>
          <a:blip r:embed="rId1"/>
          <a:stretch/>
        </p:blipFill>
        <p:spPr>
          <a:xfrm>
            <a:off x="0" y="1035000"/>
            <a:ext cx="91440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СПАЛЬНЫЙ - С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вагон СВ"/>
          <p:cNvPicPr/>
          <p:nvPr/>
        </p:nvPicPr>
        <p:blipFill>
          <a:blip r:embed="rId1"/>
          <a:stretch/>
        </p:blipFill>
        <p:spPr>
          <a:xfrm>
            <a:off x="0" y="974880"/>
            <a:ext cx="914400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ласса ПРЕМ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гон класса «Премиум» имеет 4 одноместных или двухместных купе с различными планировками и обстановк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агон предназначен для перевозки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4 - 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пассажи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из вариантов планировки С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упе установлена двуспальная кровать, имеется   душевая кабинка, умывальник, вещевой шкаф, телевизор и DVD-проигрыватель, рабочий стол с креслом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ласса ПРЕМИУ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вагон преимум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ласса ПРЕМ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вагон супер люкс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ОБЩИЙ - 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вагон рассчитан на 81 место. Выглядит вагон внутри как плацкартный. Однако в каждом купе может ехать 6 человек, и на боковых местах по 3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990960"/>
            <a:ext cx="9144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ласса ПРЕМ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вагон супер люкс"/>
          <p:cNvPicPr/>
          <p:nvPr/>
        </p:nvPicPr>
        <p:blipFill>
          <a:blip r:embed="rId1"/>
          <a:stretch/>
        </p:blipFill>
        <p:spPr>
          <a:xfrm>
            <a:off x="5638680" y="1219320"/>
            <a:ext cx="3505320" cy="5638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купе премиум"/>
          <p:cNvPicPr/>
          <p:nvPr/>
        </p:nvPicPr>
        <p:blipFill>
          <a:blip r:embed="rId2"/>
          <a:stretch/>
        </p:blipFill>
        <p:spPr>
          <a:xfrm>
            <a:off x="0" y="1143000"/>
            <a:ext cx="4648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ласса ПРЕМ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купе премиум"/>
          <p:cNvPicPr/>
          <p:nvPr/>
        </p:nvPicPr>
        <p:blipFill>
          <a:blip r:embed="rId1"/>
          <a:stretch/>
        </p:blipFill>
        <p:spPr>
          <a:xfrm>
            <a:off x="1676520" y="990720"/>
            <a:ext cx="6019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ласса ПРЕМ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вагон преимум"/>
          <p:cNvPicPr/>
          <p:nvPr/>
        </p:nvPicPr>
        <p:blipFill>
          <a:blip r:embed="rId1"/>
          <a:stretch/>
        </p:blipFill>
        <p:spPr>
          <a:xfrm>
            <a:off x="0" y="1066680"/>
            <a:ext cx="4343400" cy="579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упе класса люкс"/>
          <p:cNvPicPr/>
          <p:nvPr/>
        </p:nvPicPr>
        <p:blipFill>
          <a:blip r:embed="rId2"/>
          <a:stretch/>
        </p:blipFill>
        <p:spPr>
          <a:xfrm>
            <a:off x="5373720" y="1523880"/>
            <a:ext cx="37702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аницы сай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gtours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zheleznodorozhnie-bileti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umeratsiya-mest-v-vagone-poezd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upoezd.ru/vago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traveler-mir.com/tourist/raspolozhenie-mest-v-platskartnom-vag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dz.lv/uploaded_images/vagonu%20shemas/kopejais81_ru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crosstheborders.ru/kak-ya-provel-leto-chast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vppress.ru/stories/kupiv-bilet-ne-ver-glazam-cvoim-83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hotopolygon.com/posts/187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se4ka-so.livejournal.com/28099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hpoez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2008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ez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41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tarus.narod.ru/travel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orami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49686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news.tut.by/otklik/11350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ео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идео инструкция. Вагон пассажирский купейный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youtube.com/watch?v=rm8tDWpno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ЖД. Инструкция VIP вагоны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youtube.com/watch?v=-rJrNdcGC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ОБЩИЙ - 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ОБЩИЙ - 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4304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ОБЩИЙ - 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6019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УПЕ  - 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пейный пассажирский вагон (Купе) имеет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етырехместных купе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он предназначен для перевозк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ассажи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места в купейном вагоне, расположение мест в купейном вагоне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УПЕ  - 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75420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УПЕ  - 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УПЕ  - 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ключатели света, стопорный кран, блокирующий открывание двери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6:49:19Z</dcterms:created>
  <dc:creator>Home</dc:creator>
  <dc:description/>
  <dc:language>en-US</dc:language>
  <cp:lastModifiedBy>Home</cp:lastModifiedBy>
  <dcterms:modified xsi:type="dcterms:W3CDTF">2013-04-23T06:58:4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