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A2A-87CA-4504-9DD4-53BABC54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E5B-6EB7-421C-8714-B692C9DF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1B2-E56B-42F9-94F2-DC795DD3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F92-62E8-4673-B5A0-92D555C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B15-B735-4B71-A9DA-2CFE7B1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9C3-8B28-4C74-9FD9-FC32C4D4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079-6ED4-4790-97EB-C9A2BB3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A0F-BAB4-4625-9AB0-26DC60DC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E81-FE71-45A2-9B92-E8A99A4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CCA-1CD7-4819-B20B-8221A3D9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CF8-D5F5-4BC5-AAC8-F879DA2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513-7488-4592-B366-750F2F3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BB1-2C9F-48F5-8371-37A073C2F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gtours.ru/zheleznodorozhnie-bileti/numeratsiya-mest-v-vagone-poezda.html" TargetMode="External"/><Relationship Id="rId2" Type="http://schemas.openxmlformats.org/officeDocument/2006/relationships/hyperlink" Target="http://www.mgtours.ru/zheleznodorozhnie-bileti/numeratsiya-mest-v-vagone-poezda.html" TargetMode="External"/><Relationship Id="rId3" Type="http://schemas.openxmlformats.org/officeDocument/2006/relationships/hyperlink" Target="http://www.mgtours.ru/zheleznodorozhnie-bileti/numeratsiya-mest-v-vagone-poezda.html" TargetMode="External"/><Relationship Id="rId4" Type="http://schemas.openxmlformats.org/officeDocument/2006/relationships/hyperlink" Target="http://www.mgtours.ru/zheleznodorozhnie-bileti/numeratsiya-mest-v-vagone-poezda.html" TargetMode="External"/><Relationship Id="rId5" Type="http://schemas.openxmlformats.org/officeDocument/2006/relationships/hyperlink" Target="http://www.mgtours.ru/zheleznodorozhnie-bileti/numeratsiya-mest-v-vagone-poezda.html" TargetMode="External"/><Relationship Id="rId6" Type="http://schemas.openxmlformats.org/officeDocument/2006/relationships/hyperlink" Target="http://www.mgtours.ru/zheleznodorozhnie-bileti/numeratsiya-mest-v-vagone-poezda.html" TargetMode="External"/><Relationship Id="rId7" Type="http://schemas.openxmlformats.org/officeDocument/2006/relationships/hyperlink" Target="http://www.mgtours.ru/zheleznodorozhnie-bileti/numeratsiya-mest-v-vagone-poezda.html" TargetMode="Externa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ИДЫ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ССАЖИРСКИХ 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ГОНОВ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асть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6640" cy="5791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купейный СВ"/>
          <p:cNvPicPr/>
          <p:nvPr/>
        </p:nvPicPr>
        <p:blipFill>
          <a:blip r:embed="rId2"/>
          <a:stretch/>
        </p:blipFill>
        <p:spPr>
          <a:xfrm>
            <a:off x="4618080" y="1066680"/>
            <a:ext cx="4525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Купе и плацкарт снова подорожают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льный пассажирский вагон (СВ) имеет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ухместных купе. Вагон предназначен для перевоз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пассаж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места в вагоне СВ, расположение мест в вагоне СВ"/>
          <p:cNvPicPr/>
          <p:nvPr/>
        </p:nvPicPr>
        <p:blipFill>
          <a:blip r:embed="rId1"/>
          <a:stretch/>
        </p:blipFill>
        <p:spPr>
          <a:xfrm>
            <a:off x="0" y="3505320"/>
            <a:ext cx="914400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вагон СВ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вагон СВ"/>
          <p:cNvPicPr/>
          <p:nvPr/>
        </p:nvPicPr>
        <p:blipFill>
          <a:blip r:embed="rId1"/>
          <a:stretch/>
        </p:blipFill>
        <p:spPr>
          <a:xfrm>
            <a:off x="0" y="103500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СПАЛЬНЫЙ - С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вагон СВ"/>
          <p:cNvPicPr/>
          <p:nvPr/>
        </p:nvPicPr>
        <p:blipFill>
          <a:blip r:embed="rId1"/>
          <a:stretch/>
        </p:blipFill>
        <p:spPr>
          <a:xfrm>
            <a:off x="0" y="97488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гон класса «Премиум» имеет 4 одноместных или двухместных купе с различными планировками и обстанов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агон предназначен для перевозки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4 - 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пассажи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вариантов планировки С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упе установлена двуспальная кровать, имеется   душевая кабинка, умывальник, вещевой шкаф, телевизор и DVD-проигрыватель, рабочий стол с креслом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вагон преимум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вагон супер люкс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вагон рассчитан на 81 место. Выглядит вагон внутри как плацкартный. Однако в каждом купе может ехать 6 человек, и на боковых местах по 3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3990960"/>
            <a:ext cx="9144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вагон супер люкс"/>
          <p:cNvPicPr/>
          <p:nvPr/>
        </p:nvPicPr>
        <p:blipFill>
          <a:blip r:embed="rId1"/>
          <a:stretch/>
        </p:blipFill>
        <p:spPr>
          <a:xfrm>
            <a:off x="5638680" y="1219320"/>
            <a:ext cx="3505320" cy="563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купе премиум"/>
          <p:cNvPicPr/>
          <p:nvPr/>
        </p:nvPicPr>
        <p:blipFill>
          <a:blip r:embed="rId2"/>
          <a:stretch/>
        </p:blipFill>
        <p:spPr>
          <a:xfrm>
            <a:off x="0" y="1143000"/>
            <a:ext cx="464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купе премиум"/>
          <p:cNvPicPr/>
          <p:nvPr/>
        </p:nvPicPr>
        <p:blipFill>
          <a:blip r:embed="rId1"/>
          <a:stretch/>
        </p:blipFill>
        <p:spPr>
          <a:xfrm>
            <a:off x="1676520" y="990720"/>
            <a:ext cx="6019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ласса ПРЕМ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вагон преимум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579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упе класса люкс"/>
          <p:cNvPicPr/>
          <p:nvPr/>
        </p:nvPicPr>
        <p:blipFill>
          <a:blip r:embed="rId2"/>
          <a:stretch/>
        </p:blipFill>
        <p:spPr>
          <a:xfrm>
            <a:off x="5373720" y="1523880"/>
            <a:ext cx="37702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ицы сай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gtour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heleznodorozhnie-bileti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umeratsiya-mest-v-vagone-poezd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poezd.ru/vag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traveler-mir.com/tourist/raspolozhenie-mest-v-platskartnom-va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dz.lv/uploaded_images/vagonu%20shemas/kopejais81_ru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rosstheborders.ru/kak-ya-provel-leto-chast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ppress.ru/stories/kupiv-bilet-ne-ver-glazam-cvoim-83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polygon.com/posts/187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se4ka-so.livejournal.com/28099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hpoez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008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z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1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tarus.narod.ru/trave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oram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9686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.tut.by/otklik/11350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идео инструкция. Вагон пассажирский купейны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rm8tDWpno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ЖД. Инструкция VIP вагон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-rJrNdcGC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ОБЩИЙ - 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6019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пейный пассажирский вагон (Купе) имеет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етырехместных купе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гон предназначен для перевоз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ассаж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места в купейном вагоне, расположение мест в купейном вагоне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 КУПЕ  -  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ключатели света, стопорный кран, блокирующий открывание двери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6:49:19Z</dcterms:created>
  <dc:creator>Home</dc:creator>
  <dc:description/>
  <dc:language>en-US</dc:language>
  <cp:lastModifiedBy>Home</cp:lastModifiedBy>
  <dcterms:modified xsi:type="dcterms:W3CDTF">2013-04-23T06:58:4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