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12.jpeg" ContentType="image/jpeg"/>
  <Override PartName="/ppt/media/image9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D65AA-2DBC-40F7-AFCF-005A900C1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180F0-A61A-490B-96EE-426B39A01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DB250-7C8C-48BD-B368-202DFE0F2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CFBB4-F3EC-4B8B-8CC1-AC3C77E88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9B97A-D6E8-4F12-81B0-505917B23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4AA5A-9171-4C5D-84F7-E45450107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95BC3-9775-4BEC-B695-B077BB26E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B911A-6D6B-4A2A-A280-840D9DEFE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32779-7D7D-469A-B93A-C1FEA744F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F5B75-5E9E-495F-8CD2-CE17FD4FB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31988-D70F-4B8C-B108-5093C8E9D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19346-9633-41ED-A52E-076FF9B2B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F151C-4CBA-41E2-9D64-102427733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96FCE-C7BA-4C6B-B948-B425464AE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EAE37-CF50-45D2-AE0D-65658C6D7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4E7EA-F3C6-47DB-BA4B-3E702CB63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2E1C1-8212-4722-80DB-2527D7304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CFD80-EE0B-4BDF-8A9B-C7E36F2C2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5D5BB-4BE6-462D-83D4-123706A83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80C45-5609-4782-9ACC-4EDBD0266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F98D4-37CF-4747-A97F-46335080D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9F5C9-2E45-4FF1-AA06-350168B6B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AC427-3C37-4584-A7D2-06F5BAB22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CE124-0E51-4A2E-8E11-88D6CF57F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6D7C2-C09E-40C0-8E8A-33E7BE8544C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7A7F5-20B1-4C19-B892-1AE3D744711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Выполнил: 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1" i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ученик 3 «В» класса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1" i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МБОУ СОШ  №11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1" i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Федоров Владисла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5029200" y="1447920"/>
            <a:ext cx="3352680" cy="4419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4648320" y="533520"/>
            <a:ext cx="403848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Старичок к старухе воротился. 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Что ж? пред ним царские палаты. 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 палатах видит свою старуху, 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За столом сидит она царицей, 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Служат ей бояре да дворяне, 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Наливают ей заморские вины; 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Заедает она пряником печатным; 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круг ее стоит грозная стража, 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На плечах топорики держат. 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Как увидел старик, — испугался! 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 ноги он старухе поклонился, 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олвил: «Здравствуй, грозная царица! 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Ну, теперь твоя душенька довольна». 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На него старуха не взглянула, 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Лишь с очей прогнать его велела. 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одбежали бояре и дворяне, 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Старика взашеи затолкали. 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А в дверях-то стража подбежала, 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Топорами чуть не изрубила. 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А народ-то над ним насмеялся: 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«Поделом тебе, старый невежа! 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предь тебе, невежа, наука: 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Не садися не в свои сани!»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533520" y="175248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0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403848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от неделя, другая проходит,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Еще пуще старуха вздурилась: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Царедворцев за мужем посылает,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тыскали старика, привели к ней.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оворит старику старуха: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«Воротись, поклонися рыбке.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е хочу быть вольною царицей,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Хочу быть владычицей морскою,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Чтобы жить мне в Окияне-море,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Чтоб служила мне рыбка золотая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 была б у меня на посылках»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4648320" y="1676520"/>
            <a:ext cx="4038480" cy="3028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4647960" y="228600"/>
            <a:ext cx="434340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тарик не осмелился перечить,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е дерзнул поперек слова молвить.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от идет он к синему морю,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идит, на море черная буря: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ак и вздулись сердитые волны,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ак и ходят, так воем и воют.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тал он кликать золотую рыбку.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иплыла к нему рыбка, спросила: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«Чего тебе надобно, старче?»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Ей старик с поклоном отвечает: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«Смилуйся, государыня рыбка!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Что мне делать с проклятою бабой?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ж не хочет быть она царицей,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Хочет быть владычицей морскою;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Чтобы жить ей в Окияне-море,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Чтобы ты сама ей служила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 была бы у ней на посылках».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ичего не сказала рыбка,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Лишь хвостом по воде плеснула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 ушла в глубокое море.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олго у моря ждал он ответа,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е дождался, к старухе воротился —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лядь: опять перед ним землянка;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 пороге сидит его старуха,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 пред нею разбитое корыто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533520" y="533520"/>
            <a:ext cx="3200400" cy="236196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533520" y="3505320"/>
            <a:ext cx="3200400" cy="2568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0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151920" y="228600"/>
            <a:ext cx="388620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Жил старик со своею старухой </a:t>
            </a:r>
            <a:br>
              <a:rPr sz="1600"/>
            </a:b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У самого синего моря; </a:t>
            </a:r>
            <a:br>
              <a:rPr sz="1600"/>
            </a:b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Они жили в ветхой землянке </a:t>
            </a:r>
            <a:br>
              <a:rPr sz="1600"/>
            </a:b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Ровно тридцать лет и три года. </a:t>
            </a:r>
            <a:br>
              <a:rPr sz="1600"/>
            </a:b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Старик ловил неводом рыбу, </a:t>
            </a:r>
            <a:br>
              <a:rPr sz="1600"/>
            </a:b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Старуха пряла свою пряжу. </a:t>
            </a:r>
            <a:br>
              <a:rPr sz="1600"/>
            </a:b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Раз он в море закинул невод, — </a:t>
            </a:r>
            <a:br>
              <a:rPr sz="1600"/>
            </a:b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Пришел невод с одною тиной. </a:t>
            </a:r>
            <a:br>
              <a:rPr sz="1600"/>
            </a:b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Он в другой раз закинул невод, </a:t>
            </a:r>
            <a:br>
              <a:rPr sz="1600"/>
            </a:b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Пришел невод с травой морскою. </a:t>
            </a:r>
            <a:br>
              <a:rPr sz="1600"/>
            </a:b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В третий раз закинул он невод, — </a:t>
            </a:r>
            <a:br>
              <a:rPr sz="1600"/>
            </a:b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Пришел невод с одною рыбкой, </a:t>
            </a:r>
            <a:br>
              <a:rPr sz="1600"/>
            </a:b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С непростою рыбкой, — золотою. </a:t>
            </a:r>
            <a:br>
              <a:rPr sz="1600"/>
            </a:b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Как взмолится золотая рыбка! </a:t>
            </a:r>
            <a:br>
              <a:rPr sz="1600"/>
            </a:b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Голосом молвит человечьим: </a:t>
            </a:r>
            <a:br>
              <a:rPr sz="1600"/>
            </a:b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«Отпусти ты, старче, меня в море, </a:t>
            </a:r>
            <a:br>
              <a:rPr sz="1600"/>
            </a:b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Дорогой за себя дам откуп: </a:t>
            </a:r>
            <a:br>
              <a:rPr sz="1600"/>
            </a:b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Откуплюсь чем только пожелаешь.» </a:t>
            </a:r>
            <a:br>
              <a:rPr sz="1600"/>
            </a:b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Удивился старик, испугался: </a:t>
            </a:r>
            <a:br>
              <a:rPr sz="1600"/>
            </a:b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Он рыбачил тридцать лет и три года </a:t>
            </a:r>
            <a:br>
              <a:rPr sz="1600"/>
            </a:b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И не слыхивал, чтоб рыба говорила. </a:t>
            </a:r>
            <a:br>
              <a:rPr sz="1600"/>
            </a:b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Отпустил он рыбку золотую </a:t>
            </a:r>
            <a:br>
              <a:rPr sz="1600"/>
            </a:b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И сказал ей ласковое слово: </a:t>
            </a:r>
            <a:br>
              <a:rPr sz="1600"/>
            </a:b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«Бог с тобою, золотая рыбка! </a:t>
            </a:r>
            <a:br>
              <a:rPr sz="1600"/>
            </a:b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Твоего мне откупа не надо; </a:t>
            </a:r>
            <a:br>
              <a:rPr sz="1600"/>
            </a:b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Ступай себе в синее море, </a:t>
            </a:r>
            <a:br>
              <a:rPr sz="1600"/>
            </a:b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Гуляй там себе на просторе».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3962520" y="1295280"/>
            <a:ext cx="4724280" cy="3810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4648320" y="762120"/>
            <a:ext cx="403848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оротился старик ко старухе,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Рассказал ей великое чудо.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«Я сегодня поймал было рыбку,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Золотую рыбку, не простую;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о-нашему говорила рыбка,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Домой в море синее просилась,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Дорогою ценою откупалась: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Откупалась чем только пожелаю.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Не посмел я взять с нее выкуп;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Так пустил ее в синее море».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тарика старуха забранила: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«Дурачина ты, простофиля!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Не умел ты взять выкупа с рыбки!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Хоть бы взял ты с нее корыто,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Наше-то совсем раскололось»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457200" y="1023840"/>
            <a:ext cx="4038480" cy="4762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4648320" y="685800"/>
            <a:ext cx="403848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от пошел он к синему морю;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идит, — море слегка разыгралось.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тал он кликать золотую рыбку,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риплыла к нему рыбка и спросила: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«Чего тебе надобно, старче?»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Ей с поклоном старик отвечает: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«Смилуйся, государыня рыбка,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Разбранила меня моя старуха,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Не дает старику мне покою: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Надобно ей новое корыто;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Наше-то совсем раскололось».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Отвечает золотая рыбка: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«Не печалься, ступай себе с богом,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Будет вам новое корыто».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оротился старик ко старухе,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У старухи новое корыто.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Еще пуще старуха бранится: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«Дурачина ты, простофиля!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ыпросил, дурачина, корыто!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 корыте много ль корысти?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оротись, дурачина, ты к рыбке;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оклонись ей, выпроси уж избу»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4343400" cy="3733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228600" y="609480"/>
            <a:ext cx="403848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от пошел он к синему морю, 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Стал он кликать золотую рыбку, 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риплыла к нему рыбка, спросила: 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«Чего тебе надобно, старче?» 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Ей старик с поклоном отвечает: 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«Смилуйся, государыня рыбка! 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Еще пуще старуха бранится, 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Не дает старику мне покою: 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Избу просит сварливая баба». 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Отвечает золотая рыбка: 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«Не печалься, ступай себе с богом, 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Так и быть: изба вам уж будет». 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ошел он ко своей землянке, 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А землянки нет уж и следа; 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еред ним изба со светелкой, 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С кирпичною, беленою трубою, 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С дубовыми, тесовыми вороты. 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Старуха сидит под окошком, 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На чем свет стоит мужа ругает. 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«Дурачина ты, прямой простофиля! 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ыпросил, простофиля, избу! 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оротись, поклонися рыбке: 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Не хочу быть черной крестьянкой, 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Хочу быть столбовою дворянкой»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4343400" y="1371600"/>
            <a:ext cx="4495680" cy="4003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ошел старик к синему морю;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Не спокойно синее море.)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тал он кликать золотую рыбку.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риплыла к нему рыбка, спросила: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«Чего тебе надобно, старче?»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Ей с поклоном старик отвечает: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«Смилуйся, государыня рыбка!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уще прежнего старуха вздурилась,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Не дает старику мне покою: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Уж не хочет быть она крестьянкой,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Хочет быть столбовою дворянкой».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Отвечает золотая рыбка: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«Не печалься, ступай себе с богом»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304920" y="1600200"/>
            <a:ext cx="4419360" cy="3776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2" dur="2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оротился старик ко старухе.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Что ж он видит? Высокий терем.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 крыльце стоит его старуха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дорогой собольей душегрейке,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арчовая на маковке кичка,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Жемчуги огрузили шею,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 руках золотые перстни,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 ногах красные сапожки.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еред нею усердные слуги;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на бьет их, за чупрун таскает.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оворит старик своей старухе: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«Здравствуй, барыня сударыня дворянка!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Чай, теперь твоя душенька довольна».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 него прикрикнула старуха,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 конюшне служить его послал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4495680" y="1676520"/>
            <a:ext cx="4419720" cy="3471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4648320" y="685800"/>
            <a:ext cx="4038480" cy="54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от неделя, другая проходит,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Еще пуще старуха вздурилась: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пять к рыбке старика посылает.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«Воротись, поклонися рыбке: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е хочу быть столбовою дворянкой,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 хочу быть вольною царицей».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спугался старик, взмолился: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«Что ты, баба, белены объелась?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и ступить, ни молвить не умеешь,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смешишь ты целое царство».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сердилася пуще старуха,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 щеке ударила мужа.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«Как ты смеешь, мужик, спорить со мною,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о мною, дворянкой столбовою? —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тупай к морю, говорят тебе честью,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е пойдешь, поведут поневоле»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457200" y="1752480"/>
            <a:ext cx="4419720" cy="3624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457200" y="1066680"/>
            <a:ext cx="40384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таричок отправился к морю,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Почернело синее море.)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тал он кликать золотую рыбку.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риплыла к нему рыбка, спросила: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«Чего тебе надобно, старче?»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Ей с поклоном старик отвечает: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«Смилуйся, государыня рыбка!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Опять моя старуха бунтует: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Уж не хочет быть она дворянкой,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Хочет быть вольною царицей».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Отвечает золотая рыбка: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«Не печалься, ступай себе с богом!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Добро! будет старуха царицей!»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4724280" y="3124080"/>
            <a:ext cx="4038840" cy="3029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3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Дом</cp:lastModifiedBy>
  <dcterms:modified xsi:type="dcterms:W3CDTF">2013-01-22T07:21:20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