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FCF-4173-496B-8AC5-3CC91F18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91E-44B9-47CF-90FD-26E28CEA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179-0712-47A2-BCDF-A9B8DFA1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A55-AC89-4DA2-AFE9-B9CE46BA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BF90-F342-458F-8FD2-32D008A3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C7EA-A6C6-4499-9A1D-004BF558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0BB4-F0FF-419E-A1F7-AFFD29C5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AE8D-D409-4FEA-8399-FE2A5EAD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F6EA-60FA-475D-8ED4-E1EDAC40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9AB9-0526-48A1-92F6-AD61C0A9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A495-7E4C-4A2C-BF53-72EBE14B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12B-1BC4-468D-835E-69D8D8BD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1940-02B9-4AD7-AA21-1E181DB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F00B-C27E-479A-BEF8-68CB9BE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99EF-E41C-47F4-A25B-332D0BF1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D813-1860-4441-826B-8E77A21F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4EA0-5E31-42BA-946D-2E203563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E5E-A431-4467-AB19-014F0551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2F2-BC95-4327-BFDE-508FF5C5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39E-F175-4377-A97A-113D35B3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920-9813-4F6A-9EF4-1500ADAD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35E-B788-489A-BEC7-5C099DB6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55D-B993-4597-ABB1-60D17793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9BA-91E3-41E1-B07A-84AB2BB9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3204-4FBE-484E-8B93-B916B02130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AC6A-CF1D-42D3-9A7C-557446B5DA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ыполнил: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ученик 3 «В» класса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МБОУ СОШ  №11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Федоров Владисл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48320" y="53352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ричок к старухе воротился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ж? пред ним царские палаты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алатах видит свою старуху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столом сидит она царицей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ужат ей бояре да дворяне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ивают ей заморские вины;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едает она пряником печатным;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руг ее стоит грозная стража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плечах топорики держат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увидел старик, — испугался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оги он старухе поклонился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лвил: «Здравствуй, грозная царица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у, теперь твоя душенька довольна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него старуха не взглянула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шь с очей прогнать его велела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бежали бояре и дворяне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рика взашеи затолкал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 дверях-то стража подбежала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порами чуть не изрубила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народ-то над ним насмеялся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Поделом тебе, старый невежа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предь тебе, невежа, наука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садися не в свои сани!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т неделя, другая проходит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пуще старуха вздурилась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аредворцев за мужем посылает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ыскали старика, привели к ней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ворит старику старуха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Воротись, поклонися рыбк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хочу быть вольною царицей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чу быть владычицей морскою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жить мне в Окияне-море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 служила мне рыбка золота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была б у меня на посылках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47960" y="228600"/>
            <a:ext cx="4343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рик не осмелился перечит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ерзнул поперек слова молвить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идет он к синему морю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ит, на море черная буря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и вздулись сердитые волны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и ходят, так воем и воют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л он кликать золотую рыбк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плыла к нему рыбка, спросила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Чего тебе надобно, старче?»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й старик с поклоном отвечает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милуйся, государыня рыбка!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мне делать с проклятою бабой?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ж не хочет быть она цариц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чет быть владычицей морскою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жить ей в Окияне-море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ты сама ей служил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была бы у ней на посылках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чего не сказала рыбк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шь хвостом по воде плеснул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ушла в глубокое море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о у моря ждал он ответ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ождался, к старухе воротился —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ядь: опять перед ним землянка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ороге сидит его старух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пред нею разбитое коры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200400" cy="2361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320040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3886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Жил старик со своею старухой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У самого синего моря;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ни жили в ветхой землянке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Ровно тридцать лет и три года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тарик ловил неводом рыбу,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таруха пряла свою пряжу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Раз он в море закинул невод, —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ришел невод с одною тиной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н в другой раз закинул невод,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ришел невод с травой морскою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В третий раз закинул он невод, —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ришел невод с одною рыбкой,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 непростою рыбкой, — золотою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Как взмолится золотая рыбка!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Голосом молвит человечьим: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«Отпусти ты, старче, меня в море,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Дорогой за себя дам откуп: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ткуплюсь чем только пожелаешь.»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Удивился старик, испугался: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н рыбачил тридцать лет и три года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И не слыхивал, чтоб рыба говорила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тпустил он рыбку золотую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И сказал ей ласковое слово: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«Бог с тобою, золотая рыбка!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Твоего мне откупа не надо;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тупай себе в синее море,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Гуляй там себе на просторе»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72428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4832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ротился старик ко старухе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казал ей великое чудо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Я сегодня поймал было рыбку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олотую рыбку, не простую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-нашему говорила рыбка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мой в море синее просилась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рогою ценою откупалась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купалась чем только пожелаю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посмел я взять с нее выкуп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к пустил ее в синее море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рика старуха забранил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Дурачина ты, простофиля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умел ты взять выкупа с рыбки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бы взял ты с нее корыто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е-то совсем раскололось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023840"/>
            <a:ext cx="403848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т пошел он к синему морю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ит, — море слегка разыгралось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л он кликать золотую рыбку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плыла к нему рыбка и спросил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Чего тебе надобно, старче?»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й с поклоном старик отвечает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милуйся, государыня рыбка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бранила меня моя старуха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дает старику мне покою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добно ей новое корыто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е-то совсем раскололось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вечает золотая рыбк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Не печалься, ступай себе с богом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дет вам новое корыто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ротился старик ко старухе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старухи новое корыто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ще пуще старуха бранится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Дурачина ты, простофиля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росил, дурачина, корыто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орыте много ль корысти?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ротись, дурачина, ты к рыбке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клонись ей, выпроси уж избу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34340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т пошел он к синему морю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л он кликать золотую рыбку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плыла к нему рыбка, спросила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Чего тебе надобно, старче?»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й старик с поклоном отвечает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Смилуйся, государыня рыбка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ще пуще старуха бранится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дает старику мне покою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бу просит сварливая баба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вечает золотая рыбка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Не печалься, ступай себе с богом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и быть: изба вам уж будет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шел он ко своей землянке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землянки нет уж и следа;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д ним изба со светелкой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кирпичною, беленою трубою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дубовыми, тесовыми вороты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руха сидит под окошком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чем свет стоит мужа ругает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урачина ты, прямой простофиля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росил, простофиля, избу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ротись, поклонися рыбке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хочу быть черной крестьянкой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очу быть столбовою дворянкой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495680" cy="40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шел старик к синему морю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Не спокойно синее море.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л он кликать золотую рыбку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плыла к нему рыбка, спросил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Чего тебе надобно, старче?»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й с поклоном старик отвечает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милуйся, государыня рыбка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ще прежнего старуха вздурилась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дает старику мне покою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 не хочет быть она крестьянкой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чет быть столбовою дворянкой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вечает золотая рыбк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Не печалься, ступай себе с богом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419360" cy="37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тился старик ко старухе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ж он видит? Высокий терем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рыльце стоит его старух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орогой собольей душегрейке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човая на маковке кичк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мчуги огрузили шею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руках золотые перстни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огах красные сапожк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нею усердные слуги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а бьет их, за чупрун таскает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ворит старик своей старухе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Здравствуй, барыня сударыня дворянка!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й, теперь твоя душенька довольна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его прикрикнула старух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онюшне служить его посл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41972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неделя, другая проходи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ще пуще старуха вздурилась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ять к рыбке старика посылает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оротись, поклонися рыбке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хочу быть столбовою дворянко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хочу быть вольною царицей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угался старик, взмолился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Что ты, баба, белены объелась?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 ступить, ни молвить не умееш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мешишь ты целое царство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ердилася пуще старух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щеке ударила муж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ак ты смеешь, мужик, спорить со мною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мною, дворянкой столбовою? —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пай к морю, говорят тебе честью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ойдешь, поведут поневоле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1972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ричок отправился к морю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Почернело синее море.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л он кликать золотую рыбку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плыла к нему рыбка, спросил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Чего тебе надобно, старче?»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й с поклоном старик отвечает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милуйся, государыня рыбка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ять моя старуха бунтует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 не хочет быть она дворянкой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чет быть вольною царицей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вечает золотая рыбк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Не печалься, ступай себе с богом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бро! будет старуха царицей!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1-22T07:21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