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E30-5119-4B9B-8E26-3236119E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BD6-83AF-41E0-9FA4-95D153D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5AA-CF2B-48B7-A8D0-274BD975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EDEF-9845-40DD-87EB-7928EB02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CBA-36BA-48FD-9AB8-3CAFF749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3DD5-9BE9-43CB-B56B-EDAFE5DC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BC9-B281-4A9D-98AE-6576CF6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8742-2045-489C-A512-7B8907F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B8A-FD04-4B4D-9D10-FF98CE89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759-CA30-49D1-83EA-447D00D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821-5DE3-4B05-909B-FEE4AA9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A20-F4FB-4D15-95FD-DA8F9C5D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3E6-69AE-49B7-8064-47FAD56959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gtours.ru/zheleznodorozhnie-bileti/numeratsiya-mest-v-vagone-poezda.html" TargetMode="External"/><Relationship Id="rId2" Type="http://schemas.openxmlformats.org/officeDocument/2006/relationships/hyperlink" Target="http://www.mgtours.ru/zheleznodorozhnie-bileti/numeratsiya-mest-v-vagone-poezda.html" TargetMode="External"/><Relationship Id="rId3" Type="http://schemas.openxmlformats.org/officeDocument/2006/relationships/hyperlink" Target="http://www.mgtours.ru/zheleznodorozhnie-bileti/numeratsiya-mest-v-vagone-poezda.html" TargetMode="External"/><Relationship Id="rId4" Type="http://schemas.openxmlformats.org/officeDocument/2006/relationships/hyperlink" Target="http://www.mgtours.ru/zheleznodorozhnie-bileti/numeratsiya-mest-v-vagone-poezda.html" TargetMode="External"/><Relationship Id="rId5" Type="http://schemas.openxmlformats.org/officeDocument/2006/relationships/hyperlink" Target="http://www.mgtours.ru/zheleznodorozhnie-bileti/numeratsiya-mest-v-vagone-poezda.html" TargetMode="External"/><Relationship Id="rId6" Type="http://schemas.openxmlformats.org/officeDocument/2006/relationships/hyperlink" Target="http://www.mgtours.ru/zheleznodorozhnie-bileti/numeratsiya-mest-v-vagone-poezda.html" TargetMode="External"/><Relationship Id="rId7" Type="http://schemas.openxmlformats.org/officeDocument/2006/relationships/hyperlink" Target="http://www.mgtours.ru/zheleznodorozhnie-bileti/numeratsiya-mest-v-vagone-poezda.html" TargetMode="Externa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ИДЫ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ССАЖИРСКИХ  </a:t>
            </a:r>
            <a:br>
              <a:rPr sz="5400"/>
            </a:br>
            <a:br>
              <a:rPr sz="2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АГОН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609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57840" y="762120"/>
            <a:ext cx="4286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умывальник в туалете плацкартного вагона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Титан вагона №3 поезда 376 Москва - Воркута"/>
          <p:cNvPicPr/>
          <p:nvPr/>
        </p:nvPicPr>
        <p:blipFill>
          <a:blip r:embed="rId1"/>
          <a:stretch/>
        </p:blipFill>
        <p:spPr>
          <a:xfrm>
            <a:off x="2209680" y="960480"/>
            <a:ext cx="495324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2120" y="1111320"/>
            <a:ext cx="7543800" cy="574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аницы сай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gtours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heleznodorozhnie-bileti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umeratsiya-mest-v-vagone-poezd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rupoezd.ru/vag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traveler-mir.com/tourist/raspolozhenie-mest-v-platskartnom-vag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dz.lv/uploaded_images/vagonu%20shemas/kopejais81_ru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crosstheborders.ru/kak-ya-provel-leto-chast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ppress.ru/stories/kupiv-bilet-ne-ver-glazam-cvoim-83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photopolygon.com/posts/187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se4ka-so.livejournal.com/28099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shpoez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2008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ezd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1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utarus.narod.ru/travel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oram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49686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news.tut.by/otklik/11350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еоматери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идео инструкция. Вагон пассажирский купейны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rm8tDWpn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ЖД. Инструкция VIP вагоны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v=-rJrNdcGC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ссажирский вагон с местами для сиденья (межобластной вагон) имеет салон, в котором установлены кресла для сиденья пассажиров. Вагон предназначен для перевозки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3- 6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ассажи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схема межобластного вагона"/>
          <p:cNvPicPr/>
          <p:nvPr/>
        </p:nvPicPr>
        <p:blipFill>
          <a:blip r:embed="rId1"/>
          <a:stretch/>
        </p:blipFill>
        <p:spPr>
          <a:xfrm>
            <a:off x="0" y="3886200"/>
            <a:ext cx="91440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сидячий вагон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вагон с местами для сидения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СИДЯЧИЙ- 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цкартный пассажирский вагон состоит из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упе открытого типа. Вагон рассчитан на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льных места по 6 мест в каждом купе: два нижних, два верхних и два боковых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91440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Расположение мест в плацкартном вагоне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агон -   ПЛАЦКАРТНЫЙ - 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04-23T06:58:47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