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E83-9276-42E4-B310-2F512996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17D-DC7E-464A-937F-F6FCE22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0E7-62E3-49CB-BC0C-DFADA48A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3A0-9B4F-4E3B-897B-6994E9D2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532-654A-4458-99FD-59A0314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051-D56D-4A76-8521-193FD03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C01-45A6-4C72-9478-199A518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B1B-0FD9-4E00-BC3A-8A57AED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7CE-7AC9-42C0-90EA-5DFAB6F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392-331A-4D05-B8E6-98A667A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CE0-1E72-4BA3-BB52-63E928B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5D4-CBE5-4582-8C49-B541B86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4AB-8CFC-43C8-98A2-0B850DF7D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gtours.ru/zheleznodorozhnie-bileti/numeratsiya-mest-v-vagone-poezda.html" TargetMode="External"/><Relationship Id="rId2" Type="http://schemas.openxmlformats.org/officeDocument/2006/relationships/hyperlink" Target="http://www.mgtours.ru/zheleznodorozhnie-bileti/numeratsiya-mest-v-vagone-poezda.html" TargetMode="External"/><Relationship Id="rId3" Type="http://schemas.openxmlformats.org/officeDocument/2006/relationships/hyperlink" Target="http://www.mgtours.ru/zheleznodorozhnie-bileti/numeratsiya-mest-v-vagone-poezda.html" TargetMode="External"/><Relationship Id="rId4" Type="http://schemas.openxmlformats.org/officeDocument/2006/relationships/hyperlink" Target="http://www.mgtours.ru/zheleznodorozhnie-bileti/numeratsiya-mest-v-vagone-poezda.html" TargetMode="External"/><Relationship Id="rId5" Type="http://schemas.openxmlformats.org/officeDocument/2006/relationships/hyperlink" Target="http://www.mgtours.ru/zheleznodorozhnie-bileti/numeratsiya-mest-v-vagone-poezda.html" TargetMode="External"/><Relationship Id="rId6" Type="http://schemas.openxmlformats.org/officeDocument/2006/relationships/hyperlink" Target="http://www.mgtours.ru/zheleznodorozhnie-bileti/numeratsiya-mest-v-vagone-poezda.html" TargetMode="External"/><Relationship Id="rId7" Type="http://schemas.openxmlformats.org/officeDocument/2006/relationships/hyperlink" Target="http://www.mgtours.ru/zheleznodorozhnie-bileti/numeratsiya-mest-v-vagone-poezda.html" TargetMode="Externa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ИДЫ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ССАЖИРСКИХ 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ГО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609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7840" y="762120"/>
            <a:ext cx="4286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умывальник в туалете плацкартного вагона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итан вагона №3 поезда 376 Москва - Воркута"/>
          <p:cNvPicPr/>
          <p:nvPr/>
        </p:nvPicPr>
        <p:blipFill>
          <a:blip r:embed="rId1"/>
          <a:stretch/>
        </p:blipFill>
        <p:spPr>
          <a:xfrm>
            <a:off x="2209680" y="960480"/>
            <a:ext cx="495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11320"/>
            <a:ext cx="7543800" cy="574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ицы сай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gtour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heleznodorozhnie-bileti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umeratsiya-mest-v-vagone-poezd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poezd.ru/vag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traveler-mir.com/tourist/raspolozhenie-mest-v-platskartnom-va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dz.lv/uploaded_images/vagonu%20shemas/kopejais81_ru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rosstheborders.ru/kak-ya-provel-leto-chast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ppress.ru/stories/kupiv-bilet-ne-ver-glazam-cvoim-83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polygon.com/posts/18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se4ka-so.livejournal.com/2809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poez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00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z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1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tarus.narod.ru/trave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oram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9686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.tut.by/otklik/11350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идео инструкция. Вагон пассажирский купейны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rm8tDWpn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ЖД. Инструкция VIP ваго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-rJrNdcGC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сажирский вагон с местами для сиденья (межобластной вагон) имеет салон, в котором установлены кресла для сиденья пассажиров. 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3- 6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схема межобластного вагона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сидячий вагон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вагон с местами для сидения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цкартный пассажирский вагон состоит из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упе открытого типа. Вагон рассчитан н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льных места по 6 мест в каждом купе: два нижних, два верхних и два боковых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Расположение мест в плацкартном вагоне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04-23T06:58:4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