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D28-400D-48DF-A89F-CB1BDC19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197-485A-4453-A6F3-64136C1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F06-D42F-4644-9554-B9DF0098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B7B-95BF-4778-BDE6-2AB788EB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46D-469C-4967-B209-9BFEC51A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05C-43BE-4BD5-8583-665DE04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E61-009A-47BF-94A7-0C972A5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9A1-086B-4CA7-96CA-A4D0E0F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90C-6E06-4307-9C9E-958EB43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C45-1CFE-4CF7-A6AD-395C974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B7B-4C20-4F7A-A48B-1FC5D4E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64D-8119-4DFF-840C-5255C1B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ACC6-1C59-48AD-8A67-0BFA4C40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C4F7-E788-4F95-B328-C99BD4C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BEBD-61D5-4933-BF0A-14DC922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0C27-1DEF-4E70-A1A5-D5C32F9A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C39D-69DE-49DF-B913-E76E31CD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09A-64AF-4C49-B3D8-C29585D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81B-38BB-4818-B433-6929442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B0A-661A-4FB3-81D6-B7AEDE2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869-1817-4D43-9DAD-3B9B2D9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589-F9F7-430B-9896-AA36AC4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00-1135-406B-8756-07E2905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094-E73E-4AE8-9729-825A0F9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13A1-2E56-4BA2-88C6-46CC3E0D1F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F5D-D7A7-42D2-8E2C-5BEF8638DF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taldom.opekaweb.ru/&amp;bi=http%3A//taldom.opekaweb.ru/images/mini_usinovlenie.jpg&amp;i=http%3A//media3.picsearch.com/is%3FklKeCvMZc6dUOuPW0Mk0eeq-3myohiYPJi_sK97Ia1Y&amp;w=110&amp;h=110&amp;f=8&amp;q=&#1089;&#1077;&#1084;&#1100;&#1103;%2C%20&#1088;&#1086;&#1076;&#1080;&#1090;&#1077;&#1083;&#1080;%20&#1080;%20&#1076;&#1077;&#1090;&#1080;&amp;p=5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rambler.ru/pic_cache?url=http%3A//www.webbaby.ru/news3.htm&amp;bi=http%3A//www.webbaby.ru/mama/medals.jpg&amp;i=http%3A//media1.picsearch.com/is%3Fct5fXfX6lMeT4bgpfr0fl7dmZFXJIpfhJbvOk8kqS00&amp;w=128&amp;h=98&amp;f=121&amp;q=&#1089;&#1077;&#1084;&#1100;&#1103;%2C%20&#1088;&#1086;&#1076;&#1080;&#1090;&#1077;&#1083;&#1080;%20&#1080;%20&#1076;&#1077;&#1090;&#1080;&amp;p=6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images.rambler.ru/pic_cache?url=http%3A//www.queerumir.ru/articles/292/1/quotPrizrakiquot-byvshih-muzhej/page1.html&amp;bi=http%3A//queerumir.ru/content_images/experiense_shadow.jpg&amp;i=http%3A//media3.picsearch.com/is%3F0CCIPGuA13zeeQGWXafi48psAUTYMcEoslZbK7oJnOE&amp;w=128&amp;h=128&amp;f=15&amp;q=&#1089;&#1077;&#1084;&#1100;&#1103;%2C%20&#1088;&#1086;&#1076;&#1080;&#1090;&#1077;&#1083;&#1080;%20&#1080;%20&#1076;&#1077;&#1090;&#1080;&amp;p=6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rambler.ru/pic_cache?url=http%3A//home.mari-el.ru/michael/n_a4.htm&amp;bi=http%3A//home.mari-el.ru/michael/Pictures/foto99.jpg&amp;i=http%3A//media2.picsearch.com/is%3FrNCIeg3ThtfoYWtWc7t0t53JHMnZQIMkC8xF-xin8ec&amp;w=128&amp;h=82&amp;f=33&amp;q=&#1089;&#1077;&#1084;&#1100;&#1103;%2C%20&#1088;&#1086;&#1076;&#1080;&#1090;&#1077;&#1083;&#1080;%20&#1080;%20&#1076;&#1077;&#1090;&#1080;&amp;p=5" TargetMode="External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copypast.ru/2009/05/15/15_maja._mezhdunarodnyjj_den_semi..html&amp;bi=http%3A//copypast.ru/uploads/posts/thumbs/1242394115_6.jpg&amp;i=http%3A//media4.picsearch.com/is%3F-0q95qORxEtQU-jopT098yvvfdbBgagd-31oleCIDKo&amp;w=95&amp;h=128&amp;f=26&amp;q=&#1044;&#1077;&#1085;&#1100;%20&#1089;&#1077;&#1084;&#1100;&#1080;&amp;p=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03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Права и обязанности родителей и законных представителей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по воспитанию и образованию детей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76360" y="5734080"/>
            <a:ext cx="6400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Правосубъектность родителей в сфере образова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38, 43 Конституци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14-18, ст. 52 Закона РФ “Об образовании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 63  Семейного кодекса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Типовые положения об образовательных учрежд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став образовательного  учреж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Основные права родителей обучающих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ыбор формы обучения, вида образовательного учреждения для своего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защита законных прав и интересов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частие в управлении образовательным учреждени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знакомление с Уставом образовательного учреждения и другими документами, регламентирующими организацию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огласие на проведение начальной профессиональной подготовки в общеобразовательных учрежд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сновные обязанности родителей обучающихс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заложить основы физического, нравственного и интеллектуального развития личности ребенка в раннем возрас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беспечить получение детьми основного общего образ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твечать за воспитание своих детей и создание необходимых условий для получения ими образ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ыполнять Устав 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твечать за ликвидацию обучающимися академической задолженности в течение следующего учебного года, если обучающиеся были переведены в следующий класс усло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иссия школы -  создание наиболее благоприятных условий обучения, воспитания и развития для всех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иссия родителей – создание атмосферы любви, уважения, понимания, взаимопомощ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 "/>
          <p:cNvPicPr/>
          <p:nvPr/>
        </p:nvPicPr>
        <p:blipFill>
          <a:blip r:embed="rId1"/>
          <a:stretch/>
        </p:blipFill>
        <p:spPr>
          <a:xfrm>
            <a:off x="1042920" y="3716280"/>
            <a:ext cx="2505240" cy="3025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240840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ссыл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www.consultant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mon.gov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bronscool1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Семья и школа – это берег и мор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 берегу ребёнок делает сво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ые шаги, получает пер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роки жизни, а потом перед н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крывается необозримое мо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наний, и курс в этом мо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окладывает шко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о это не значит, что он должен со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орваться от бере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Лев Касси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Данные социологических исследова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мья -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МИ  - 3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кола - 1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лица -1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1628640"/>
          <a:ext cx="40384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Первые учителя и воспитатели ребёнка – отец и ма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Семья – важнейший фактор, влияющий на формирование личности ребён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 rot="21137400">
            <a:off x="539280" y="24188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92280"/>
            <a:ext cx="1656000" cy="1268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39640" y="5805360"/>
            <a:ext cx="1944720" cy="89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 ">
            <a:hlinkClick r:id="rId6"/>
          </p:cNvPr>
          <p:cNvPicPr/>
          <p:nvPr/>
        </p:nvPicPr>
        <p:blipFill>
          <a:blip r:embed="rId7"/>
          <a:stretch/>
        </p:blipFill>
        <p:spPr>
          <a:xfrm rot="21199800">
            <a:off x="539280" y="4149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3789360"/>
            <a:ext cx="1795680" cy="1149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 "/>
          <p:cNvPicPr/>
          <p:nvPr/>
        </p:nvPicPr>
        <p:blipFill>
          <a:blip r:embed="rId10"/>
          <a:stretch/>
        </p:blipFill>
        <p:spPr>
          <a:xfrm rot="240000">
            <a:off x="2195640" y="4941360"/>
            <a:ext cx="1939680" cy="1273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Нормативно – правовая база отношений, возникающих в процессе воспитания и образования дет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35002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ждународный уров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Федеральные з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Федеральные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рмативные документы образовательного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Международный уровень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Декларация прав Ребен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принята ООН в 1959 г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нвенция о Правах Ребен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принята ОО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 ноября 1989 г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786120" cy="554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Основные принципы осуществления прав дет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ку должна предоставляться возможность нормального развития (материального и духовн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ок должен быть первым, кто получит помощь при бедств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ку должна быть предоставлена возможность зарабатывать средства на существование, но он должен быть огражден от всех форм эксплуат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ок должен воспитываться с сознанием того, что его лучшие качества будут использованы на благо следующего поко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115920"/>
            <a:ext cx="1317600" cy="1776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Федеральные законы и программы, законы субъектов РФ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2871720" cy="381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2276640"/>
            <a:ext cx="2887560" cy="4071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2624400" cy="4076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5:01:51Z</dcterms:created>
  <dc:creator>Имя</dc:creator>
  <dc:description/>
  <dc:language>en-US</dc:language>
  <cp:lastModifiedBy>Имя</cp:lastModifiedBy>
  <dcterms:modified xsi:type="dcterms:W3CDTF">2011-10-13T10:45:02Z</dcterms:modified>
  <cp:revision>45</cp:revision>
  <dc:subject/>
  <dc:title>Права и обязанности родителей  и законных представителей</dc:title>
</cp:coreProperties>
</file>