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6D4-3EE7-4D30-B866-6543544E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AB2-CB63-4E76-A797-4D8253E2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BC4-C9F8-4789-9E9E-BBE627A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535-C0F4-4EB0-A427-53C943BB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082D-8B6F-420B-BA22-FBE3E975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FA97-5BA0-40F0-9979-285B9FD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2C19-8BDC-42C0-B4CC-F3D21F9F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8CC1-5D6C-4C0A-BA34-2D75AD7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6D09-75AE-4950-AFCA-DFF754BC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37D9-7E06-4AC0-9FF9-C6613BA8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0BF2-632A-4965-A214-6D4F8450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8A7-A6E2-4E9A-AB9C-EF00D47B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A8E3-C878-4751-9DED-68317D6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65E8-59A8-4CCE-9111-0C6C16D6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7BCC-6315-424A-93C6-119093E6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B880-0429-4C5C-B8B2-460F64D5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8D7-0D73-409A-B2CD-1906B361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40C-779F-4EEE-9AC5-7BFCB13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711-2C72-44F1-992D-AD800D09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920-1136-448B-9D24-D6856DCE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5B6-1142-441D-A930-73E194A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703-8AE7-4984-A6E1-DBB2976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8BC-9BBC-4B8C-BB5D-0C62C5A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2F0-4AAC-486F-BBB1-417C2CA4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FA36-7507-40F2-B204-94D964C5A39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8A9B-F83D-46D1-9517-9003A046C3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taldom.opekaweb.ru/&amp;bi=http%3A//taldom.opekaweb.ru/images/mini_usinovlenie.jpg&amp;i=http%3A//media3.picsearch.com/is%3FklKeCvMZc6dUOuPW0Mk0eeq-3myohiYPJi_sK97Ia1Y&amp;w=110&amp;h=110&amp;f=8&amp;q=&#1089;&#1077;&#1084;&#1100;&#1103;%2C%20&#1088;&#1086;&#1076;&#1080;&#1090;&#1077;&#1083;&#1080;%20&#1080;%20&#1076;&#1077;&#1090;&#1080;&amp;p=5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rambler.ru/pic_cache?url=http%3A//www.webbaby.ru/news3.htm&amp;bi=http%3A//www.webbaby.ru/mama/medals.jpg&amp;i=http%3A//media1.picsearch.com/is%3Fct5fXfX6lMeT4bgpfr0fl7dmZFXJIpfhJbvOk8kqS00&amp;w=128&amp;h=98&amp;f=121&amp;q=&#1089;&#1077;&#1084;&#1100;&#1103;%2C%20&#1088;&#1086;&#1076;&#1080;&#1090;&#1077;&#1083;&#1080;%20&#1080;%20&#1076;&#1077;&#1090;&#1080;&amp;p=6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images.rambler.ru/pic_cache?url=http%3A//www.queerumir.ru/articles/292/1/quotPrizrakiquot-byvshih-muzhej/page1.html&amp;bi=http%3A//queerumir.ru/content_images/experiense_shadow.jpg&amp;i=http%3A//media3.picsearch.com/is%3F0CCIPGuA13zeeQGWXafi48psAUTYMcEoslZbK7oJnOE&amp;w=128&amp;h=128&amp;f=15&amp;q=&#1089;&#1077;&#1084;&#1100;&#1103;%2C%20&#1088;&#1086;&#1076;&#1080;&#1090;&#1077;&#1083;&#1080;%20&#1080;%20&#1076;&#1077;&#1090;&#1080;&amp;p=6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mages.rambler.ru/pic_cache?url=http%3A//home.mari-el.ru/michael/n_a4.htm&amp;bi=http%3A//home.mari-el.ru/michael/Pictures/foto99.jpg&amp;i=http%3A//media2.picsearch.com/is%3FrNCIeg3ThtfoYWtWc7t0t53JHMnZQIMkC8xF-xin8ec&amp;w=128&amp;h=82&amp;f=33&amp;q=&#1089;&#1077;&#1084;&#1100;&#1103;%2C%20&#1088;&#1086;&#1076;&#1080;&#1090;&#1077;&#1083;&#1080;%20&#1080;%20&#1076;&#1077;&#1090;&#1080;&amp;p=5" TargetMode="External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rambler.ru/pic_cache?url=http%3A//copypast.ru/2009/05/15/15_maja._mezhdunarodnyjj_den_semi..html&amp;bi=http%3A//copypast.ru/uploads/posts/thumbs/1242394115_6.jpg&amp;i=http%3A//media4.picsearch.com/is%3F-0q95qORxEtQU-jopT098yvvfdbBgagd-31oleCIDKo&amp;w=95&amp;h=128&amp;f=26&amp;q=&#1044;&#1077;&#1085;&#1100;%20&#1089;&#1077;&#1084;&#1100;&#1080;&amp;p=6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036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Bookman Old Style"/>
              </a:rPr>
              <a:t>Права и обязанности родителей и законных представителей</a:t>
            </a:r>
            <a:br>
              <a:rPr sz="5400"/>
            </a:br>
            <a:r>
              <a:rPr b="1" i="1" lang="en-US" sz="5400" spc="-1" strike="noStrike">
                <a:solidFill>
                  <a:srgbClr val="ffffff"/>
                </a:solidFill>
                <a:latin typeface="Bookman Old Style"/>
              </a:rPr>
              <a:t>по воспитанию и образованию детей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76360" y="5734080"/>
            <a:ext cx="6400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bd71"/>
                </a:solidFill>
                <a:latin typeface="Arial"/>
              </a:rPr>
              <a:t>Правосубъектность родителей в сфере образовани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. 38, 43 Конституции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. 14-18, ст. 52 Закона РФ “Об образовании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т.  63  Семейного кодекса Р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Типовые положения об образовательных учрежд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Устав образовательного  учрежд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Основные права родителей обучающихс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выбор формы обучения, вида образовательного учреждения для своего реб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защита законных прав и интересов ребе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участие в управлении образовательным учреждение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ознакомление с Уставом образовательного учреждения и другими документами, регламентирующими организацию образовательного процесс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огласие на проведение начальной профессиональной подготовки в общеобразовательных учрежден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Основные обязанности родителей обучающихся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заложить основы физического, нравственного и интеллектуального развития личности ребенка в раннем возраст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беспечить получение детьми основного общего образ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твечать за воспитание своих детей и создание необходимых условий для получения ими образова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выполнять Устав образовательного учреж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отвечать за ликвидацию обучающимися академической задолженности в течение следующего учебного года, если обучающиеся были переведены в следующий класс услов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иссия школы -  создание наиболее благоприятных условий обучения, воспитания и развития для всех де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иссия родителей – создание атмосферы любви, уважения, понимания, взаимопомощ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 "/>
          <p:cNvPicPr/>
          <p:nvPr/>
        </p:nvPicPr>
        <p:blipFill>
          <a:blip r:embed="rId1"/>
          <a:stretch/>
        </p:blipFill>
        <p:spPr>
          <a:xfrm>
            <a:off x="1042920" y="3716280"/>
            <a:ext cx="2505240" cy="3025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0" y="189000"/>
            <a:ext cx="4321080" cy="3240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95280" y="240840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езные ссыл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www.consultant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mon.gov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bronscool1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man Old Style"/>
              </a:rPr>
              <a:t>Семья и школа – это берег и мор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а берегу ребёнок делает сво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ервые шаги, получает перв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уроки жизни, а потом перед ни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ткрывается необозримое мо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знаний, и курс в этом мо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прокладывает шко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о это не значит, что он должен совс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оторваться от бере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Лев Касси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Данные социологических исследовани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емья - 5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МИ  - 30%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кола - 10%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лица -10%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1628640"/>
          <a:ext cx="403848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40384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Первые учителя и воспитатели ребёнка – отец и мать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559640" cy="5040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Семья – важнейший фактор, влияющий на формирование личности ребёнк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 rot="21137400">
            <a:off x="539280" y="241884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2492280"/>
            <a:ext cx="1656000" cy="1268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39640" y="5805360"/>
            <a:ext cx="1944720" cy="895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 ">
            <a:hlinkClick r:id="rId6"/>
          </p:cNvPr>
          <p:cNvPicPr/>
          <p:nvPr/>
        </p:nvPicPr>
        <p:blipFill>
          <a:blip r:embed="rId7"/>
          <a:stretch/>
        </p:blipFill>
        <p:spPr>
          <a:xfrm rot="21199800">
            <a:off x="539280" y="4149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 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24000" y="3789360"/>
            <a:ext cx="1795680" cy="1149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 "/>
          <p:cNvPicPr/>
          <p:nvPr/>
        </p:nvPicPr>
        <p:blipFill>
          <a:blip r:embed="rId10"/>
          <a:stretch/>
        </p:blipFill>
        <p:spPr>
          <a:xfrm rot="240000">
            <a:off x="2195640" y="4941360"/>
            <a:ext cx="1939680" cy="1273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Нормативно – правовая база отношений, возникающих в процессе воспитания и образования дет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35002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ждународный уров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Федеральные зако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Федеральные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ормативные документы образовательного учре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Международный уровень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Декларация прав Ребенк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принята ООН в 1959 г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Конвенция о Правах Ребенк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принята ОО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 ноября 1989 г.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3786120" cy="5543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Основные принципы осуществления прав дет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ку должна предоставляться возможность нормального развития (материального и духовного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ок должен быть первым, кто получит помощь при бедств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ку должна быть предоставлена возможность зарабатывать средства на существование, но он должен быть огражден от всех форм эксплуата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ребенок должен воспитываться с сознанием того, что его лучшие качества будут использованы на благо следующего поколени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115920"/>
            <a:ext cx="1317600" cy="17762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Федеральные законы и программы, законы субъектов РФ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7840" y="1628640"/>
            <a:ext cx="2871720" cy="3816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2276640"/>
            <a:ext cx="2887560" cy="4071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24360" y="2781360"/>
            <a:ext cx="2624400" cy="4076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5:01:51Z</dcterms:created>
  <dc:creator>Имя</dc:creator>
  <dc:description/>
  <dc:language>en-US</dc:language>
  <cp:lastModifiedBy>Имя</cp:lastModifiedBy>
  <dcterms:modified xsi:type="dcterms:W3CDTF">2011-10-13T10:45:02Z</dcterms:modified>
  <cp:revision>45</cp:revision>
  <dc:subject/>
  <dc:title>Права и обязанности родителей  и законных представителей</dc:title>
</cp:coreProperties>
</file>