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4A5-30BF-48BC-B298-15BF0232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49D-1D76-498A-9EDC-9C8199D3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396-4834-4C5A-B60C-C39D9F76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195-7E9F-40A8-9D85-EE9E8304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4B5E-5ACA-44FB-8671-D31831E7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1EE2-7728-4CB9-B013-B3996862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43FE-9507-42A4-8303-97454D9D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EEC2-7A8E-4B0B-AA57-899AF930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7ABC-7407-4FBA-AD13-CF08969F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BEF1-4428-406F-8BAD-BB4A6DE8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DB45-BBA5-45E1-9240-F07BEA6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4D2-CA57-4763-9E40-7647F00D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F54B-FC7B-42D3-93A4-DFEC53E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E685-4FB3-4750-ACF4-E57A66BD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D7F3-851D-43E3-809C-9E51BC1A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0015-2626-4A79-B8FF-4B7FC418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EF82-6053-4C2B-A5DD-10D21C99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E4F-AB7D-424C-A3AE-327E7F7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80C-DA42-483A-A683-C08C29E6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977-7B10-4ADF-8562-6BA7E42D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572-CC87-469D-AAD7-E68A046E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C34-37DC-4287-8CFA-56D72F7E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3EE-2589-4D47-9971-C1CCE67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EA4-A80A-4B5D-A069-2005BC6E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73B9-28DE-47ED-A104-62148D02B2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758E-73F8-48D0-9988-4B3428250C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ffcc"/>
                </a:solidFill>
                <a:latin typeface="Tahoma"/>
              </a:rPr>
              <a:t>Сәламәтлегеңне сакл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255920" cy="388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50072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Tahoma"/>
              </a:rPr>
              <a:t>Чыныгу төрлә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3880" y="1805040"/>
            <a:ext cx="60962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574560"/>
            <a:ext cx="7619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745080" cy="24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40000" y="3789360"/>
            <a:ext cx="4303800" cy="2532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765000"/>
            <a:ext cx="3600720" cy="25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59280" y="51264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32360" y="3573360"/>
            <a:ext cx="38876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4160" y="1600200"/>
            <a:ext cx="6294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09:35:02Z</dcterms:created>
  <dc:creator>днс</dc:creator>
  <dc:description/>
  <dc:language>en-US</dc:language>
  <cp:lastModifiedBy>Рамиль</cp:lastModifiedBy>
  <dcterms:modified xsi:type="dcterms:W3CDTF">2013-04-23T09:54:47Z</dcterms:modified>
  <cp:revision>10</cp:revision>
  <dc:subject/>
  <dc:title>Сәламәтлегеңне сакла</dc:title>
</cp:coreProperties>
</file>