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A0F-5026-4AFF-BE71-63457516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47B-B43B-47F4-B389-5D0CA056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F2B-38AD-410D-9BCC-A8A949EF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B216-6E46-477B-BF2F-37B510A4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C66E-FA1E-4E06-AA25-5E950197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B09B-D437-477D-97D3-F43F4790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90F4-846C-49D9-A3B1-E580A73C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D386-1DCC-4513-94D1-8269FB5D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FD70-692D-42E8-B743-D383BF56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FACE-169C-482B-AC0C-BD9957FE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E191-3CDF-44EA-A47E-62D14539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2617-E2A2-42BF-8EC1-10F6741A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7BE8-317B-48B3-AA6A-124C5428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6009-782E-44D3-93C2-A1D34DD9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0365-5A40-4DDE-BF4A-385D923A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C56C-EA0C-4135-925F-DA383F54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D182-930F-49B9-B421-25D69693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733-16FB-42CB-8A2B-D6B9A87E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E6F-35E1-44C8-A04E-76DC5FC5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96D-E706-42A5-A7E1-4645C375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791-61EC-4817-B239-15EDD2C9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F72B-0F7B-477E-A67B-FCEF01AD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1D41-6962-46F4-867C-56B71F72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6933-E026-4BD8-8AE5-2929C560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1B37-A62A-4A04-A7DF-D7FE6EEBC87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0C10-1A22-4DB0-865B-14336B39424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ffffcc"/>
                </a:solidFill>
                <a:latin typeface="Tahoma"/>
              </a:rPr>
              <a:t>Сәламәтлегеңне сакл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80960" y="1600200"/>
            <a:ext cx="6382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4255920" cy="3882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50072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cc"/>
                </a:solidFill>
                <a:latin typeface="Tahoma"/>
              </a:rPr>
              <a:t>Чыныгу төрләр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3880" y="1805040"/>
            <a:ext cx="609624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574560"/>
            <a:ext cx="761976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3745080" cy="248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40000" y="3789360"/>
            <a:ext cx="4303800" cy="2532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003640" y="765000"/>
            <a:ext cx="3600720" cy="25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59280" y="512640"/>
            <a:ext cx="3889440" cy="259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32360" y="3573360"/>
            <a:ext cx="388764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24160" y="1600200"/>
            <a:ext cx="6294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09:35:02Z</dcterms:created>
  <dc:creator>днс</dc:creator>
  <dc:description/>
  <dc:language>en-US</dc:language>
  <cp:lastModifiedBy>Рамиль</cp:lastModifiedBy>
  <dcterms:modified xsi:type="dcterms:W3CDTF">2013-04-23T09:54:47Z</dcterms:modified>
  <cp:revision>10</cp:revision>
  <dc:subject/>
  <dc:title>Сәламәтлегеңне сакла</dc:title>
</cp:coreProperties>
</file>