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552-33C5-4C5F-BDD8-B0A100D3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462-2A79-441F-AFF4-C86282FA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AF49-F675-42A6-8A49-3642BB40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74C-39FB-439D-BA62-D3190C68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EBE8-C7F1-47FE-8C3E-FA092785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9F85-15D0-444C-A212-7AE4FA3A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0C7B-3D83-4050-9983-BE7CD528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BF78-899B-4FC4-93C3-8D881FBE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F14C-C14E-4EAC-9D5F-09F06109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EC11-D799-487E-B4F0-96F2A8B2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D7FD-477B-44AF-938D-B284AEED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615-D099-49D5-B9B8-F3AF2C7C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E9B4-6100-41D4-B338-18A254EF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D9E8-7EDC-46B9-8BE3-D8C416BD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29AB-3660-449E-B4B4-9FBA9BD1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E8FA-EE87-4059-81C2-7B4D5A48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A547-A5D2-4CD9-B76B-B2703AAE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FDB51-B518-4134-8BC8-52825276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46FE2-31D4-4CF5-BC47-6F04B920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DDEB1-5AE6-4B76-B7C2-B11C02C5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A7E80-34E8-4D71-8E45-1145F3BF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D80B5-07EE-43F6-9C24-3D7E80D7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378-6558-4441-9D49-763D6B4D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B9877-9324-48B7-BD39-3D28B3A2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C97C3-C7F3-4226-8007-904385AC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0190A-9150-4053-9732-C1CD7A4B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E4FE0-0C22-429A-8436-6E55F79A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B733B-58C2-451A-9B6E-8C325422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D89BA-CA21-4DFE-BC14-45B51D74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03587-3DFE-4989-B556-CB0A26DB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AE85C-59B3-4182-974A-F5EE2650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0D4C9-075A-4796-9DB2-BA062B11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4516F-AFDB-4D16-835D-DA18FD96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D41-9F82-4634-B376-1B4BC3AA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61ED7-344B-4427-BC52-5D22F9C0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7AAF9-BAC3-4E22-8923-5F417A96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9F611-EDED-4006-96DF-93F37BA5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373D1-F793-483D-8C7A-D074FFC5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061C4-AA12-47D7-8E44-7A6C2A11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16525-D688-46F5-8FB5-6ED1C6CD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CEDA6-0693-4386-A373-C5572848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398A7-A935-4E9D-81E5-37740878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7B0CE-A823-4E4F-A2A1-CF221776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CDDA2-4169-4570-B1BB-62A22163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53EB-FA37-4DEF-A6F2-3A6DD7E6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9CADC-1446-4703-AAE9-5C544451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478C4-B3AC-41DF-98E5-3575315E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4DA9D-BF12-4C9B-9DCF-CC8FD563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73BAB-13CF-4CFD-9996-5F21DA69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00AB6-220C-4047-8520-14C0ED1B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EC1E9-9214-4BC1-B01F-7DB51A2A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2E35B-2D7B-49BD-9FA3-A5B4BF43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19512-02A7-4E0C-A471-4BF2A098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E0BE9-89F8-4534-B3A8-F9F038E6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77792-CF97-4079-AEAE-CFDBB3B9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0342-038D-4B7D-B137-D4CF6828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1860A-95FB-496B-8FFA-C3C1B20D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8C8-0018-4BE4-A6E3-EA834A8E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53E-8261-4363-9BD1-3281BE3A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1A53-E763-477D-AE83-48938280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10EE-3807-4E99-B98B-153CB0B8776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86A9-2C1D-4FD7-9170-9BE04E729D3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B3C4-44B9-4333-8C00-5A968ED0780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0670-BDED-4258-9592-79338624889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B6AD-6E40-492C-9332-CA56A66D207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3680" y="38088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2f2f2f"/>
                </a:solidFill>
                <a:latin typeface="Verdana"/>
              </a:rPr>
              <a:t>Творческий Проект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42640" y="1357200"/>
            <a:ext cx="7358040" cy="121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Mistral"/>
              </a:rPr>
              <a:t>«В защиту Новогодней Ёлки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E:\новый год\елка.jpg"/>
          <p:cNvPicPr/>
          <p:nvPr/>
        </p:nvPicPr>
        <p:blipFill>
          <a:blip r:embed="rId1"/>
          <a:stretch/>
        </p:blipFill>
        <p:spPr>
          <a:xfrm>
            <a:off x="428760" y="3143160"/>
            <a:ext cx="2295360" cy="3456000"/>
          </a:xfrm>
          <a:prstGeom prst="rect">
            <a:avLst/>
          </a:prstGeom>
          <a:ln w="0">
            <a:noFill/>
          </a:ln>
        </p:spPr>
      </p:pic>
      <p:sp>
        <p:nvSpPr>
          <p:cNvPr id="223" name="Подзаголовок 2"/>
          <p:cNvSpPr/>
          <p:nvPr/>
        </p:nvSpPr>
        <p:spPr>
          <a:xfrm>
            <a:off x="2714760" y="2714760"/>
            <a:ext cx="621504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Над проектом работ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ученики 6-А кла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Воротникова Екатери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Лучникова Анжел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Мишин Ант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Готовил презент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Гаврилов  Анд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Руководитель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Власенко Елена Геннадь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f2f"/>
                </a:solidFill>
                <a:latin typeface="Verdana"/>
              </a:rPr>
              <a:t>В наши дни в мире все больше людей приобретают искусственные елки. Они очень красивы. 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7" name="Содержимое 4" descr="images (12).jpg"/>
          <p:cNvPicPr/>
          <p:nvPr/>
        </p:nvPicPr>
        <p:blipFill>
          <a:blip r:embed="rId1"/>
          <a:stretch/>
        </p:blipFill>
        <p:spPr>
          <a:xfrm>
            <a:off x="3429000" y="3000240"/>
            <a:ext cx="2546280" cy="28828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4200" y="856800"/>
            <a:ext cx="871560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f2f"/>
                </a:solidFill>
                <a:latin typeface="Verdana"/>
              </a:rPr>
              <a:t>Новый год – один из самых сказочных праздников на планете. Люди по всему миру собираются вместе, чтобы отметить этот день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5" name="Содержимое 4" descr="нг.jpg"/>
          <p:cNvPicPr/>
          <p:nvPr/>
        </p:nvPicPr>
        <p:blipFill>
          <a:blip r:embed="rId1"/>
          <a:stretch/>
        </p:blipFill>
        <p:spPr>
          <a:xfrm>
            <a:off x="3071880" y="307188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226" name="Содержимое 4" descr="китай.jpg"/>
          <p:cNvPicPr/>
          <p:nvPr/>
        </p:nvPicPr>
        <p:blipFill>
          <a:blip r:embed="rId2"/>
          <a:stretch/>
        </p:blipFill>
        <p:spPr>
          <a:xfrm>
            <a:off x="571680" y="4286160"/>
            <a:ext cx="2732040" cy="2235240"/>
          </a:xfrm>
          <a:prstGeom prst="rect">
            <a:avLst/>
          </a:prstGeom>
          <a:ln w="0">
            <a:noFill/>
          </a:ln>
        </p:spPr>
      </p:pic>
      <p:pic>
        <p:nvPicPr>
          <p:cNvPr id="227" name="Содержимое 5" descr="европа.jpg"/>
          <p:cNvPicPr/>
          <p:nvPr/>
        </p:nvPicPr>
        <p:blipFill>
          <a:blip r:embed="rId3"/>
          <a:stretch/>
        </p:blipFill>
        <p:spPr>
          <a:xfrm>
            <a:off x="5643720" y="4143240"/>
            <a:ext cx="2998800" cy="2409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f2f"/>
                </a:solidFill>
                <a:latin typeface="Verdana"/>
              </a:rPr>
              <a:t>В России праздник не обходится без традиционных Деда Мороза и Снегурочки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9" name="Содержимое 5" descr="дед-пердед.jpg"/>
          <p:cNvPicPr/>
          <p:nvPr/>
        </p:nvPicPr>
        <p:blipFill>
          <a:blip r:embed="rId1"/>
          <a:stretch/>
        </p:blipFill>
        <p:spPr>
          <a:xfrm>
            <a:off x="3643200" y="928800"/>
            <a:ext cx="2667240" cy="31986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f2f"/>
                </a:solidFill>
                <a:latin typeface="Verdana"/>
              </a:rPr>
              <a:t>И какой же праздник без </a:t>
            </a:r>
            <a:r>
              <a:rPr b="1" i="1" lang="ru-RU" sz="3200" spc="-1" strike="noStrike">
                <a:solidFill>
                  <a:srgbClr val="00b050"/>
                </a:solidFill>
                <a:latin typeface="Verdana"/>
              </a:rPr>
              <a:t>Новогодней ёлки</a:t>
            </a:r>
            <a:r>
              <a:rPr b="1" lang="ru-RU" sz="3200" spc="-1" strike="noStrike">
                <a:solidFill>
                  <a:srgbClr val="2f2f2f"/>
                </a:solidFill>
                <a:latin typeface="Verdana"/>
              </a:rPr>
              <a:t>?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Содержимое 4" descr="ёлка.jpg"/>
          <p:cNvPicPr/>
          <p:nvPr/>
        </p:nvPicPr>
        <p:blipFill>
          <a:blip r:embed="rId1"/>
          <a:stretch/>
        </p:blipFill>
        <p:spPr>
          <a:xfrm>
            <a:off x="1384200" y="1414440"/>
            <a:ext cx="2181240" cy="374796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5" descr="украш елку.jpg"/>
          <p:cNvPicPr/>
          <p:nvPr/>
        </p:nvPicPr>
        <p:blipFill>
          <a:blip r:embed="rId2"/>
          <a:stretch/>
        </p:blipFill>
        <p:spPr>
          <a:xfrm>
            <a:off x="5437080" y="1596960"/>
            <a:ext cx="2560680" cy="3316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000" spc="-1" strike="noStrike">
                <a:solidFill>
                  <a:srgbClr val="2f2f2f"/>
                </a:solidFill>
                <a:latin typeface="Verdana"/>
              </a:rPr>
              <a:t>Новогодняя ёлка — это один из древних символов человечества — Мирового Древа. </a:t>
            </a:r>
            <a:br>
              <a:rPr sz="2000"/>
            </a:br>
            <a:r>
              <a:rPr b="1" lang="ru-RU" sz="2000" spc="-1" strike="noStrike">
                <a:solidFill>
                  <a:srgbClr val="2f2f2f"/>
                </a:solidFill>
                <a:latin typeface="Verdana"/>
              </a:rPr>
              <a:t>Первую рождественскую ёлку установили в Риге в </a:t>
            </a:r>
            <a:r>
              <a:rPr b="1" lang="en-US" sz="2000" spc="-1" strike="noStrike">
                <a:solidFill>
                  <a:srgbClr val="2f2f2f"/>
                </a:solidFill>
                <a:latin typeface="Verdana"/>
              </a:rPr>
              <a:t>XVI </a:t>
            </a:r>
            <a:r>
              <a:rPr b="1" lang="ru-RU" sz="2000" spc="-1" strike="noStrike">
                <a:solidFill>
                  <a:srgbClr val="2f2f2f"/>
                </a:solidFill>
                <a:latin typeface="Verdana"/>
              </a:rPr>
              <a:t>веке. </a:t>
            </a:r>
            <a:br>
              <a:rPr sz="2000"/>
            </a:br>
            <a:r>
              <a:rPr b="1" lang="ru-RU" sz="2000" spc="-1" strike="noStrike">
                <a:solidFill>
                  <a:srgbClr val="2f2f2f"/>
                </a:solidFill>
                <a:latin typeface="Verdana"/>
              </a:rPr>
              <a:t>В Россию обычай отмечать Новый год привез из Германии Петр </a:t>
            </a:r>
            <a:r>
              <a:rPr b="1" lang="en-US" sz="2000" spc="-1" strike="noStrike">
                <a:solidFill>
                  <a:srgbClr val="2f2f2f"/>
                </a:solidFill>
                <a:latin typeface="Verdana"/>
              </a:rPr>
              <a:t>I</a:t>
            </a:r>
            <a:r>
              <a:rPr b="1" lang="ru-RU" sz="2000" spc="-1" strike="noStrike">
                <a:solidFill>
                  <a:srgbClr val="2f2f2f"/>
                </a:solidFill>
                <a:latin typeface="Verdana"/>
              </a:rPr>
              <a:t>. </a:t>
            </a:r>
            <a:br>
              <a:rPr sz="2000"/>
            </a:br>
            <a:r>
              <a:rPr b="1" lang="ru-RU" sz="2000" spc="-1" strike="noStrike">
                <a:solidFill>
                  <a:srgbClr val="2f2f2f"/>
                </a:solidFill>
                <a:latin typeface="Verdana"/>
              </a:rPr>
              <a:t>А в 1852г. в Санкт-Петербурге была впервые наряжена рождественская ёлка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Содержимое 3" descr="images (3).jpg"/>
          <p:cNvPicPr/>
          <p:nvPr/>
        </p:nvPicPr>
        <p:blipFill>
          <a:blip r:embed="rId1"/>
          <a:stretch/>
        </p:blipFill>
        <p:spPr>
          <a:xfrm>
            <a:off x="2382840" y="3706920"/>
            <a:ext cx="4303800" cy="274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f2f"/>
                </a:solidFill>
                <a:latin typeface="Verdana"/>
              </a:rPr>
              <a:t>Живая ёлка на вашем празднике радует глаз лишь две недели…</a:t>
            </a:r>
            <a:br>
              <a:rPr sz="3200"/>
            </a:br>
            <a:r>
              <a:rPr b="1" lang="ru-RU" sz="3200" spc="-1" strike="noStrike">
                <a:solidFill>
                  <a:srgbClr val="2f2f2f"/>
                </a:solidFill>
                <a:latin typeface="Verdana"/>
              </a:rPr>
              <a:t>а дальше????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Picture 3" descr="E:\новый год\images (4).jpg"/>
          <p:cNvPicPr/>
          <p:nvPr/>
        </p:nvPicPr>
        <p:blipFill>
          <a:blip r:embed="rId1"/>
          <a:stretch/>
        </p:blipFill>
        <p:spPr>
          <a:xfrm>
            <a:off x="6143760" y="4500720"/>
            <a:ext cx="2408040" cy="2092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E:\новый год\images (9).jpg"/>
          <p:cNvPicPr/>
          <p:nvPr/>
        </p:nvPicPr>
        <p:blipFill>
          <a:blip r:embed="rId2"/>
          <a:srcRect l="19154" t="0" r="21277" b="0"/>
          <a:stretch/>
        </p:blipFill>
        <p:spPr>
          <a:xfrm>
            <a:off x="3571920" y="3643200"/>
            <a:ext cx="2149560" cy="2082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E:\новый год\images (6).jpg"/>
          <p:cNvPicPr/>
          <p:nvPr/>
        </p:nvPicPr>
        <p:blipFill>
          <a:blip r:embed="rId3"/>
          <a:stretch/>
        </p:blipFill>
        <p:spPr>
          <a:xfrm>
            <a:off x="1000080" y="2786040"/>
            <a:ext cx="2170080" cy="2392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21392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f2f"/>
                </a:solidFill>
                <a:latin typeface="Verdana"/>
              </a:rPr>
              <a:t>Таким образом, живая елка, которая стала мертвой, когда её срубили – это уже далеко не радость…</a:t>
            </a:r>
            <a:br>
              <a:rPr sz="2400"/>
            </a:br>
            <a:r>
              <a:rPr b="1" lang="ru-RU" sz="2400" spc="-1" strike="noStrike">
                <a:solidFill>
                  <a:srgbClr val="2f2f2f"/>
                </a:solidFill>
                <a:latin typeface="Verdana"/>
              </a:rPr>
              <a:t>Это еще и исчезновение наших лесов…</a:t>
            </a:r>
            <a:br>
              <a:rPr sz="2400"/>
            </a:br>
            <a:r>
              <a:rPr b="1" lang="ru-RU" sz="2400" spc="-1" strike="noStrike">
                <a:solidFill>
                  <a:srgbClr val="2f2f2f"/>
                </a:solidFill>
                <a:latin typeface="Verdana"/>
              </a:rPr>
              <a:t>Ибо срубленная елка не даст ни корней, ни побегов..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Содержимое 4" descr="вырубка 2.jpg"/>
          <p:cNvPicPr/>
          <p:nvPr/>
        </p:nvPicPr>
        <p:blipFill>
          <a:blip r:embed="rId1"/>
          <a:stretch/>
        </p:blipFill>
        <p:spPr>
          <a:xfrm>
            <a:off x="684360" y="3657600"/>
            <a:ext cx="2744640" cy="257976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5" descr="вырубка.jpg"/>
          <p:cNvPicPr/>
          <p:nvPr/>
        </p:nvPicPr>
        <p:blipFill>
          <a:blip r:embed="rId2"/>
          <a:stretch/>
        </p:blipFill>
        <p:spPr>
          <a:xfrm>
            <a:off x="4929120" y="4214880"/>
            <a:ext cx="3167280" cy="2100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f2f"/>
                </a:solidFill>
                <a:latin typeface="Verdana"/>
              </a:rPr>
              <a:t>Национальное бедствие и серьезная экологическая катастрофа, т.к. ели, как и все деревья, поглощают углекислый газ, выделяя кислород</a:t>
            </a:r>
            <a:r>
              <a:rPr b="1" lang="ru-RU" sz="2400" spc="-1" strike="noStrike">
                <a:solidFill>
                  <a:srgbClr val="2f2f2f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3" name="Содержимое 7" descr="images (10).jpg"/>
          <p:cNvPicPr/>
          <p:nvPr/>
        </p:nvPicPr>
        <p:blipFill>
          <a:blip r:embed="rId1"/>
          <a:stretch/>
        </p:blipFill>
        <p:spPr>
          <a:xfrm>
            <a:off x="3143160" y="3357720"/>
            <a:ext cx="3143520" cy="2815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f2f"/>
                </a:solidFill>
                <a:latin typeface="Verdana"/>
              </a:rPr>
              <a:t>Массовый спрос перед Новым годом на хвойные деревья порождает проблемы. Поэтому различные государства стараются жёстко регулировать вырубку деревьев к Новому году, а также предпринимают меры для защиты лесов. </a:t>
            </a:r>
            <a:br>
              <a:rPr sz="2000"/>
            </a:br>
            <a:r>
              <a:rPr b="0" lang="ru-RU" sz="2000" spc="-1" strike="noStrike">
                <a:solidFill>
                  <a:srgbClr val="2f2f2f"/>
                </a:solidFill>
                <a:latin typeface="Verdana"/>
              </a:rPr>
              <a:t>Организация ёлочных лесопитомников, в которых выращиваются деревья специально для новогодних праздников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5" name="Содержимое 4" descr="images (7).jpg"/>
          <p:cNvPicPr/>
          <p:nvPr/>
        </p:nvPicPr>
        <p:blipFill>
          <a:blip r:embed="rId1"/>
          <a:stretch/>
        </p:blipFill>
        <p:spPr>
          <a:xfrm>
            <a:off x="3286080" y="3929040"/>
            <a:ext cx="2495520" cy="1838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5:50:18Z</dcterms:created>
  <dc:creator>Вика</dc:creator>
  <dc:description/>
  <dc:language>en-US</dc:language>
  <cp:lastModifiedBy>Админ</cp:lastModifiedBy>
  <dcterms:modified xsi:type="dcterms:W3CDTF">2013-04-22T21:42:48Z</dcterms:modified>
  <cp:revision>39</cp:revision>
  <dc:subject/>
  <dc:title>Творческий Проект</dc:title>
</cp:coreProperties>
</file>