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E95-0A72-4C7D-A5DB-08AC2E82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2F6-C8F4-4587-9C50-2A9DCC17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229-A6CA-465C-B731-1EEBF7F3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4E9-726E-4D40-8EB2-63D11462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10B2-EFC7-4C71-A334-84BC9117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328B-46DD-4A33-9616-082994F5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8D24-25CE-4587-92F7-17CA4BA1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7DF5-F4D1-4412-8F89-78CAD691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964C-7C8D-4147-966A-86BA3EFB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FEC3-AFA7-49B7-B8B5-150B930E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2565-B635-4234-988B-5533038B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252-5A8E-4A8C-A5DE-F5521F5F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CAAE-D7FC-4433-B2EB-45B341BD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1E85-5860-4BA4-A03F-D898AA95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07C4-4E79-46F3-8F6D-8F6A8193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3CE1-A3BB-48D7-8325-4EF9C881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FD01-AE4D-4BA2-BE3A-D3E99E0B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534A0-0B80-4CA2-8838-49EE4F0A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69D2C-D74F-48EA-98E7-55FDAA1D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25A15-82BB-42B5-AB20-41FEE4E8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27720-09D2-4426-8E73-5F706667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E18C9-8B84-4615-BD0C-1AACB193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DFFE-3B93-4C89-8193-D97ABDE4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8CD0F-900F-4AC5-8430-9FCC2C67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98CC3-C3CF-4DD5-AF9E-4FE07B58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0663D-CFE2-47EC-AE17-01A067B9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DD1D6-71B0-4503-A017-0EFA7D2E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14B21-813B-4A5C-9824-3AE55AE0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BB314-8254-4E15-ABBA-2CD4091D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362D-D6D1-4474-9CED-110D8AD3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144D9-71BB-4FBE-A7C3-9E332830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0C4BB-72AA-41F3-9283-F24EAC24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2AA13-CF15-4793-A762-0FB6C9DC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81B-B846-4974-888B-0C329691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F5A1E-E26C-4C8F-A70C-E74FCEBD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4F898-1EB5-497C-9C2D-94376813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28CC4-3E9B-4179-B368-07C2DFCC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A3BC9-2D9C-4F15-83CE-93EA988D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786C2-195C-46D6-AA77-CDF22313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E010B-CF0A-4C7A-83C5-C98660F6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DD7D1-6A54-4C85-B8D1-BD516DEE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0A75A-4AD0-465B-8A3C-318F37B9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A6393-626E-49A1-9BAC-A3B078D7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62440-E987-45CA-8A67-A265D855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B75-6FC0-4B5C-8B22-1059A1D1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83A8C-A7B9-473B-A16E-7A475DA7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4FC63-71C6-414F-A2F9-90C7FD72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FE320-78A2-47F2-B530-C94E2224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5CF71-ACAD-474B-96DD-A0286B93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EC944-8AF2-4E7D-A531-E3EB358E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32966-740F-493B-BEA6-F81C729C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B84D2-F07F-4400-8F19-0CDD0CED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54FF4-D6D3-4BB6-B95E-37D8CC10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15378-BF77-44D6-ABD6-F771A5EF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BBFF6-3069-403A-9208-D4F82FDD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6A8-E2AE-4F3C-894D-6A259745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73A58-D2DC-4AF5-84BA-CC5E7C3D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2EE-2295-4E3A-8FB6-97AD878B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45F-D4A1-475E-BD35-DC2D8408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2ADE-C726-43DC-98FE-BD0E6623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A797-96EF-435A-A81E-DFEC9A76291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EF89-55C7-4ACA-9C89-5CBE69544B7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DC93-003F-4ADD-B713-4AE81411543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03CE-7BFA-4A7C-B1DC-40D9E89EFF0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1C6D-02E9-47A8-8884-DDCE9D712B6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3680" y="3808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2f2f2f"/>
                </a:solidFill>
                <a:latin typeface="Verdana"/>
              </a:rPr>
              <a:t>Творческий Проект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142640" y="1357200"/>
            <a:ext cx="7358040" cy="1214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Mistral"/>
              </a:rPr>
              <a:t>«В защиту Новогодней Ёлки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E:\новый год\елка.jpg"/>
          <p:cNvPicPr/>
          <p:nvPr/>
        </p:nvPicPr>
        <p:blipFill>
          <a:blip r:embed="rId1"/>
          <a:stretch/>
        </p:blipFill>
        <p:spPr>
          <a:xfrm>
            <a:off x="428760" y="3143160"/>
            <a:ext cx="2295360" cy="3456000"/>
          </a:xfrm>
          <a:prstGeom prst="rect">
            <a:avLst/>
          </a:prstGeom>
          <a:ln w="0">
            <a:noFill/>
          </a:ln>
        </p:spPr>
      </p:pic>
      <p:sp>
        <p:nvSpPr>
          <p:cNvPr id="223" name="Подзаголовок 2"/>
          <p:cNvSpPr/>
          <p:nvPr/>
        </p:nvSpPr>
        <p:spPr>
          <a:xfrm>
            <a:off x="2714760" y="2714760"/>
            <a:ext cx="62150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Над проектом работ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ученики 6-А кла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Воротникова Екатери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Лучникова Анжел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Мишин Ант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Готовил презента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Гаврилов  Анд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Руководитель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Власенко Елена Геннадье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2f"/>
                </a:solidFill>
                <a:latin typeface="Verdana"/>
              </a:rPr>
              <a:t>В наши дни в мире все больше людей приобретают искусственные елки. Они очень красивы. 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7" name="Содержимое 4" descr="images (12).jpg"/>
          <p:cNvPicPr/>
          <p:nvPr/>
        </p:nvPicPr>
        <p:blipFill>
          <a:blip r:embed="rId1"/>
          <a:stretch/>
        </p:blipFill>
        <p:spPr>
          <a:xfrm>
            <a:off x="3429000" y="3000240"/>
            <a:ext cx="2546280" cy="28828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4200" y="856800"/>
            <a:ext cx="87156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f2f"/>
                </a:solidFill>
                <a:latin typeface="Verdana"/>
              </a:rPr>
              <a:t>Новый год – один из самых сказочных праздников на планете. Люди по всему миру собираются вместе, чтобы отметить этот день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5" name="Содержимое 4" descr="нг.jpg"/>
          <p:cNvPicPr/>
          <p:nvPr/>
        </p:nvPicPr>
        <p:blipFill>
          <a:blip r:embed="rId1"/>
          <a:stretch/>
        </p:blipFill>
        <p:spPr>
          <a:xfrm>
            <a:off x="3071880" y="307188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226" name="Содержимое 4" descr="китай.jpg"/>
          <p:cNvPicPr/>
          <p:nvPr/>
        </p:nvPicPr>
        <p:blipFill>
          <a:blip r:embed="rId2"/>
          <a:stretch/>
        </p:blipFill>
        <p:spPr>
          <a:xfrm>
            <a:off x="571680" y="4286160"/>
            <a:ext cx="2732040" cy="2235240"/>
          </a:xfrm>
          <a:prstGeom prst="rect">
            <a:avLst/>
          </a:prstGeom>
          <a:ln w="0">
            <a:noFill/>
          </a:ln>
        </p:spPr>
      </p:pic>
      <p:pic>
        <p:nvPicPr>
          <p:cNvPr id="227" name="Содержимое 5" descr="европа.jpg"/>
          <p:cNvPicPr/>
          <p:nvPr/>
        </p:nvPicPr>
        <p:blipFill>
          <a:blip r:embed="rId3"/>
          <a:stretch/>
        </p:blipFill>
        <p:spPr>
          <a:xfrm>
            <a:off x="5643720" y="4143240"/>
            <a:ext cx="2998800" cy="2409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f2f"/>
                </a:solidFill>
                <a:latin typeface="Verdana"/>
              </a:rPr>
              <a:t>В России праздник не обходится без традиционных Деда Мороза и Снегурочки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Содержимое 5" descr="дед-пердед.jpg"/>
          <p:cNvPicPr/>
          <p:nvPr/>
        </p:nvPicPr>
        <p:blipFill>
          <a:blip r:embed="rId1"/>
          <a:stretch/>
        </p:blipFill>
        <p:spPr>
          <a:xfrm>
            <a:off x="3643200" y="928800"/>
            <a:ext cx="2667240" cy="31986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f2f"/>
                </a:solidFill>
                <a:latin typeface="Verdana"/>
              </a:rPr>
              <a:t>И какой же праздник без </a:t>
            </a:r>
            <a:r>
              <a:rPr b="1" i="1" lang="ru-RU" sz="3200" spc="-1" strike="noStrike">
                <a:solidFill>
                  <a:srgbClr val="00b050"/>
                </a:solidFill>
                <a:latin typeface="Verdana"/>
              </a:rPr>
              <a:t>Новогодней ёлки</a:t>
            </a:r>
            <a:r>
              <a:rPr b="1" lang="ru-RU" sz="3200" spc="-1" strike="noStrike">
                <a:solidFill>
                  <a:srgbClr val="2f2f2f"/>
                </a:solidFill>
                <a:latin typeface="Verdana"/>
              </a:rPr>
              <a:t>?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Содержимое 4" descr="ёлка.jpg"/>
          <p:cNvPicPr/>
          <p:nvPr/>
        </p:nvPicPr>
        <p:blipFill>
          <a:blip r:embed="rId1"/>
          <a:stretch/>
        </p:blipFill>
        <p:spPr>
          <a:xfrm>
            <a:off x="1384200" y="1414440"/>
            <a:ext cx="2181240" cy="374796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5" descr="украш елку.jpg"/>
          <p:cNvPicPr/>
          <p:nvPr/>
        </p:nvPicPr>
        <p:blipFill>
          <a:blip r:embed="rId2"/>
          <a:stretch/>
        </p:blipFill>
        <p:spPr>
          <a:xfrm>
            <a:off x="5437080" y="1596960"/>
            <a:ext cx="2560680" cy="3316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000" spc="-1" strike="noStrike">
                <a:solidFill>
                  <a:srgbClr val="2f2f2f"/>
                </a:solidFill>
                <a:latin typeface="Verdana"/>
              </a:rPr>
              <a:t>Новогодняя ёлка — это один из древних символов человечества — Мирового Древа. </a:t>
            </a:r>
            <a:br>
              <a:rPr sz="2000"/>
            </a:br>
            <a:r>
              <a:rPr b="1" lang="ru-RU" sz="2000" spc="-1" strike="noStrike">
                <a:solidFill>
                  <a:srgbClr val="2f2f2f"/>
                </a:solidFill>
                <a:latin typeface="Verdana"/>
              </a:rPr>
              <a:t>Первую рождественскую ёлку установили в Риге в </a:t>
            </a:r>
            <a:r>
              <a:rPr b="1" lang="en-US" sz="2000" spc="-1" strike="noStrike">
                <a:solidFill>
                  <a:srgbClr val="2f2f2f"/>
                </a:solidFill>
                <a:latin typeface="Verdana"/>
              </a:rPr>
              <a:t>XVI </a:t>
            </a:r>
            <a:r>
              <a:rPr b="1" lang="ru-RU" sz="2000" spc="-1" strike="noStrike">
                <a:solidFill>
                  <a:srgbClr val="2f2f2f"/>
                </a:solidFill>
                <a:latin typeface="Verdana"/>
              </a:rPr>
              <a:t>веке. </a:t>
            </a:r>
            <a:br>
              <a:rPr sz="2000"/>
            </a:br>
            <a:r>
              <a:rPr b="1" lang="ru-RU" sz="2000" spc="-1" strike="noStrike">
                <a:solidFill>
                  <a:srgbClr val="2f2f2f"/>
                </a:solidFill>
                <a:latin typeface="Verdana"/>
              </a:rPr>
              <a:t>В Россию обычай отмечать Новый год привез из Германии Петр </a:t>
            </a:r>
            <a:r>
              <a:rPr b="1" lang="en-US" sz="2000" spc="-1" strike="noStrike">
                <a:solidFill>
                  <a:srgbClr val="2f2f2f"/>
                </a:solidFill>
                <a:latin typeface="Verdana"/>
              </a:rPr>
              <a:t>I</a:t>
            </a:r>
            <a:r>
              <a:rPr b="1" lang="ru-RU" sz="2000" spc="-1" strike="noStrike">
                <a:solidFill>
                  <a:srgbClr val="2f2f2f"/>
                </a:solidFill>
                <a:latin typeface="Verdana"/>
              </a:rPr>
              <a:t>. </a:t>
            </a:r>
            <a:br>
              <a:rPr sz="2000"/>
            </a:br>
            <a:r>
              <a:rPr b="1" lang="ru-RU" sz="2000" spc="-1" strike="noStrike">
                <a:solidFill>
                  <a:srgbClr val="2f2f2f"/>
                </a:solidFill>
                <a:latin typeface="Verdana"/>
              </a:rPr>
              <a:t>А в 1852г. в Санкт-Петербурге была впервые наряжена рождественская ёлка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4" name="Содержимое 3" descr="images (3).jpg"/>
          <p:cNvPicPr/>
          <p:nvPr/>
        </p:nvPicPr>
        <p:blipFill>
          <a:blip r:embed="rId1"/>
          <a:stretch/>
        </p:blipFill>
        <p:spPr>
          <a:xfrm>
            <a:off x="2382840" y="3706920"/>
            <a:ext cx="4303800" cy="2749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f2f"/>
                </a:solidFill>
                <a:latin typeface="Verdana"/>
              </a:rPr>
              <a:t>Живая ёлка на вашем празднике радует глаз лишь две недели…</a:t>
            </a:r>
            <a:br>
              <a:rPr sz="3200"/>
            </a:br>
            <a:r>
              <a:rPr b="1" lang="ru-RU" sz="3200" spc="-1" strike="noStrike">
                <a:solidFill>
                  <a:srgbClr val="2f2f2f"/>
                </a:solidFill>
                <a:latin typeface="Verdana"/>
              </a:rPr>
              <a:t>а дальше????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Picture 3" descr="E:\новый год\images (4).jpg"/>
          <p:cNvPicPr/>
          <p:nvPr/>
        </p:nvPicPr>
        <p:blipFill>
          <a:blip r:embed="rId1"/>
          <a:stretch/>
        </p:blipFill>
        <p:spPr>
          <a:xfrm>
            <a:off x="6143760" y="4500720"/>
            <a:ext cx="2408040" cy="2092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E:\новый год\images (9).jpg"/>
          <p:cNvPicPr/>
          <p:nvPr/>
        </p:nvPicPr>
        <p:blipFill>
          <a:blip r:embed="rId2"/>
          <a:srcRect l="19154" t="0" r="21277" b="0"/>
          <a:stretch/>
        </p:blipFill>
        <p:spPr>
          <a:xfrm>
            <a:off x="3571920" y="3643200"/>
            <a:ext cx="2149560" cy="2082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E:\новый год\images (6).jpg"/>
          <p:cNvPicPr/>
          <p:nvPr/>
        </p:nvPicPr>
        <p:blipFill>
          <a:blip r:embed="rId3"/>
          <a:stretch/>
        </p:blipFill>
        <p:spPr>
          <a:xfrm>
            <a:off x="1000080" y="2786040"/>
            <a:ext cx="2170080" cy="2392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21392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2f"/>
                </a:solidFill>
                <a:latin typeface="Verdana"/>
              </a:rPr>
              <a:t>Таким образом, живая елка, которая стала мертвой, когда её срубили – это уже далеко не радость…</a:t>
            </a:r>
            <a:br>
              <a:rPr sz="2400"/>
            </a:br>
            <a:r>
              <a:rPr b="1" lang="ru-RU" sz="2400" spc="-1" strike="noStrike">
                <a:solidFill>
                  <a:srgbClr val="2f2f2f"/>
                </a:solidFill>
                <a:latin typeface="Verdana"/>
              </a:rPr>
              <a:t>Это еще и исчезновение наших лесов…</a:t>
            </a:r>
            <a:br>
              <a:rPr sz="2400"/>
            </a:br>
            <a:r>
              <a:rPr b="1" lang="ru-RU" sz="2400" spc="-1" strike="noStrike">
                <a:solidFill>
                  <a:srgbClr val="2f2f2f"/>
                </a:solidFill>
                <a:latin typeface="Verdana"/>
              </a:rPr>
              <a:t>Ибо срубленная елка не даст ни корней, ни побегов..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Содержимое 4" descr="вырубка 2.jpg"/>
          <p:cNvPicPr/>
          <p:nvPr/>
        </p:nvPicPr>
        <p:blipFill>
          <a:blip r:embed="rId1"/>
          <a:stretch/>
        </p:blipFill>
        <p:spPr>
          <a:xfrm>
            <a:off x="684360" y="3657600"/>
            <a:ext cx="2744640" cy="257976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5" descr="вырубка.jpg"/>
          <p:cNvPicPr/>
          <p:nvPr/>
        </p:nvPicPr>
        <p:blipFill>
          <a:blip r:embed="rId2"/>
          <a:stretch/>
        </p:blipFill>
        <p:spPr>
          <a:xfrm>
            <a:off x="4929120" y="4214880"/>
            <a:ext cx="3167280" cy="2100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2f2f"/>
                </a:solidFill>
                <a:latin typeface="Verdana"/>
              </a:rPr>
              <a:t>Национальное бедствие и серьезная экологическая катастрофа, т.к. ели, как и все деревья, поглощают углекислый газ, выделяя кислород</a:t>
            </a:r>
            <a:r>
              <a:rPr b="1" lang="ru-RU" sz="2400" spc="-1" strike="noStrike">
                <a:solidFill>
                  <a:srgbClr val="2f2f2f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3" name="Содержимое 7" descr="images (10).jpg"/>
          <p:cNvPicPr/>
          <p:nvPr/>
        </p:nvPicPr>
        <p:blipFill>
          <a:blip r:embed="rId1"/>
          <a:stretch/>
        </p:blipFill>
        <p:spPr>
          <a:xfrm>
            <a:off x="3143160" y="3357720"/>
            <a:ext cx="3143520" cy="2815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f2f"/>
                </a:solidFill>
                <a:latin typeface="Verdana"/>
              </a:rPr>
              <a:t>Массовый спрос перед Новым годом на хвойные деревья порождает проблемы. Поэтому различные государства стараются жёстко регулировать вырубку деревьев к Новому году, а также предпринимают меры для защиты лесов. </a:t>
            </a:r>
            <a:br>
              <a:rPr sz="2000"/>
            </a:br>
            <a:r>
              <a:rPr b="0" lang="ru-RU" sz="2000" spc="-1" strike="noStrike">
                <a:solidFill>
                  <a:srgbClr val="2f2f2f"/>
                </a:solidFill>
                <a:latin typeface="Verdana"/>
              </a:rPr>
              <a:t>Организация ёлочных лесопитомников, в которых выращиваются деревья специально для новогодних праздников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5" name="Содержимое 4" descr="images (7).jpg"/>
          <p:cNvPicPr/>
          <p:nvPr/>
        </p:nvPicPr>
        <p:blipFill>
          <a:blip r:embed="rId1"/>
          <a:stretch/>
        </p:blipFill>
        <p:spPr>
          <a:xfrm>
            <a:off x="3286080" y="3929040"/>
            <a:ext cx="2495520" cy="1838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5:50:18Z</dcterms:created>
  <dc:creator>Вика</dc:creator>
  <dc:description/>
  <dc:language>en-US</dc:language>
  <cp:lastModifiedBy>Админ</cp:lastModifiedBy>
  <dcterms:modified xsi:type="dcterms:W3CDTF">2013-04-22T21:42:48Z</dcterms:modified>
  <cp:revision>39</cp:revision>
  <dc:subject/>
  <dc:title>Творческий Проект</dc:title>
</cp:coreProperties>
</file>