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0.gif" ContentType="image/gif"/>
  <Override PartName="/ppt/media/image8.wmf" ContentType="image/x-wmf"/>
  <Override PartName="/ppt/media/image9.gif" ContentType="image/gif"/>
  <Override PartName="/ppt/media/image7.gif" ContentType="image/gif"/>
  <Override PartName="/ppt/media/image18.wmf" ContentType="image/x-wmf"/>
  <Override PartName="/ppt/media/image11.gif" ContentType="image/gif"/>
  <Override PartName="/ppt/media/image6.gif" ContentType="image/gif"/>
  <Override PartName="/ppt/media/image5.png" ContentType="image/png"/>
  <Override PartName="/ppt/media/image4.png" ContentType="image/png"/>
  <Override PartName="/ppt/media/image24.gif" ContentType="image/gif"/>
  <Override PartName="/ppt/media/image3.png" ContentType="image/png"/>
  <Override PartName="/ppt/media/image17.jpeg" ContentType="image/jpeg"/>
  <Override PartName="/ppt/media/image27.wmf" ContentType="image/x-wmf"/>
  <Override PartName="/ppt/media/image26.wmf" ContentType="image/x-wmf"/>
  <Override PartName="/ppt/media/image15.png" ContentType="image/png"/>
  <Override PartName="/ppt/media/image25.wmf" ContentType="image/x-wmf"/>
  <Override PartName="/ppt/media/image23.wmf" ContentType="image/x-wmf"/>
  <Override PartName="/ppt/media/image22.png" ContentType="image/png"/>
  <Override PartName="/ppt/media/image20.jpeg" ContentType="image/jpeg"/>
  <Override PartName="/ppt/media/image21.wmf" ContentType="image/x-wmf"/>
  <Override PartName="/ppt/media/image19.wmf" ContentType="image/x-wmf"/>
  <Override PartName="/ppt/media/image1.wmf" ContentType="image/x-wmf"/>
  <Override PartName="/ppt/media/image2.png" ContentType="image/png"/>
  <Override PartName="/ppt/media/image14.jpeg" ContentType="image/jpe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52DF-D741-4486-8315-270ED88B4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EE14-92AB-44CA-9CC6-CBF3E824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6FD0-1F1B-4806-855B-57949DEFA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5D52-BDA9-4FC2-974A-08D24E85B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4D7D-2E76-4B93-A1B0-0F6CC3934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0CBF-5F01-43FA-AEAB-51BBE242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1BCF-7CFB-4755-BEA3-7F96B620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DA5A-3870-4B4E-93CD-3B856D17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2E1DB-14B0-4DBD-9340-0F0D802F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6CBB-FF44-4B75-834E-06ECF0EF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4D2C8-E923-4F8C-B315-90CF2ACE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01D1-4326-4635-8332-FCE046A7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3474-FE80-46AB-A461-5321CEE8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9E35-5170-4E89-9AAE-3CE03DD7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7683-00B4-467E-9BD2-6446D90A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EE20-9EA2-4E54-A722-62C2AD14F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68F4-6C59-4822-BD32-6F4B803FE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482F-238E-45F2-BAEB-0AF8C1C3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E410-15A4-49F6-ABDA-A7E0DD9C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1627-451E-46A4-810A-1B40055D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AB5D-CD9D-4E07-913A-DFB946D6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009F-EEED-4E1E-8535-CD28A53A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7DBC-0F64-45DD-842F-176F6D18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7470-915F-4EA1-BBB2-1D0BB18D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3FF8-6362-492F-AB8D-01D75ACF9A0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558F-736D-48CF-BBF3-07A304EB3BAD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0c214"/>
                </a:solidFill>
                <a:latin typeface="Arial"/>
              </a:rPr>
              <a:t>«Игры на занятиях по английскому языку-как средство развития адекватной мотивации и формирования ситуации успеха»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3" name="Picture 4" descr="кошка аним"/>
          <p:cNvPicPr/>
          <p:nvPr/>
        </p:nvPicPr>
        <p:blipFill>
          <a:blip r:embed="rId1"/>
          <a:stretch/>
        </p:blipFill>
        <p:spPr>
          <a:xfrm>
            <a:off x="6589800" y="138240"/>
            <a:ext cx="1066680" cy="10951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752480" y="4343400"/>
            <a:ext cx="56404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Автор: О.А. Булатошкина, учитель иностранного языка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МКОУ ВСОШ № 2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первой квалификационной категори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5" name="Picture 6" descr="аним комп"/>
          <p:cNvPicPr/>
          <p:nvPr/>
        </p:nvPicPr>
        <p:blipFill>
          <a:blip r:embed="rId2"/>
          <a:stretch/>
        </p:blipFill>
        <p:spPr>
          <a:xfrm>
            <a:off x="228600" y="304920"/>
            <a:ext cx="1333440" cy="761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grpSp>
        <p:nvGrpSpPr>
          <p:cNvPr id="241" name="Diagram 5"/>
          <p:cNvGrpSpPr/>
          <p:nvPr/>
        </p:nvGrpSpPr>
        <p:grpSpPr>
          <a:xfrm>
            <a:off x="2004840" y="1676160"/>
            <a:ext cx="3905280" cy="4341960"/>
            <a:chOff x="2004840" y="1676160"/>
            <a:chExt cx="3905280" cy="4341960"/>
          </a:xfrm>
        </p:grpSpPr>
        <p:sp>
          <p:nvSpPr>
            <p:cNvPr id="242" name="_s4100"/>
            <p:cNvSpPr/>
            <p:nvPr/>
          </p:nvSpPr>
          <p:spPr>
            <a:xfrm flipH="1" flipV="1">
              <a:off x="3017520" y="3303360"/>
              <a:ext cx="470160" cy="2714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3" name="_s4101"/>
            <p:cNvSpPr/>
            <p:nvPr/>
          </p:nvSpPr>
          <p:spPr>
            <a:xfrm>
              <a:off x="2004840" y="2489040"/>
              <a:ext cx="1085760" cy="1085760"/>
            </a:xfrm>
            <a:prstGeom prst="ellipse">
              <a:avLst/>
            </a:prstGeom>
            <a:solidFill>
              <a:srgbClr val="f9362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РАЗВИТИЕ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РЕЧЕВЫХ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УМЕНИЙ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4" name="_s4102"/>
            <p:cNvSpPr/>
            <p:nvPr/>
          </p:nvSpPr>
          <p:spPr>
            <a:xfrm flipH="1">
              <a:off x="3017520" y="4117680"/>
              <a:ext cx="470160" cy="27180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5" name="_s4103"/>
            <p:cNvSpPr/>
            <p:nvPr/>
          </p:nvSpPr>
          <p:spPr>
            <a:xfrm>
              <a:off x="2004840" y="4117680"/>
              <a:ext cx="1085760" cy="1086120"/>
            </a:xfrm>
            <a:prstGeom prst="ellipse">
              <a:avLst/>
            </a:prstGeom>
            <a:solidFill>
              <a:srgbClr val="ef49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f1311"/>
                  </a:solidFill>
                  <a:latin typeface="Arial"/>
                </a:rPr>
                <a:t>ОБУЧЕНИЕ </a:t>
              </a:r>
              <a:br>
                <a:rPr sz="1000"/>
              </a:br>
              <a:r>
                <a:rPr b="0" lang="ru-RU" sz="1000" spc="-1" strike="noStrike">
                  <a:solidFill>
                    <a:srgbClr val="2f1311"/>
                  </a:solidFill>
                  <a:latin typeface="Arial"/>
                </a:rPr>
                <a:t>УМЕНИЮ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f1311"/>
                  </a:solidFill>
                  <a:latin typeface="Arial"/>
                </a:rPr>
                <a:t>ОБЩАТЬСЯ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6" name="_s4104"/>
            <p:cNvSpPr/>
            <p:nvPr/>
          </p:nvSpPr>
          <p:spPr>
            <a:xfrm>
              <a:off x="3957480" y="4389480"/>
              <a:ext cx="0" cy="54288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7" name="_s4105"/>
            <p:cNvSpPr/>
            <p:nvPr/>
          </p:nvSpPr>
          <p:spPr>
            <a:xfrm>
              <a:off x="3414600" y="4932360"/>
              <a:ext cx="1085760" cy="1085760"/>
            </a:xfrm>
            <a:prstGeom prst="ellipse">
              <a:avLst/>
            </a:prstGeom>
            <a:solidFill>
              <a:srgbClr val="eeee1a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РАЗВИТИЕ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необходимых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способностей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и пс.функций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8" name="_s4106"/>
            <p:cNvSpPr/>
            <p:nvPr/>
          </p:nvSpPr>
          <p:spPr>
            <a:xfrm>
              <a:off x="4427280" y="4117680"/>
              <a:ext cx="470160" cy="27180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49" name="_s4107"/>
            <p:cNvSpPr/>
            <p:nvPr/>
          </p:nvSpPr>
          <p:spPr>
            <a:xfrm>
              <a:off x="4824360" y="4117680"/>
              <a:ext cx="1085760" cy="1086120"/>
            </a:xfrm>
            <a:prstGeom prst="ellipse">
              <a:avLst/>
            </a:prstGeom>
            <a:solidFill>
              <a:srgbClr val="d220a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f1311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2f1311"/>
                  </a:solidFill>
                  <a:latin typeface="Arial"/>
                </a:rPr>
                <a:t>ПОЗНАНИЕ 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f1311"/>
                  </a:solidFill>
                  <a:latin typeface="Arial"/>
                </a:rPr>
                <a:t>(СФЕРА 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f1311"/>
                  </a:solidFill>
                  <a:latin typeface="Arial"/>
                </a:rPr>
                <a:t>ЯЗЫКА)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0" name="_s4108"/>
            <p:cNvSpPr/>
            <p:nvPr/>
          </p:nvSpPr>
          <p:spPr>
            <a:xfrm flipV="1">
              <a:off x="4427280" y="3305160"/>
              <a:ext cx="470160" cy="2714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1" name="_s4109"/>
            <p:cNvSpPr/>
            <p:nvPr/>
          </p:nvSpPr>
          <p:spPr>
            <a:xfrm>
              <a:off x="4824360" y="2490840"/>
              <a:ext cx="1085760" cy="1085760"/>
            </a:xfrm>
            <a:prstGeom prst="ellipse">
              <a:avLst/>
            </a:prstGeom>
            <a:solidFill>
              <a:srgbClr val="d4223b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ЗАПОМИ-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НАНИЕ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речевого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материала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2" name="_s4110"/>
            <p:cNvSpPr/>
            <p:nvPr/>
          </p:nvSpPr>
          <p:spPr>
            <a:xfrm flipV="1">
              <a:off x="3957480" y="2762280"/>
              <a:ext cx="0" cy="54288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3" name="_s4111"/>
            <p:cNvSpPr/>
            <p:nvPr/>
          </p:nvSpPr>
          <p:spPr>
            <a:xfrm>
              <a:off x="3414600" y="1676160"/>
              <a:ext cx="1085760" cy="1086120"/>
            </a:xfrm>
            <a:prstGeom prst="ellipse">
              <a:avLst/>
            </a:prstGeom>
            <a:solidFill>
              <a:srgbClr val="62e6f4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ФОРМИ-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РОВАНИЕ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НАВЫ-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КОВ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4" name="_s4112"/>
            <p:cNvSpPr/>
            <p:nvPr/>
          </p:nvSpPr>
          <p:spPr>
            <a:xfrm>
              <a:off x="3414600" y="3305160"/>
              <a:ext cx="1085760" cy="1085760"/>
            </a:xfrm>
            <a:prstGeom prst="ellipse">
              <a:avLst/>
            </a:prstGeom>
            <a:solidFill>
              <a:srgbClr val="62b80c"/>
            </a:solidFill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7027f3"/>
                  </a:solidFill>
                  <a:latin typeface="Arial"/>
                </a:rPr>
                <a:t>ЦЕЛИ ИСПОЛЬЗОВАНИЯ ИГР НА УРОКЕ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pic>
        <p:nvPicPr>
          <p:cNvPr id="255" name="Picture 21" descr="MCj04284250000[1]"/>
          <p:cNvPicPr/>
          <p:nvPr/>
        </p:nvPicPr>
        <p:blipFill>
          <a:blip r:embed="rId1"/>
          <a:stretch/>
        </p:blipFill>
        <p:spPr>
          <a:xfrm>
            <a:off x="152280" y="152280"/>
            <a:ext cx="1905120" cy="16891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2" descr="MCj04282690000[1]"/>
          <p:cNvPicPr/>
          <p:nvPr/>
        </p:nvPicPr>
        <p:blipFill>
          <a:blip r:embed="rId2"/>
          <a:stretch/>
        </p:blipFill>
        <p:spPr>
          <a:xfrm>
            <a:off x="5932440" y="166680"/>
            <a:ext cx="184140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Исходя из целей , имеется несколько групп игр , развивающих интеллект , познавательную активность школьников , мотивацию к изучению английского языка ребенком 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9" name="Picture 4" descr="MPj04308400000[1]"/>
          <p:cNvPicPr/>
          <p:nvPr/>
        </p:nvPicPr>
        <p:blipFill>
          <a:blip r:embed="rId1"/>
          <a:stretch/>
        </p:blipFill>
        <p:spPr>
          <a:xfrm>
            <a:off x="4495680" y="4191120"/>
            <a:ext cx="309096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grpSp>
        <p:nvGrpSpPr>
          <p:cNvPr id="261" name="Diagram 17"/>
          <p:cNvGrpSpPr/>
          <p:nvPr/>
        </p:nvGrpSpPr>
        <p:grpSpPr>
          <a:xfrm>
            <a:off x="1785960" y="1676160"/>
            <a:ext cx="4343400" cy="4343040"/>
            <a:chOff x="1785960" y="1676160"/>
            <a:chExt cx="4343400" cy="4343040"/>
          </a:xfrm>
        </p:grpSpPr>
        <p:sp>
          <p:nvSpPr>
            <p:cNvPr id="262" name="_s5124"/>
            <p:cNvSpPr/>
            <p:nvPr/>
          </p:nvSpPr>
          <p:spPr>
            <a:xfrm flipH="1">
              <a:off x="2871720" y="3848040"/>
              <a:ext cx="542880" cy="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3" name="_s5125"/>
            <p:cNvSpPr/>
            <p:nvPr/>
          </p:nvSpPr>
          <p:spPr>
            <a:xfrm>
              <a:off x="1785960" y="3305160"/>
              <a:ext cx="1085760" cy="1085400"/>
            </a:xfrm>
            <a:prstGeom prst="ellipse">
              <a:avLst/>
            </a:prstGeom>
            <a:solidFill>
              <a:srgbClr val="eeee1a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f1311"/>
                  </a:solidFill>
                  <a:latin typeface="Arial"/>
                </a:rPr>
                <a:t>ЛЕКСИ-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f1311"/>
                  </a:solidFill>
                  <a:latin typeface="Arial"/>
                </a:rPr>
                <a:t>ЧЕСКИЕ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4" name="_s5126"/>
            <p:cNvSpPr/>
            <p:nvPr/>
          </p:nvSpPr>
          <p:spPr>
            <a:xfrm>
              <a:off x="3957480" y="4390920"/>
              <a:ext cx="0" cy="54252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5" name="_s5127"/>
            <p:cNvSpPr/>
            <p:nvPr/>
          </p:nvSpPr>
          <p:spPr>
            <a:xfrm>
              <a:off x="3414600" y="4933800"/>
              <a:ext cx="1085760" cy="1085400"/>
            </a:xfrm>
            <a:prstGeom prst="ellipse">
              <a:avLst/>
            </a:prstGeom>
            <a:solidFill>
              <a:srgbClr val="62e6f4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f1311"/>
                  </a:solidFill>
                  <a:latin typeface="Arial"/>
                </a:rPr>
                <a:t>ОРФОГРА-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f1311"/>
                  </a:solidFill>
                  <a:latin typeface="Arial"/>
                </a:rPr>
                <a:t>ФИЧЕСКИЕ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6" name="_s5128"/>
            <p:cNvSpPr/>
            <p:nvPr/>
          </p:nvSpPr>
          <p:spPr>
            <a:xfrm>
              <a:off x="4500360" y="3848040"/>
              <a:ext cx="542880" cy="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7" name="_s5129"/>
            <p:cNvSpPr/>
            <p:nvPr/>
          </p:nvSpPr>
          <p:spPr>
            <a:xfrm>
              <a:off x="5043240" y="3305160"/>
              <a:ext cx="1086120" cy="1085400"/>
            </a:xfrm>
            <a:prstGeom prst="ellipse">
              <a:avLst/>
            </a:prstGeom>
            <a:solidFill>
              <a:srgbClr val="10c214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f1311"/>
                  </a:solidFill>
                  <a:latin typeface="Arial"/>
                </a:rPr>
                <a:t>ФОНЕТИ-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f1311"/>
                  </a:solidFill>
                  <a:latin typeface="Arial"/>
                </a:rPr>
                <a:t>ЧЕСКИЕ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8" name="_s5130"/>
            <p:cNvSpPr/>
            <p:nvPr/>
          </p:nvSpPr>
          <p:spPr>
            <a:xfrm flipV="1">
              <a:off x="3957480" y="2761920"/>
              <a:ext cx="0" cy="54252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9" name="_s5131"/>
            <p:cNvSpPr/>
            <p:nvPr/>
          </p:nvSpPr>
          <p:spPr>
            <a:xfrm>
              <a:off x="3414600" y="1676160"/>
              <a:ext cx="1085760" cy="1085760"/>
            </a:xfrm>
            <a:prstGeom prst="ellipse">
              <a:avLst/>
            </a:prstGeom>
            <a:solidFill>
              <a:srgbClr val="d4223b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f1311"/>
                  </a:solidFill>
                  <a:latin typeface="Arial"/>
                </a:rPr>
                <a:t>ГРАММА-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f1311"/>
                  </a:solidFill>
                  <a:latin typeface="Arial"/>
                </a:rPr>
                <a:t>ТИЧЕСКИЕ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0" name="_s5132"/>
            <p:cNvSpPr/>
            <p:nvPr/>
          </p:nvSpPr>
          <p:spPr>
            <a:xfrm>
              <a:off x="3414600" y="3305160"/>
              <a:ext cx="1085760" cy="1085400"/>
            </a:xfrm>
            <a:prstGeom prst="ellipse">
              <a:avLst/>
            </a:prstGeom>
            <a:solidFill>
              <a:srgbClr val="ef4907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ОСНОВНЫЕ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ТИПЫ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ИГР</a:t>
              </a:r>
              <a:endParaRPr b="0" lang="en-US" sz="10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pic>
        <p:nvPicPr>
          <p:cNvPr id="271" name="Picture 28" descr="MCj04318930000[1]"/>
          <p:cNvPicPr/>
          <p:nvPr/>
        </p:nvPicPr>
        <p:blipFill>
          <a:blip r:embed="rId1"/>
          <a:stretch/>
        </p:blipFill>
        <p:spPr>
          <a:xfrm>
            <a:off x="5715000" y="5029200"/>
            <a:ext cx="1841400" cy="16826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9" descr="MCj04339250000[1]"/>
          <p:cNvPicPr/>
          <p:nvPr/>
        </p:nvPicPr>
        <p:blipFill>
          <a:blip r:embed="rId2"/>
          <a:stretch/>
        </p:blipFill>
        <p:spPr>
          <a:xfrm>
            <a:off x="457200" y="22860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Игра , введенная в учебный  процесс на уроках английского языка , в качестве одного из приемов обучения , должна быть интересной , несложной , целенаправленной и оживленной , способствовать усвоению нового материала и закреплению изученного .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5" name="Picture 4" descr="MCBD06809_0000[1]"/>
          <p:cNvPicPr/>
          <p:nvPr/>
        </p:nvPicPr>
        <p:blipFill>
          <a:blip r:embed="rId1"/>
          <a:stretch/>
        </p:blipFill>
        <p:spPr>
          <a:xfrm>
            <a:off x="6248520" y="5037120"/>
            <a:ext cx="145872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0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НО важно приучать детей разграничивать ИГРУ и УЧЕБНОЕ ЗАНЯТИЕ . 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В зависимости от условий , целей и задач урока игра должна чередоваться с другими видами работы . Таким образом , игра- как средство , гарантирующее позитивное эмоциональное состояние повышает трудоспособность и заинтересованность учеников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8" name="Picture 10" descr="аним заяц"/>
          <p:cNvPicPr/>
          <p:nvPr/>
        </p:nvPicPr>
        <p:blipFill>
          <a:blip r:embed="rId2"/>
          <a:stretch/>
        </p:blipFill>
        <p:spPr>
          <a:xfrm>
            <a:off x="7010280" y="5791320"/>
            <a:ext cx="662040" cy="896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и преподавателей , в отличии от монотонного выполнения определенных заданий . </a:t>
            </a:r>
            <a:br>
              <a:rPr sz="2800"/>
            </a:b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        В целом , на всех этапах развития личности , ИГРА воспринимается как интересное , яркое , необходимое занятие , сопровождающееся приятным микроклиматом в группе , положительной атмосферой успешных моментов участия в ней , так как учитывается личностный потенциал учеников ,  что повышает мотивацию к изучению английского языка 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1" name="Picture 6" descr="MCj04240940000[1]"/>
          <p:cNvPicPr/>
          <p:nvPr/>
        </p:nvPicPr>
        <p:blipFill>
          <a:blip r:embed="rId1"/>
          <a:stretch/>
        </p:blipFill>
        <p:spPr>
          <a:xfrm>
            <a:off x="6858000" y="5715000"/>
            <a:ext cx="977760" cy="977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В связи с этим , можно согласиться с мнением С.Т. Шацкого , который утверждал «ИГРА-это жизненная лаборатория детства , которая дает тот аромат , ту атмосферу молодой жизни , без которой эта пора была бы бесполезна для человечества . В ИГРЕ-этой специальной обработке жизненного материала есть наиболее ценное ядро разумной школы детства.»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22824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4" name="Picture 4" descr="MCj04379900000[1]"/>
          <p:cNvPicPr/>
          <p:nvPr/>
        </p:nvPicPr>
        <p:blipFill>
          <a:blip r:embed="rId1"/>
          <a:stretch/>
        </p:blipFill>
        <p:spPr>
          <a:xfrm>
            <a:off x="5943600" y="4952880"/>
            <a:ext cx="1816200" cy="17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СПАСИБО ЗА ВНИМАНИЕ !!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7" name="Picture 4" descr="MCj04382530000[1]"/>
          <p:cNvPicPr/>
          <p:nvPr/>
        </p:nvPicPr>
        <p:blipFill>
          <a:blip r:embed="rId1"/>
          <a:stretch/>
        </p:blipFill>
        <p:spPr>
          <a:xfrm>
            <a:off x="3276720" y="4267080"/>
            <a:ext cx="1720800" cy="1797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44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А.С. МАКАРЕНКО: «ИГРА ИМЕЕТ ВАЖНОЕ ЗНАЧЕНИЕ В ЖИЗНИ РЕБЕНКА , ИМЕЕТ ТО ЖЕ ЗНАЧЕНИЕ , КАКОЕ У ВЗРОСЛОГО ИМЕЕТ ДЕЯТЕЛЬНОСТЬ , РАБОТА , СЛУЖБА .»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7" name="Picture 5" descr="MCj04381650000[1]"/>
          <p:cNvPicPr/>
          <p:nvPr/>
        </p:nvPicPr>
        <p:blipFill>
          <a:blip r:embed="rId1"/>
          <a:stretch/>
        </p:blipFill>
        <p:spPr>
          <a:xfrm>
            <a:off x="5695920" y="4933800"/>
            <a:ext cx="1882800" cy="11494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2895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ИГРА НА УРОКЕ – ПРИЕМ ЗАКРЕПЛЕНИЯ ЗНАНИЙ , СПОСОБ ТРЕНИРОВКИ . У ИГРЫ ВСЕГДА ЕСТЬ МОТИВ ( ПОБУЖДАЮЩАЯ ПРИЧИНА ) , КОТОРЫЙ ПРЕСЛЕДУЕТ ОПРЕДЕЛЕННУЮ ЦЕЛЬ , ИМЕЕТ КОНКРЕТНОЕ , ПОНЯТНОЕ РЕБЕНКУ СОДЕРЖАНИЕ И ИСПОЛНИТЕЛЬНУЮ ЧАСТЬ – ИГРОВЫЕ ДЕЙСТВИЯ 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1920" y="3733920"/>
            <a:ext cx="73868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Picture 5" descr="MMj02867800000[1]"/>
          <p:cNvPicPr/>
          <p:nvPr/>
        </p:nvPicPr>
        <p:blipFill>
          <a:blip r:embed="rId1"/>
          <a:stretch/>
        </p:blipFill>
        <p:spPr>
          <a:xfrm>
            <a:off x="6854760" y="5827680"/>
            <a:ext cx="876240" cy="866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8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Д.Б. ЭЛЬКОНИН НАЗЫВАЕТ ИГРУ «АРИФМЕТИКОЙ СОЦИАЛЬНЫХ ОТНОШЕНИЙ» .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grpSp>
        <p:nvGrpSpPr>
          <p:cNvPr id="202" name="Diagram 5"/>
          <p:cNvGrpSpPr/>
          <p:nvPr/>
        </p:nvGrpSpPr>
        <p:grpSpPr>
          <a:xfrm>
            <a:off x="1425960" y="2516040"/>
            <a:ext cx="4843440" cy="4196520"/>
            <a:chOff x="1425960" y="2516040"/>
            <a:chExt cx="4843440" cy="4196520"/>
          </a:xfrm>
        </p:grpSpPr>
        <p:sp>
          <p:nvSpPr>
            <p:cNvPr id="203" name="_s1028"/>
            <p:cNvSpPr/>
            <p:nvPr/>
          </p:nvSpPr>
          <p:spPr>
            <a:xfrm>
              <a:off x="2369880" y="2516040"/>
              <a:ext cx="2954160" cy="2954520"/>
            </a:xfrm>
            <a:custGeom>
              <a:avLst/>
              <a:gdLst>
                <a:gd name="textAreaLeft" fmla="*/ 0 w 2954160"/>
                <a:gd name="textAreaRight" fmla="*/ 2954520 w 2954160"/>
                <a:gd name="textAreaTop" fmla="*/ 0 h 2954520"/>
                <a:gd name="textAreaBottom" fmla="*/ 2954880 h 295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4" name="_s1029"/>
            <p:cNvSpPr/>
            <p:nvPr/>
          </p:nvSpPr>
          <p:spPr>
            <a:xfrm rot="7200000">
              <a:off x="2774160" y="3214440"/>
              <a:ext cx="2954160" cy="2954520"/>
            </a:xfrm>
            <a:custGeom>
              <a:avLst/>
              <a:gdLst>
                <a:gd name="textAreaLeft" fmla="*/ 0 w 2954160"/>
                <a:gd name="textAreaRight" fmla="*/ 2954520 w 2954160"/>
                <a:gd name="textAreaTop" fmla="*/ 0 h 2954520"/>
                <a:gd name="textAreaBottom" fmla="*/ 2954880 h 295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5" name="_s1030"/>
            <p:cNvSpPr/>
            <p:nvPr/>
          </p:nvSpPr>
          <p:spPr>
            <a:xfrm rot="14400000">
              <a:off x="1966320" y="3217320"/>
              <a:ext cx="2954520" cy="2954160"/>
            </a:xfrm>
            <a:custGeom>
              <a:avLst/>
              <a:gdLst>
                <a:gd name="textAreaLeft" fmla="*/ 0 w 2954520"/>
                <a:gd name="textAreaRight" fmla="*/ 2954880 w 2954520"/>
                <a:gd name="textAreaTop" fmla="*/ 0 h 2954160"/>
                <a:gd name="textAreaBottom" fmla="*/ 2954520 h 295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6" name="_s1031"/>
            <p:cNvSpPr/>
            <p:nvPr/>
          </p:nvSpPr>
          <p:spPr>
            <a:xfrm>
              <a:off x="4655880" y="3057480"/>
              <a:ext cx="11858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Arial"/>
                </a:rPr>
                <a:t>ЖЕЛАНИЕ ВЫСКАЗАТЬСЯ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7" name="_s1032"/>
            <p:cNvSpPr/>
            <p:nvPr/>
          </p:nvSpPr>
          <p:spPr>
            <a:xfrm>
              <a:off x="3254040" y="5484960"/>
              <a:ext cx="11858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Arial"/>
                </a:rPr>
                <a:t>ОБЩЕНИЕ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8" name="_s1033"/>
            <p:cNvSpPr/>
            <p:nvPr/>
          </p:nvSpPr>
          <p:spPr>
            <a:xfrm>
              <a:off x="1852200" y="3057480"/>
              <a:ext cx="11858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Arial"/>
                </a:rPr>
                <a:t>ИГРА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pic>
        <p:nvPicPr>
          <p:cNvPr id="209" name="Picture 19" descr="кролик аним"/>
          <p:cNvPicPr/>
          <p:nvPr/>
        </p:nvPicPr>
        <p:blipFill>
          <a:blip r:embed="rId1"/>
          <a:stretch/>
        </p:blipFill>
        <p:spPr>
          <a:xfrm>
            <a:off x="2895480" y="3886200"/>
            <a:ext cx="1079640" cy="1440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4" descr="schnauzer_34"/>
          <p:cNvPicPr/>
          <p:nvPr/>
        </p:nvPicPr>
        <p:blipFill>
          <a:blip r:embed="rId2"/>
          <a:stretch/>
        </p:blipFill>
        <p:spPr>
          <a:xfrm>
            <a:off x="4191120" y="4343400"/>
            <a:ext cx="57132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ИТАК , 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grpSp>
        <p:nvGrpSpPr>
          <p:cNvPr id="212" name="Organization Chart 5"/>
          <p:cNvGrpSpPr/>
          <p:nvPr/>
        </p:nvGrpSpPr>
        <p:grpSpPr>
          <a:xfrm>
            <a:off x="263520" y="1598760"/>
            <a:ext cx="7386120" cy="4495680"/>
            <a:chOff x="263520" y="1598760"/>
            <a:chExt cx="7386120" cy="4495680"/>
          </a:xfrm>
        </p:grpSpPr>
        <p:cxnSp>
          <p:nvCxnSpPr>
            <p:cNvPr id="213" name="_s2052"/>
            <p:cNvCxnSpPr>
              <a:stCxn id="214" idx="0"/>
              <a:endCxn id="215" idx="2"/>
            </p:cNvCxnSpPr>
            <p:nvPr/>
          </p:nvCxnSpPr>
          <p:spPr>
            <a:xfrm flipV="1" rot="16200000">
              <a:off x="4798800" y="2553120"/>
              <a:ext cx="899640" cy="2585880"/>
            </a:xfrm>
            <a:prstGeom prst="bentConnector3">
              <a:avLst>
                <a:gd name="adj1" fmla="val 20776"/>
              </a:avLst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16" name="_s2053"/>
            <p:cNvCxnSpPr>
              <a:stCxn id="217" idx="0"/>
              <a:endCxn id="215" idx="2"/>
            </p:cNvCxnSpPr>
            <p:nvPr/>
          </p:nvCxnSpPr>
          <p:spPr>
            <a:xfrm flipV="1">
              <a:off x="3956400" y="3396240"/>
              <a:ext cx="2880" cy="899640"/>
            </a:xfrm>
            <a:prstGeom prst="bentConnector2">
              <a:avLst/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18" name="_s2054"/>
            <p:cNvCxnSpPr>
              <a:stCxn id="219" idx="0"/>
              <a:endCxn id="215" idx="2"/>
            </p:cNvCxnSpPr>
            <p:nvPr/>
          </p:nvCxnSpPr>
          <p:spPr>
            <a:xfrm flipH="1" flipV="1" rot="5400000">
              <a:off x="2215440" y="2554560"/>
              <a:ext cx="899640" cy="2583360"/>
            </a:xfrm>
            <a:prstGeom prst="bentConnector3">
              <a:avLst>
                <a:gd name="adj1" fmla="val 20776"/>
              </a:avLst>
            </a:prstGeom>
            <a:ln w="28440">
              <a:solidFill>
                <a:srgbClr val="2f1311"/>
              </a:solidFill>
              <a:miter/>
            </a:ln>
          </p:spPr>
        </p:cxnSp>
        <p:sp>
          <p:nvSpPr>
            <p:cNvPr id="215" name="_s2055"/>
            <p:cNvSpPr/>
            <p:nvPr/>
          </p:nvSpPr>
          <p:spPr>
            <a:xfrm>
              <a:off x="2848680" y="1598760"/>
              <a:ext cx="2215800" cy="1798200"/>
            </a:xfrm>
            <a:prstGeom prst="roundRect">
              <a:avLst>
                <a:gd name="adj" fmla="val 16667"/>
              </a:avLst>
            </a:prstGeom>
            <a:solidFill>
              <a:srgbClr val="e86ed7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2f1311"/>
                  </a:solidFill>
                  <a:latin typeface="Arial"/>
                </a:rPr>
                <a:t>ИГРА</a:t>
              </a: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9" name="_s2056"/>
            <p:cNvSpPr/>
            <p:nvPr/>
          </p:nvSpPr>
          <p:spPr>
            <a:xfrm>
              <a:off x="263520" y="4296240"/>
              <a:ext cx="2215800" cy="1798200"/>
            </a:xfrm>
            <a:prstGeom prst="roundRect">
              <a:avLst>
                <a:gd name="adj" fmla="val 16667"/>
              </a:avLst>
            </a:prstGeom>
            <a:solidFill>
              <a:srgbClr val="d21f0c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2f1311"/>
                  </a:solidFill>
                  <a:latin typeface="Arial"/>
                </a:rPr>
                <a:t>ТРАДИЦИИ</a:t>
              </a:r>
              <a:endParaRPr b="0" lang="en-US" sz="19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7" name="_s2057"/>
            <p:cNvSpPr/>
            <p:nvPr/>
          </p:nvSpPr>
          <p:spPr>
            <a:xfrm>
              <a:off x="2848680" y="4296240"/>
              <a:ext cx="2215800" cy="1798200"/>
            </a:xfrm>
            <a:prstGeom prst="roundRect">
              <a:avLst>
                <a:gd name="adj" fmla="val 16667"/>
              </a:avLst>
            </a:prstGeom>
            <a:solidFill>
              <a:srgbClr val="62e6f4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2f1311"/>
                  </a:solidFill>
                  <a:latin typeface="Arial"/>
                </a:rPr>
                <a:t>НОРМЫ</a:t>
              </a:r>
              <a:endParaRPr b="0" lang="en-US" sz="19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4" name="_s2058"/>
            <p:cNvSpPr/>
            <p:nvPr/>
          </p:nvSpPr>
          <p:spPr>
            <a:xfrm>
              <a:off x="5433840" y="4296240"/>
              <a:ext cx="2215800" cy="1798200"/>
            </a:xfrm>
            <a:prstGeom prst="roundRect">
              <a:avLst>
                <a:gd name="adj" fmla="val 16667"/>
              </a:avLst>
            </a:prstGeom>
            <a:solidFill>
              <a:srgbClr val="87e57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2f1311"/>
                  </a:solidFill>
                  <a:latin typeface="Arial"/>
                </a:rPr>
                <a:t>ТРЕНИНГОВАЯ</a:t>
              </a:r>
              <a:endParaRPr b="0" lang="en-US" sz="19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2f1311"/>
                  </a:solidFill>
                  <a:latin typeface="Arial"/>
                </a:rPr>
                <a:t>ОСНОВА РАЗВИ-</a:t>
              </a:r>
              <a:endParaRPr b="0" lang="en-US" sz="19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2f1311"/>
                  </a:solidFill>
                  <a:latin typeface="Arial"/>
                </a:rPr>
                <a:t>ТИЯ РЕБЕНКА</a:t>
              </a:r>
              <a:endParaRPr b="0" lang="en-US" sz="19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pic>
        <p:nvPicPr>
          <p:cNvPr id="220" name="Picture 16" descr="простоквашино"/>
          <p:cNvPicPr/>
          <p:nvPr/>
        </p:nvPicPr>
        <p:blipFill>
          <a:blip r:embed="rId1"/>
          <a:stretch/>
        </p:blipFill>
        <p:spPr>
          <a:xfrm>
            <a:off x="3505320" y="2666880"/>
            <a:ext cx="9442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ИГРЫ СПОСОБСТВУЮТ ВЫПОЛНЕНИЮ ВАЖНЫХ МЕТОДИЧЕСКИХ ЗАДАЧ :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grpSp>
        <p:nvGrpSpPr>
          <p:cNvPr id="222" name="Diagram 5"/>
          <p:cNvGrpSpPr/>
          <p:nvPr/>
        </p:nvGrpSpPr>
        <p:grpSpPr>
          <a:xfrm>
            <a:off x="880920" y="1774800"/>
            <a:ext cx="6232680" cy="3319560"/>
            <a:chOff x="880920" y="1774800"/>
            <a:chExt cx="6232680" cy="3319560"/>
          </a:xfrm>
        </p:grpSpPr>
        <p:sp>
          <p:nvSpPr>
            <p:cNvPr id="223" name="_s3076"/>
            <p:cNvSpPr/>
            <p:nvPr/>
          </p:nvSpPr>
          <p:spPr>
            <a:xfrm>
              <a:off x="3154320" y="2363760"/>
              <a:ext cx="1685880" cy="1685880"/>
            </a:xfrm>
            <a:prstGeom prst="ellipse">
              <a:avLst/>
            </a:prstGeom>
            <a:solidFill>
              <a:srgbClr val="62b80c">
                <a:alpha val="50000"/>
              </a:srgbClr>
            </a:solidFill>
            <a:ln w="4680">
              <a:solidFill>
                <a:srgbClr val="79af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4" name="_s3077"/>
            <p:cNvSpPr/>
            <p:nvPr/>
          </p:nvSpPr>
          <p:spPr>
            <a:xfrm>
              <a:off x="3154320" y="1774800"/>
              <a:ext cx="168588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173e02"/>
                  </a:solidFill>
                  <a:latin typeface="Arial"/>
                </a:rPr>
                <a:t>СОЗДАНИЕ ПСИХОЛОГИЧЕСКОЙ ГОТОВНОСТИ</a:t>
              </a: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173e02"/>
                  </a:solidFill>
                  <a:latin typeface="Arial"/>
                </a:rPr>
                <a:t> </a:t>
              </a:r>
              <a:r>
                <a:rPr b="0" lang="ru-RU" sz="2000" spc="-1" strike="noStrike">
                  <a:solidFill>
                    <a:srgbClr val="173e02"/>
                  </a:solidFill>
                  <a:latin typeface="Arial"/>
                </a:rPr>
                <a:t>ДЕТЕЙ К РЕЧЕВОМУ ОБЩЕНИЮ</a:t>
              </a: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5" name="_s3078"/>
            <p:cNvSpPr/>
            <p:nvPr/>
          </p:nvSpPr>
          <p:spPr>
            <a:xfrm>
              <a:off x="3708360" y="3326040"/>
              <a:ext cx="1685880" cy="1685880"/>
            </a:xfrm>
            <a:prstGeom prst="ellipse">
              <a:avLst/>
            </a:prstGeom>
            <a:solidFill>
              <a:srgbClr val="fc48d5">
                <a:alpha val="50000"/>
              </a:srgbClr>
            </a:solidFill>
            <a:ln w="4680">
              <a:solidFill>
                <a:srgbClr val="f0b8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6" name="_s3079"/>
            <p:cNvSpPr/>
            <p:nvPr/>
          </p:nvSpPr>
          <p:spPr>
            <a:xfrm>
              <a:off x="5427720" y="4673520"/>
              <a:ext cx="168588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10c214"/>
                  </a:solidFill>
                  <a:latin typeface="Arial"/>
                </a:rPr>
                <a:t>ТРЕНИРОВКА В ВЫБОРЕ НУЖНОГО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10c214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10c214"/>
                  </a:solidFill>
                  <a:latin typeface="Arial"/>
                </a:rPr>
                <a:t>РЕЧЕВОГО ВАРИАНТА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10c214"/>
                  </a:solidFill>
                  <a:latin typeface="Arial"/>
                </a:rPr>
                <a:t>(ПОДГОТОВКА К СПОНТАН-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10c214"/>
                  </a:solidFill>
                  <a:latin typeface="Arial"/>
                </a:rPr>
                <a:t>НОСТИ РЕЧИ )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7" name="_s3080"/>
            <p:cNvSpPr/>
            <p:nvPr/>
          </p:nvSpPr>
          <p:spPr>
            <a:xfrm>
              <a:off x="2598840" y="3324240"/>
              <a:ext cx="1685880" cy="1685880"/>
            </a:xfrm>
            <a:prstGeom prst="ellipse">
              <a:avLst/>
            </a:prstGeom>
            <a:solidFill>
              <a:srgbClr val="f93621">
                <a:alpha val="50000"/>
              </a:srgbClr>
            </a:solidFill>
            <a:ln w="4680">
              <a:solidFill>
                <a:srgbClr val="dc89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8" name="_s3081"/>
            <p:cNvSpPr/>
            <p:nvPr/>
          </p:nvSpPr>
          <p:spPr>
            <a:xfrm>
              <a:off x="880920" y="4673520"/>
              <a:ext cx="168588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7027f3"/>
                  </a:solidFill>
                  <a:latin typeface="Arial"/>
                </a:rPr>
                <a:t>ОБЕСПЕЧЕНИЕ ОТРАБОТКИ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7027f3"/>
                  </a:solidFill>
                  <a:latin typeface="Arial"/>
                </a:rPr>
                <a:t>ЯЗЫКОВОГО МАТЕРИАЛА ПУТЕМ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7027f3"/>
                  </a:solidFill>
                  <a:latin typeface="Arial"/>
                </a:rPr>
                <a:t>ЕСТЕСТВЕННОЙ НЕОБХОДИМОСТИ 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7027f3"/>
                  </a:solidFill>
                  <a:latin typeface="Arial"/>
                </a:rPr>
                <a:t>ПОВТОРЕНИЯ В ПРОЦЕССЕ ИГРЫ</a:t>
              </a:r>
              <a:endParaRPr b="0" lang="en-US" sz="14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pic>
        <p:nvPicPr>
          <p:cNvPr id="229" name="Picture 13" descr="вовка"/>
          <p:cNvPicPr/>
          <p:nvPr/>
        </p:nvPicPr>
        <p:blipFill>
          <a:blip r:embed="rId1"/>
          <a:srcRect l="1890" t="0" r="0" b="0"/>
          <a:stretch/>
        </p:blipFill>
        <p:spPr>
          <a:xfrm>
            <a:off x="5638680" y="2438280"/>
            <a:ext cx="1468440" cy="16542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красная шапочка"/>
          <p:cNvPicPr/>
          <p:nvPr/>
        </p:nvPicPr>
        <p:blipFill>
          <a:blip r:embed="rId2"/>
          <a:stretch/>
        </p:blipFill>
        <p:spPr>
          <a:xfrm>
            <a:off x="914400" y="2590920"/>
            <a:ext cx="933480" cy="14284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СПЕЦИФИКА ИГРЫ , КАК ТОЧНО ПОДМЕТИЛ 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М.Н. СКАТКИН В ТОМ , ЧТО «УЧЕБНЫЕ ЗАДАЧИ ВЫСТУПАЮТ ПЕРЕД РЕБЕНКОМ НЕ В ЯВНОМ ВИДЕ , А МАСКИРУЮТСЯ . ИГРАЯ , РЕБЕНОК НЕ СТАВИТ УЧЕБНОЙ ЗАДАЧИ , НО В РЕЗУЛЬТАТЕ ИГРЫ ОН ЧЕМУ-ТО УЧИТСЯ .»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3" name="Picture 5" descr="незнайка маленький"/>
          <p:cNvPicPr/>
          <p:nvPr/>
        </p:nvPicPr>
        <p:blipFill>
          <a:blip r:embed="rId1"/>
          <a:stretch/>
        </p:blipFill>
        <p:spPr>
          <a:xfrm>
            <a:off x="6324480" y="990720"/>
            <a:ext cx="1263600" cy="2062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7d47d"/>
                </a:solidFill>
                <a:latin typeface="Arial"/>
              </a:rPr>
              <a:t>СТАВИТЬ ЦЕЛЬ-ОТДОХНУТЬ , ПЕРЕКЛЮЧИТЬСЯ-НЕТ НЕОБХОДИМОСТИ . В ПРОЦЕССЕ ИГРЫ ЕСТЬ ВОЗМОЖНОСТЬ ЗАСТАВИТЬ УЧЕНИКА ТВОРИТЬ , ДОБИТЬСЯ СВОЕГО , ПУСТЬ НЕБОЛЬШОГО УСПЕХА , ОЩУТИТЬ РАДОСТЬ , ПОЛУЧИТЬ УДОВОЛЬСТВИЕ ОТ РАБОТЫ . УЧИТЕЛЬ ЯВЛЯЕТСЯ ВДОХНОВИТЕЛЕМ И ОРГАНИЗАТОРОМ ПЕДАГОГИЧЕСКОГО АКТА , НАЗВАНИЕ КОТОРОГО УСПЕХ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.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6" name="Picture 4" descr="MCj03983070000[1]"/>
          <p:cNvPicPr/>
          <p:nvPr/>
        </p:nvPicPr>
        <p:blipFill>
          <a:blip r:embed="rId1"/>
          <a:stretch/>
        </p:blipFill>
        <p:spPr>
          <a:xfrm>
            <a:off x="5867280" y="4267080"/>
            <a:ext cx="1814760" cy="1843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Таким образом , ИГРА-это деятельность (речевая); мотивированность , отсутствие принуждения ;-индивидуализированная деятельность , глубоко личная ;  - обучение в группе и через группу ; - развитие психических функций и способностей ; - «УЧЕНИЕ С УВЛЕЧЕНИЕМ» 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9" name="Picture 4" descr="MPj04394030000[1]"/>
          <p:cNvPicPr/>
          <p:nvPr/>
        </p:nvPicPr>
        <p:blipFill>
          <a:blip r:embed="rId1"/>
          <a:stretch/>
        </p:blipFill>
        <p:spPr>
          <a:xfrm>
            <a:off x="5791320" y="5492880"/>
            <a:ext cx="2044440" cy="1365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68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768" fill="hold"/>
                                        <p:tgtEl>
                                          <p:spTgt spid="2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768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768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lechka</dc:creator>
  <dc:description/>
  <dc:language>en-US</dc:language>
  <cp:lastModifiedBy>User</cp:lastModifiedBy>
  <dcterms:modified xsi:type="dcterms:W3CDTF">2013-04-23T18:11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