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gif" ContentType="image/gif"/>
  <Override PartName="/ppt/media/image8.wmf" ContentType="image/x-wmf"/>
  <Override PartName="/ppt/media/image9.gif" ContentType="image/gif"/>
  <Override PartName="/ppt/media/image7.gif" ContentType="image/gif"/>
  <Override PartName="/ppt/media/image18.wmf" ContentType="image/x-wmf"/>
  <Override PartName="/ppt/media/image11.gif" ContentType="image/gif"/>
  <Override PartName="/ppt/media/image6.gif" ContentType="image/gif"/>
  <Override PartName="/ppt/media/image5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3.wmf" ContentType="image/x-wmf"/>
  <Override PartName="/ppt/media/image22.png" ContentType="image/png"/>
  <Override PartName="/ppt/media/image20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2.png" ContentType="image/png"/>
  <Override PartName="/ppt/media/image14.jpeg" ContentType="image/jpe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F31-0733-4837-9F42-6939BDA1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669-76E9-4423-9EE1-278BF38A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BB7-1342-4453-9690-293ED3CC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6C2-199E-4608-86B9-044B3EB3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9FD5-2E03-473E-A606-2821C803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D6C5-6A21-42C5-90E3-B887BB98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9EA1-3D90-47D8-A030-CD9A938F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5F2C-C223-4ED2-8A56-A42744B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E9E-0ED2-4467-9B23-7850E894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085-FAA9-4360-A23B-8916C62A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A19C-8FE1-4D61-A70C-3566D951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61A-F462-4AD3-B684-122DEF00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D477-272B-4020-AD3E-08A9CC48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0674-5086-4F6D-9B25-05DC55B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3EB9-591E-415F-8059-ED460D93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286B-B051-4FC3-897E-A6CA798F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A79E-BB53-490B-B97C-EAC6109E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EFA-9DF2-443F-9473-B3BC733D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74A-D50F-43F3-8CBE-1A3D814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40A-8DC6-4C22-9B09-007459C3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EED-9882-4EF2-AD32-04269336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0B7-26DA-436A-9224-BD5480D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90F-8157-4316-B72A-8DBFCC5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98A-E048-4264-A0A5-EB13D8D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707-3D4D-4FC5-A41D-4D7467781E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D5AF-BB6F-4296-90B0-8B255046D34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c214"/>
                </a:solidFill>
                <a:latin typeface="Arial"/>
              </a:rPr>
              <a:t>«Игры на занятиях по английскому языку-как средство развития адекватной мотивации и формирования ситуации успех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кошка аним"/>
          <p:cNvPicPr/>
          <p:nvPr/>
        </p:nvPicPr>
        <p:blipFill>
          <a:blip r:embed="rId1"/>
          <a:stretch/>
        </p:blipFill>
        <p:spPr>
          <a:xfrm>
            <a:off x="6589800" y="138240"/>
            <a:ext cx="1066680" cy="10951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564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Автор: О.А. Булатошкина, учитель иностранного язык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КОУ ВСОШ № 2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ервой квалификационной категор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6" descr="аним комп"/>
          <p:cNvPicPr/>
          <p:nvPr/>
        </p:nvPicPr>
        <p:blipFill>
          <a:blip r:embed="rId2"/>
          <a:stretch/>
        </p:blipFill>
        <p:spPr>
          <a:xfrm>
            <a:off x="228600" y="304920"/>
            <a:ext cx="1333440" cy="76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41" name="Diagram 5"/>
          <p:cNvGrpSpPr/>
          <p:nvPr/>
        </p:nvGrpSpPr>
        <p:grpSpPr>
          <a:xfrm>
            <a:off x="2004840" y="1676160"/>
            <a:ext cx="3905280" cy="4341960"/>
            <a:chOff x="2004840" y="1676160"/>
            <a:chExt cx="3905280" cy="4341960"/>
          </a:xfrm>
        </p:grpSpPr>
        <p:sp>
          <p:nvSpPr>
            <p:cNvPr id="242" name="_s4100"/>
            <p:cNvSpPr/>
            <p:nvPr/>
          </p:nvSpPr>
          <p:spPr>
            <a:xfrm flipH="1" flipV="1">
              <a:off x="3017520" y="3303360"/>
              <a:ext cx="470160" cy="27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_s4101"/>
            <p:cNvSpPr/>
            <p:nvPr/>
          </p:nvSpPr>
          <p:spPr>
            <a:xfrm>
              <a:off x="2004840" y="2489040"/>
              <a:ext cx="1085760" cy="1085760"/>
            </a:xfrm>
            <a:prstGeom prst="ellipse">
              <a:avLst/>
            </a:prstGeom>
            <a:solidFill>
              <a:srgbClr val="f9362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ЕЧЕВЫХ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УМЕНИЙ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_s4102"/>
            <p:cNvSpPr/>
            <p:nvPr/>
          </p:nvSpPr>
          <p:spPr>
            <a:xfrm flipH="1">
              <a:off x="3017520" y="4117680"/>
              <a:ext cx="470160" cy="271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_s4103"/>
            <p:cNvSpPr/>
            <p:nvPr/>
          </p:nvSpPr>
          <p:spPr>
            <a:xfrm>
              <a:off x="2004840" y="4117680"/>
              <a:ext cx="1085760" cy="1086120"/>
            </a:xfrm>
            <a:prstGeom prst="ellipse">
              <a:avLst/>
            </a:prstGeom>
            <a:solidFill>
              <a:srgbClr val="ef49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ОБУЧЕНИЕ </a:t>
              </a:r>
              <a:br>
                <a:rPr sz="1000"/>
              </a:b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УМЕНИЮ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ОБЩАТЬСЯ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_s4104"/>
            <p:cNvSpPr/>
            <p:nvPr/>
          </p:nvSpPr>
          <p:spPr>
            <a:xfrm>
              <a:off x="3957480" y="4389480"/>
              <a:ext cx="0" cy="5428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_s4105"/>
            <p:cNvSpPr/>
            <p:nvPr/>
          </p:nvSpPr>
          <p:spPr>
            <a:xfrm>
              <a:off x="3414600" y="4932360"/>
              <a:ext cx="1085760" cy="1085760"/>
            </a:xfrm>
            <a:prstGeom prst="ellipse">
              <a:avLst/>
            </a:prstGeom>
            <a:solidFill>
              <a:srgbClr val="eeee1a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еобходимых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пособностей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 пс.функций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_s4106"/>
            <p:cNvSpPr/>
            <p:nvPr/>
          </p:nvSpPr>
          <p:spPr>
            <a:xfrm>
              <a:off x="4427280" y="4117680"/>
              <a:ext cx="470160" cy="271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9" name="_s4107"/>
            <p:cNvSpPr/>
            <p:nvPr/>
          </p:nvSpPr>
          <p:spPr>
            <a:xfrm>
              <a:off x="4824360" y="4117680"/>
              <a:ext cx="1085760" cy="1086120"/>
            </a:xfrm>
            <a:prstGeom prst="ellipse">
              <a:avLst/>
            </a:prstGeom>
            <a:solidFill>
              <a:srgbClr val="d220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ПОЗНАНИЕ 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(СФЕРА 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ЯЗЫКА)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_s4108"/>
            <p:cNvSpPr/>
            <p:nvPr/>
          </p:nvSpPr>
          <p:spPr>
            <a:xfrm flipV="1">
              <a:off x="4427280" y="3305160"/>
              <a:ext cx="470160" cy="27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_s4109"/>
            <p:cNvSpPr/>
            <p:nvPr/>
          </p:nvSpPr>
          <p:spPr>
            <a:xfrm>
              <a:off x="4824360" y="2490840"/>
              <a:ext cx="1085760" cy="1085760"/>
            </a:xfrm>
            <a:prstGeom prst="ellipse">
              <a:avLst/>
            </a:prstGeom>
            <a:solidFill>
              <a:srgbClr val="d4223b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ЗАПОМИ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Н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ечевого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атериала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_s4110"/>
            <p:cNvSpPr/>
            <p:nvPr/>
          </p:nvSpPr>
          <p:spPr>
            <a:xfrm flipV="1">
              <a:off x="3957480" y="2762280"/>
              <a:ext cx="0" cy="5428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_s4111"/>
            <p:cNvSpPr/>
            <p:nvPr/>
          </p:nvSpPr>
          <p:spPr>
            <a:xfrm>
              <a:off x="3414600" y="1676160"/>
              <a:ext cx="1085760" cy="1086120"/>
            </a:xfrm>
            <a:prstGeom prst="ellipse">
              <a:avLst/>
            </a:prstGeom>
            <a:solidFill>
              <a:srgbClr val="62e6f4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ФОРМИ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ОВАН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ВЫ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В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_s4112"/>
            <p:cNvSpPr/>
            <p:nvPr/>
          </p:nvSpPr>
          <p:spPr>
            <a:xfrm>
              <a:off x="3414600" y="3305160"/>
              <a:ext cx="1085760" cy="1085760"/>
            </a:xfrm>
            <a:prstGeom prst="ellipse">
              <a:avLst/>
            </a:prstGeom>
            <a:solidFill>
              <a:srgbClr val="62b80c"/>
            </a:solidFill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7027f3"/>
                  </a:solidFill>
                  <a:latin typeface="Arial"/>
                </a:rPr>
                <a:t>ЦЕЛИ ИСПОЛЬЗОВАНИЯ ИГР НА УРОК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55" name="Picture 21" descr="MCj0428425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905120" cy="168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" descr="MCj04282690000[1]"/>
          <p:cNvPicPr/>
          <p:nvPr/>
        </p:nvPicPr>
        <p:blipFill>
          <a:blip r:embed="rId2"/>
          <a:stretch/>
        </p:blipFill>
        <p:spPr>
          <a:xfrm>
            <a:off x="5932440" y="166680"/>
            <a:ext cx="18414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ходя из целей , имеется несколько групп игр , развивающих интеллект , познавательную активность школьников , мотивацию к изучению английского языка ребенком 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4" descr="MPj04308400000[1]"/>
          <p:cNvPicPr/>
          <p:nvPr/>
        </p:nvPicPr>
        <p:blipFill>
          <a:blip r:embed="rId1"/>
          <a:stretch/>
        </p:blipFill>
        <p:spPr>
          <a:xfrm>
            <a:off x="4495680" y="4191120"/>
            <a:ext cx="3090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61" name="Diagram 17"/>
          <p:cNvGrpSpPr/>
          <p:nvPr/>
        </p:nvGrpSpPr>
        <p:grpSpPr>
          <a:xfrm>
            <a:off x="1785960" y="1676160"/>
            <a:ext cx="4343400" cy="4343040"/>
            <a:chOff x="1785960" y="1676160"/>
            <a:chExt cx="4343400" cy="4343040"/>
          </a:xfrm>
        </p:grpSpPr>
        <p:sp>
          <p:nvSpPr>
            <p:cNvPr id="262" name="_s5124"/>
            <p:cNvSpPr/>
            <p:nvPr/>
          </p:nvSpPr>
          <p:spPr>
            <a:xfrm flipH="1">
              <a:off x="2871720" y="3848040"/>
              <a:ext cx="54288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_s5125"/>
            <p:cNvSpPr/>
            <p:nvPr/>
          </p:nvSpPr>
          <p:spPr>
            <a:xfrm>
              <a:off x="1785960" y="3305160"/>
              <a:ext cx="1085760" cy="1085400"/>
            </a:xfrm>
            <a:prstGeom prst="ellipse">
              <a:avLst/>
            </a:prstGeom>
            <a:solidFill>
              <a:srgbClr val="eeee1a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ЛЕКСИ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ЧЕСК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_s5126"/>
            <p:cNvSpPr/>
            <p:nvPr/>
          </p:nvSpPr>
          <p:spPr>
            <a:xfrm>
              <a:off x="3957480" y="4390920"/>
              <a:ext cx="0" cy="54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_s5127"/>
            <p:cNvSpPr/>
            <p:nvPr/>
          </p:nvSpPr>
          <p:spPr>
            <a:xfrm>
              <a:off x="3414600" y="4933800"/>
              <a:ext cx="1085760" cy="1085400"/>
            </a:xfrm>
            <a:prstGeom prst="ellipse">
              <a:avLst/>
            </a:prstGeom>
            <a:solidFill>
              <a:srgbClr val="62e6f4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ОРФОГРА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ФИЧЕСК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_s5128"/>
            <p:cNvSpPr/>
            <p:nvPr/>
          </p:nvSpPr>
          <p:spPr>
            <a:xfrm>
              <a:off x="4500360" y="3848040"/>
              <a:ext cx="54288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_s5129"/>
            <p:cNvSpPr/>
            <p:nvPr/>
          </p:nvSpPr>
          <p:spPr>
            <a:xfrm>
              <a:off x="5043240" y="3305160"/>
              <a:ext cx="1086120" cy="1085400"/>
            </a:xfrm>
            <a:prstGeom prst="ellipse">
              <a:avLst/>
            </a:prstGeom>
            <a:solidFill>
              <a:srgbClr val="10c214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ФОНЕТИ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ЧЕСК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_s5130"/>
            <p:cNvSpPr/>
            <p:nvPr/>
          </p:nvSpPr>
          <p:spPr>
            <a:xfrm flipV="1">
              <a:off x="3957480" y="2761920"/>
              <a:ext cx="0" cy="54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_s5131"/>
            <p:cNvSpPr/>
            <p:nvPr/>
          </p:nvSpPr>
          <p:spPr>
            <a:xfrm>
              <a:off x="3414600" y="1676160"/>
              <a:ext cx="1085760" cy="1085760"/>
            </a:xfrm>
            <a:prstGeom prst="ellipse">
              <a:avLst/>
            </a:prstGeom>
            <a:solidFill>
              <a:srgbClr val="d4223b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ГРАММА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ТИЧЕСК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_s5132"/>
            <p:cNvSpPr/>
            <p:nvPr/>
          </p:nvSpPr>
          <p:spPr>
            <a:xfrm>
              <a:off x="3414600" y="3305160"/>
              <a:ext cx="1085760" cy="1085400"/>
            </a:xfrm>
            <a:prstGeom prst="ellipse">
              <a:avLst/>
            </a:prstGeom>
            <a:solidFill>
              <a:srgbClr val="ef4907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СНОВНЫ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ПЫ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ГР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71" name="Picture 28" descr="MCj04318930000[1]"/>
          <p:cNvPicPr/>
          <p:nvPr/>
        </p:nvPicPr>
        <p:blipFill>
          <a:blip r:embed="rId1"/>
          <a:stretch/>
        </p:blipFill>
        <p:spPr>
          <a:xfrm>
            <a:off x="5715000" y="5029200"/>
            <a:ext cx="1841400" cy="1682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9" descr="MCj04339250000[1]"/>
          <p:cNvPicPr/>
          <p:nvPr/>
        </p:nvPicPr>
        <p:blipFill>
          <a:blip r:embed="rId2"/>
          <a:stretch/>
        </p:blipFill>
        <p:spPr>
          <a:xfrm>
            <a:off x="457200" y="228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, введенная в учебный  процесс на уроках английского языка , в качестве одного из приемов обучения , должна быть интересной , несложной , целенаправленной и оживленной , способствовать усвоению нового материала и закреплению изученного 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4" descr="MCBD06809_0000[1]"/>
          <p:cNvPicPr/>
          <p:nvPr/>
        </p:nvPicPr>
        <p:blipFill>
          <a:blip r:embed="rId1"/>
          <a:stretch/>
        </p:blipFill>
        <p:spPr>
          <a:xfrm>
            <a:off x="6248520" y="5037120"/>
            <a:ext cx="1458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 важно приучать детей разграничивать ИГРУ и УЧЕБНОЕ ЗАНЯТИЕ .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зависимости от условий , целей и задач урока игра должна чередоваться с другими видами работы . Таким образом , игра- как средство , гарантирующее позитивное эмоциональное состояние повышает трудоспособность и заинтересованность учени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8" name="Picture 10" descr="аним заяц"/>
          <p:cNvPicPr/>
          <p:nvPr/>
        </p:nvPicPr>
        <p:blipFill>
          <a:blip r:embed="rId2"/>
          <a:stretch/>
        </p:blipFill>
        <p:spPr>
          <a:xfrm>
            <a:off x="7010280" y="5791320"/>
            <a:ext cx="662040" cy="896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и преподавателей , в отличии от монотонного выполнения определенных заданий . 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       В целом , на всех этапах развития личности , ИГРА воспринимается как интересное , яркое , необходимое занятие , сопровождающееся приятным микроклиматом в группе , положительной атмосферой успешных моментов участия в ней , так как учитывается личностный потенциал учеников ,  что повышает мотивацию к изучению английского языка 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6" descr="MCj04240940000[1]"/>
          <p:cNvPicPr/>
          <p:nvPr/>
        </p:nvPicPr>
        <p:blipFill>
          <a:blip r:embed="rId1"/>
          <a:stretch/>
        </p:blipFill>
        <p:spPr>
          <a:xfrm>
            <a:off x="6858000" y="5715000"/>
            <a:ext cx="977760" cy="977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В связи с этим , можно согласиться с мнением С.Т. Шацкого , который утверждал «ИГРА-это жизненная лаборатория детства , которая дает тот аромат , ту атмосферу молодой жизни , без которой эта пора была бы бесполезна для человечества . В ИГРЕ-этой специальной обработке жизненного материала есть наиболее ценное ядро разумной школы детства.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282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4" name="Picture 4" descr="MCj04379900000[1]"/>
          <p:cNvPicPr/>
          <p:nvPr/>
        </p:nvPicPr>
        <p:blipFill>
          <a:blip r:embed="rId1"/>
          <a:stretch/>
        </p:blipFill>
        <p:spPr>
          <a:xfrm>
            <a:off x="5943600" y="4952880"/>
            <a:ext cx="1816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НИМАНИЕ !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7" name="Picture 4" descr="MCj04382530000[1]"/>
          <p:cNvPicPr/>
          <p:nvPr/>
        </p:nvPicPr>
        <p:blipFill>
          <a:blip r:embed="rId1"/>
          <a:stretch/>
        </p:blipFill>
        <p:spPr>
          <a:xfrm>
            <a:off x="3276720" y="4267080"/>
            <a:ext cx="1720800" cy="179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4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.С. МАКАРЕНКО: «ИГРА ИМЕЕТ ВАЖНОЕ ЗНАЧЕНИЕ В ЖИЗНИ РЕБЕНКА , ИМЕЕТ ТО ЖЕ ЗНАЧЕНИЕ , КАКОЕ У ВЗРОСЛОГО ИМЕЕТ ДЕЯТЕЛЬНОСТЬ , РАБОТА , СЛУЖБА .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5" descr="MCj04381650000[1]"/>
          <p:cNvPicPr/>
          <p:nvPr/>
        </p:nvPicPr>
        <p:blipFill>
          <a:blip r:embed="rId1"/>
          <a:stretch/>
        </p:blipFill>
        <p:spPr>
          <a:xfrm>
            <a:off x="5695920" y="4933800"/>
            <a:ext cx="1882800" cy="114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2895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НА УРОКЕ – ПРИЕМ ЗАКРЕПЛЕНИЯ ЗНАНИЙ , СПОСОБ ТРЕНИРОВКИ . У ИГРЫ ВСЕГДА ЕСТЬ МОТИВ ( ПОБУЖДАЮЩАЯ ПРИЧИНА ) , КОТОРЫЙ ПРЕСЛЕДУЕТ ОПРЕДЕЛЕННУЮ ЦЕЛЬ , ИМЕЕТ КОНКРЕТНОЕ , ПОНЯТНОЕ РЕБЕНКУ СОДЕРЖАНИЕ И ИСПОЛНИТЕЛЬНУЮ ЧАСТЬ – ИГРОВЫЕ ДЕЙСТВИЯ 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37339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5" descr="MMj02867800000[1]"/>
          <p:cNvPicPr/>
          <p:nvPr/>
        </p:nvPicPr>
        <p:blipFill>
          <a:blip r:embed="rId1"/>
          <a:stretch/>
        </p:blipFill>
        <p:spPr>
          <a:xfrm>
            <a:off x="6854760" y="5827680"/>
            <a:ext cx="876240" cy="86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.Б. ЭЛЬКОНИН НАЗЫВАЕТ ИГРУ «АРИФМЕТИКОЙ СОЦИАЛЬНЫХ ОТНОШЕНИЙ» 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2" name="Diagram 5"/>
          <p:cNvGrpSpPr/>
          <p:nvPr/>
        </p:nvGrpSpPr>
        <p:grpSpPr>
          <a:xfrm>
            <a:off x="1425960" y="2516040"/>
            <a:ext cx="4843440" cy="4196520"/>
            <a:chOff x="1425960" y="2516040"/>
            <a:chExt cx="4843440" cy="4196520"/>
          </a:xfrm>
        </p:grpSpPr>
        <p:sp>
          <p:nvSpPr>
            <p:cNvPr id="203" name="_s1028"/>
            <p:cNvSpPr/>
            <p:nvPr/>
          </p:nvSpPr>
          <p:spPr>
            <a:xfrm>
              <a:off x="2369880" y="2516040"/>
              <a:ext cx="2954160" cy="2954520"/>
            </a:xfrm>
            <a:custGeom>
              <a:avLst/>
              <a:gdLst>
                <a:gd name="textAreaLeft" fmla="*/ 0 w 2954160"/>
                <a:gd name="textAreaRight" fmla="*/ 2954520 w 2954160"/>
                <a:gd name="textAreaTop" fmla="*/ 0 h 2954520"/>
                <a:gd name="textAreaBottom" fmla="*/ 2954880 h 295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1029"/>
            <p:cNvSpPr/>
            <p:nvPr/>
          </p:nvSpPr>
          <p:spPr>
            <a:xfrm rot="7200000">
              <a:off x="2774160" y="3214440"/>
              <a:ext cx="2954160" cy="2954520"/>
            </a:xfrm>
            <a:custGeom>
              <a:avLst/>
              <a:gdLst>
                <a:gd name="textAreaLeft" fmla="*/ 0 w 2954160"/>
                <a:gd name="textAreaRight" fmla="*/ 2954520 w 2954160"/>
                <a:gd name="textAreaTop" fmla="*/ 0 h 2954520"/>
                <a:gd name="textAreaBottom" fmla="*/ 2954880 h 295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 rot="14400000">
              <a:off x="1966320" y="3217320"/>
              <a:ext cx="2954520" cy="2954160"/>
            </a:xfrm>
            <a:custGeom>
              <a:avLst/>
              <a:gdLst>
                <a:gd name="textAreaLeft" fmla="*/ 0 w 2954520"/>
                <a:gd name="textAreaRight" fmla="*/ 2954880 w 2954520"/>
                <a:gd name="textAreaTop" fmla="*/ 0 h 2954160"/>
                <a:gd name="textAreaBottom" fmla="*/ 29545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_s1031"/>
            <p:cNvSpPr/>
            <p:nvPr/>
          </p:nvSpPr>
          <p:spPr>
            <a:xfrm>
              <a:off x="4655880" y="305748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Arial"/>
                </a:rPr>
                <a:t>ЖЕЛАНИЕ ВЫСКАЗАТЬС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>
              <a:off x="3254040" y="548496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Arial"/>
                </a:rPr>
                <a:t>ОБЩЕНИЕ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_s1033"/>
            <p:cNvSpPr/>
            <p:nvPr/>
          </p:nvSpPr>
          <p:spPr>
            <a:xfrm>
              <a:off x="1852200" y="305748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Arial"/>
                </a:rPr>
                <a:t>ИГР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09" name="Picture 19" descr="кролик аним"/>
          <p:cNvPicPr/>
          <p:nvPr/>
        </p:nvPicPr>
        <p:blipFill>
          <a:blip r:embed="rId1"/>
          <a:stretch/>
        </p:blipFill>
        <p:spPr>
          <a:xfrm>
            <a:off x="2895480" y="388620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schnauzer_34"/>
          <p:cNvPicPr/>
          <p:nvPr/>
        </p:nvPicPr>
        <p:blipFill>
          <a:blip r:embed="rId2"/>
          <a:stretch/>
        </p:blipFill>
        <p:spPr>
          <a:xfrm>
            <a:off x="4191120" y="4343400"/>
            <a:ext cx="5713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ТАК ,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2" name="Organization Chart 5"/>
          <p:cNvGrpSpPr/>
          <p:nvPr/>
        </p:nvGrpSpPr>
        <p:grpSpPr>
          <a:xfrm>
            <a:off x="263520" y="1598760"/>
            <a:ext cx="7386120" cy="4495680"/>
            <a:chOff x="263520" y="1598760"/>
            <a:chExt cx="7386120" cy="4495680"/>
          </a:xfrm>
        </p:grpSpPr>
        <p:cxnSp>
          <p:nvCxnSpPr>
            <p:cNvPr id="213" name="_s205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798800" y="2553120"/>
              <a:ext cx="899640" cy="2585880"/>
            </a:xfrm>
            <a:prstGeom prst="bentConnector3">
              <a:avLst>
                <a:gd name="adj1" fmla="val 20776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6" name="_s2053"/>
            <p:cNvCxnSpPr>
              <a:stCxn id="217" idx="0"/>
              <a:endCxn id="215" idx="2"/>
            </p:cNvCxnSpPr>
            <p:nvPr/>
          </p:nvCxnSpPr>
          <p:spPr>
            <a:xfrm flipV="1">
              <a:off x="3956400" y="3396240"/>
              <a:ext cx="2880" cy="8996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8" name="_s2054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215440" y="2554560"/>
              <a:ext cx="899640" cy="2583360"/>
            </a:xfrm>
            <a:prstGeom prst="bentConnector3">
              <a:avLst>
                <a:gd name="adj1" fmla="val 20776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15" name="_s2055"/>
            <p:cNvSpPr/>
            <p:nvPr/>
          </p:nvSpPr>
          <p:spPr>
            <a:xfrm>
              <a:off x="2848680" y="1598760"/>
              <a:ext cx="2215800" cy="1798200"/>
            </a:xfrm>
            <a:prstGeom prst="roundRect">
              <a:avLst>
                <a:gd name="adj" fmla="val 16667"/>
              </a:avLst>
            </a:prstGeom>
            <a:solidFill>
              <a:srgbClr val="e86ed7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1311"/>
                  </a:solidFill>
                  <a:latin typeface="Arial"/>
                </a:rPr>
                <a:t>ИГРА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2056"/>
            <p:cNvSpPr/>
            <p:nvPr/>
          </p:nvSpPr>
          <p:spPr>
            <a:xfrm>
              <a:off x="263520" y="4296240"/>
              <a:ext cx="2215800" cy="1798200"/>
            </a:xfrm>
            <a:prstGeom prst="roundRect">
              <a:avLst>
                <a:gd name="adj" fmla="val 16667"/>
              </a:avLst>
            </a:prstGeom>
            <a:solidFill>
              <a:srgbClr val="d21f0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ТРАДИЦИИ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2057"/>
            <p:cNvSpPr/>
            <p:nvPr/>
          </p:nvSpPr>
          <p:spPr>
            <a:xfrm>
              <a:off x="2848680" y="4296240"/>
              <a:ext cx="2215800" cy="1798200"/>
            </a:xfrm>
            <a:prstGeom prst="roundRect">
              <a:avLst>
                <a:gd name="adj" fmla="val 16667"/>
              </a:avLst>
            </a:prstGeom>
            <a:solidFill>
              <a:srgbClr val="62e6f4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НОРМЫ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2058"/>
            <p:cNvSpPr/>
            <p:nvPr/>
          </p:nvSpPr>
          <p:spPr>
            <a:xfrm>
              <a:off x="5433840" y="4296240"/>
              <a:ext cx="2215800" cy="1798200"/>
            </a:xfrm>
            <a:prstGeom prst="roundRect">
              <a:avLst>
                <a:gd name="adj" fmla="val 16667"/>
              </a:avLst>
            </a:prstGeom>
            <a:solidFill>
              <a:srgbClr val="87e57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ТРЕНИНГОВАЯ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ОСНОВА РАЗВИ-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ТИЯ РЕБЕНКА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20" name="Picture 16" descr="простоквашино"/>
          <p:cNvPicPr/>
          <p:nvPr/>
        </p:nvPicPr>
        <p:blipFill>
          <a:blip r:embed="rId1"/>
          <a:stretch/>
        </p:blipFill>
        <p:spPr>
          <a:xfrm>
            <a:off x="3505320" y="2666880"/>
            <a:ext cx="944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Ы СПОСОБСТВУЮТ ВЫПОЛНЕНИЮ ВАЖНЫХ МЕТОДИЧЕСКИХ ЗАДАЧ :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22" name="Diagram 5"/>
          <p:cNvGrpSpPr/>
          <p:nvPr/>
        </p:nvGrpSpPr>
        <p:grpSpPr>
          <a:xfrm>
            <a:off x="880920" y="1774800"/>
            <a:ext cx="6232680" cy="3319560"/>
            <a:chOff x="880920" y="1774800"/>
            <a:chExt cx="6232680" cy="3319560"/>
          </a:xfrm>
        </p:grpSpPr>
        <p:sp>
          <p:nvSpPr>
            <p:cNvPr id="223" name="_s3076"/>
            <p:cNvSpPr/>
            <p:nvPr/>
          </p:nvSpPr>
          <p:spPr>
            <a:xfrm>
              <a:off x="3154320" y="2363760"/>
              <a:ext cx="1685880" cy="1685880"/>
            </a:xfrm>
            <a:prstGeom prst="ellipse">
              <a:avLst/>
            </a:prstGeom>
            <a:solidFill>
              <a:srgbClr val="62b80c">
                <a:alpha val="50000"/>
              </a:srgbClr>
            </a:solidFill>
            <a:ln w="468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3077"/>
            <p:cNvSpPr/>
            <p:nvPr/>
          </p:nvSpPr>
          <p:spPr>
            <a:xfrm>
              <a:off x="3154320" y="17748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73e02"/>
                  </a:solidFill>
                  <a:latin typeface="Arial"/>
                </a:rPr>
                <a:t>СОЗДАНИЕ ПСИХОЛОГИЧЕСКОЙ ГОТОВНОСТИ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73e02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173e02"/>
                  </a:solidFill>
                  <a:latin typeface="Arial"/>
                </a:rPr>
                <a:t>ДЕТЕЙ К РЕЧЕВОМУ ОБЩЕНИЮ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3078"/>
            <p:cNvSpPr/>
            <p:nvPr/>
          </p:nvSpPr>
          <p:spPr>
            <a:xfrm>
              <a:off x="3708360" y="3326040"/>
              <a:ext cx="1685880" cy="1685880"/>
            </a:xfrm>
            <a:prstGeom prst="ellipse">
              <a:avLst/>
            </a:prstGeom>
            <a:solidFill>
              <a:srgbClr val="fc48d5">
                <a:alpha val="50000"/>
              </a:srgbClr>
            </a:solidFill>
            <a:ln w="4680">
              <a:solidFill>
                <a:srgbClr val="f0b8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_s3079"/>
            <p:cNvSpPr/>
            <p:nvPr/>
          </p:nvSpPr>
          <p:spPr>
            <a:xfrm>
              <a:off x="5427720" y="46735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ТРЕНИРОВКА В ВЫБОРЕ НУЖНОГО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РЕЧЕВОГО ВАРИАНТА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(ПОДГОТОВКА К СПОНТАН-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НОСТИ РЕЧИ )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_s3080"/>
            <p:cNvSpPr/>
            <p:nvPr/>
          </p:nvSpPr>
          <p:spPr>
            <a:xfrm>
              <a:off x="2598840" y="3324240"/>
              <a:ext cx="1685880" cy="1685880"/>
            </a:xfrm>
            <a:prstGeom prst="ellipse">
              <a:avLst/>
            </a:prstGeom>
            <a:solidFill>
              <a:srgbClr val="f93621">
                <a:alpha val="50000"/>
              </a:srgbClr>
            </a:solidFill>
            <a:ln w="4680">
              <a:solidFill>
                <a:srgbClr val="dc89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_s3081"/>
            <p:cNvSpPr/>
            <p:nvPr/>
          </p:nvSpPr>
          <p:spPr>
            <a:xfrm>
              <a:off x="880920" y="46735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027f3"/>
                  </a:solidFill>
                  <a:latin typeface="Arial"/>
                </a:rPr>
                <a:t>ОБЕСПЕЧЕНИЕ ОТРАБОТКИ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027f3"/>
                  </a:solidFill>
                  <a:latin typeface="Arial"/>
                </a:rPr>
                <a:t>ЯЗЫКОВОГО МАТЕРИАЛА ПУТЕ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027f3"/>
                  </a:solidFill>
                  <a:latin typeface="Arial"/>
                </a:rPr>
                <a:t>ЕСТЕСТВЕННОЙ НЕОБХОДИМОСТИ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027f3"/>
                  </a:solidFill>
                  <a:latin typeface="Arial"/>
                </a:rPr>
                <a:t>ПОВТОРЕНИЯ В ПРОЦЕССЕ ИГРЫ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29" name="Picture 13" descr="вовка"/>
          <p:cNvPicPr/>
          <p:nvPr/>
        </p:nvPicPr>
        <p:blipFill>
          <a:blip r:embed="rId1"/>
          <a:srcRect l="1890" t="0" r="0" b="0"/>
          <a:stretch/>
        </p:blipFill>
        <p:spPr>
          <a:xfrm>
            <a:off x="5638680" y="2438280"/>
            <a:ext cx="1468440" cy="1654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красная шапочка"/>
          <p:cNvPicPr/>
          <p:nvPr/>
        </p:nvPicPr>
        <p:blipFill>
          <a:blip r:embed="rId2"/>
          <a:stretch/>
        </p:blipFill>
        <p:spPr>
          <a:xfrm>
            <a:off x="914400" y="2590920"/>
            <a:ext cx="933480" cy="1428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ПЕЦИФИКА ИГРЫ , КАК ТОЧНО ПОДМЕТИЛ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.Н. СКАТКИН В ТОМ , ЧТО «УЧЕБНЫЕ ЗАДАЧИ ВЫСТУПАЮТ ПЕРЕД РЕБЕНКОМ НЕ В ЯВНОМ ВИДЕ , А МАСКИРУЮТСЯ . ИГРАЯ , РЕБЕНОК НЕ СТАВИТ УЧЕБНОЙ ЗАДАЧИ , НО В РЕЗУЛЬТАТЕ ИГРЫ ОН ЧЕМУ-ТО УЧИТСЯ .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Picture 5" descr="незнайка маленький"/>
          <p:cNvPicPr/>
          <p:nvPr/>
        </p:nvPicPr>
        <p:blipFill>
          <a:blip r:embed="rId1"/>
          <a:stretch/>
        </p:blipFill>
        <p:spPr>
          <a:xfrm>
            <a:off x="6324480" y="990720"/>
            <a:ext cx="1263600" cy="206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СТАВИТЬ ЦЕЛЬ-ОТДОХНУТЬ , ПЕРЕКЛЮЧИТЬСЯ-НЕТ НЕОБХОДИМОСТИ . В ПРОЦЕССЕ ИГРЫ ЕСТЬ ВОЗМОЖНОСТЬ ЗАСТАВИТЬ УЧЕНИКА ТВОРИТЬ , ДОБИТЬСЯ СВОЕГО , ПУСТЬ НЕБОЛЬШОГО УСПЕХА , ОЩУТИТЬ РАДОСТЬ , ПОЛУЧИТЬ УДОВОЛЬСТВИЕ ОТ РАБОТЫ . УЧИТЕЛЬ ЯВЛЯЕТСЯ ВДОХНОВИТЕЛЕМ И ОРГАНИЗАТОРОМ ПЕДАГОГИЧЕСКОГО АКТА , НАЗВАНИЕ КОТОРОГО УСПЕХ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4" descr="MCj03983070000[1]"/>
          <p:cNvPicPr/>
          <p:nvPr/>
        </p:nvPicPr>
        <p:blipFill>
          <a:blip r:embed="rId1"/>
          <a:stretch/>
        </p:blipFill>
        <p:spPr>
          <a:xfrm>
            <a:off x="5867280" y="4267080"/>
            <a:ext cx="1814760" cy="18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аким образом , ИГРА-это деятельность (речевая); мотивированность , отсутствие принуждения ;-индивидуализированная деятельность , глубоко личная ;  - обучение в группе и через группу ; - развитие психических функций и способностей ; - «УЧЕНИЕ С УВЛЕЧЕНИЕМ» 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4" descr="MPj04394030000[1]"/>
          <p:cNvPicPr/>
          <p:nvPr/>
        </p:nvPicPr>
        <p:blipFill>
          <a:blip r:embed="rId1"/>
          <a:stretch/>
        </p:blipFill>
        <p:spPr>
          <a:xfrm>
            <a:off x="5791320" y="5492880"/>
            <a:ext cx="2044440" cy="136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echka</dc:creator>
  <dc:description/>
  <dc:language>en-US</dc:language>
  <cp:lastModifiedBy>User</cp:lastModifiedBy>
  <dcterms:modified xsi:type="dcterms:W3CDTF">2013-04-23T18:11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