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38C47-888F-4A07-BF6F-6FC821666F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97DE4-2C21-4E16-B733-E69EA0F2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18A67-0330-47EF-A1DD-54958AF2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61743-987E-41F2-AD58-4C26E364F6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EE3FD-61DB-4547-9E32-662E7EEAC3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0CA5B-368F-44F3-A313-387865D8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85703-7BD3-4535-9CA2-0ECF0BA2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D4A15-9A6B-48AC-B9DF-F16C7983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7DFEF-1EFA-4EB7-A89A-8355F585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4DA38-C51A-4C01-AE4A-19B1247E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792B4-9961-49BF-A518-97CCCBFF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55240-1AE2-4213-9E92-DEFC4F79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9FC0A-AF7E-43E8-A50D-98E0026A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D3E82-E858-4EA4-90AC-39DF84AC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A2047-940A-45F7-99B5-4886F902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FF7D1-EBDB-4358-A4A0-BE3A4269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C2D0F-5AAF-4CAB-A750-51472EBC38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EA1B4-262F-4A83-A668-21AC975A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27362-2A4F-4D82-8905-4356DBF1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695D7-850D-454E-9827-A914637F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5EAB9-7C5F-46B7-BCA3-338DFF60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5CA17-8C12-4E1B-BE47-A06E702D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A3426-8AC5-4001-943F-72062674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1C697-C20C-459B-B246-415B5066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1304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4134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924320" y="6413040"/>
            <a:ext cx="760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FE0B06-B978-4A89-8F8E-7C7100A3A00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0F8AC49-1676-4B34-A95D-2C0CF8E310F4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796000" y="4076640"/>
            <a:ext cx="3154320" cy="2305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69228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СКУ АО  «СРЦ для несовершеннолетних, Енотаевский район, Астраханская област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1341360"/>
            <a:ext cx="813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imes New Roman"/>
              </a:rPr>
              <a:t>Посвящается памяти Владимира Лазарид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4292640"/>
            <a:ext cx="64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готовила : воспитатель Циплякова Е.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19680" y="5805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013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627280" y="10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исьмо из Афг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2205000"/>
            <a:ext cx="698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ма, здравствуй! Сегодня 29 августа. У меня все хорошо.Чувствую себя отлично. Погода теплая. Повсюду дыни. Абрикосы. Арбузы. Получил письмо от Лиды. Пишет, что тебе дают класс… Большой привет тете Нюсе.что у вас новенького? Пишите. Есть ли у вас перемены? Увидете моего товарища Саню Михайлова- привет передавайте. Целую всех 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вет соседям. Волод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92320" y="765000"/>
            <a:ext cx="71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11 декабря 1984года.Афганистан.Провинция Пах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2060640"/>
            <a:ext cx="705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 Штурмовой отряд ,в  котором  была рота лейтенанта Владимира Лазариди. Получил приказ: выдвинуться и занять господствующую  высоту. На которой по разведданным, укрепились душманы. На перевале у аула Алихейль  рота попала в засаду. Ее командир Владимир Лазариди умело организовал оборону и не позволил противнику близко подобраться к ней. В один из моментов боя , почувствовав. Что огонь противника ослаб,поднял роту в атаку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69228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ffff00"/>
                </a:solidFill>
                <a:latin typeface="Times New Roman"/>
              </a:rPr>
              <a:t>15 февраля </a:t>
            </a:r>
            <a:br>
              <a:rPr sz="9600"/>
            </a:br>
            <a:r>
              <a:rPr b="0" lang="ru-RU" sz="9600" spc="-1" strike="noStrike">
                <a:solidFill>
                  <a:srgbClr val="ffff00"/>
                </a:solidFill>
                <a:latin typeface="Times New Roman"/>
              </a:rPr>
              <a:t>  1989 год…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" y="4941720"/>
            <a:ext cx="687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imes New Roman"/>
              </a:rPr>
              <a:t>Мы уходим…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842652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684360" y="0"/>
            <a:ext cx="8240400" cy="1266840"/>
            <a:chOff x="684360" y="0"/>
            <a:chExt cx="8240400" cy="126684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684360" y="0"/>
              <a:ext cx="824040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84360" y="0"/>
              <a:ext cx="82404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Просмотр видеофильма (мини) о Афганской вой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356000" y="1773360"/>
            <a:ext cx="4246560" cy="3538440"/>
            <a:chOff x="4356000" y="1773360"/>
            <a:chExt cx="4246560" cy="353844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4356000" y="1773360"/>
              <a:ext cx="424656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356000" y="1773360"/>
              <a:ext cx="4246560" cy="35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50720" y="171360"/>
            <a:ext cx="8356680" cy="1320840"/>
            <a:chOff x="450720" y="171360"/>
            <a:chExt cx="8356680" cy="132084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450720" y="171360"/>
              <a:ext cx="835668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50720" y="171360"/>
              <a:ext cx="835668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68360" y="1916280"/>
            <a:ext cx="3643200" cy="232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58920" y="1413000"/>
            <a:ext cx="705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За время боевых действий погибли-13833 чел. Каждый год погибало около 1 тысячи пятисот человек. Сегодня эта цифра  составляет -15.105 человек. Пропало без вести и попало в плен 417 военнослужащих, из которых 119 были освобождены,197 возвращены на Родину, а 22  человека  находятся в других странах. Среди погибших-37 астраханцев,ранено-180 чело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33336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Мы вас помним !..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50720" y="49320"/>
            <a:ext cx="8386920" cy="2503440"/>
            <a:chOff x="450720" y="49320"/>
            <a:chExt cx="8386920" cy="250344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450720" y="49320"/>
              <a:ext cx="8386920" cy="25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50720" y="49320"/>
              <a:ext cx="8386920" cy="25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403280" y="2349360"/>
            <a:ext cx="6315120" cy="4237200"/>
            <a:chOff x="1403280" y="2349360"/>
            <a:chExt cx="6315120" cy="4237200"/>
          </a:xfrm>
        </p:grpSpPr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1403280" y="2349360"/>
              <a:ext cx="6315120" cy="423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403280" y="2349360"/>
              <a:ext cx="6315120" cy="42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19280" y="33336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нига памя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10526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Лазариди Владимир Ефим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133720"/>
            <a:ext cx="432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ился 29 октября 1960 года в селе Замьяны  Енотаевского района  Астраханской области. Лейтенант. Командир  мотострелковой  роты. В республике Афганистан  с июля 1984 год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гиб 11 декабря 1984 года. Награжден  орденом  Красной Звезды(посмертно) В селе Енотаевка одна из улиц  названа его имен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20606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4284720" cy="4381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1511280" cy="15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26920" y="620640"/>
            <a:ext cx="705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лодя с детства мечтал стать военным. «Ребячий командир»- называли его односельчане.В юности он продолжал  увлекаться военным делом. Призвали в армию. Прослужил восемь месяцев. За это время  в 1978г. Поступил в Орджоникидзенское  высшее  общекомандное училище. Окончил в 1983г. И сразу в Ашхабад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340000" y="2708280"/>
            <a:ext cx="4608360" cy="32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7229520" cy="59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7991280" cy="599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15:54:04Z</dcterms:created>
  <dc:creator>user</dc:creator>
  <dc:description/>
  <dc:language>en-US</dc:language>
  <cp:lastModifiedBy>user</cp:lastModifiedBy>
  <dcterms:modified xsi:type="dcterms:W3CDTF">2013-04-23T06:27:08Z</dcterms:modified>
  <cp:revision>23</cp:revision>
  <dc:subject/>
  <dc:title>Слайд 1</dc:title>
</cp:coreProperties>
</file>