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C0DB-23C5-4AEE-85A2-0A158CDF2A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8628-E90E-438A-9AD8-FDA2F0E6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4ED4-8EB1-4E2C-8288-E6F5173A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A428-9BDC-4AD3-8B56-7BC1B3792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6F219-15BA-4C45-8C22-E3805018B6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598EC-7C7F-43D4-A00F-9E03B58A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37FEE-1EF9-43DB-A069-84913C1D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333D2-5859-40D8-B32A-ACD1AE5E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0B080-9C01-46D0-8D79-2ED5C750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E4DF6-3D8B-4AB1-8DD0-46D4C279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3605B-BE09-48A1-9225-D725114D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823D-B3F1-474F-8CDA-2CED375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6214C-28FA-45B5-B38F-6338B28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999FA-C778-4ADA-AA76-26A247FC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EFEF4-B537-40B3-8E1E-65273FBC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F1BB7-718D-4151-8C05-83261575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64CEC-AA69-4B63-8591-0F23285B4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408D-432F-4246-864A-BBAF2AAE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EA294-EC8D-4936-82CC-E3C15C4F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714B-AF7F-47E0-B76C-E1A3CAD1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D16E-F753-4EF1-B872-1BB5D95D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CCCA-A056-47A9-AE77-6FE579CC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1771-503E-473F-9D23-56459D4A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D2B1-BE26-41D9-8526-7E49E74D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41304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4134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924320" y="6413040"/>
            <a:ext cx="76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63AAE0-B73A-42D2-91E5-94EB5349B36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C24C30C-0B2C-4A20-A599-4B186F4D6425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3154320" cy="2305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692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СКУ АО  «СРЦ для несовершеннолетних, Енотаевский район, Астраханская област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341360"/>
            <a:ext cx="813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</a:rPr>
              <a:t>Посвящается памяти Владимира Лазарид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429264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ила : воспитатель Циплякова Е.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19680" y="58053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7280" y="1052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исьмо из Афг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220500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ма, здравствуй! Сегодня 29 августа. У меня все хорошо.Чувствую себя отлично. Погода теплая. Повсюду дыни. Абрикосы. Арбузы. Получил письмо от Лиды. Пишет, что тебе дают класс… Большой привет тете Нюсе.что у вас новенького? Пишите. Есть ли у вас перемены? Увидете моего товарища Саню Михайлова- привет передавайте. Целую всех 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вет соседям. Волод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2320" y="765000"/>
            <a:ext cx="71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11 декабря 1984года.Афганистан.Провинция Пах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060640"/>
            <a:ext cx="705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 Штурмовой отряд ,в  котором  была рота лейтенанта Владимира Лазариди. Получил приказ: выдвинуться и занять господствующую  высоту. На которой по разведданным, укрепились душманы. На перевале у аула Алихейль  рота попала в засаду. Ее командир Владимир Лазариди умело организовал оборону и не позволил противнику близко подобраться к ней. В один из моментов боя , почувствовав. Что огонь противника ослаб,поднял роту в атаку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15 февраля </a:t>
            </a:r>
            <a:br>
              <a:rPr sz="9600"/>
            </a:br>
            <a:r>
              <a:rPr b="0" lang="ru-RU" sz="9600" spc="-1" strike="noStrike">
                <a:solidFill>
                  <a:srgbClr val="ffff00"/>
                </a:solidFill>
                <a:latin typeface="Times New Roman"/>
              </a:rPr>
              <a:t>  1989 год…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4941720"/>
            <a:ext cx="687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ff00"/>
                </a:solidFill>
                <a:latin typeface="Times New Roman"/>
              </a:rPr>
              <a:t>Мы уходим…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84265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684360" y="0"/>
            <a:ext cx="8240400" cy="1266840"/>
            <a:chOff x="684360" y="0"/>
            <a:chExt cx="8240400" cy="126684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684360" y="0"/>
              <a:ext cx="82404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4360" y="0"/>
              <a:ext cx="82404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Просмотр видеофильма (мини) о Афганской вой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356000" y="1773360"/>
            <a:ext cx="4246560" cy="3538440"/>
            <a:chOff x="4356000" y="1773360"/>
            <a:chExt cx="4246560" cy="353844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4356000" y="1773360"/>
              <a:ext cx="4246560" cy="35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56000" y="1773360"/>
              <a:ext cx="424656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0720" y="171360"/>
            <a:ext cx="8356680" cy="1320840"/>
            <a:chOff x="450720" y="171360"/>
            <a:chExt cx="8356680" cy="13208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450720" y="171360"/>
              <a:ext cx="835668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0720" y="171360"/>
              <a:ext cx="835668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68360" y="1916280"/>
            <a:ext cx="3643200" cy="23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8920" y="1413000"/>
            <a:ext cx="70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время боевых действий погибли-13833 чел. Каждый год погибало около 1 тысячи пятисот человек. Сегодня эта цифра  составляет -15.105 человек. Пропало без вести и попало в плен 417 военнослужащих, из которых 119 были освобождены,197 возвращены на Родину, а 22  человека  находятся в других странах. Среди погибших-37 астраханцев,ранено-180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3336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ы вас помним !..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0720" y="49320"/>
            <a:ext cx="8386920" cy="2503440"/>
            <a:chOff x="450720" y="49320"/>
            <a:chExt cx="8386920" cy="250344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450720" y="49320"/>
              <a:ext cx="8386920" cy="25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0720" y="49320"/>
              <a:ext cx="8386920" cy="25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03280" y="2349360"/>
            <a:ext cx="6315120" cy="4237200"/>
            <a:chOff x="1403280" y="2349360"/>
            <a:chExt cx="6315120" cy="423720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1403280" y="2349360"/>
              <a:ext cx="6315120" cy="423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403280" y="2349360"/>
              <a:ext cx="6315120" cy="42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19280" y="33336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нига памя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052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Лазариди Владимир Ефим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2133720"/>
            <a:ext cx="43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дился 29 октября 1960 года в селе Замьяны  Енотаевского района  Астраханской области. Лейтенант. Командир  мотострелковой  роты. В республике Афганистан  с июля 1984 год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гиб 11 декабря 1984 года. Награжден  орденом  Красной Звезды(посмертно) В селе Енотаевка одна из улиц  названа его имен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20606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284720" cy="4381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151128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620640"/>
            <a:ext cx="705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лодя с детства мечтал стать военным. «Ребячий командир»- называли его односельчане.В юности он продолжал  увлекаться военным делом. Призвали в армию. Прослужил восемь месяцев. За это время  в 1978г. Поступил в Орджоникидзенское  высшее  общекомандное училище. Окончил в 1983г. И сразу в Ашхабад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40000" y="2708280"/>
            <a:ext cx="460836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72295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5:54:04Z</dcterms:created>
  <dc:creator>user</dc:creator>
  <dc:description/>
  <dc:language>en-US</dc:language>
  <cp:lastModifiedBy>user</cp:lastModifiedBy>
  <dcterms:modified xsi:type="dcterms:W3CDTF">2013-04-23T06:27:08Z</dcterms:modified>
  <cp:revision>23</cp:revision>
  <dc:subject/>
  <dc:title>Слайд 1</dc:title>
</cp:coreProperties>
</file>