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F759-8AE2-4CA8-A427-47C77B1C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701-4D40-4B74-8A1E-9CF1FCA1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B2EC-D57C-45FC-BC67-AFF0361F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8FA-1790-4732-9D51-C235549F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579D-C9D0-4E4F-B456-884079D4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E791-574F-4E39-B13E-D1C7DC42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2A73-997E-40AC-BBCC-CCFBB685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15B7-8F93-47F4-A688-85AA091A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6868-973C-438C-9285-BD59C8D4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E2C1-4DB9-4C63-BC2C-9B1C6791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DC3F-174E-49BE-871E-BBA296E8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21C-9A74-45BA-A6DF-C7C2F896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E979-8A5C-4418-8ED5-027EEE3C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D47A-5F81-46B9-8E8D-C1BDE8CD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D1A6-B67C-4307-9607-99F90F1F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FDA8-3FDD-42BE-B4A2-5B224A09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82AE-026A-4F34-A56F-B0D56548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CAE-4FCD-440E-9E9C-275ED35C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5CD-DE1E-4271-AF75-BD8EA7F6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E523-CBDF-493E-8A3C-65CD1D70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25D-195D-4EEE-A767-8DA5012A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CEC-014B-4051-92ED-C08A2FF0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45C-8822-4C84-9891-69AE2001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F51-8374-48C3-9714-BAB56780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373E-821F-4193-A1FD-37104FBCF4E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6004-28E5-4130-9467-C9533337467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8360" y="1916280"/>
            <a:ext cx="8280360" cy="18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OIR  PARIS-C’EST MOURIR 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f1311"/>
                </a:solidFill>
                <a:latin typeface="Arial"/>
              </a:rPr>
              <a:t>Au 18 siécle, ce palais des rois est devenu le plus grand musée de la France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Picture 4" descr="фото Лувр"/>
          <p:cNvPicPr/>
          <p:nvPr/>
        </p:nvPicPr>
        <p:blipFill>
          <a:blip r:embed="rId2"/>
          <a:stretch/>
        </p:blipFill>
        <p:spPr>
          <a:xfrm>
            <a:off x="1042920" y="1989000"/>
            <a:ext cx="71294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7d47d"/>
                </a:solidFill>
                <a:latin typeface="Arial"/>
              </a:rPr>
              <a:t>C’est un monument célèbre a été construit pour l’exposition universelle sur le projet de l’ingénieur Gustave Eiffel</a:t>
            </a:r>
            <a:r>
              <a:rPr b="0" lang="fr-FR" sz="3600" spc="-1" strike="noStrike">
                <a:solidFill>
                  <a:srgbClr val="f7d47d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4248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7d47d"/>
                </a:solidFill>
                <a:latin typeface="Arial"/>
              </a:rPr>
              <a:t>C’est la plus célèbre cathédrale française, elle est située dans l’île de la Cité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1" name="Picture 4" descr="france_notre_dame_big"/>
          <p:cNvPicPr/>
          <p:nvPr/>
        </p:nvPicPr>
        <p:blipFill>
          <a:blip r:embed="rId1"/>
          <a:stretch/>
        </p:blipFill>
        <p:spPr>
          <a:xfrm>
            <a:off x="755640" y="1413000"/>
            <a:ext cx="7632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7d47d"/>
                </a:solidFill>
                <a:latin typeface="Arial"/>
              </a:rPr>
              <a:t>C’est le fleuve de Paris, trés long, beau, magnifique. Vous pouvez faire du bateau-mouches là-bas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3" name="Picture 4" descr="фото"/>
          <p:cNvPicPr/>
          <p:nvPr/>
        </p:nvPicPr>
        <p:blipFill>
          <a:blip r:embed="rId1"/>
          <a:stretch/>
        </p:blipFill>
        <p:spPr>
          <a:xfrm>
            <a:off x="900000" y="1484280"/>
            <a:ext cx="7344000" cy="4392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556000" y="1700280"/>
            <a:ext cx="11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d47d"/>
                </a:solidFill>
                <a:latin typeface="Arial"/>
              </a:rPr>
              <a:t>La Sein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7d47d"/>
                </a:solidFill>
                <a:latin typeface="Arial"/>
              </a:rPr>
              <a:t>C’est le grand parc de distraction de Mikky-Souris. Vous pouvez jouer avec Mikky et Minnie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5614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7d47d"/>
                </a:solidFill>
                <a:latin typeface="Arial"/>
              </a:rPr>
              <a:t>C’est la plus grande avenue de Paris, où se trouvent des grands cinémas, des restaurants, des banques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7040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1:16:59Z</dcterms:created>
  <dc:creator>Владелец</dc:creator>
  <dc:description/>
  <dc:language>en-US</dc:language>
  <cp:lastModifiedBy>Владелец</cp:lastModifiedBy>
  <dcterms:modified xsi:type="dcterms:W3CDTF">2013-03-11T12:43:11Z</dcterms:modified>
  <cp:revision>17</cp:revision>
  <dc:subject/>
  <dc:title>VOIR  PARIS-C’EST MOURIR </dc:title>
</cp:coreProperties>
</file>