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3B4-C890-402E-AE10-D1F6AA88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71B-C8A6-435F-BE0E-8616DBBC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5B3-A4D7-49CD-9C9A-1C5690EE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7EE-3F3C-417C-AB3C-DB799E46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CB69-A4EF-4ED6-91E6-75403615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D432-B861-4C32-BE68-1A3F9532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3987-5CD8-43DB-96C1-29A5F0AE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C4ED-1263-45EA-9C74-B5B27395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97E0-6EC8-48F8-A3E3-E5870121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2CBC-57FD-4519-8B6A-1C9EF560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3364-14FD-42EF-805F-274F95F1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E84-1268-4885-B883-21085A98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4851-E251-40A3-A3A8-A98A8FF4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26BF-BF54-4926-9C1B-7B4A31D4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A181-8AB1-4BAE-B405-ED59249A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4521-6402-4026-A733-6A48EE14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25B7-A632-485D-8EFE-7915036E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289-1FEC-4BE4-B6DF-EA914974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66E-D7A0-4C34-9163-C8A8EF97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B72-CEC1-4E08-8375-AF56C75B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0DF-BA3E-482D-AB2B-38BCFC48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6EB-20DB-4DA3-A4AD-BCE5EC2B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CDF-EB51-4036-952A-4D17F009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FDF-117D-4035-9D7C-4C4FDFA9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8C32-0CAD-42DF-BF9C-6B420C27228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F4AA-8D48-4066-BDCE-BE2E603425F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1916280"/>
            <a:ext cx="8280360" cy="18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IR  PARIS-C’EST MOURIR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Au 18 siécle, ce palais des rois est devenu le plus grand musée de la Franc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4" descr="фото Лувр"/>
          <p:cNvPicPr/>
          <p:nvPr/>
        </p:nvPicPr>
        <p:blipFill>
          <a:blip r:embed="rId2"/>
          <a:stretch/>
        </p:blipFill>
        <p:spPr>
          <a:xfrm>
            <a:off x="1042920" y="1989000"/>
            <a:ext cx="7129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d47d"/>
                </a:solidFill>
                <a:latin typeface="Arial"/>
              </a:rPr>
              <a:t>C’est un monument célèbre a été construit pour l’exposition universelle sur le projet de l’ingénieur Gustave Eiffel</a:t>
            </a:r>
            <a:r>
              <a:rPr b="0" lang="fr-FR" sz="3600" spc="-1" strike="noStrike">
                <a:solidFill>
                  <a:srgbClr val="f7d47d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4248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d47d"/>
                </a:solidFill>
                <a:latin typeface="Arial"/>
              </a:rPr>
              <a:t>C’est la plus célèbre cathédrale française, elle est située dans l’île de la Cité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Picture 4" descr="france_notre_dame_big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d47d"/>
                </a:solidFill>
                <a:latin typeface="Arial"/>
              </a:rPr>
              <a:t>C’est le fleuve de Paris, trés long, beau, magnifique. Vous pouvez faire du bateau-mouches là-bas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4" descr="фото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4392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56000" y="1700280"/>
            <a:ext cx="11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d47d"/>
                </a:solidFill>
                <a:latin typeface="Arial"/>
              </a:rPr>
              <a:t>La Sein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d47d"/>
                </a:solidFill>
                <a:latin typeface="Arial"/>
              </a:rPr>
              <a:t>C’est le grand parc de distraction de Mikky-Souris. Vous pouvez jouer avec Mikky et Minnie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561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d47d"/>
                </a:solidFill>
                <a:latin typeface="Arial"/>
              </a:rPr>
              <a:t>C’est la plus grande avenue de Paris, où se trouvent des grands cinémas, des restaurants, des banques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04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1:16:59Z</dcterms:created>
  <dc:creator>Владелец</dc:creator>
  <dc:description/>
  <dc:language>en-US</dc:language>
  <cp:lastModifiedBy>Владелец</cp:lastModifiedBy>
  <dcterms:modified xsi:type="dcterms:W3CDTF">2013-03-11T12:43:11Z</dcterms:modified>
  <cp:revision>17</cp:revision>
  <dc:subject/>
  <dc:title>VOIR  PARIS-C’EST MOURIR </dc:title>
</cp:coreProperties>
</file>