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292-899A-47F0-B3DC-8D9743BA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13E-2B71-4668-9BDD-2D8C66E0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A8B-9592-4026-A23B-15AE9C5F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857-DB77-44B5-97AC-5EFC0937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28A0-78ED-457A-A3A8-71DD2BC3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0A10-FF23-40D7-AFAA-27E85024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70E7-77C1-4048-9895-5C6A8A5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B1BA-2918-4DA3-8BE9-E05AC47C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B055-4C5F-4CA5-8985-B9167D6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54D1-2841-4F89-81C7-BB813A18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734E-9853-4451-821C-5AC14176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03A-AC9D-45B5-8305-025BB57D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E4FF-027B-4B87-9C14-7831F35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BA0-718A-47F4-8E0B-9EFF1984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5C68-CA76-4C55-8146-D7C227B4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7FB1-6C70-4CDA-B0E6-87B1B28E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F47E-4DDA-40FC-8D7F-4CB8DC0C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EE5-A5BD-44EE-AB0E-69F4848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FA4-44F9-4619-A7C0-04D4A426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227-7B79-4DDF-A8E6-495B52A3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7F2-EA30-44E3-80EB-9A5D0932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750-06E3-46F4-82AD-0553B962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1FD-907C-4433-9A65-47005459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FD3-94C6-4C4B-A19E-094631E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13A7-E6DF-4525-9BAB-4D0712A4D7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4C07-6B8F-439B-BDF8-B0EA0F4148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Птицы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55640" y="560520"/>
            <a:ext cx="7704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976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Домашние пти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27996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724360" y="3789360"/>
            <a:ext cx="1949760" cy="2735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547640" y="3789360"/>
            <a:ext cx="26845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-26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95840" cy="5329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572000" y="3770280"/>
            <a:ext cx="36720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400720" cy="3549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348000" y="3141720"/>
            <a:ext cx="5616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7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995640" y="260280"/>
            <a:ext cx="49021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8:29:22Z</dcterms:created>
  <dc:creator>Рамиль</dc:creator>
  <dc:description/>
  <dc:language>en-US</dc:language>
  <cp:lastModifiedBy>Рамиль</cp:lastModifiedBy>
  <dcterms:modified xsi:type="dcterms:W3CDTF">2013-04-23T09:58:41Z</dcterms:modified>
  <cp:revision>4</cp:revision>
  <dc:subject/>
  <dc:title>Слайд 1</dc:title>
</cp:coreProperties>
</file>