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AAD-D522-4CCB-BDCF-9BCA99B8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CC3-0D78-4BDB-AF5E-FCE246FC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FE9-2C57-4EE7-BD60-B0EE32A0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322-36B0-4A0C-B2D4-8F34D83D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14EF-6149-4156-828C-3A66D61D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36A2-C8FE-45D0-B581-C4410286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F96C-DAA2-4988-A7C1-36590EE5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0104-4B91-481E-A17C-4B2E7EC1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0C76-597F-4181-850F-EE53B17D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E2D9-3E18-4BB6-ABF1-A6DD2C68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69E2-01F3-49B1-929E-D65FFB13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1C3-5FE6-4F07-BD08-D4CFB0A3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4BB8-2485-4C02-BAC2-FEE06721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52D7-8EF3-44D8-9490-26905C47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46EC-F747-49A9-A340-CB5E07F1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B1B6-373D-4D12-BA35-38025C33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61D3-B092-4B95-88F9-FC78C782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52E-329F-4DCB-8445-4E1BC2AB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DD4-A3C0-4BE2-BC9C-C198CCE8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0E7-8048-4B4C-810A-8970FE97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B0B-CA94-486B-8AD8-CD9CC459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AB47-C576-4352-9719-326AEF8E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A89-D41A-4AAE-A4D0-FD95D53D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918-0C47-4595-8EE9-54511343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7BC7-A187-488D-B55D-B97AAE5197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4B62-31C3-454A-BB90-737B846FC8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Птицы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73200" y="277920"/>
            <a:ext cx="77976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55640" y="560520"/>
            <a:ext cx="770400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976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ccecff"/>
                </a:solidFill>
                <a:latin typeface="Arial"/>
              </a:rPr>
              <a:t>Домашние птиц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279960" cy="2185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724360" y="3789360"/>
            <a:ext cx="1949760" cy="2735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547640" y="3789360"/>
            <a:ext cx="26845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-26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3795840" cy="5329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427640" y="40464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572000" y="3770280"/>
            <a:ext cx="36720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400720" cy="3549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348000" y="3141720"/>
            <a:ext cx="56167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7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995640" y="260280"/>
            <a:ext cx="49021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18:29:22Z</dcterms:created>
  <dc:creator>Рамиль</dc:creator>
  <dc:description/>
  <dc:language>en-US</dc:language>
  <cp:lastModifiedBy>Рамиль</cp:lastModifiedBy>
  <dcterms:modified xsi:type="dcterms:W3CDTF">2013-04-23T09:58:41Z</dcterms:modified>
  <cp:revision>4</cp:revision>
  <dc:subject/>
  <dc:title>Слайд 1</dc:title>
</cp:coreProperties>
</file>