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5B5-39C8-461F-814A-BA968045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4F2-265C-4236-9098-EC8E3467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8FE-7C9B-4B5E-8710-BF1862F8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FEA-01C4-46CA-9592-85597AA0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373-A259-4409-BC1D-BE14E0FA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AE8-7DE1-4167-B859-6AB76E5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8F0-EB39-4C17-BA17-9416F88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67B-D3EA-463D-9716-BEE5EAE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A4C-BC92-4D64-BC2D-30362CF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858-2DA8-42D0-BC21-503A7D4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EAC-719B-4317-9515-6AB32DB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625-879D-42BB-B653-789F697C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D64-2875-46FC-94B1-5F5E73512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ейчас урок развитие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Какой сейчас ур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2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40384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пывают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ит ств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78240" y="333360"/>
            <a:ext cx="57657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ебята делают в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вает деревья.  …        подвязывает сажен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Копия (3) Изображение 003"/>
          <p:cNvPicPr/>
          <p:nvPr/>
        </p:nvPicPr>
        <p:blipFill>
          <a:blip r:embed="rId1"/>
          <a:stretch/>
        </p:blipFill>
        <p:spPr>
          <a:xfrm>
            <a:off x="2254320" y="3860640"/>
            <a:ext cx="224460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Изображение 003"/>
          <p:cNvPicPr/>
          <p:nvPr/>
        </p:nvPicPr>
        <p:blipFill>
          <a:blip r:embed="rId2"/>
          <a:stretch/>
        </p:blipFill>
        <p:spPr>
          <a:xfrm>
            <a:off x="5508720" y="3833640"/>
            <a:ext cx="2957400" cy="240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Копия (2) Копия Изображение"/>
          <p:cNvPicPr/>
          <p:nvPr/>
        </p:nvPicPr>
        <p:blipFill>
          <a:blip r:embed="rId3"/>
          <a:stretch/>
        </p:blipFill>
        <p:spPr>
          <a:xfrm>
            <a:off x="755640" y="374760"/>
            <a:ext cx="208584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ребята   делают на ого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грядки.  … сажают л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вают … .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492360" y="2924280"/>
            <a:ext cx="199080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Изображение"/>
          <p:cNvPicPr/>
          <p:nvPr/>
        </p:nvPicPr>
        <p:blipFill>
          <a:blip r:embed="rId2"/>
          <a:stretch/>
        </p:blipFill>
        <p:spPr>
          <a:xfrm>
            <a:off x="731880" y="4005360"/>
            <a:ext cx="1968480" cy="221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опия Копия Изображение"/>
          <p:cNvPicPr/>
          <p:nvPr/>
        </p:nvPicPr>
        <p:blipFill>
          <a:blip r:embed="rId3"/>
          <a:stretch/>
        </p:blipFill>
        <p:spPr>
          <a:xfrm>
            <a:off x="6300720" y="4014720"/>
            <a:ext cx="2106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Делай как 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Arial"/>
              </a:rPr>
              <a:t>Ле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can10471"/>
          <p:cNvPicPr/>
          <p:nvPr/>
        </p:nvPicPr>
        <p:blipFill>
          <a:blip r:embed="rId1"/>
          <a:stretch/>
        </p:blipFill>
        <p:spPr>
          <a:xfrm>
            <a:off x="2124000" y="2349360"/>
            <a:ext cx="4896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лесу ходит 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-топ топ – т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медведь"/>
          <p:cNvPicPr/>
          <p:nvPr/>
        </p:nvPicPr>
        <p:blipFill>
          <a:blip r:embed="rId1"/>
          <a:stretch/>
        </p:blipFill>
        <p:spPr>
          <a:xfrm>
            <a:off x="3203640" y="3429000"/>
            <a:ext cx="2724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75320"/>
            <a:ext cx="8291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жит зайка по доро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ыг-прыг  прыг -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20640" y="1204920"/>
            <a:ext cx="82296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заяц"/>
          <p:cNvPicPr/>
          <p:nvPr/>
        </p:nvPicPr>
        <p:blipFill>
          <a:blip r:embed="rId1"/>
          <a:stretch/>
        </p:blipFill>
        <p:spPr>
          <a:xfrm>
            <a:off x="3132000" y="3068640"/>
            <a:ext cx="30290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лиса хитра по дороге тихо п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can10474"/>
          <p:cNvPicPr/>
          <p:nvPr/>
        </p:nvPicPr>
        <p:blipFill>
          <a:blip r:embed="rId1"/>
          <a:stretch/>
        </p:blipFill>
        <p:spPr>
          <a:xfrm>
            <a:off x="2268360" y="3068640"/>
            <a:ext cx="5183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над лесом веселятся, птицы высоко кружа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can10473"/>
          <p:cNvPicPr/>
          <p:nvPr/>
        </p:nvPicPr>
        <p:blipFill>
          <a:blip r:embed="rId1"/>
          <a:stretch/>
        </p:blipFill>
        <p:spPr>
          <a:xfrm>
            <a:off x="2050920" y="3141720"/>
            <a:ext cx="51134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дем читать предложения и показывать на карти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3280" y="1557360"/>
            <a:ext cx="368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ришли на ог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ём  и Максим копают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рыхлит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я сеет мо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а сажает л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ения поливает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Изображение 008"/>
          <p:cNvPicPr/>
          <p:nvPr/>
        </p:nvPicPr>
        <p:blipFill>
          <a:blip r:embed="rId1"/>
          <a:stretch/>
        </p:blipFill>
        <p:spPr>
          <a:xfrm>
            <a:off x="826920" y="2133720"/>
            <a:ext cx="33991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Arial"/>
              </a:rPr>
              <a:t>Тема урока: « Занятия детей весно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Что мы будем делать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отвечать н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составлять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читать предложения и показывать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на  карт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2"/>
          <p:cNvSpPr/>
          <p:nvPr/>
        </p:nvSpPr>
        <p:spPr>
          <a:xfrm>
            <a:off x="3059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ем отвечать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ейчас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ремя года -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сейчас меся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ейчас месяц -  ап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егодня по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егодня погода тёплая, пасму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98360" y="34448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7c80"/>
                </a:solidFill>
                <a:latin typeface="Arial"/>
              </a:rPr>
              <a:t>Прочитайпе словарь. Покажите.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кают кораблики. Запускают зме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шают сквореч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Изображение 005"/>
          <p:cNvPicPr/>
          <p:nvPr/>
        </p:nvPicPr>
        <p:blipFill>
          <a:blip r:embed="rId1"/>
          <a:stretch/>
        </p:blipFill>
        <p:spPr>
          <a:xfrm>
            <a:off x="971640" y="2637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Изображение 002"/>
          <p:cNvPicPr/>
          <p:nvPr/>
        </p:nvPicPr>
        <p:blipFill>
          <a:blip r:embed="rId2"/>
          <a:stretch/>
        </p:blipFill>
        <p:spPr>
          <a:xfrm>
            <a:off x="5219640" y="2781360"/>
            <a:ext cx="26290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предл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то?   Что делает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вешает скворе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Копия Изображение 010"/>
          <p:cNvPicPr/>
          <p:nvPr/>
        </p:nvPicPr>
        <p:blipFill>
          <a:blip r:embed="rId1"/>
          <a:stretch/>
        </p:blipFill>
        <p:spPr>
          <a:xfrm>
            <a:off x="804960" y="2924280"/>
            <a:ext cx="2182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 пред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19640" y="1341360"/>
            <a:ext cx="54734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?    Что делает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    пускает    корабл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Изображение 010"/>
          <p:cNvPicPr/>
          <p:nvPr/>
        </p:nvPicPr>
        <p:blipFill>
          <a:blip r:embed="rId1"/>
          <a:stretch/>
        </p:blipFill>
        <p:spPr>
          <a:xfrm>
            <a:off x="755640" y="3068640"/>
            <a:ext cx="288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пред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?  Что делают? Чт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и запускают змея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1403280" y="3141720"/>
            <a:ext cx="2773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дем игр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тавьте правильно карт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5:18:12Z</dcterms:created>
  <dc:creator>XTreme</dc:creator>
  <dc:description/>
  <dc:language>en-US</dc:language>
  <cp:lastModifiedBy>дима</cp:lastModifiedBy>
  <dcterms:modified xsi:type="dcterms:W3CDTF">2013-04-18T18:19:47Z</dcterms:modified>
  <cp:revision>33</cp:revision>
  <dc:subject/>
  <dc:title>Слайд 1</dc:title>
</cp:coreProperties>
</file>