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BC3-65EC-4589-B3D1-5BE30D3F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519-7BE4-468B-BB78-75A88A5E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412-E21B-4125-8A46-B0D894EB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2DB-72FA-49E3-B5B6-018D9BB1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0F4-27EE-4B6F-AF89-090E4EBD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3F8-963A-45BF-8032-EF197460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A3F-4DEB-4218-8D23-DAFFC573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BDB-0B45-4E18-B699-8EAF6193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0B2-69B4-4CF5-8399-C477229B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2D7-9527-4685-A366-AC3B060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27B-5446-4554-A762-482A090E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119-D987-4E48-B029-B53BDC82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0C19-D471-494F-A3AB-2775D3EE5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68720" y="2133720"/>
            <a:ext cx="100076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Raavi"/>
              </a:rPr>
              <a:t>Животные </a:t>
            </a:r>
            <a:br>
              <a:rPr sz="9600"/>
            </a:br>
            <a:r>
              <a:rPr b="1" lang="ru-RU" sz="9600" spc="-1" strike="noStrike">
                <a:solidFill>
                  <a:srgbClr val="333399"/>
                </a:solidFill>
                <a:latin typeface="Raavi"/>
              </a:rPr>
              <a:t>Африки</a:t>
            </a:r>
            <a:br>
              <a:rPr sz="96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бота Маркова Сл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ь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885080" cy="58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лосатые зеб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684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йв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68360" y="260280"/>
            <a:ext cx="827712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876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ерблю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404640"/>
            <a:ext cx="8569080" cy="56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нтилопа гн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12944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59500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аз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560000" cy="59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7850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ИЛЬСКИЙ КРОКОДИ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189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кодилов называют водными рептилиями, потому что большую часть суток они находятся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21080" y="3645000"/>
            <a:ext cx="5688000" cy="3127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-374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-крокодилиха  откладывает яйца в песке и два месяца охраняет кладку. Когда крокодилята появятся на свет она собирает их в свою страшную пасть, сколько поместится, и относит их в безопасное от птиц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2611440"/>
            <a:ext cx="3816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 Африке обитают следующие 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0"/>
            <a:ext cx="849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крокодилы – отличные пловцы и ныряльщ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2819520"/>
            <a:ext cx="8218440" cy="4209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76500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главная пища всех крокодилов – рыба. Ловко охотятся на птиц. Некоторые нападают и на крупных животных – буйволов, носор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260280"/>
            <a:ext cx="8013600" cy="5865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ло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876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епар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3744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Шимпан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9016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орил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58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еопар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333360"/>
            <a:ext cx="86565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5950080"/>
            <a:ext cx="79786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ира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66908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5876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егем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582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1:01:03Z</dcterms:created>
  <dc:creator>Инна</dc:creator>
  <dc:description/>
  <dc:language>en-US</dc:language>
  <cp:lastModifiedBy>User</cp:lastModifiedBy>
  <dcterms:modified xsi:type="dcterms:W3CDTF">2013-04-23T17:02:16Z</dcterms:modified>
  <cp:revision>12</cp:revision>
  <dc:subject/>
  <dc:title>Кто живет в  АФРИКЕ</dc:title>
</cp:coreProperties>
</file>