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2AAD-81FF-42CD-A200-10B0EB60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6FE-01A6-44A6-A579-8FCE9CB2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EB31-04E1-458F-923E-94E08DC0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BCC-956E-4561-BA08-F701DFAC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6F8-6862-46CB-A91C-C4CA567B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E2E-54D0-4947-A69F-0D721802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D95-ED25-4B3E-A0F6-748572E8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969B-E2C9-43DA-9EB2-A08AB868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F7D-138D-4CC8-88DD-125CB32A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DCA-8DE0-426F-8D3B-69A96D7B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7889-EEB7-4EFB-9BBE-56D92ED9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080-DE2F-4B80-840C-53A37B5D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2020-E007-4270-B227-A4D9543FB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68720" y="2133720"/>
            <a:ext cx="100076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99"/>
                </a:solidFill>
                <a:latin typeface="Raavi"/>
              </a:rPr>
              <a:t>Животные </a:t>
            </a:r>
            <a:br>
              <a:rPr sz="9600"/>
            </a:br>
            <a:r>
              <a:rPr b="1" lang="ru-RU" sz="9600" spc="-1" strike="noStrike">
                <a:solidFill>
                  <a:srgbClr val="333399"/>
                </a:solidFill>
                <a:latin typeface="Raavi"/>
              </a:rPr>
              <a:t>Африки</a:t>
            </a:r>
            <a:br>
              <a:rPr sz="96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абота Маркова Сл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87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ь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885080" cy="58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олосатые зеб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684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602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йв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468360" y="260280"/>
            <a:ext cx="827712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5876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ерблю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404640"/>
            <a:ext cx="8569080" cy="560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нтилопа гн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129440" cy="591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59500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аз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560000" cy="59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7850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ИЛЬСКИЙ КРОКОДИ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189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окодилов называют водными рептилиями, потому что большую часть суток они находятся в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21080" y="3645000"/>
            <a:ext cx="5688000" cy="3127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-3744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-крокодилиха  откладывает яйца в песке и два месяца охраняет кладку. Когда крокодилята появятся на свет она собирает их в свою страшную пасть, сколько поместится, и относит их в безопасное от птиц мес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280" y="2611440"/>
            <a:ext cx="381636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В Африке обитают следующие живо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0"/>
            <a:ext cx="849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крокодилы – отличные пловцы и ныряльщ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2819520"/>
            <a:ext cx="8218440" cy="4209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765000"/>
            <a:ext cx="835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я главная пища всех крокодилов – рыба. Ловко охотятся на птиц. Некоторые нападают и на крупных животных – буйволов, носор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260280"/>
            <a:ext cx="8013600" cy="5865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587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лон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5876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епар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3744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Шимпанз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90160" cy="59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орил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920000" cy="58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еопард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333360"/>
            <a:ext cx="865656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5950080"/>
            <a:ext cx="79786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Жираф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66908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5876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егемо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3440" cy="582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1:01:03Z</dcterms:created>
  <dc:creator>Инна</dc:creator>
  <dc:description/>
  <dc:language>en-US</dc:language>
  <cp:lastModifiedBy>User</cp:lastModifiedBy>
  <dcterms:modified xsi:type="dcterms:W3CDTF">2013-04-23T17:02:16Z</dcterms:modified>
  <cp:revision>12</cp:revision>
  <dc:subject/>
  <dc:title>Кто живет в  АФРИКЕ</dc:title>
</cp:coreProperties>
</file>