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15B87-EC03-4363-8B86-E7F91DAFC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D394A-F3DE-4F62-9CF8-F5CA230FD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463AD-83E4-4B2F-8636-F2E3BFB57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396B2-FDBD-4D94-B111-72949DBA8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B7975-1042-45AD-81AD-342804A04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E5E8A-05BA-46DD-8BAA-04F25F960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517C1-FF1B-4E83-80CB-DD936B3FF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00848-CCD4-4E8E-8539-135E7EC61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2E4A4-351E-49DF-900D-69BFB2C24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51D3F-9A21-45BD-8216-41ACD858E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2A98D-76BB-4139-A612-F1EC30421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EC4DC-1CCA-4755-A46E-F6DBBC116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A6E85-5DDE-4287-9A1C-704EB2D4D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ACF53-0ECE-4976-9BEA-7D70D6149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EBC26-E58B-4ED2-9DE2-13597F411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9E2AA-0829-4EB9-AF3B-EDDA3B265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A5A2F-98FF-459D-B28E-2952BC45F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99136C-13DA-4BA3-903F-8867CDB78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21E645-1351-488A-9B63-941DE40D6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4FFB37-E3CE-4474-AC3F-46BEF98DA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910576-B186-459E-859F-BEC9049DB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3C03B5-D0B7-41A1-A897-4893F47B8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05969-5B27-4E42-8711-0DE6DD620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3C11C8-FD8D-4151-A9FA-5C04613C7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3A4437-055B-4A07-8DF5-28BB7263E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E17511-DF03-4D75-96D9-969D6A02F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FAE2DD-31B6-4D0E-89C6-6B136A45B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AF5FC2-F9E9-4A9C-AD88-DFE670681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CD6427-514A-46A8-882B-75F251ED1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F6A88F-2BA7-44DF-A64C-CB924F784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D504EF-5ADA-4BE3-98EC-F284EFFC1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BAFDFE-F1CA-41B1-BBEB-434963DA1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EFFC07-9F43-4EE1-9BFE-1333FF25B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56AA2-7950-4A4F-83FC-219F0562F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F3718C-0792-4B67-B7F3-34303F6EF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422B1C-5FB7-4030-99AF-098F5DBB1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D6DDAD-28C0-488B-993E-8B5505B76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55A580-40BE-4E57-893F-4AF43894D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236569-7430-4945-ADD3-BC79CDF11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B7945A-107E-4D8B-90D2-11442124C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768436-0BE5-4CA7-A135-BC69D4709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6BD334-6AFC-489A-A1E0-8B2AC5C98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6ADD46-B2A6-47D1-8B73-CC72127D8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E72D7-0916-4F78-B2C0-6CA560B14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A0F90-8CE2-426D-A80B-2B53757DA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A113A-C571-4CE2-A5B5-5B5A31A9D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607F7-299C-459D-BE6D-8CDC33666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7737A-CC47-4D56-862B-73E96A288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ff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C43C6-7544-4AF3-8CD6-393F29B3D9D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ff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FDDA2-3FEE-4C77-8FFC-43C848F9BBD7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ff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4B1BF-8699-46DD-9551-74229E784EB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ff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3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134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135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6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37" name="Group 6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138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9" name="Rectangle 8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40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1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2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dt" idx="10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ftr" idx="11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sldNum" idx="12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4745A-52FF-452B-905A-AD5AF76B9D1F}" type="slidenum">
              <a:rPr b="0" lang="ru-RU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81cf"/>
            </a:gs>
            <a:gs pos="50000">
              <a:srgbClr val="ffcccc"/>
            </a:gs>
            <a:gs pos="100000">
              <a:srgbClr val="c481c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26920" y="1125000"/>
            <a:ext cx="7826400" cy="5086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i="1" lang="ru-RU" sz="4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Определение арифметической </a:t>
            </a:r>
            <a:br>
              <a:rPr sz="4000"/>
            </a:br>
            <a:r>
              <a:rPr b="1" i="1" lang="ru-RU" sz="4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прогрессии. </a:t>
            </a:r>
            <a:br>
              <a:rPr sz="4000"/>
            </a:br>
            <a:r>
              <a:rPr b="1" i="1" lang="ru-RU" sz="4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Формула </a:t>
            </a:r>
            <a:r>
              <a:rPr b="1" i="1" lang="en-US" sz="4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n</a:t>
            </a:r>
            <a:r>
              <a:rPr b="1" i="1" lang="ru-RU" sz="4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-ого члена арифметической </a:t>
            </a:r>
            <a:br>
              <a:rPr sz="4000"/>
            </a:br>
            <a:r>
              <a:rPr b="1" i="1" lang="ru-RU" sz="4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прогрессии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1" i="1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Учитель: Сырова Ирина Васильевна</a:t>
            </a:r>
            <a:br>
              <a:rPr sz="2800"/>
            </a:br>
            <a:r>
              <a:rPr b="1" i="1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МОУ Уральская СОШ</a:t>
            </a:r>
            <a:br>
              <a:rPr sz="2800"/>
            </a:br>
            <a:r>
              <a:rPr b="1" i="1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Кизильского района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Script MT Bold"/>
              </a:rPr>
              <a:t>Задача </a:t>
            </a:r>
            <a:br>
              <a:rPr sz="2100"/>
            </a:b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731844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60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Script MT Bold"/>
              </a:rPr>
              <a:t>         </a:t>
            </a:r>
            <a:r>
              <a:rPr b="0" lang="ru-RU" sz="2200" spc="-1" strike="noStrike">
                <a:solidFill>
                  <a:srgbClr val="000000"/>
                </a:solidFill>
                <a:latin typeface="Script MT Bold"/>
              </a:rPr>
              <a:t>Рабочий выложил плитку следующим образом: в первом ряду - 3 плитки, во втором - 5 плиток и т.д., увеличивая каждый ряд на 2 плитки. Сколько плиток понадобится для седьмого ряда?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Рис.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4292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Script MT Bold"/>
              </a:rPr>
              <a:t>        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8" name="Picture 4" descr="http://center.fio.ru/som/RESOURCES/FILIPPOVMA/2002/05/PROGRESSIA/pic4.gif"/>
          <p:cNvPicPr/>
          <p:nvPr/>
        </p:nvPicPr>
        <p:blipFill>
          <a:blip r:embed="rId1"/>
          <a:stretch/>
        </p:blipFill>
        <p:spPr>
          <a:xfrm>
            <a:off x="1258920" y="3214800"/>
            <a:ext cx="4537080" cy="22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Определен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cc0000"/>
                </a:solidFill>
                <a:uFillTx/>
                <a:latin typeface="Times New Roman"/>
                <a:ea typeface="Times New Roman"/>
              </a:rPr>
              <a:t>Арифметической прогрессией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зывается последовательность, каждый член которой, начиная со второго, равен предыдущему члену, сложенному с одним и тем же числом. 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, 5, 7, 9, 11, 13, 15, …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= 3 + 2; 7 = 5 + 2; …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де d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ность прогрессии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1" name="Picture 5" descr="http://center.fio.ru/som/RESOURCES/FILIPPOVMA/2002/05/PROGRESSIA/pic10.gif"/>
          <p:cNvPicPr/>
          <p:nvPr/>
        </p:nvPicPr>
        <p:blipFill>
          <a:blip r:embed="rId1"/>
          <a:stretch/>
        </p:blipFill>
        <p:spPr>
          <a:xfrm>
            <a:off x="4716360" y="4627440"/>
            <a:ext cx="2448000" cy="48096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9" descr="http://center.fio.ru/som/RESOURCES/FILIPPOVMA/2002/05/PROGRESSIA/pic9.gif"/>
          <p:cNvPicPr/>
          <p:nvPr/>
        </p:nvPicPr>
        <p:blipFill>
          <a:blip r:embed="rId2"/>
          <a:stretch/>
        </p:blipFill>
        <p:spPr>
          <a:xfrm>
            <a:off x="3780000" y="3716280"/>
            <a:ext cx="2449440" cy="47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из истории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68000" y="162864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4320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mic Sans MS"/>
              </a:rPr>
              <a:t>"</a:t>
            </a:r>
            <a:r>
              <a:rPr b="1" lang="ru-RU" sz="2600" spc="-1" strike="noStrike">
                <a:solidFill>
                  <a:srgbClr val="000000"/>
                </a:solidFill>
                <a:latin typeface="Comic Sans MS"/>
              </a:rPr>
              <a:t>Прогрессия" – латинское слово,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320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mic Sans MS"/>
              </a:rPr>
              <a:t>означающее "движение вперед", было введено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320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mic Sans MS"/>
              </a:rPr>
              <a:t>римским автором Боэцием (VI век) и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320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mic Sans MS"/>
              </a:rPr>
              <a:t>понималось в более широком смысле, как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320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mic Sans MS"/>
              </a:rPr>
              <a:t>бесконечная числовая последовательность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99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74200" y="-360"/>
            <a:ext cx="8001000" cy="1521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Чтобы задать арифметическую прогрессию, достаточно указать её</a:t>
            </a:r>
            <a:br>
              <a:rPr sz="2400"/>
            </a:br>
            <a:r>
              <a:rPr b="0" lang="ru-RU" sz="24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 u="sng">
                <a:solidFill>
                  <a:srgbClr val="003399"/>
                </a:solidFill>
                <a:uFillTx/>
                <a:latin typeface="Times New Roman"/>
                <a:ea typeface="Times New Roman"/>
              </a:rPr>
              <a:t>первый член и разнос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843280" y="1699920"/>
            <a:ext cx="378936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601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;3;5;7;9;….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;1;1;1;…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;2;3;4;5;....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2;-4;-6;-8;-10;…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1547640" y="4270320"/>
            <a:ext cx="648036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Формула   </a:t>
            </a:r>
            <a:r>
              <a:rPr b="0" i="1" lang="ru-RU" sz="3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n</a:t>
            </a:r>
            <a:r>
              <a:rPr b="0" lang="ru-RU" sz="3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-го члена арифметической прогрессии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7677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а</a:t>
            </a:r>
            <a:r>
              <a:rPr b="0" lang="en-US" sz="7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n</a:t>
            </a:r>
            <a:r>
              <a:rPr b="0" lang="ru-RU" sz="7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= а1+</a:t>
            </a:r>
            <a:r>
              <a:rPr b="0" lang="en-US" sz="7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d </a:t>
            </a:r>
            <a:r>
              <a:rPr b="0" lang="ru-RU" sz="7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(</a:t>
            </a:r>
            <a:r>
              <a:rPr b="0" lang="en-US" sz="7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n</a:t>
            </a:r>
            <a:r>
              <a:rPr b="0" lang="ru-RU" sz="7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-1)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Object 4"/>
              <p:cNvSpPr txBox="1"/>
              <p:nvPr/>
            </p:nvSpPr>
            <p:spPr>
              <a:xfrm>
                <a:off x="5076720" y="3789360"/>
                <a:ext cx="292320" cy="3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ff"/>
            </a:gs>
            <a:gs pos="100000">
              <a:srgbClr val="ffcc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ответы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331640" y="19890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риант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риант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машнее задание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6212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762120" indent="-76212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.16 (до примера2),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76212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762120" indent="-76212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№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3(в,г), 346, 348, 352(б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1T15:22:57Z</dcterms:created>
  <dc:creator>ооо</dc:creator>
  <dc:description/>
  <dc:language>en-US</dc:language>
  <cp:lastModifiedBy>ооо</cp:lastModifiedBy>
  <dcterms:modified xsi:type="dcterms:W3CDTF">2013-04-24T17:30:56Z</dcterms:modified>
  <cp:revision>40</cp:revision>
  <dc:subject/>
  <dc:title>арифметическая  прогресси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