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9E1-C783-420F-B4F0-17B54FED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95C-8FBD-4B8E-BC1A-65CFC854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F4D-A40A-4A69-858C-97891D47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8394-AADE-4835-8AE6-9AC79DE5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8365-B7E0-4579-84AB-3648C78C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C631-E7C6-41EC-AC08-E3C77F27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5E72-1F7A-42C0-89B1-4F53D478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8AB3-1C6E-4536-90AA-48E1DCE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1A15-A62A-41CC-823D-A432E734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24AD-4B4C-47BB-BB76-04BF8E71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9F9EA-1E28-4C01-8656-591BC521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A207-D505-4DBC-8862-C8DC6578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11B7-CDB1-494B-B502-CCEE82C8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665A-2CD2-474E-B52A-5BA141DC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4B21-DC60-4089-9B9F-E02089AE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B6C4-F15D-41EE-829D-9C158019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B1D4-74D3-49D9-84DD-F243FE73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CDAB-38B1-4411-8446-D0700E16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01C6-D691-4FA9-95FF-07B0150B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7E59-4BD7-4688-BAC8-45D5073F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5956-2FF1-495D-B942-8F3CDFC5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10A37-A2B0-477D-B4AA-951DDFED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D98-7CFE-4929-8C1D-0B87B1FE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0702-E564-4FF2-80DA-129EEEFE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0313-056F-42DE-B53F-65479B12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2EF6-4E71-4ECA-9FB3-F68BB22C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E4A5-DBF9-4621-9198-3A01D763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B5DE-C051-42B4-8647-FDD3B5D8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79C01-E905-429C-9D75-5119E243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61B7-6E34-4D72-BE03-13A44204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C6168-178D-4A8E-B36C-0C91264B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9D877-E70C-472E-AC60-CC6FDEA5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66729-8120-4D9D-82FC-18BCB885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040C-FEFC-4DC9-B3F5-2ED568A2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D87A4-3901-423A-93B3-BFF31F1F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0A30-23D6-4C78-A588-B7DF6C67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97A25-5248-4585-BA8C-483C08A9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BFA41-FE08-402A-838C-5E1DE980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EFFB-CC7F-47E4-A18B-3397CFD2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0120-1D92-4576-9AA7-63E12F3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6693-51FF-4778-B0BE-91F13D9E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679F-33B5-44BC-83E3-0D8AF5F5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DA7AD-5EE7-4674-9361-40855A46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131-7926-4EF6-9593-1F251D62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9A3-3828-4213-B54B-B94FCCBC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A79-4D7D-4709-85FB-E785CCB1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E8D-8B3D-45BD-A86B-E633A08C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FFF-D083-4EBD-A656-47C31EE8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BF17-6E7D-4BF9-89B2-04B00C4BDA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7104-8385-47E9-9062-DDE04C6AD38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B710-DC9C-46EF-9D0B-6C1D3B2EFA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37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42C2-5656-409D-AA37-E8FF50D98C9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81cf"/>
            </a:gs>
            <a:gs pos="50000">
              <a:srgbClr val="ffcccc"/>
            </a:gs>
            <a:gs pos="100000">
              <a:srgbClr val="c481c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826400" cy="50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ределение арифметической </a:t>
            </a:r>
            <a:br>
              <a:rPr sz="4000"/>
            </a:b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грессии. </a:t>
            </a:r>
            <a:br>
              <a:rPr sz="4000"/>
            </a:b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ула 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ого члена арифметической </a:t>
            </a:r>
            <a:br>
              <a:rPr sz="4000"/>
            </a:br>
            <a:r>
              <a:rPr b="1" i="1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грессии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итель: Сырова Ирина Васильевна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ОУ Уральская СОШ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изильского район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cript MT Bold"/>
              </a:rPr>
              <a:t>Задача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318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cript MT Bold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Script MT Bold"/>
              </a:rPr>
              <a:t>Рабочий выложил плитку следующим образом: в первом ряду - 3 плитки, во втором - 5 плиток и т.д., увеличивая каждый ряд на 2 плитки. Сколько плиток понадобится для седьмого ряда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cript MT Bold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http://center.fio.ru/som/RESOURCES/FILIPPOVMA/2002/05/PROGRESSIA/pic4.gif"/>
          <p:cNvPicPr/>
          <p:nvPr/>
        </p:nvPicPr>
        <p:blipFill>
          <a:blip r:embed="rId1"/>
          <a:stretch/>
        </p:blipFill>
        <p:spPr>
          <a:xfrm>
            <a:off x="1258920" y="3214800"/>
            <a:ext cx="4537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Арифметической прогрессие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последовательность, каждый член которой, начиная со второго, равен предыдущему члену, сложенному с одним и тем же числом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5, 7, 9, 11, 13, 15, …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= 3 + 2; 7 = 5 + 2; …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прогресс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5" descr="http://center.fio.ru/som/RESOURCES/FILIPPOVMA/2002/05/PROGRESSIA/pic10.gif"/>
          <p:cNvPicPr/>
          <p:nvPr/>
        </p:nvPicPr>
        <p:blipFill>
          <a:blip r:embed="rId1"/>
          <a:stretch/>
        </p:blipFill>
        <p:spPr>
          <a:xfrm>
            <a:off x="4716360" y="4627440"/>
            <a:ext cx="2448000" cy="480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http://center.fio.ru/som/RESOURCES/FILIPPOVMA/2002/05/PROGRESSIA/pic9.gif"/>
          <p:cNvPicPr/>
          <p:nvPr/>
        </p:nvPicPr>
        <p:blipFill>
          <a:blip r:embed="rId2"/>
          <a:stretch/>
        </p:blipFill>
        <p:spPr>
          <a:xfrm>
            <a:off x="3780000" y="3716280"/>
            <a:ext cx="2449440" cy="4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из истор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Прогрессия" – латинское слово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означающее "движение вперед", было введен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римским автором Боэцием (VI век) 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понималось в более широком смысле, ка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бесконечная числовая последовательнос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тобы задать арифметическую прогрессию, достаточно указать её</a:t>
            </a:r>
            <a:br>
              <a:rPr sz="2400"/>
            </a:b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первый член и раз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43280" y="1699920"/>
            <a:ext cx="3789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;3;5;7;9;…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;1;1;1;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;2;3;4;5;...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;-4;-6;-8;-10;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547640" y="4270320"/>
            <a:ext cx="64803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Формула   </a:t>
            </a:r>
            <a:r>
              <a:rPr b="0" i="1" lang="ru-RU" sz="3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</a:t>
            </a:r>
            <a:r>
              <a:rPr b="0" lang="ru-RU" sz="3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го члена арифметической прогресс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6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= а1+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 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0" lang="ru-RU" sz="7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1)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5076720" y="3789360"/>
                <a:ext cx="2923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ве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3164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16 (до примера2)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62120" indent="-7621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3(в,г), 346, 348, 352(б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22:57Z</dcterms:created>
  <dc:creator>ооо</dc:creator>
  <dc:description/>
  <dc:language>en-US</dc:language>
  <cp:lastModifiedBy>ооо</cp:lastModifiedBy>
  <dcterms:modified xsi:type="dcterms:W3CDTF">2013-04-24T17:30:56Z</dcterms:modified>
  <cp:revision>40</cp:revision>
  <dc:subject/>
  <dc:title>арифметическая  прогресс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