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F9916-870F-486B-BA1B-0092AAFC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37FD8-8C9F-4DBD-B748-042A04E8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2A8D3-AB68-40F5-8A4B-59180684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AC897-A86C-4A76-83C6-B659B098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7309-87C6-47BE-A86A-1E342A3B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F3F0-C19D-4F8F-978A-49E40CE1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A105-D6F6-4961-9753-006EB7C5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E716-C2BC-416D-A7CD-77A97C8A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1AE3-6ADF-412A-A0BC-F910D59B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5B83-1320-4505-AC7F-3EE685C6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9698-0B94-4B43-99E8-59892A4A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763C3-7BED-430E-B725-97987AE4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59B3-758A-4DE2-80AA-721B28B0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EDBA-8BF0-4A4C-817D-6B1D9BC4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A523-3966-4EF7-A277-BAEBB8D2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24EF-13E4-444E-9CE4-69051B36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7E1C-642E-4C40-9E0B-1BA92F4E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34A1F-3E72-4707-BDC8-8881AFF7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24BF3-8310-43E1-ADFE-41B07447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919B6-2061-4A74-9265-4534A648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EE9DB-1C49-4B0F-B89D-E323BDA4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143C9-891D-4736-A611-DC5B4162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434F2-2D32-41EA-ABC6-838FA214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4292A-F2F4-480B-99F2-6EB9C7E6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0A30-AF2A-4F0F-A844-27BEE793D3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767D-6A53-4A7F-AD94-FEF71E8B0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www.russia-on.ru%2Fwp-content%2Fuploads%2F2012%2F01%2Fuslugi-santehnika-santehnik_47231909_1_F.jpg&amp;iorient=&amp;icolor=&amp;p=2&amp;site=&amp;text=&#1082;&#1072;&#1088;&#1090;&#1080;&#1085;&#1082;&#1080;%20&#1076;&#1077;&#1090;&#1089;&#1082;&#1080;&#1077;%20&#1087;&#1088;&#1086;&#1092;&#1077;&#1089;&#1089;&#1080;&#1080;%20&#1089;&#1083;&#1077;&#1089;&#1072;&#1088;&#1100;&amp;wp=&amp;pos=62&amp;isize=&amp;type=&amp;recent=&amp;rpt=simage&amp;itype=&amp;nojs=1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img-fotki.yandex.ru%2Fget%2F5001%2F146620994.42%2F0_7cdde_3c1befda_XL&amp;iorient=&amp;icolor=&amp;site=&amp;text=&#1082;&#1072;&#1088;&#1090;&#1080;&#1085;&#1082;&#1080;%20&#1076;&#1077;&#1090;&#1089;&#1082;&#1080;&#1077;%20&#1087;&#1088;&#1086;&#1092;&#1077;&#1089;&#1089;&#1080;&#1080;%20&#1076;&#1074;&#1086;&#1088;&#1085;&#1080;&#1082;&amp;wp=&amp;pos=19&amp;isize=&amp;type=&amp;recent=&amp;rpt=simage&amp;itype=&amp;nojs=1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900igr.net%2Fdatai%2Fchelovek%2FProfessii-5.files%2F0026-027-Fotograf.png&amp;iorient=&amp;icolor=&amp;site=&amp;text=&#1082;&#1072;&#1088;&#1090;&#1080;&#1085;&#1082;&#1080;%20&#1076;&#1077;&#1090;&#1089;&#1082;&#1080;&#1077;%20&#1087;&#1088;&#1086;&#1092;&#1077;&#1089;&#1089;&#1080;&#1080;%20&#1092;&#1086;&#1090;&#1086;&#1075;&#1088;&#1072;&#1092;&amp;wp=&amp;pos=19&amp;isize=&amp;type=&amp;recent=&amp;rpt=simage&amp;itype=&amp;nojs=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s3.e-monsite.com%2F2010%2F12%2F03%2F11%2FClipart-image-sapeur-pompier.gif&amp;iorient=&amp;icolor=&amp;site=&amp;text=&#1082;&#1072;&#1088;&#1090;&#1080;&#1085;&#1082;&#1080;%20&#1076;&#1077;&#1090;&#1089;&#1082;&#1080;&#1077;%20&#1087;&#1088;&#1086;&#1092;&#1077;&#1089;&#1089;&#1080;&#1080;%20&#1087;&#1086;&#1078;&#1072;&#1088;&#1085;&#1099;&#1081;&amp;wp=&amp;pos=11&amp;isize=&amp;type=&amp;recent=&amp;rpt=simage&amp;itype=&amp;nojs=1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img-fotki.yandex.ru%2Fget%2F5014%2F130816497.0%2F0_66726_8972c21a_XL&amp;iorient=&amp;icolor=&amp;site=&amp;text=&#1082;&#1072;&#1088;&#1090;&#1080;&#1085;&#1082;&#1080;%20&#1076;&#1077;&#1090;&#1089;&#1082;&#1080;&#1077;%20&#1087;&#1088;&#1086;&#1092;&#1077;&#1089;&#1089;&#1080;&#1080;%20&#1089;&#1072;&#1087;&#1086;&#1078;&#1085;&#1080;&#1082;&amp;wp=&amp;pos=4&amp;isize=&amp;type=&amp;recent=&amp;rpt=simage&amp;itype=&amp;nojs=1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prof.biografguru.ru%2Fsubdmn%2Fprof%2Fimg%2F655.jpg&amp;iorient=&amp;icolor=&amp;site=&amp;text=&#1082;&#1072;&#1088;&#1090;&#1080;&#1085;&#1082;&#1080;%20&#1076;&#1077;&#1090;&#1089;&#1082;&#1080;&#1077;%20&#1087;&#1088;&#1086;&#1092;&#1077;&#1089;&#1089;&#1080;&#1080;%20&#1095;&#1072;&#1089;&#1086;&#1074;&#1097;&#1080;&#1082;&amp;wp=&amp;pos=28&amp;isize=&amp;type=&amp;recent=&amp;rpt=simage&amp;itype=&amp;nojs=1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4;&#1072;&#1103;&#1082;&#1086;&#1074;&#1089;&#1082;&#1080;&#1081;%20&#1082;&#1077;&#1084;%20&#1073;&#1099;&#1090;&#1100;&amp;noreask=1&amp;img_url=http%3A%2F%2Fwww.libex.ru%2Fdimg%2F16fe2.jpg&amp;pos=4&amp;rpt=simage&amp;lr=213&amp;nojs=1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s.yandex.ru/yandsearch?text=&#1084;&#1072;&#1103;&#1082;&#1086;&#1074;&#1089;&#1082;&#1080;&#1081;%20&#1082;&#1077;&#1084;%20&#1073;&#1099;&#1090;&#1100;&amp;noreask=1&amp;img_url=http%3A%2F%2Fwww.libex.ru%2Fdimg%2F15013.jpg&amp;pos=14&amp;rpt=simage&amp;lr=213&amp;nojs=1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images.yandex.ru/yandsearch?text=&#1084;&#1072;&#1103;&#1082;&#1086;&#1074;&#1089;&#1082;&#1080;&#1081;%20&#1082;&#1077;&#1084;%20&#1073;&#1099;&#1090;&#1100;&amp;noreask=1&amp;img_url=http%3A%2F%2Fwww.gornitsa.ru%2Fimages%2Fproducts%2Foser2%2Fal_oldotkr12_tetr590.jpg&amp;pos=23&amp;rpt=simage&amp;lr=213&amp;nojs=1" TargetMode="External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kabotya.ru%2Fimage%2Fcache%2Fdata%2Fproducts%2Fchild-menu%2Fchildset_sb70-250x167.jpg&amp;iorient=&amp;icolor=&amp;site=&amp;text=&#1082;&#1072;&#1088;&#1090;&#1080;&#1085;&#1082;&#1080;%20&#1076;&#1080;&#1090;&#1103;%20&#1073;&#1091;&#1083;&#1086;&#1095;&#1082;&#1072;&amp;wp=&amp;pos=3&amp;isize=&amp;type=&amp;recent=&amp;rpt=simage&amp;itype=&amp;nojs=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yandex.ru/yandsearch?img_url=http%3A%2F%2Fwww.ixbt.com%2Fshort%2Fimages%2Fnailed.jpg&amp;iorient=&amp;icolor=&amp;p=8&amp;site=&amp;text=&#1082;&#1072;&#1088;&#1090;&#1080;&#1085;&#1082;&#1080;%20&#1076;&#1077;&#1090;&#1080;%20&#1075;&#1074;&#1086;&#1079;&#1076;&#1100;&amp;wp=&amp;pos=266&amp;isize=&amp;type=&amp;recent=&amp;rpt=simage&amp;itype=&amp;nojs=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yandex.ru/yandsearch?img_url=http%3A%2F%2Fimg0.liveinternet.ru%2Fimages%2Fattach%2Fc%2F4%2F80%2F457%2F80457044_7defe1568befc064e7103e4ac3c89a49_h.jpg&amp;iorient=&amp;icolor=&amp;p=3&amp;site=&amp;text=&#1082;&#1072;&#1088;&#1090;&#1080;&#1085;&#1082;&#1080;%20&#1076;&#1077;&#1090;&#1080;%20&#1087;&#1083;&#1072;&#1090;&#1100;&#1077;&amp;wp=&amp;pos=113&amp;isize=&amp;type=&amp;recent=&amp;rpt=simage&amp;itype=&amp;nojs=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yandex.ru/yandsearch?img_url=http%3A%2F%2Fdiamond.cosmo.ru%2Fsp%2Fsamsung%2Fi%2F7.jpg&amp;iorient=&amp;icolor=&amp;site=&amp;text=&#1082;&#1072;&#1088;&#1090;&#1080;&#1085;&#1082;&#1080;%20&#1076;&#1077;&#1090;&#1080;%20&#1085;&#1086;&#1089;&#1082;&#1080;&amp;wp=&amp;pos=3&amp;isize=&amp;type=&amp;recent=&amp;rpt=simage&amp;itype=&amp;nojs=1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www.r51.nalog.ru%2Fns%2F3887928%2Fimg%2F67933%2FImage_Small%2F&amp;iorient=&amp;icolor=&amp;site=&amp;text=&#1082;&#1072;&#1088;&#1090;&#1080;&#1085;&#1082;&#1080;%20&#1076;&#1077;&#1090;&#1089;&#1082;&#1080;&#1077;%20&#1079;&#1072;&#1074;&#1086;&#1076;&amp;wp=&amp;pos=8&amp;isize=&amp;type=&amp;recent=&amp;rpt=simage&amp;itype=&amp;nojs=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yandsearch?img_url=http%3A%2F%2Fi058.radikal.ru%2F0902%2F1b%2F9b9230a1492a.jpg&amp;iorient=&amp;icolor=&amp;site=&amp;text=&#1082;&#1072;&#1088;&#1090;&#1080;&#1085;&#1082;&#1080;%20&#1076;&#1077;&#1090;&#1089;&#1082;&#1080;&#1077;%20&#1079;&#1072;&#1074;&#1086;&#1076;&amp;wp=&amp;pos=16&amp;isize=&amp;type=&amp;recent=&amp;rpt=simage&amp;itype=&amp;nojs=1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yandex.ru/yandsearch?img_url=http%3A%2F%2Fnovynar.img.com.ua%2Fimg%2Fforall%2Fa%2F380%2F96.jpg&amp;iorient=&amp;icolor=&amp;site=&amp;text=&#1082;&#1072;&#1088;&#1090;&#1080;&#1085;&#1082;&#1080;%20&#1076;&#1077;&#1090;&#1089;&#1082;&#1080;&#1077;%20&#1085;&#1077;&#1092;&#1090;&#1103;&#1085;&#1072;&#1103;%20&#1089;&#1082;&#1074;&#1072;&#1078;&#1080;&#1085;&#1072;&amp;wp=&amp;pos=3&amp;isize=&amp;type=&amp;recent=&amp;rpt=simage&amp;itype=&amp;nojs=1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yandex.ru/yandsearch?img_url=http%3A%2F%2Fbigpicture.ru%2Fwp-content%2Fuploads%2F2011%2F05%2F1394.jpg&amp;iorient=&amp;icolor=&amp;p=3&amp;site=&amp;text=&#1082;&#1072;&#1088;&#1090;&#1080;&#1085;&#1082;&#1080;%20&#1076;&#1077;&#1090;&#1089;&#1082;&#1080;&#1077;%20&#1096;&#1072;&#1093;&#1090;&#1072;&amp;wp=&amp;pos=92&amp;isize=&amp;type=&amp;recent=&amp;rpt=simage&amp;itype=&amp;nojs=1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yandex.ru/yandsearch?img_url=http%3A%2F%2Fkavkasia.net%2Fpicture%2Felektrichestvo2.jpg&amp;iorient=&amp;icolor=&amp;p=3&amp;site=&amp;text=&#1082;&#1072;&#1088;&#1090;&#1080;&#1085;&#1082;&#1080;%20&#1076;&#1077;&#1090;&#1089;&#1082;&#1080;&#1077;%20&#1101;&#1083;&#1077;&#1082;&#1090;&#1088;&#1086;&#1089;&#1090;&#1072;&#1085;&#1094;&#1080;&#1103;&amp;wp=&amp;pos=104&amp;isize=&amp;type=&amp;recent=&amp;rpt=simage&amp;itype=&amp;nojs=1" TargetMode="External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www.e1.ru%2Fnews%2Fimages%2F272%2F345%2F272345%2F200x150_polya.jpg&amp;iorient=&amp;icolor=&amp;site=&amp;text=&#1082;&#1072;&#1088;&#1090;&#1080;&#1085;&#1082;&#1080;%20&#1076;&#1077;&#1090;&#1089;&#1082;&#1080;&#1077;%20&#1089;&#1077;&#1083;&#1100;&#1089;&#1082;&#1086;&#1077;%20&#1093;&#1086;&#1079;&#1103;&#1081;&#1089;&#1090;&#1074;&#1086;&amp;wp=&amp;pos=6&amp;isize=&amp;type=&amp;recent=&amp;rpt=simage&amp;itype=&amp;nojs=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img_url=http%3A%2F%2Fstatic.newsland.ru%2Fnews_images%2F570%2F570791.jpg&amp;iorient=&amp;icolor=&amp;site=&amp;text=&#1082;&#1072;&#1088;&#1090;&#1080;&#1085;&#1082;&#1080;%20&#1076;&#1077;&#1090;&#1089;&#1082;&#1080;&#1077;%20&#1089;&#1077;&#1083;&#1100;&#1089;&#1082;&#1086;&#1077;%20&#1093;&#1086;&#1079;&#1103;&#1081;&#1089;&#1090;&#1074;&#1086;&amp;wp=&amp;pos=21&amp;isize=&amp;type=&amp;recent=&amp;rpt=simage&amp;itype=&amp;nojs=1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img_url=http%3A%2F%2Fruprom-image.s3.amazonaws.com%2F1325383_w200_h200_selhprod.gif&amp;iorient=&amp;icolor=&amp;p=1&amp;site=&amp;text=&#1082;&#1072;&#1088;&#1090;&#1080;&#1085;&#1082;&#1080;%20&#1076;&#1077;&#1090;&#1089;&#1082;&#1080;&#1077;%20&#1089;&#1077;&#1083;&#1100;&#1089;&#1082;&#1086;&#1077;%20&#1093;&#1086;&#1079;&#1103;&#1081;&#1089;&#1090;&#1074;&#1086;&amp;wp=&amp;pos=48&amp;isize=&amp;type=&amp;recent=&amp;rpt=simage&amp;itype=&amp;nojs=1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img_url=http%3A%2F%2Fvladnews.ru%2Fthumb.php%3Ffile%3D%2Fuploads%2F2010%2F10%2F21%2Fselo.jpg%26x_width%3D240&amp;iorient=&amp;icolor=&amp;p=1&amp;site=&amp;text=&#1082;&#1072;&#1088;&#1090;&#1080;&#1085;&#1082;&#1080;%20&#1076;&#1077;&#1090;&#1089;&#1082;&#1080;&#1077;%20&#1089;&#1077;&#1083;&#1100;&#1089;&#1082;&#1086;&#1077;%20&#1093;&#1086;&#1079;&#1103;&#1081;&#1089;&#1090;&#1074;&#1086;&amp;wp=&amp;pos=58&amp;isize=&amp;type=&amp;recent=&amp;rpt=simage&amp;itype=&amp;nojs=1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yandex.ru/yandsearch?img_url=http%3A%2F%2Fwww.deita.ru%2Ffiles%2FImage%2Fnews%2F111454_l.jpg&amp;iorient=&amp;icolor=&amp;p=2&amp;site=&amp;text=&#1082;&#1072;&#1088;&#1090;&#1080;&#1085;&#1082;&#1080;%20&#1076;&#1077;&#1090;&#1089;&#1082;&#1080;&#1077;%20&#1089;&#1077;&#1083;&#1100;&#1089;&#1082;&#1086;&#1077;%20&#1093;&#1086;&#1079;&#1103;&#1081;&#1089;&#1090;&#1074;&#1086;&amp;wp=&amp;pos=62&amp;isize=&amp;type=&amp;recent=&amp;rpt=simage&amp;itype=&amp;nojs=1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images.yandex.ru/yandsearch?img_url=http%3A%2F%2Fi050.radikal.ru%2F0907%2Fdc%2F3ce6c4192380.jpg&amp;iorient=&amp;icolor=&amp;p=2&amp;site=&amp;text=&#1082;&#1072;&#1088;&#1090;&#1080;&#1085;&#1082;&#1080;%20&#1076;&#1077;&#1090;&#1089;&#1082;&#1080;&#1077;%20&#1089;&#1077;&#1083;&#1100;&#1089;&#1082;&#1086;&#1077;%20&#1093;&#1086;&#1079;&#1103;&#1081;&#1089;&#1090;&#1074;&#1086;&amp;wp=&amp;pos=83&amp;isize=&amp;type=&amp;recent=&amp;rpt=simage&amp;itype=&amp;nojs=1" TargetMode="External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festival.1september.ru%2Ffiles%2Farticles%2F52%2F5274%2F527491%2Fimg7.jpg&amp;iorient=&amp;icolor=&amp;site=&amp;text=&#1082;&#1072;&#1088;&#1090;&#1080;&#1085;&#1082;&#1080;%20&#1090;&#1088;&#1072;&#1085;&#1089;&#1087;&#1086;&#1088;&#1090;&amp;wp=&amp;pos=5&amp;isize=&amp;type=&amp;recent=&amp;rpt=simage&amp;itype=&amp;nojs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img_url=http%3A%2F%2Fs11.radikal.ru%2Fi183%2F1109%2F6d%2Ffc4f2a0da0cd.gif&amp;iorient=&amp;icolor=&amp;site=&amp;text=&#1082;&#1072;&#1088;&#1090;&#1080;&#1085;&#1082;&#1080;%20&#1090;&#1088;&#1072;&#1085;&#1089;&#1087;&#1086;&#1088;&#1090;&amp;wp=&amp;pos=7&amp;isize=&amp;type=&amp;recent=&amp;rpt=simage&amp;itype=&amp;nojs=1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img_url=http%3A%2F%2F2-mood.ru%2Fwp-content%2Fuploads%2F2011%2F04%2F%25D0%25BF%25D0%25BE%25D0%25B5%25D0%25B7%25D0%25B4.jpg&amp;iorient=&amp;icolor=&amp;site=&amp;text=&#1082;&#1072;&#1088;&#1090;&#1080;&#1085;&#1082;&#1080;%20&#1090;&#1088;&#1072;&#1085;&#1089;&#1087;&#1086;&#1088;&#1090;&amp;wp=&amp;pos=14&amp;isize=&amp;type=&amp;recent=&amp;rpt=simage&amp;itype=&amp;nojs=1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s.yandex.ru/yandsearch?img_url=http%3A%2F%2Fbarnaul.sibnovosti.ru%2Fpictures%2F0445%2F9295%2Fv_barnaule_s_segodnyashnego_dnya_ne_rabotaet_tramvaynoe_depo_1_thumb_main.jpg&amp;iorient=&amp;icolor=&amp;site=&amp;text=&#1082;&#1072;&#1088;&#1090;&#1080;&#1085;&#1082;&#1080;%20&#1090;&#1088;&#1072;&#1085;&#1089;&#1087;&#1086;&#1088;&#1090;&amp;wp=&amp;pos=20&amp;isize=&amp;type=&amp;recent=&amp;rpt=simage&amp;itype=&amp;nojs=1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images.yandex.ru/yandsearch?img_url=http%3A%2F%2Fwww.sevastopolis.com%2Ftimthumb.php%3Fsrc%3D%2Fuploads%2Fimages%2Fpix1%2Fupiter.jpg%26w%3D300%26h%3D225%26zc%3D1&amp;iorient=&amp;icolor=&amp;site=&amp;text=&#1082;&#1072;&#1088;&#1090;&#1080;&#1085;&#1082;&#1080;%20&#1090;&#1088;&#1072;&#1085;&#1089;&#1087;&#1086;&#1088;&#1090;&amp;wp=&amp;pos=25&amp;isize=&amp;type=&amp;recent=&amp;rpt=simage&amp;itype=&amp;nojs=1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yandex.ru/yandsearch?img_url=http%3A%2F%2Fwww.oldcity.ru%2Fpictures%2Fbus%2Fbig%2Fbus_setra1.jpg&amp;iorient=&amp;icolor=&amp;site=&amp;text=&#1082;&#1072;&#1088;&#1090;&#1080;&#1085;&#1082;&#1080;%20&#1090;&#1088;&#1072;&#1085;&#1089;&#1087;&#1086;&#1088;&#1090;&amp;wp=&amp;pos=9&amp;isize=&amp;type=&amp;recent=&amp;rpt=simage&amp;itype=&amp;nojs=1" TargetMode="External"/><Relationship Id="rId12" Type="http://schemas.openxmlformats.org/officeDocument/2006/relationships/image" Target="../media/image22.jpeg"/><Relationship Id="rId13" Type="http://schemas.openxmlformats.org/officeDocument/2006/relationships/hyperlink" Target="http://images.yandex.ru/yandsearch?img_url=http%3A%2F%2Fde.trinixy.ru%2Fpics4%2F20101020%2Fbeautiful_sailboats_07.jpg&amp;iorient=&amp;icolor=&amp;site=&amp;text=&#1082;&#1072;&#1088;&#1090;&#1080;&#1085;&#1082;&#1080;%20&#1090;&#1088;&#1072;&#1085;&#1089;&#1087;&#1086;&#1088;&#1090;&amp;wp=&amp;pos=6&amp;isize=&amp;type=&amp;recent=&amp;rpt=simage&amp;itype=&amp;nojs=1" TargetMode="External"/><Relationship Id="rId14" Type="http://schemas.openxmlformats.org/officeDocument/2006/relationships/image" Target="../media/image23.jpe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www.verstov.info%2Fuploads%2Fposts%2F2010-07%2F1279202714_dsc_8123.jpg&amp;iorient=&amp;icolor=&amp;site=&amp;text=&#1082;&#1072;&#1088;&#1090;&#1080;&#1085;&#1082;&#1080;%20&#1076;&#1077;&#1090;&#1089;&#1082;&#1080;&#1077;%20&#1087;&#1086;&#1083;&#1080;&#1082;&#1083;&#1080;&#1085;&#1080;&#1082;&#1072;&amp;wp=&amp;pos=5&amp;isize=&amp;type=&amp;recent=&amp;rpt=simage&amp;itype=&amp;nojs=1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yandex.ru/yandsearch?img_url=http%3A%2F%2Fstatic.zakon.kz%2Fimg%2F040355%2F040355083.JPG&amp;iorient=&amp;icolor=&amp;site=&amp;text=&#1082;&#1072;&#1088;&#1090;&#1080;&#1085;&#1082;&#1080;%20&#1076;&#1077;&#1090;&#1089;&#1082;&#1080;&#1077;%20&#1076;&#1077;&#1090;&#1089;&#1082;&#1080;&#1081;%20&#1089;&#1072;&#1076;&amp;wp=&amp;pos=13&amp;isize=&amp;type=&amp;recent=&amp;rpt=simage&amp;itype=&amp;nojs=1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ages.yandex.ru/yandsearch?img_url=http%3A%2F%2Frabotai.in%2Fideas8%2Fimg%2F775.1.jpg&amp;iorient=&amp;icolor=&amp;site=&amp;text=&#1082;&#1072;&#1088;&#1090;&#1080;&#1085;&#1082;&#1080;%20&#1076;&#1077;&#1090;&#1089;&#1082;&#1080;&#1077;%20&#1087;&#1072;&#1088;&#1080;&#1082;&#1084;&#1072;&#1093;&#1077;&#1088;&#1089;&#1082;&#1072;&#1103;&amp;wp=&amp;pos=11&amp;isize=&amp;type=&amp;recent=&amp;rpt=simage&amp;itype=&amp;nojs=1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images.yandex.ru/yandsearch?img_url=http%3A%2F%2Fimg.detstvo.ru%2Fbaraholka%2Foriginal%2F2010%2F12%2F27%2Ffe7e9dc5c044d101d2e3d02d51349cd8.jpg&amp;iorient=&amp;icolor=&amp;site=&amp;text=&#1082;&#1072;&#1088;&#1090;&#1080;&#1085;&#1082;&#1080;%20&#1076;&#1077;&#1090;&#1089;&#1082;&#1080;&#1077;%20&#1084;&#1072;&#1075;&#1072;&#1079;&#1080;&#1085;&amp;wp=&amp;pos=16&amp;isize=&amp;type=&amp;recent=&amp;rpt=simage&amp;itype=&amp;nojs=1" TargetMode="External"/><Relationship Id="rId8" Type="http://schemas.openxmlformats.org/officeDocument/2006/relationships/image" Target="../media/image27.jpeg"/><Relationship Id="rId9" Type="http://schemas.openxmlformats.org/officeDocument/2006/relationships/hyperlink" Target="http://images.yandex.ru/yandsearch?img_url=http%3A%2F%2Fstatic2.aif.ru%2Fpublic%2Fnews%2F269%2Fc00911ae7035823ed64a1d4f65f9694e_big.jpg&amp;iorient=&amp;icolor=&amp;p=1&amp;site=&amp;text=&#1082;&#1072;&#1088;&#1090;&#1080;&#1085;&#1082;&#1080;%20&#1076;&#1077;&#1090;&#1089;&#1082;&#1080;&#1077;%20&#1084;&#1072;&#1075;&#1072;&#1079;&#1080;&#1085;&amp;wp=&amp;pos=54&amp;isize=&amp;type=&amp;recent=&amp;rpt=simage&amp;itype=&amp;nojs=1" TargetMode="External"/><Relationship Id="rId10" Type="http://schemas.openxmlformats.org/officeDocument/2006/relationships/image" Target="../media/image28.jpeg"/><Relationship Id="rId11" Type="http://schemas.openxmlformats.org/officeDocument/2006/relationships/hyperlink" Target="http://images.yandex.ru/yandsearch?img_url=http%3A%2F%2Fcs9710.userapi.com%2Fg1154449%2Fa_04de7949.jpg&amp;iorient=&amp;icolor=&amp;site=&amp;text=&#1082;&#1072;&#1088;&#1090;&#1080;&#1085;&#1082;&#1080;%20&#1076;&#1077;&#1090;&#1089;&#1082;&#1080;&#1077;%20&#1079;&#1076;&#1072;&#1085;&#1080;&#1077;%20&#1096;&#1082;&#1086;&#1083;&#1099;&amp;wp=&amp;pos=25&amp;isize=&amp;type=&amp;recent=&amp;rpt=simage&amp;itype=&amp;nojs=1" TargetMode="External"/><Relationship Id="rId12" Type="http://schemas.openxmlformats.org/officeDocument/2006/relationships/image" Target="../media/image29.jpeg"/><Relationship Id="rId13" Type="http://schemas.openxmlformats.org/officeDocument/2006/relationships/hyperlink" Target="http://images.yandex.ru/yandsearch?img_url=http%3A%2F%2Fwww.vpoisketura.ru%2Fuploads%2Fboard%2Fhotel_gallery%2F2064_26157.jpg&amp;iorient=&amp;icolor=&amp;site=&amp;text=&#1082;&#1072;&#1088;&#1090;&#1080;&#1085;&#1082;&#1080;%20&#1076;&#1077;&#1090;&#1089;&#1082;&#1080;&#1077;%20&#1079;&#1076;&#1072;&#1085;&#1080;&#1077;%20&#1089;&#1090;&#1086;&#1083;&#1086;&#1074;&#1072;&#1103;&amp;wp=&amp;pos=29&amp;isize=&amp;type=&amp;recent=&amp;rpt=simage&amp;itype=&amp;nojs=1" TargetMode="External"/><Relationship Id="rId14" Type="http://schemas.openxmlformats.org/officeDocument/2006/relationships/image" Target="../media/image30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ruprom-image.s3.amazonaws.com%2F767983_w640_h640_povar.png&amp;iorient=&amp;icolor=&amp;site=&amp;text=&#1082;&#1072;&#1088;&#1090;&#1080;&#1085;&#1082;&#1080;%20&#1076;&#1077;&#1090;&#1089;&#1082;&#1080;&#1077;%20&#1087;&#1088;&#1086;&#1092;&#1077;&#1089;&#1089;&#1080;&#1080;%20&#1087;&#1086;&#1074;&#1072;&#1088;&amp;wp=&amp;pos=7&amp;isize=&amp;type=&amp;recent=&amp;rpt=simage&amp;itype=&amp;nojs=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www.sova.ru%2Fexpo%2F17580%2Fimages%2Fprod_2853_75.jpg&amp;iorient=&amp;icolor=&amp;site=&amp;text=&#1082;&#1072;&#1088;&#1090;&#1080;&#1085;&#1082;&#1080;%20&#1076;&#1077;&#1090;&#1089;&#1082;&#1080;&#1077;%20&#1087;&#1088;&#1086;&#1092;&#1077;&#1089;&#1089;&#1080;&#1080;%20&#1089;&#1090;&#1086;&#1083;&#1103;&#1088;&amp;wp=&amp;pos=9&amp;isize=&amp;type=&amp;recent=&amp;rpt=simage&amp;itype=&amp;nojs=1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Хозяйство человек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Окружающий ми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1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Медведева Е.Н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Arial"/>
              </a:rPr>
              <a:t>Загадк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050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2165040"/>
            <a:ext cx="568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нам пришёл сегодня в дом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тер с гаечным ключом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пришёл сегодня к нам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б сменить на кухне кран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989000"/>
            <a:ext cx="22320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Arial"/>
              </a:rPr>
              <a:t>Загадк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050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40000" y="2924280"/>
            <a:ext cx="3882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1873800"/>
            <a:ext cx="8046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н проснётся на заре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нег расчистит на дворе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 дорожки подметёт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песком посыпет лёд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1916280"/>
            <a:ext cx="25383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Arial"/>
              </a:rPr>
              <a:t>Загадк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050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2924280"/>
            <a:ext cx="3882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1378080"/>
            <a:ext cx="7848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ведёт стеклянный глаз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елкнет раз - запомнит вас.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3927600"/>
            <a:ext cx="3097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Arial"/>
              </a:rPr>
              <a:t>Загадк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050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3576600"/>
            <a:ext cx="388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16720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ретянут он ремнём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ска прочная на нём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н в горящий входит в дом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н сражается с огнё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2492280"/>
            <a:ext cx="2160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Arial"/>
              </a:rPr>
              <a:t>Загадк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050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2924280"/>
            <a:ext cx="3882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596600"/>
            <a:ext cx="5616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истит мастер башмаки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бивает каблуки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инит туфли и сандалии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тоб как новенькие стал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2060640"/>
            <a:ext cx="23036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Arial"/>
              </a:rPr>
              <a:t>Загадк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050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2924280"/>
            <a:ext cx="3882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5880" y="310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1913400"/>
            <a:ext cx="532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часах настенных стрелк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ли прыгать словно белки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стер тут на них взглянул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углый винтик подтянул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менил пружину срочно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 часы ходили точно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1840" y="2133720"/>
            <a:ext cx="24955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916360" y="2113560"/>
            <a:ext cx="34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нигу переворошив,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намотай себе на ус -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се работы хороши,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ыбирай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       на вкус!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700280"/>
            <a:ext cx="1614240" cy="2087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1557360"/>
            <a:ext cx="1334880" cy="1787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5640" y="429264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6516720" y="4149720"/>
            <a:ext cx="1919160" cy="2232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3780000" y="4365720"/>
            <a:ext cx="1563480" cy="20764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Владимир Маяковский «Кем быть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Люди каких профессий нужны для изготовления этих вещ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2205000"/>
            <a:ext cx="2576520" cy="1717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724280"/>
            <a:ext cx="2857680" cy="1333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35640" y="2060640"/>
            <a:ext cx="2625840" cy="1969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47640" y="4437000"/>
            <a:ext cx="15465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хозяйств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81080"/>
          <a:ext cx="8229600" cy="4510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7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омышлен-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льск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ранспор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слу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4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Шах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Нефтяные скваж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Электро-стан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Фабр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Завод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</a:rPr>
                        <a:t>Растение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поля, сады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огород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</a:rPr>
                        <a:t>Животно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пастбищ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Автомобил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железная дорог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амолёты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Корабл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Стол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Поликли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Шко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Детские са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Парикмахер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Магазин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промышленно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1916280"/>
            <a:ext cx="2952720" cy="1833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005360"/>
            <a:ext cx="2663640" cy="1860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43640" y="2060640"/>
            <a:ext cx="237636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19640" y="4292640"/>
            <a:ext cx="2665080" cy="1717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1916280"/>
            <a:ext cx="242100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Сельское хозяйств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989000"/>
            <a:ext cx="4824360" cy="3848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508640"/>
            <a:ext cx="2808000" cy="1922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80000" y="1697040"/>
            <a:ext cx="3191040" cy="2019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5280" y="1773360"/>
            <a:ext cx="2879640" cy="1911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80000" y="4221000"/>
            <a:ext cx="3168720" cy="2113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492360" y="4869000"/>
            <a:ext cx="1648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Транспор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1484280"/>
            <a:ext cx="2019600" cy="1428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1989000"/>
            <a:ext cx="3151080" cy="2100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557360"/>
            <a:ext cx="191448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8360" y="4498920"/>
            <a:ext cx="2303280" cy="1727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24360" y="4389480"/>
            <a:ext cx="2862360" cy="190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4508640"/>
            <a:ext cx="2303280" cy="1726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08000" y="2852640"/>
            <a:ext cx="1952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Сфера услу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628640"/>
            <a:ext cx="2739960" cy="193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1700280"/>
            <a:ext cx="2521080" cy="1873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4292640"/>
            <a:ext cx="2668680" cy="1800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71640" y="2205000"/>
            <a:ext cx="2160720" cy="1657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59640" y="4653000"/>
            <a:ext cx="2193840" cy="1801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64000" y="4653000"/>
            <a:ext cx="1365120" cy="1787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572000" y="3284640"/>
            <a:ext cx="2214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Arial"/>
              </a:rPr>
              <a:t>Загадк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050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дит в белом колпак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поварёшкою в руке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готовит нам обед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шу, щи и винегрет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2133720"/>
            <a:ext cx="2808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Arial"/>
              </a:rPr>
              <a:t>Загадк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050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2270880"/>
            <a:ext cx="782820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ет делать он буфеты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улья, тумбы, табуреты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тружках весь его верстак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т работать надо как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3860640"/>
            <a:ext cx="316872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08:49:45Z</dcterms:created>
  <dc:creator>kab26</dc:creator>
  <dc:description/>
  <dc:language>en-US</dc:language>
  <cp:lastModifiedBy>kab26</cp:lastModifiedBy>
  <dcterms:modified xsi:type="dcterms:W3CDTF">2013-02-01T06:53:32Z</dcterms:modified>
  <cp:revision>3</cp:revision>
  <dc:subject/>
  <dc:title>Хозяйство человека</dc:title>
</cp:coreProperties>
</file>