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BA2-4FD2-4F19-91EC-7CBB7D1B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596-9B73-4D32-A007-86E3C93D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A28-7003-4D1F-89C8-BBC6C542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D17-3F3B-4F44-879D-6AC1242A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B885-7C13-4091-BBD8-25EBC21B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26FA-0A46-4B77-9C4B-0CD5D2A2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DE8D-1405-437D-BB2E-0E3958AC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8076-A9AD-4C48-9CCB-91AE56C0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F898-E57B-4ADD-8AE4-6C383E74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7F78-8053-4FB9-89A9-9DA9683C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DCD0-F070-4162-9F55-F296298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F4C-A43B-4F32-8945-0B4B34B6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8ADB-5037-4BD9-8721-037DF28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3DE8-CF30-4FF9-BD6B-C9067BC6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87A0-FA5B-4762-BEE6-E6CEC980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09D4-1085-4AA0-997C-B9CCA296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776-468E-46F5-8FCC-3B408F0F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734-8250-427D-819F-9214D096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EAE-3E90-485E-B15B-1D8DD6BE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7D1-B6E3-4C08-939E-CE32C5B6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940-D40C-4A92-8749-2B06FF21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E8B-136B-4437-A81F-73D7230F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0FB-345F-418D-B87C-08294034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2CC-32B9-4676-9CBD-318AB716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D099-B63A-431C-A772-D1E2829C661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705A-63BD-4C21-8D8C-DD2F457AD65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2743200" cy="4497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1598400"/>
            <a:ext cx="40388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Творческий проект по технолог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Автор</a:t>
            </a: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Скрипкин.Н. 2 к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Руководитель</a:t>
            </a: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Алёшина. О.А.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ТЕХНОЛОГИЯ СБОРКИ КОМПОЗИ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Берём лист карто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Рисуем эскиз будущей компози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Приклеиваем серединки бахромой ввер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63160" y="380520"/>
            <a:ext cx="728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 Затем, по краю серединки приклеиваем лепестки цветк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46450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. После того, как подсохнут белые заготовки, остаётся наклеить зелёные листья, произвольно располагая их по картин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У меня получилась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интересная подел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Я с удовольствием подари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свою работу маме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30640" y="3200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Копия%202012-02-17%2010.23.39" descr=""/>
          <p:cNvPicPr/>
          <p:nvPr/>
        </p:nvPicPr>
        <p:blipFill>
          <a:blip r:embed="rId1"/>
          <a:stretch/>
        </p:blipFill>
        <p:spPr>
          <a:xfrm>
            <a:off x="40767120" y="-760320"/>
            <a:ext cx="38764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Comic Sans MS"/>
              </a:rPr>
              <a:t>Выбор  и обоснование проблемы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От чистого сердц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Простыми слова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Давайте, друзь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Потолкуем о мам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8 Марта – мамин день. В этот праздник все мужчины готовят подарки своим любимым. Передо мной стала проблема , что мамочке подарить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Можно подарок купить в магазин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но мне почему то этого не захотело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Со своей проблемой я поделился с папой. Он посоветова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приготовить подарок для мамы,  своими рук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Comic Sans MS"/>
              </a:rPr>
              <a:t>Исследование и развитие иде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Вместе с пап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мы рассмотрели различные варианты поделок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посмотрели в Интернете образцы издел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Нам очень понравился один интересный букет цветов. Он был изготовлен по необычной технологии работы с бумагой. Мы прочитали много литературы об этом способ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Что такое квиллинг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виллинг – это искусство бумагокруч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ля квиллинга используются бумажные полосы шириной 3, 4 и 6 м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крученным полосам можно придавать любую форм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 помощью техники квиллинга можно оформить открытку или даже карти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4170240"/>
            <a:ext cx="21589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Comic Sans MS"/>
              </a:rPr>
              <a:t>Рациональность проекта.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Идея работы с техникой «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виллинг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» мне понравилась. Цветная бумага, клей есть у каждого школьника, рамку можно попросить сделать  пап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Для фона можно использова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куски обое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ПОЛЬЗУЕМЫЕ ИНСТРУМЕН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и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убочист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инце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иней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рандаш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b781"/>
                </a:solidFill>
                <a:latin typeface="Arial"/>
              </a:rPr>
              <a:t>ТЕХНОЛОГИЯ ПРОИЗВОДСТВА</a:t>
            </a:r>
            <a:br>
              <a:rPr sz="3600"/>
            </a:br>
            <a:r>
              <a:rPr b="0" lang="en-US" sz="3600" spc="-1" strike="noStrike">
                <a:solidFill>
                  <a:srgbClr val="d5b781"/>
                </a:solidFill>
                <a:latin typeface="Arial"/>
              </a:rPr>
              <a:t>лепестков и листье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Разлинеить лист бумаги на полосы по 0,5 см в ширин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Разрезать е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7200" y="3425760"/>
            <a:ext cx="38862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3. С помощью шила  закрутить каждую полоску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4193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84f0"/>
                </a:solidFill>
                <a:latin typeface="Arial"/>
              </a:rPr>
              <a:t>ТЕХНОЛОГИЯ ИЗГОТОВЛЕНИЯ</a:t>
            </a:r>
            <a:br>
              <a:rPr sz="3600"/>
            </a:br>
            <a:r>
              <a:rPr b="0" lang="en-US" sz="3600" spc="-1" strike="noStrike">
                <a:solidFill>
                  <a:srgbClr val="8c84f0"/>
                </a:solidFill>
                <a:latin typeface="Arial"/>
              </a:rPr>
              <a:t>серединки цвет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. Разлинеим лист бумаги жёлтого цвета по 0,5 с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. Разрежем лист на полос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. Сложим  их вместе стопкой, сделаем ножницами бахрому с одной стороны полосо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. Закрутим каждую полоску с помощью шил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. Снимем заготовку с шила и дадим слегка раскрутиться, край заготовки приклеи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1999-12-31T21:55:0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