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F21-5631-40A0-8E6A-6322191E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F1A-F70D-4208-8992-A903D68A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FA5-4B22-4DE7-A89E-8181D9CC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23A-44E2-4335-9E3C-A246407F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55F5-92C0-495E-8EB6-B9B03AE3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044-645C-4BBD-8356-69A7BB47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5ED1-1541-431A-ACE3-D6E978BC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41DE-989B-460E-B960-CF568678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799C-B060-4BB7-A083-063D157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3DEB-7F33-44B3-96C9-640882A0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9BEA-DB26-4109-BAB6-733C7588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A08-1D56-4E39-90A9-8B026EFE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C7DE-0D5F-4EE2-ACD9-852A551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013-1E7C-45D9-9334-51D78410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3769-C724-4700-9943-2965EBE4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BF5B-BFEB-4A1F-A086-23F746A3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959B-1B15-4593-9252-0E4ED9B8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BB3-9A68-414F-843F-FFFBF583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237-15B7-47FC-9E53-4AADE2A6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A18-F71D-48D9-BBDC-C01FC5A7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A35-8A06-403C-BC70-5766D78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116-C376-4281-BEBA-36CEE64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03C-5B23-40D2-A1AB-89725F13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8C2-D1A3-488C-8F61-B57AE8F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0F60-10FB-4650-9670-259199E4F33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B39C-CACD-4051-A8B2-BBD145754C4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2743200" cy="44974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598400"/>
            <a:ext cx="40388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Творческий проект по технолог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Автор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Скрипкин.Н. 2 к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Руководитель</a:t>
            </a:r>
            <a:r>
              <a:rPr b="1" i="1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f1311"/>
                </a:solidFill>
                <a:latin typeface="Arial"/>
              </a:rPr>
              <a:t>Алёшина. О.А.</a:t>
            </a:r>
            <a:r>
              <a:rPr b="0" i="1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ТЕХНОЛОГИЯ СБОРКИ КОМПОЗИ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 Берём лист карто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Рисуем эскиз будущей компози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Приклеиваем серединки бахромой ввер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160" y="380520"/>
            <a:ext cx="7280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. Затем, по краю серединки приклеиваем лепестки цветк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464508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5. После того, как подсохнут белые заготовки, остаётся наклеить зелёные листья, произвольно располагая их по картин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У меня получилас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интересная поделк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Я с удовольствием подари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свою работу маме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30640" y="3200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Копия%202012-02-17%2010.23.39" descr=""/>
          <p:cNvPicPr/>
          <p:nvPr/>
        </p:nvPicPr>
        <p:blipFill>
          <a:blip r:embed="rId1"/>
          <a:stretch/>
        </p:blipFill>
        <p:spPr>
          <a:xfrm>
            <a:off x="40767120" y="-760320"/>
            <a:ext cx="387648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Comic Sans MS"/>
              </a:rPr>
              <a:t>Выбор  и обоснование проблемы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От чистого сердц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ростыми слова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Давайте, друзь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отолкуем о маме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8 Марта – мамин день. В этот праздник все мужчины готовят подарки своим любимым. Передо мной стала проблема , что мамочке подарит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Можно подарок купить в магазин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но мне почему то этого не захотелось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Со своей проблемой я поделился с папой. Он посоветова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приготовить подарок для мамы,  своими рук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Comic Sans MS"/>
              </a:rPr>
              <a:t>Исследование и развитие иде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Вместе с папой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мы рассмотрели различные варианты поделок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посмотрели в Интернете образцы издел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Нам очень понравился один интересный букет цветов. Он был изготовлен по необычной технологии работы с бумагой. Мы прочитали много литературы об этом способ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Что такое квиллинг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Квиллинг – это искусство бумагокруче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Для квиллинга используются бумажные полосы шириной 3, 4 и 6 м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крученным полосам можно придавать любую форм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С помощью техники квиллинга можно оформить открытку или даже картин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4170240"/>
            <a:ext cx="2158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d47d"/>
                </a:solidFill>
                <a:latin typeface="Comic Sans MS"/>
              </a:rPr>
              <a:t>Рациональность проекта.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Идея работы с техникой «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виллинг</a:t>
            </a: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» мне понравилась. Цветная бумага, клей есть у каждого школьника, рамку можно попросить сделать  пап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Для фона можно использовать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Comic Sans MS"/>
              </a:rPr>
              <a:t>куски обое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ИСПОЛЬЗУЕМЫЕ ИНСТРУМЕНТЫ: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Шил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убочистк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инце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Линейк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Карандаш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b781"/>
                </a:solidFill>
                <a:latin typeface="Arial"/>
              </a:rPr>
              <a:t>ТЕХНОЛОГИЯ ПРОИЗВОДСТВА</a:t>
            </a:r>
            <a:br>
              <a:rPr sz="3600"/>
            </a:br>
            <a:r>
              <a:rPr b="0" lang="en-US" sz="3600" spc="-1" strike="noStrike">
                <a:solidFill>
                  <a:srgbClr val="d5b781"/>
                </a:solidFill>
                <a:latin typeface="Arial"/>
              </a:rPr>
              <a:t>лепестков и листье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Разлинеить лист бумаги на полосы по 0,5 см в ширин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Разрезать ег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" y="3425760"/>
            <a:ext cx="38862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3. С помощью шила  закрутить каждую полоску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419360" cy="32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84f0"/>
                </a:solidFill>
                <a:latin typeface="Arial"/>
              </a:rPr>
              <a:t>ТЕХНОЛОГИЯ ИЗГОТОВЛЕНИЯ</a:t>
            </a:r>
            <a:br>
              <a:rPr sz="3600"/>
            </a:br>
            <a:r>
              <a:rPr b="0" lang="en-US" sz="3600" spc="-1" strike="noStrike">
                <a:solidFill>
                  <a:srgbClr val="8c84f0"/>
                </a:solidFill>
                <a:latin typeface="Arial"/>
              </a:rPr>
              <a:t>серединки цветк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. Разлинеим лист бумаги жёлтого цвета по 0,5 с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. Разрежем лист на полос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. Сложим  их вместе стопкой, сделаем ножницами бахрому с одной стороны полосо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. Закрутим каждую полоску с помощью шил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5. Снимем заготовку с шила и дадим слегка раскрутиться, край заготовки приклеи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ник</cp:lastModifiedBy>
  <dcterms:modified xsi:type="dcterms:W3CDTF">1999-12-31T21:55:0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