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C7E-FF55-4A01-8755-0A71CDF8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7A7-8A4D-4DF4-B15A-079428C6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83D-BF1F-4F17-96FB-99BCF0D9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619-CE71-41D0-8AA7-DF4C75BE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F0EC-0FF2-4815-9A56-C38B3976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7138-6321-45E0-8208-8CBF154A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E52-B4A5-4D3F-AD77-ED54788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3ADA-54ED-4A94-8E40-492C778A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637F-B082-4CD4-B273-38DED018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9850-DC82-434D-8ED9-F582EFC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7FC3-2854-46F4-B3A0-48042B2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E71-A171-453B-B864-F4CDB50C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93AA-D3A0-423E-A491-88496C0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52ED-1698-4976-91D7-666E5ABF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293E-E35C-4AE8-85F6-C847409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DD27-1D7D-49CD-9AC3-18EDB8E2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6620-BD7B-4D23-92D1-A718B1C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629-9CB9-4E12-9A1F-BCD5736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E1F-3D77-4001-B19C-102BD6E4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861-2185-4788-8B89-68853A55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1DB-A070-4F3A-A36E-9011D6E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711-A38F-4FD7-848C-DFBC27A1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8AD-5946-438E-AC89-77931A1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6D1-659C-4E99-82F5-28A1027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156D-4813-446F-9F0F-1441E58AD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1EA-539A-4365-BE6C-89CA380EE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66"/>
                </a:solidFill>
                <a:latin typeface="Times New Roman"/>
              </a:rPr>
              <a:t>Модерация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равила игр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73240" y="114300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1. Высказывания должны быть крат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2. Не разрешается говорить нескольким участникам одновре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3. Главные идеи и предложения должны быть визуали­зиров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4. Все обсуждения ведутся пись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5.     Применять так называемые «конфликтные зна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derare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ереводе с латинского – приводить в равновесие, управлять, рег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ра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труктурированный по определенным правилам процесс группового обсуждения в целях идентификации проблем, поиска путей их разрешения и принятия общего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йтрализацию или снижение эмоционального напряжения при обсуждении животрепещущих пробл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еративность в выработке вариантов решений и достижения согласия относительно выбора оптимального из н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 модер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роведении деловых совещаний обеспечивает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 модер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роведении деловых совещаний обеспечивает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73240" y="1980720"/>
            <a:ext cx="77724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огичное завершение обсуждения проблемы составлением плана конкретны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зможность всем участникам почувствовать свой вклад в выработку решения и принять персональную ответственность за реализацию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модерации – это достижение эффективного уровня деловой коммуникации при демократическом планировании и стимулировании активного участия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3240" y="214200"/>
            <a:ext cx="7772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ы модерации направлены на достижение конкретной цели и обеспечение комфортности в группе каждого слуш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дерац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это процесс взаимодействия, направляемый и структурируемый модератором, ориентированный, прежде всего, на реальные условия, предпосылки, ожидания, потребности и запросы участников, их опыт и компете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дер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же, как и другие виды сопровождения, имеет следующие характерис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редоточена на конкретной 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иентирована не на конкуренцию, а на коопер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ключает формальный контроль и оц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способы деятельности, указывающие путь решения проблемы для груп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 психологически комфортные условия для субъектов профессиональ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3880" y="609480"/>
            <a:ext cx="7421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ы мо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за знако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хождение или погружение в тему (сообщение ц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снение ожиданий участников (планирование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ача и анализ информации (инп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работка содержания (групповая раб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едение итогов (рефлек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моциональная разрядка (разми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едпочтительные методы и формы образования взрослых: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73240" y="142884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ы для снятия психической нагруз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консультативно-индивидуаль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ые фор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ые методы об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тренин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y</dc:creator>
  <dc:description/>
  <dc:language>en-US</dc:language>
  <cp:lastModifiedBy>Tany</cp:lastModifiedBy>
  <dcterms:modified xsi:type="dcterms:W3CDTF">2013-01-28T10:40:17Z</dcterms:modified>
  <cp:revision>7</cp:revision>
  <dc:subject/>
  <dc:title>PowerPoint Presentation</dc:title>
</cp:coreProperties>
</file>