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A53-A144-4262-9976-2E88281B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14E-AAAC-4D06-B877-DE92950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0E6-0F09-4D1F-8A7B-91BF4B32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5DD-68CC-4710-B3CD-515A9FFC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81FF-931D-4165-A02C-2C4A780B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6307-9D7C-4A01-AD3F-F5D2B12E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7936-1734-4D30-A9FC-D0CC55F1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8731-A5AD-448F-A4DE-2D1479AE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FF96-E331-412D-BE0B-306D501A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47DB-0DB1-49B3-B633-E5848BD7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603C-D5E7-4964-97C9-154CE78B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4AE-F14A-4631-92F5-7C202D60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FB9D-994B-42AE-9C08-B470358C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9737-D9D6-4B1E-B7BE-F2D68BDA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09CF-4DF6-49CC-952D-53750905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B4E5-A319-430F-806F-B149FBAA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31EA-2ECC-459F-B671-E6EBCF36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BC0-4899-44A0-A036-1F4FA943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FFE-6C1D-4A48-A435-BF377174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9D9-01D6-47DD-9503-C57805F8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B2D-1066-4804-9E16-5AA4DA08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82A-584D-44C3-90F6-F9B248F5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3E8-EB02-412B-A374-94A05442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FDB-0A93-4EA9-A3A2-2932E285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E7BC-C3DA-427F-8D66-2B2D591D22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E6DA-F3A5-4487-8649-EF5B572F0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66"/>
                </a:solidFill>
                <a:latin typeface="Times New Roman"/>
              </a:rPr>
              <a:t>Модерация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142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равила игры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73240" y="114300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1. Высказывания должны быть кратки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2. Не разрешается говорить нескольким участникам одновре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3. Главные идеи и предложения должны быть визуали­зиров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4. Все обсуждения ведутся письмен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о 5.     Применять так называемые «конфликтные знак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oderare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ереводе с латинского – приводить в равновесие, управлять, рег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дерация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труктурированный по определенным правилам процесс группового обсуждения в целях идентификации проблем, поиска путей их разрешения и принятия общего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ейтрализацию или снижение эмоционального напряжения при обсуждении животрепещущих пробл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перативность в выработке вариантов решений и достижения согласия относительно выбора оптимального из ни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тод модераци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роведении деловых совещаний обеспечивает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етод модераци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 проведении деловых совещаний обеспечивает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73240" y="1980720"/>
            <a:ext cx="77724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логичное завершение обсуждения проблемы составлением плана конкретных дей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зможность всем участникам почувствовать свой вклад в выработку решения и принять персональную ответственность за реализацию принят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модерации – это достижение эффективного уровня деловой коммуникации при демократическом планировании и стимулировании активного участия сотру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73240" y="214200"/>
            <a:ext cx="77724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тоды модерации направлены на достижение конкретной цели и обеспечение комфортности в группе каждого слуша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дерация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это процесс взаимодействия, направляемый и структурируемый модератором, ориентированный, прежде всего, на реальные условия, предпосылки, ожидания, потребности и запросы участников, их опыт и компетен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7324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дерац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 же, как и другие виды сопровождения, имеет следующие характерис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редоточена на конкретной пробл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иентирована не на конкуренцию, а на коопер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ключает формальный контроль и оцен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ржит способы деятельности, указывающие путь решения проблемы для групп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ет психологически комфортные условия для субъектов профессиональ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23880" y="609480"/>
            <a:ext cx="7421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ы мо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аза знако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хождение или погружение в тему (сообщение ц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снение ожиданий участников (планирование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ача и анализ информации (инп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работка содержания (групповая раб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едение итогов (рефлекс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эмоциональная разрядка (размин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едпочтительные методы и формы образования взрослых: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73240" y="142884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ая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ы для снятия психической нагруз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консультативно-индивидуальной рабо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овые фор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ые методы обу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тренинг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ny</dc:creator>
  <dc:description/>
  <dc:language>en-US</dc:language>
  <cp:lastModifiedBy>Tany</cp:lastModifiedBy>
  <dcterms:modified xsi:type="dcterms:W3CDTF">2013-01-28T10:40:17Z</dcterms:modified>
  <cp:revision>7</cp:revision>
  <dc:subject/>
  <dc:title>PowerPoint Presentation</dc:title>
</cp:coreProperties>
</file>