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859-D9AA-4FBD-95BA-2E003611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32A-A6E1-4F31-9A33-A3DE5BB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E5D-5DB4-4B2A-8E1F-A6C9842F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C93-50B7-4D83-9115-7639DBB8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E67C-B423-4D21-8172-FB4A97AE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41C1-F27A-4EC3-8FE9-B1CF7E33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91CB-A942-4511-AB1D-78E87AF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13E8-A24B-4399-9EF0-ACD8AE03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A367-2BC4-4583-B6B5-C7D75C49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7954-0A71-496A-B108-8BE9C0F6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0456-1CF5-4C47-9801-C63B981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9C6-5791-46B7-9904-4D24D43D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4AE9-7448-44FE-942E-D25C17A3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2227-080D-483C-8043-1F271C5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59F7-0DCB-44B5-9B24-9687724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73EB-E2E2-4FB2-ACB6-B816190C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C0DC-17AD-4353-87B1-C875FF95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F67B-4AD3-492A-B996-28C71B11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560E-AE10-453C-8A26-5DE3C5E7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C154-01F4-4C3E-92BA-4CB04602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97BA-C438-4E52-8F7A-D2BA078C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3D4C-3B6F-41CA-979E-97E7DF52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D20-DA9F-4E38-B279-E83BEB3D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8655-3AD6-47C9-8153-8A2D27F7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0BDAA-36EB-428D-8868-E08BEE27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AC60-6325-4342-9BD4-541BE255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A76B-CEAA-4234-98A9-E91A28F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F5F8-1969-44FE-BBCC-B6927D20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8E35-B6CD-4361-9BE9-DE870D4A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1707-4365-4A9C-B52C-2656EE9F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36E-4874-4D12-95C5-18096F81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A3A-B46D-40CC-ABF7-FF52A652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A25-208F-4280-80B6-A17223BB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B23-23C1-4A78-BD38-1B4DB51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996-4533-478A-87D4-9D2DAAE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A1C-68B0-4EE2-A599-B15873B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DB12-72C9-4F11-928C-905C952A7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5BDE-CD0A-4F65-AEC8-9DAB1900821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1C7-5366-46AE-ABE7-D01108A91AC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рономия – это наука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 телескоп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о звёзд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о разных предм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Мерку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Rectangle 3"/>
          <p:cNvGraphicFramePr/>
          <p:nvPr/>
        </p:nvGraphicFramePr>
        <p:xfrm>
          <a:off x="3276720" y="1243080"/>
          <a:ext cx="5867280" cy="56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243080"/>
                    <a:ext cx="5867280" cy="561492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                                     </a:t>
            </a: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Вен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Rectangle 3"/>
          <p:cNvGraphicFramePr/>
          <p:nvPr/>
        </p:nvGraphicFramePr>
        <p:xfrm>
          <a:off x="250920" y="333360"/>
          <a:ext cx="6049800" cy="604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333360"/>
                    <a:ext cx="6049800" cy="6048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5364000" y="260280"/>
          <a:ext cx="345600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0" y="260280"/>
                    <a:ext cx="3456000" cy="2592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Rectangle 3"/>
          <p:cNvGraphicFramePr/>
          <p:nvPr/>
        </p:nvGraphicFramePr>
        <p:xfrm>
          <a:off x="1162080" y="476280"/>
          <a:ext cx="7010280" cy="638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2080" y="476280"/>
                    <a:ext cx="7010280" cy="638172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Ма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Rectangle 3"/>
          <p:cNvGraphicFramePr/>
          <p:nvPr/>
        </p:nvGraphicFramePr>
        <p:xfrm>
          <a:off x="1157400" y="476280"/>
          <a:ext cx="6943680" cy="638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7400" y="476280"/>
                    <a:ext cx="6943680" cy="638172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Юпи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Является ли Земля частью Вселен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Rectangle 3"/>
          <p:cNvGraphicFramePr/>
          <p:nvPr/>
        </p:nvGraphicFramePr>
        <p:xfrm>
          <a:off x="250920" y="692280"/>
          <a:ext cx="6192720" cy="576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92280"/>
                    <a:ext cx="6192720" cy="57610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Rectangle 3"/>
          <p:cNvGraphicFramePr/>
          <p:nvPr/>
        </p:nvGraphicFramePr>
        <p:xfrm>
          <a:off x="1171440" y="476280"/>
          <a:ext cx="6280200" cy="612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1440" y="476280"/>
                    <a:ext cx="6280200" cy="61214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У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Rectangle 3"/>
          <p:cNvGraphicFramePr/>
          <p:nvPr/>
        </p:nvGraphicFramePr>
        <p:xfrm>
          <a:off x="900000" y="333360"/>
          <a:ext cx="7417080" cy="63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33360"/>
                    <a:ext cx="7417080" cy="63356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Непту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Плу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Rectangle 3"/>
          <p:cNvGraphicFramePr/>
          <p:nvPr/>
        </p:nvGraphicFramePr>
        <p:xfrm>
          <a:off x="2484360" y="1700280"/>
          <a:ext cx="4543560" cy="40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700280"/>
                    <a:ext cx="4543560" cy="40449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олнечная система 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Сол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2852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ланеты и их спутн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стероиды, метеориты, ком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ибор для рассматривания отдаленных предметов называ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арометр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телескоп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термоме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основе работы теле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увеличение предм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уменьшение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акая фигура отбрасывает круглую тень в любом пол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ону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у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является спутником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Лу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роверь свои отве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б,  2 а,  3 б,  4 а,  5 в,  6 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Что входит в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 Солнечную систем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Галилео Галилей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Николай Копе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10-26T11:27:31Z</dcterms:modified>
  <cp:revision>4</cp:revision>
  <dc:subject/>
  <dc:title>PowerPoint Presentation</dc:title>
</cp:coreProperties>
</file>