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8BC-C3D5-4258-980B-3D1093D6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681-4727-49BF-8E5C-F86B8E2C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87F-C2E6-441C-B4A0-82D9DF05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8DE-E9C9-4C7D-BE16-B08C83D2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D9B2-329B-494F-AA9F-EBB7E0EF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D41A-E537-4642-A929-3F8A7E30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2C97-535D-4B1E-939A-0F0292A0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AA75-188E-478E-AD74-8EEE1155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B7C4-5708-4788-9208-3D8D2A22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2439-8C7A-45FC-823C-60C02634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7B22-A440-4C1A-952C-0C9C1AC0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0D6-4B2C-4727-86E6-06AF3887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76BF-243B-4E26-89B8-83B49F41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DC92-DC3D-4B3C-9A29-DAD86ADE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9454-0AE6-456D-9D46-0E5C195A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605D-B091-4F4A-AC70-6536FE76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5E23-6857-43C1-B85F-F9006719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5766C-37D2-4FA6-9B0B-1BA2F9B4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52047-4B87-49A7-8E4C-6CE1882C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4324B-B3E5-43EE-AC7B-2DE098A4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F90F3-D218-4C0A-BD92-BC146FF0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16130-6F96-4245-8F36-5B7F7529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C7D-F69F-4F76-8271-F8EBD393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D1033-BD79-4051-A757-0745F2AD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A93E7-DBC5-48C8-B5D1-0272517E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65FC7-C3AB-4B00-BB91-7246E360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5D5CC-AE41-493D-86D3-5821F1AE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B2213-2CBE-4E63-B700-AE12104C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BD7EE-0DE7-4FD3-A334-0DC3FE2B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00CFD-E393-4A79-B527-FDDC6021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C29-F242-44B9-9473-D8F105DE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7FC-740B-4CDA-A318-414B08E6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F7B4-5D46-4087-B03D-66E801BA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BCE-54B5-40E3-BDA9-E55622C4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1A16-66B7-4551-9C92-FCF012D8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778C-E3F5-4155-A125-281010DA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0B5B-902D-47C3-9A36-903F39607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0EE6-7AD8-4F13-8D9B-AEE5FBDBAE8E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4F19-5A45-4619-862B-BE7C52AC9769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трономия – это наука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о телескоп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о звёзд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о разных предме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лнеч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Rectangle 3"/>
          <p:cNvGraphicFramePr/>
          <p:nvPr/>
        </p:nvGraphicFramePr>
        <p:xfrm>
          <a:off x="457200" y="1413000"/>
          <a:ext cx="8147160" cy="54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13000"/>
                    <a:ext cx="8147160" cy="544500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Меркур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Rectangle 3"/>
          <p:cNvGraphicFramePr/>
          <p:nvPr/>
        </p:nvGraphicFramePr>
        <p:xfrm>
          <a:off x="3276720" y="1243080"/>
          <a:ext cx="5867280" cy="56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243080"/>
                    <a:ext cx="5867280" cy="561492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лнеч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Rectangle 3"/>
          <p:cNvGraphicFramePr/>
          <p:nvPr/>
        </p:nvGraphicFramePr>
        <p:xfrm>
          <a:off x="457200" y="1413000"/>
          <a:ext cx="8147160" cy="54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13000"/>
                    <a:ext cx="8147160" cy="544500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3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                                      </a:t>
            </a:r>
            <a:r>
              <a:rPr b="1" lang="ru-RU" sz="4800" spc="-1" strike="noStrike">
                <a:solidFill>
                  <a:srgbClr val="ffff00"/>
                </a:solidFill>
                <a:latin typeface="Georgia"/>
              </a:rPr>
              <a:t>Вене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Rectangle 3"/>
          <p:cNvGraphicFramePr/>
          <p:nvPr/>
        </p:nvGraphicFramePr>
        <p:xfrm>
          <a:off x="250920" y="333360"/>
          <a:ext cx="6049800" cy="604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333360"/>
                    <a:ext cx="6049800" cy="6048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лнеч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Rectangle 3"/>
          <p:cNvGraphicFramePr/>
          <p:nvPr/>
        </p:nvGraphicFramePr>
        <p:xfrm>
          <a:off x="457200" y="1413000"/>
          <a:ext cx="8147160" cy="54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13000"/>
                    <a:ext cx="8147160" cy="544500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"/>
          <p:cNvGraphicFramePr/>
          <p:nvPr/>
        </p:nvGraphicFramePr>
        <p:xfrm>
          <a:off x="5364000" y="260280"/>
          <a:ext cx="3456000" cy="25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64000" y="260280"/>
                    <a:ext cx="3456000" cy="2592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лнеч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Rectangle 3"/>
          <p:cNvGraphicFramePr/>
          <p:nvPr/>
        </p:nvGraphicFramePr>
        <p:xfrm>
          <a:off x="457200" y="1413000"/>
          <a:ext cx="8147160" cy="54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13000"/>
                    <a:ext cx="8147160" cy="544500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3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Rectangle 3"/>
          <p:cNvGraphicFramePr/>
          <p:nvPr/>
        </p:nvGraphicFramePr>
        <p:xfrm>
          <a:off x="1162080" y="476280"/>
          <a:ext cx="7010280" cy="638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62080" y="476280"/>
                    <a:ext cx="7010280" cy="638172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Ма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лнеч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Rectangle 3"/>
          <p:cNvGraphicFramePr/>
          <p:nvPr/>
        </p:nvGraphicFramePr>
        <p:xfrm>
          <a:off x="457200" y="1413000"/>
          <a:ext cx="8147160" cy="54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13000"/>
                    <a:ext cx="8147160" cy="544500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3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Rectangle 3"/>
          <p:cNvGraphicFramePr/>
          <p:nvPr/>
        </p:nvGraphicFramePr>
        <p:xfrm>
          <a:off x="1157400" y="476280"/>
          <a:ext cx="6943680" cy="638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2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7400" y="476280"/>
                    <a:ext cx="6943680" cy="638172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Юпи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Является ли Земля частью Вселен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лнеч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Rectangle 3"/>
          <p:cNvGraphicFramePr/>
          <p:nvPr/>
        </p:nvGraphicFramePr>
        <p:xfrm>
          <a:off x="457200" y="1413000"/>
          <a:ext cx="8147160" cy="54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13000"/>
                    <a:ext cx="8147160" cy="544500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Сатур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Rectangle 3"/>
          <p:cNvGraphicFramePr/>
          <p:nvPr/>
        </p:nvGraphicFramePr>
        <p:xfrm>
          <a:off x="250920" y="692280"/>
          <a:ext cx="6192720" cy="576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692280"/>
                    <a:ext cx="6192720" cy="576108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лнеч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Rectangle 3"/>
          <p:cNvGraphicFramePr/>
          <p:nvPr/>
        </p:nvGraphicFramePr>
        <p:xfrm>
          <a:off x="457200" y="1413000"/>
          <a:ext cx="8147160" cy="54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5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13000"/>
                    <a:ext cx="8147160" cy="544500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7" name="Rectangle 3"/>
          <p:cNvGraphicFramePr/>
          <p:nvPr/>
        </p:nvGraphicFramePr>
        <p:xfrm>
          <a:off x="1171440" y="476280"/>
          <a:ext cx="6280200" cy="612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1440" y="476280"/>
                    <a:ext cx="6280200" cy="61214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Ур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лнеч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Rectangle 3"/>
          <p:cNvGraphicFramePr/>
          <p:nvPr/>
        </p:nvGraphicFramePr>
        <p:xfrm>
          <a:off x="457200" y="1413000"/>
          <a:ext cx="8147160" cy="54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3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13000"/>
                    <a:ext cx="8147160" cy="544500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Rectangle 3"/>
          <p:cNvGraphicFramePr/>
          <p:nvPr/>
        </p:nvGraphicFramePr>
        <p:xfrm>
          <a:off x="900000" y="333360"/>
          <a:ext cx="7417080" cy="633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333360"/>
                    <a:ext cx="7417080" cy="63356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Непту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лнеч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Rectangle 3"/>
          <p:cNvGraphicFramePr/>
          <p:nvPr/>
        </p:nvGraphicFramePr>
        <p:xfrm>
          <a:off x="457200" y="1413000"/>
          <a:ext cx="8147160" cy="54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13000"/>
                    <a:ext cx="8147160" cy="5445000"/>
                  </a:xfrm>
                  <a:prstGeom prst="rect">
                    <a:avLst/>
                  </a:prstGeom>
                  <a:ln w="572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3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Плут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Rectangle 3"/>
          <p:cNvGraphicFramePr/>
          <p:nvPr/>
        </p:nvGraphicFramePr>
        <p:xfrm>
          <a:off x="2484360" y="1700280"/>
          <a:ext cx="4543560" cy="404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84360" y="1700280"/>
                    <a:ext cx="4543560" cy="40449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Солнечная система 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71600" y="191628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Солн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285264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ланеты и их спутни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407664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астероиды, метеориты, коме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рибор для рассматривания отдаленных предметов называет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барометр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телескоп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термомет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В основе работы телеск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увеличение предме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уменьшение предм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акая фигура отбрасывает круглую тень в любом полож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кону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куб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ш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является спутником Зем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Лу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Солн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Проверь свои ответ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б,  2 а,  3 б,  4 а,  5 в,  6 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eorgia"/>
              </a:rPr>
              <a:t>Что входит в</a:t>
            </a:r>
            <a:br>
              <a:rPr sz="6000"/>
            </a:br>
            <a:r>
              <a:rPr b="1" lang="ru-RU" sz="6000" spc="-1" strike="noStrike">
                <a:solidFill>
                  <a:srgbClr val="ffff00"/>
                </a:solidFill>
                <a:latin typeface="Georgia"/>
              </a:rPr>
              <a:t> Солнечную систему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Галилео Галилей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Николай Копер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9-10-26T11:27:31Z</dcterms:modified>
  <cp:revision>4</cp:revision>
  <dc:subject/>
  <dc:title>PowerPoint Presentation</dc:title>
</cp:coreProperties>
</file>