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768-E964-49F9-8088-A5AED9B9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B33-6759-4728-9E08-DBB7BB37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60D-0B83-4939-A39C-FF051C88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C5A-F7D3-4DA8-9099-FDD9293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A5F-392E-4A84-AE24-9EB54213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435-E86A-41B8-8511-5A0469D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6B2-DB43-437B-8E1C-B2B158A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14A-2794-4BE1-8F03-D6AE7E5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C49-8875-4E38-932B-5BA4104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B42-4363-4BB2-8750-87BE7362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4C7-EF89-4D60-AEC5-C2DB5E81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A04-136B-46B3-B9DF-EF1688C8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4768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768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095880" y="65674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923160" y="1440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47" name="Oval 4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48" name="Oval 5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2" name="Oval 9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77" name="Group 34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78" name="Line 35"/>
              <p:cNvSpPr/>
              <p:nvPr/>
            </p:nvSpPr>
            <p:spPr>
              <a:xfrm>
                <a:off x="27968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3036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0" name="Line 37"/>
              <p:cNvSpPr/>
              <p:nvPr/>
            </p:nvSpPr>
            <p:spPr>
              <a:xfrm>
                <a:off x="3252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1" name="Line 38"/>
              <p:cNvSpPr/>
              <p:nvPr/>
            </p:nvSpPr>
            <p:spPr>
              <a:xfrm>
                <a:off x="3468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2" name="Line 39"/>
              <p:cNvSpPr/>
              <p:nvPr/>
            </p:nvSpPr>
            <p:spPr>
              <a:xfrm>
                <a:off x="3684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3" name="Line 40"/>
              <p:cNvSpPr/>
              <p:nvPr/>
            </p:nvSpPr>
            <p:spPr>
              <a:xfrm>
                <a:off x="389988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4" name="Line 41"/>
              <p:cNvSpPr/>
              <p:nvPr/>
            </p:nvSpPr>
            <p:spPr>
              <a:xfrm>
                <a:off x="41256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5" name="Line 42"/>
              <p:cNvSpPr/>
              <p:nvPr/>
            </p:nvSpPr>
            <p:spPr>
              <a:xfrm>
                <a:off x="4365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6" name="Line 43"/>
              <p:cNvSpPr/>
              <p:nvPr/>
            </p:nvSpPr>
            <p:spPr>
              <a:xfrm>
                <a:off x="4581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7" name="Line 44"/>
              <p:cNvSpPr/>
              <p:nvPr/>
            </p:nvSpPr>
            <p:spPr>
              <a:xfrm>
                <a:off x="4797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8" name="Line 45"/>
              <p:cNvSpPr/>
              <p:nvPr/>
            </p:nvSpPr>
            <p:spPr>
              <a:xfrm>
                <a:off x="5013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9" name="Line 46"/>
              <p:cNvSpPr/>
              <p:nvPr/>
            </p:nvSpPr>
            <p:spPr>
              <a:xfrm>
                <a:off x="52286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90" name="Oval 47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2" name="Oval 49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3" name="Oval 50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4" name="Oval 51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5" name="Oval 52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6" name="Oval 53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7" name="Oval 54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8" name="Oval 55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9" name="Oval 56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102" name="Group 59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103" name="Line 60"/>
              <p:cNvSpPr/>
              <p:nvPr/>
            </p:nvSpPr>
            <p:spPr>
              <a:xfrm>
                <a:off x="54781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4" name="Line 61"/>
              <p:cNvSpPr/>
              <p:nvPr/>
            </p:nvSpPr>
            <p:spPr>
              <a:xfrm>
                <a:off x="5717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5" name="Line 62"/>
              <p:cNvSpPr/>
              <p:nvPr/>
            </p:nvSpPr>
            <p:spPr>
              <a:xfrm>
                <a:off x="5933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6" name="Line 63"/>
              <p:cNvSpPr/>
              <p:nvPr/>
            </p:nvSpPr>
            <p:spPr>
              <a:xfrm>
                <a:off x="6149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7" name="Line 64"/>
              <p:cNvSpPr/>
              <p:nvPr/>
            </p:nvSpPr>
            <p:spPr>
              <a:xfrm>
                <a:off x="6365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8" name="Line 65"/>
              <p:cNvSpPr/>
              <p:nvPr/>
            </p:nvSpPr>
            <p:spPr>
              <a:xfrm>
                <a:off x="658116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9" name="Line 66"/>
              <p:cNvSpPr/>
              <p:nvPr/>
            </p:nvSpPr>
            <p:spPr>
              <a:xfrm>
                <a:off x="68068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0" name="Line 67"/>
              <p:cNvSpPr/>
              <p:nvPr/>
            </p:nvSpPr>
            <p:spPr>
              <a:xfrm>
                <a:off x="7046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1" name="Line 68"/>
              <p:cNvSpPr/>
              <p:nvPr/>
            </p:nvSpPr>
            <p:spPr>
              <a:xfrm>
                <a:off x="7262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2" name="Line 69"/>
              <p:cNvSpPr/>
              <p:nvPr/>
            </p:nvSpPr>
            <p:spPr>
              <a:xfrm>
                <a:off x="7478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3" name="Line 70"/>
              <p:cNvSpPr/>
              <p:nvPr/>
            </p:nvSpPr>
            <p:spPr>
              <a:xfrm>
                <a:off x="7694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4" name="Line 71"/>
              <p:cNvSpPr/>
              <p:nvPr/>
            </p:nvSpPr>
            <p:spPr>
              <a:xfrm>
                <a:off x="79099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115" name="Oval 72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6" name="Oval 73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7" name="Oval 74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8" name="Oval 75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9" name="Oval 76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0" name="Oval 77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2" name="Oval 79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3" name="Oval 80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4" name="Oval 81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5" name="Oval 82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6" name="Line 83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7" name="Line 84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8" name="Line 85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9" name="Line 86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0" name="Line 87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1" name="Line 88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2" name="Line 89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3" name="Line 90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4" name="Line 91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</p:grpSp>
      <p:sp>
        <p:nvSpPr>
          <p:cNvPr id="135" name="Rectangle 92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133141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6" name="Oval 93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69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69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9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A09-1587-491E-B3DB-DB295673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648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-14400" y="1932120"/>
            <a:ext cx="9158400" cy="2506680"/>
          </a:xfrm>
          <a:prstGeom prst="pie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1" name="Freeform 5"/>
          <p:cNvSpPr/>
          <p:nvPr/>
        </p:nvSpPr>
        <p:spPr>
          <a:xfrm>
            <a:off x="-4680" y="2046240"/>
            <a:ext cx="9148680" cy="27878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c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1e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223" name="Rectangle 3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224" name="Group 4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225" name="Group 5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226" name="Line 6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8" name="Line 8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9" name="Line 9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2" name="Oval 12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4" name="Oval 14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5" name="Oval 15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6" name="Oval 16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7" name="Oval 17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8" name="Oval 18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9" name="Oval 19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0" name="Oval 20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1" name="Oval 21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2" name="Oval 22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3" name="Oval 23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4" name="Oval 24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5" name="Oval 25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6" name="Oval 26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7" name="Oval 27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8" name="Oval 28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9" name="Oval 29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0" name="Oval 30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1" name="Oval 31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2" name="Group 32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253" name="Line 33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4" name="Line 34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35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36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37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38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9" name="Oval 39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0" name="Oval 40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1" name="Oval 41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2" name="Oval 42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3" name="Oval 43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4" name="Oval 44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5" name="Oval 45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6" name="Oval 46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7" name="Oval 47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8" name="Oval 48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9" name="Oval 49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0" name="Oval 50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1" name="Oval 51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2" name="Oval 52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3" name="Oval 53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4" name="Oval 54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5" name="Oval 55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6" name="Oval 56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7" name="Oval 57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8" name="Oval 58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9" name="Group 59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280" name="Group 60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281" name="Line 61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62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3" name="Line 63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4" name="Line 64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5" name="Line 65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6" name="Line 66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7" name="Oval 67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8" name="Oval 68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9" name="Oval 69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0" name="Oval 70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1" name="Oval 71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2" name="Oval 72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3" name="Oval 73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4" name="Oval 74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5" name="Oval 75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6" name="Oval 76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7" name="Oval 77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8" name="Oval 78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9" name="Oval 79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0" name="Oval 80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1" name="Oval 81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2" name="Oval 82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3" name="Oval 83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4" name="Oval 84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5" name="Oval 85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6" name="Oval 86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87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308" name="Line 88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9" name="Line 89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0" name="Line 90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1" name="Line 91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2" name="Line 92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3" name="Line 93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4" name="Oval 94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5" name="Oval 95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6" name="Oval 96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7" name="Oval 97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8" name="Oval 98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9" name="Oval 99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100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1" name="Oval 101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2" name="Oval 102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3" name="Oval 103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4" name="Oval 104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5" name="Oval 105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6" name="Oval 106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7" name="Oval 107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8" name="Oval 108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9" name="Oval 109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0" name="Oval 110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1" name="Oval 111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2" name="Oval 112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3" name="Oval 113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4" name="Group 114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335" name="Group 115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336" name="Line 116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7" name="Line 117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8" name="Line 118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9" name="Line 119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0" name="Line 120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1" name="Line 121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2" name="Oval 122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3" name="Oval 123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4" name="Oval 124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5" name="Oval 125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6" name="Oval 126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7" name="Oval 127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8" name="Oval 128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9" name="Oval 129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0" name="Oval 130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1" name="Oval 131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2" name="Oval 132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3" name="Oval 133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4" name="Oval 134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5" name="Oval 135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6" name="Oval 136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7" name="Oval 137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8" name="Oval 138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9" name="Oval 139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0" name="Oval 140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1" name="Oval 141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2" name="Group 142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363" name="Line 143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4" name="Line 144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5" name="Line 145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6" name="Line 146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7" name="Line 147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8" name="Line 148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9" name="Oval 149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0" name="Oval 150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1" name="Oval 151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2" name="Oval 152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3" name="Oval 153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4" name="Oval 154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5" name="Oval 155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6" name="Oval 156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7" name="Oval 157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8" name="Oval 158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9" name="Oval 159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0" name="Oval 160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1" name="Oval 161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2" name="Oval 162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3" name="Oval 163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4" name="Oval 164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5" name="Oval 165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6" name="Oval 166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7" name="Oval 167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8" name="Oval 168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89" name="Line 169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2" name="Line 172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3" name="Line 173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394" name="Group 174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95" name="Group 175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96" name="Line 176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97" name="Line 177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98" name="Line 178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9" name="Group 179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400" name="Line 180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1" name="Line 181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2" name="Line 182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3" name="Group 183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404" name="Line 184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5" name="Line 185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6" name="Line 186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7" name="Group 187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408" name="Line 188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9" name="Line 189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0" name="Line 190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1" name="Group 191"/>
              <p:cNvGrpSpPr/>
              <p:nvPr/>
            </p:nvGrpSpPr>
            <p:grpSpPr>
              <a:xfrm>
                <a:off x="1440" y="4941720"/>
                <a:ext cx="9142200" cy="431640"/>
                <a:chOff x="1440" y="4941720"/>
                <a:chExt cx="9142200" cy="431640"/>
              </a:xfrm>
            </p:grpSpPr>
            <p:sp>
              <p:nvSpPr>
                <p:cNvPr id="412" name="Line 192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3" name="Line 193"/>
                <p:cNvSpPr/>
                <p:nvPr/>
              </p:nvSpPr>
              <p:spPr>
                <a:xfrm>
                  <a:off x="5760" y="5157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4" name="Line 194"/>
                <p:cNvSpPr/>
                <p:nvPr/>
              </p:nvSpPr>
              <p:spPr>
                <a:xfrm>
                  <a:off x="1440" y="5373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5" name="Group 195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416" name="Line 196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7" name="Line 197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8" name="Line 198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9" name="Group 199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420" name="Line 200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21" name="Line 201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22" name="Line 202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23" name="Oval 203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4" name="Oval 204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5" name="Oval 205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6" name="Oval 206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7" name="Oval 207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8" name="Oval 208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9" name="Oval 209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0" name="Oval 210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1" name="Oval 211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2" name="Oval 212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3" name="Oval 213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4" name="Oval 214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5" name="Oval 215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6" name="Oval 216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7" name="Oval 217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8" name="Oval 218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439" name="Rectangle 219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29698d"/>
                </a:gs>
                <a:gs pos="100000">
                  <a:srgbClr val="1331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</p:grpSp>
      <p:graphicFrame>
        <p:nvGraphicFramePr>
          <p:cNvPr id="440" name="Object 220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Object 2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Oval 221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43" name="Text Box 22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69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69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0" y="0"/>
            <a:ext cx="1403280" cy="981000"/>
          </a:xfrm>
          <a:prstGeom prst="rect">
            <a:avLst/>
          </a:prstGeom>
          <a:solidFill>
            <a:srgbClr val="1f5281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858160" cy="20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ЕДАГОГИЧЕСКИЙ СОВЕ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«Информатизация образовательного процесс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словие формирования информационной компетентности учащихся и педагогов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642960" y="50720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Цель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эффективное использование единой школьной образовательной информационной среды.</a:t>
            </a:r>
            <a:endParaRPr b="0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Категории ЭОР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480" y="1228320"/>
            <a:ext cx="87152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федеральных образовательных порталов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коммерческих образовательных порталов и учебные электронные издания на С</a:t>
            </a: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региональных образовательных порталов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, разработанные учителями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ФЦИОР </a:t>
            </a:r>
            <a:r>
              <a:rPr b="0" i="1" lang="en-US" sz="3200" spc="-1" strike="noStrike">
                <a:solidFill>
                  <a:srgbClr val="29698d"/>
                </a:solidFill>
                <a:latin typeface="Arial"/>
              </a:rPr>
              <a:t>http://fcior.edu.ru</a:t>
            </a: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1" name="Нижний колонтитул 4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Подведение итогов: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14200" y="1412640"/>
            <a:ext cx="8786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98d"/>
                </a:solidFill>
                <a:latin typeface="Arial"/>
              </a:rPr>
              <a:t>При введении ЭОР доступными эффективными являются</a:t>
            </a: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Компьютер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Компьютер + проекционное оборудование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Электронный учебник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Авторский цифровой образовательный ресурс (презентация, сайт, тест, кроссворд, таблица, текст…)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Тестирующие оболочк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3143160" y="62866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743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9698d"/>
                </a:solidFill>
                <a:latin typeface="Verdana"/>
              </a:rPr>
              <a:t>Эффективность учебной деятельности</a:t>
            </a:r>
            <a:endParaRPr b="1" i="1" lang="en-US" sz="26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познавательной активности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учебной мотивации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плотности урок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100% включенность учащихся в деятельность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наглядности изучаемого материал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Создание системы педагогической поддержки и ситуации успех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Экономия времен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7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0" y="0"/>
            <a:ext cx="1403280" cy="981000"/>
          </a:xfrm>
          <a:prstGeom prst="rect">
            <a:avLst/>
          </a:prstGeom>
          <a:solidFill>
            <a:srgbClr val="1f5281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858160" cy="20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ЕДАГОГИЧЕСКИЙ СОВЕ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«Информатизация образовательного процесс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словие формирования информационной компетентности учащихся и педагогов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642960" y="50720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Цель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эффективное использование единой школьной образовательной информационной среды.</a:t>
            </a:r>
            <a:endParaRPr b="0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Задачи педагогического совета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1123920" y="2382840"/>
            <a:ext cx="54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9698d"/>
                </a:solidFill>
                <a:uFillTx/>
                <a:latin typeface="Arial"/>
              </a:rPr>
              <a:t>Создать условия для: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осознания целей информационной деятельности, принципов ИКТ, их возможностей и технологических средств;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я интереса педагогов к информационным и коммуникационным технологиям;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нимания педагогами необходимости приобретения новых знаний для коррекции информационной деятельности на основе самоанализа и саморегуляци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88" name="Нижний колонтитул 6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2876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Информатизация образования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– процесс обеспечения сферы образования теорией и практической разработки и использования современных ИТ, ориентированных на реализацию психолого-педагогических целей обучения и воспитания.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Мультимедийные программы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– программы, в которых объединена графическая, звуковая и видеоинформация. 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Мультимедиа технологии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 – способ подготовки электронных документов, включающих визуальные и аудиоэффекты, мультипрограммирование различных ситуаций под единым управлением интерактивного ПО. Под средствами мультимедиа обычно понимают графику, гипертекст, звук, анимацию, видео. Мультимедиа широко используется в рекламном бизнесе, компьютерных играх. 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0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 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13840" y="12283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98d"/>
                </a:solidFill>
                <a:latin typeface="Arial"/>
              </a:rPr>
              <a:t>Компьютерные технологии обучения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– совокупность средств и методов создания педагогических условий работы на основе компьютерной техники, средств телекоммуникационной связи и интерактивного программного продукта, которые моделируют часть функций педагога по обработке информации, организации контроля и управления познавательной деятельностью.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98d"/>
                </a:solidFill>
                <a:latin typeface="Arial"/>
              </a:rPr>
              <a:t>Информационные технологии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 – совокупность средств и методов преобразования информационных данных для получения информации нового качества (информационного продукта).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Информационная компетентность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1228320"/>
            <a:ext cx="88200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698d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интегративное качество личности субъекта в сфере информации и информационно - коммуникационных технологий и опыта их использования, а также способность совершенствовать свои знания, умения и принимать новые решения в меняющихся условиях с использованием новых технологических средств.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7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Возможности средств ИКТ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5712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незамедлительная обратная связь между пользователем и средствами ИКТ, определяющая реализацию </a:t>
            </a:r>
            <a:r>
              <a:rPr b="0" i="1" lang="ru-RU" sz="2400" spc="-1" strike="noStrike">
                <a:solidFill>
                  <a:srgbClr val="29698d"/>
                </a:solidFill>
                <a:latin typeface="Arial"/>
              </a:rPr>
              <a:t>интерактивного диалога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который характерен тем, что каждый запрос пользователя вызывает ответное действие системы и, наоборот, реплика последней требует реакции пользователя;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698d"/>
                </a:solidFill>
                <a:latin typeface="Arial"/>
              </a:rPr>
              <a:t>компьютерная визуализация учебной информации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об изучаемом объекте, процессе (наглядное представление на экране: объекта, его составных частей или их моделей; процесса или его модели, в том числе скрытого в реальном мире; графической интерпретации исследуемой закономерности изучаемого процесса);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0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Возможности средств ИКТ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57120" y="1499760"/>
            <a:ext cx="85154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компьютерное моделирование изучаемых или исследуемых объектов, их отношений, явлений, процессов, протекающих как реально, так и «виртуально» (представление на экране математической, информационно-описательной, наглядной модели адекватно оригиналу)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рхивирование, хранение больших объемов информации с возможностью легкого доступа к ней, ее передачи, тиражирования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втоматизация процессов вычислительной, информационно-поисковой деятельности, а также обработки результатов учебного эксперимента с возможностью многократного повторения фрагмента или самого эксперимента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втоматизация процессов информационно-методического обеспечения, организационного управления учебной деятельностью и контроля результатов усвоения.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3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Условия целесообразности  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0040" y="10713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Применение ИКТ целесообразно при: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Достаточной подготовленности педагога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Достаточной ресурсной оснащенности образовательного процесса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Методической обоснованности (содержание, формы)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Наличие локальной нормативной базы ОУ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Соблюдении санитарно-гигиенических требований.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Цели создания ЭОР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Современные ЭОР способны обеспечить: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Поддержку всех этапов образовательного процесса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Расширение сектора самостоятельной учебной работы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Изменение ролей преподавателя и учащихся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Ощущение способности управлять ходом событий и чувства ответственности за получаемый результат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Переход ученика к активному участию в образовательном процессе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Реализация новых форм и методов обучения.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3143160" y="635796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54:57Z</dcterms:created>
  <dc:creator>avv</dc:creator>
  <dc:description/>
  <dc:language>en-US</dc:language>
  <cp:lastModifiedBy>Тамарчук Т.А.</cp:lastModifiedBy>
  <dcterms:modified xsi:type="dcterms:W3CDTF">2012-11-12T13:55:03Z</dcterms:modified>
  <cp:revision>74</cp:revision>
  <dc:subject/>
  <dc:title>Название ПС</dc:title>
</cp:coreProperties>
</file>