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25.gif" ContentType="image/gif"/>
  <Override PartName="/ppt/media/image12.jpeg" ContentType="image/jpeg"/>
  <Override PartName="/ppt/media/image10.wmf" ContentType="image/x-wmf"/>
  <Override PartName="/ppt/media/image4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wmf" ContentType="image/x-wmf"/>
  <Override PartName="/ppt/media/image3.jpeg" ContentType="image/jpeg"/>
  <Override PartName="/ppt/media/image15.png" ContentType="image/png"/>
  <Override PartName="/ppt/media/image24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B6CC-3AC9-4498-A302-3BEEC798F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5B80-BD14-4D38-B029-9139E9EC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5DBF-DF00-4CE2-A82C-E34D669AB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184B-1FB2-4BE7-9C52-F147578D7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90F58-329D-4BE3-8792-EE494AC49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3042F-0F98-4571-B455-2712434CC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7554A-ABB3-4273-B993-D5F52A0BD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83F5F-7B69-4C16-97E7-1B1839B72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13F57-9F49-4A2B-9C0E-A9AD5C7AB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85AC4-2292-404E-99F4-63AF69A38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FE8DC-E385-413F-97A9-8DF469EF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EBDC-092D-4D0F-B5A2-A426A9236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2CB20-49C8-4072-B825-2376D196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9ED75-8400-4D54-B9B3-D89A4D71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C664A-6ED9-4D3D-9113-AC4FE0138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FA8AF-4A38-4DF6-9D9D-8B2D987EC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111C8-1B5E-4C89-B3E0-73166A1F1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159D-85E5-43C0-BB50-3E17EC159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AE3D-EA13-44AA-AAD5-4A2B0A51B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90B7-0106-4750-A84F-41020FD8B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75E2-F13D-4998-A5B2-CD0E71E88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D948-974E-484E-BA40-465F94D5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2C1D-DAE5-4753-B17A-BEA20B7B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8AAE-A0CB-42A2-8211-E1BF47F4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D0E7A-C734-4AAE-9FA5-767E5E87568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881C0-12AE-4DE6-AD1C-9F0F6DC9ACA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5638680" cy="144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Пожарная безопасность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419720" y="281952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ава, обязанности и ответственность граждан в области пожарной безопас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00034912"/>
          <p:cNvPicPr/>
          <p:nvPr/>
        </p:nvPicPr>
        <p:blipFill>
          <a:blip r:embed="rId1"/>
          <a:stretch/>
        </p:blipFill>
        <p:spPr>
          <a:xfrm>
            <a:off x="228600" y="4038480"/>
            <a:ext cx="3505320" cy="239868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6" descr="41a217737875.jpg"/>
          <p:cNvPicPr/>
          <p:nvPr/>
        </p:nvPicPr>
        <p:blipFill>
          <a:blip r:embed="rId2"/>
          <a:stretch/>
        </p:blipFill>
        <p:spPr>
          <a:xfrm>
            <a:off x="6705720" y="228600"/>
            <a:ext cx="2257200" cy="25290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8"/>
          <p:cNvSpPr/>
          <p:nvPr/>
        </p:nvSpPr>
        <p:spPr>
          <a:xfrm>
            <a:off x="2295360" y="2819520"/>
            <a:ext cx="177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лассный час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Box 9"/>
          <p:cNvSpPr/>
          <p:nvPr/>
        </p:nvSpPr>
        <p:spPr>
          <a:xfrm>
            <a:off x="5793120" y="5562720"/>
            <a:ext cx="305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1 в класс МБОУ СОШ №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 Н.Н. Ежов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Рисунок 6" descr="1boom1-b.jpg"/>
          <p:cNvPicPr/>
          <p:nvPr/>
        </p:nvPicPr>
        <p:blipFill>
          <a:blip r:embed="rId1"/>
          <a:stretch/>
        </p:blipFill>
        <p:spPr>
          <a:xfrm>
            <a:off x="0" y="1143000"/>
            <a:ext cx="4321080" cy="3255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111"/>
          <p:cNvPicPr/>
          <p:nvPr/>
        </p:nvPicPr>
        <p:blipFill>
          <a:blip r:embed="rId2"/>
          <a:stretch/>
        </p:blipFill>
        <p:spPr>
          <a:xfrm>
            <a:off x="4427640" y="3886200"/>
            <a:ext cx="4716360" cy="25909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Наиболее распространенные </a:t>
            </a:r>
            <a:r>
              <a:rPr b="0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причины пожаров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в быту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. Неосторожное обращение с огне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. Неправильная эксплуатация печного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опления, электрооборудов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. Шалости дете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. Использование пиротехн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обходимость соблюдения правил пожарной безопасности диктуется законами жизни и определена законодательством Р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граждан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РФ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Федеральным законом «О пожарной безопасности» (от 21декабря 1994 г.)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усмотрены определенные права, обязанности и ответственность в области пожарной безопас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3" descr="fire"/>
          <p:cNvPicPr/>
          <p:nvPr/>
        </p:nvPicPr>
        <p:blipFill>
          <a:blip r:embed="rId1"/>
          <a:stretch/>
        </p:blipFill>
        <p:spPr>
          <a:xfrm>
            <a:off x="2895480" y="4800600"/>
            <a:ext cx="32004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Рисунок 4" descr="1306835.jpg"/>
          <p:cNvPicPr/>
          <p:nvPr/>
        </p:nvPicPr>
        <p:blipFill>
          <a:blip r:embed="rId1"/>
          <a:stretch/>
        </p:blipFill>
        <p:spPr>
          <a:xfrm>
            <a:off x="195120" y="835200"/>
            <a:ext cx="8802720" cy="602928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ждый человек в случае пожара имеет право н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щиту жизни, здоровья и имущества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змещение ущерба в установленном порядк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астие в установлении причин пожара, нанесшего ущерб здоровью и имуществ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учение информации по вопросам пожарной безопасн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астие в мероприятиях по обеспечению пожарной безо­пас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Прямоугольник 5"/>
          <p:cNvSpPr/>
          <p:nvPr/>
        </p:nvSpPr>
        <p:spPr>
          <a:xfrm>
            <a:off x="1519200" y="361800"/>
            <a:ext cx="67867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Права граждан в области пожарной безопасно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Рисунок 4" descr="f262002068012451c61ee2565c311049_medium.jpg"/>
          <p:cNvPicPr/>
          <p:nvPr/>
        </p:nvPicPr>
        <p:blipFill>
          <a:blip r:embed="rId1"/>
          <a:stretch/>
        </p:blipFill>
        <p:spPr>
          <a:xfrm>
            <a:off x="5486400" y="4371840"/>
            <a:ext cx="3335400" cy="248616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Права граждан в области пожарной безопас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ждый человек в случае пожара имеет право н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щиту жизни, здоровья и имущества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змещение ущерба в установленном порядк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астие в установлении причин пожара, нанесшего ущерб здоровью и имуществ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учение информации по вопросам пожарной безопасност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астие в мероприятиях по обеспечению пожарной безо­пас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2895120" y="-360"/>
            <a:ext cx="58676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В области пожарной безопасности каждый человек обязан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соблюдать требования пожарной безопасности (в том чис­ле научиться обращению с огнем в повседневной жизни; иметь подручные средства пожаротушения в доме (квартире), научить­ся ими пользоваться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иметь в помещении первичные средства тушения пожаров в соответствии с правилами пожарной безопасности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Рисунок 4" descr="full_20091229161610.jpg"/>
          <p:cNvPicPr/>
          <p:nvPr/>
        </p:nvPicPr>
        <p:blipFill>
          <a:blip r:embed="rId1"/>
          <a:stretch/>
        </p:blipFill>
        <p:spPr>
          <a:xfrm>
            <a:off x="228600" y="4267080"/>
            <a:ext cx="3098880" cy="232416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5" descr="2941157_f520.jpg"/>
          <p:cNvPicPr/>
          <p:nvPr/>
        </p:nvPicPr>
        <p:blipFill>
          <a:blip r:embed="rId2"/>
          <a:stretch/>
        </p:blipFill>
        <p:spPr>
          <a:xfrm>
            <a:off x="457200" y="228600"/>
            <a:ext cx="23115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рямоугольник 1"/>
          <p:cNvSpPr/>
          <p:nvPr/>
        </p:nvSpPr>
        <p:spPr>
          <a:xfrm>
            <a:off x="457200" y="3048120"/>
            <a:ext cx="8153280" cy="27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 обнаружении пожаров немедленно уведомить пожарную охран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о прибытия пожарной охраны принимать посильные меры по тушению пожара, спасению людей, имущест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ыполнять все законные требования должностных лиц по­жарной охран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Рисунок 2" descr="photos0-800x600.jpg"/>
          <p:cNvPicPr/>
          <p:nvPr/>
        </p:nvPicPr>
        <p:blipFill>
          <a:blip r:embed="rId1"/>
          <a:srcRect l="20003" t="1335" r="16001" b="8000"/>
          <a:stretch/>
        </p:blipFill>
        <p:spPr>
          <a:xfrm>
            <a:off x="6248520" y="380880"/>
            <a:ext cx="2438280" cy="259092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4" descr="00000003192-1.jpg"/>
          <p:cNvPicPr/>
          <p:nvPr/>
        </p:nvPicPr>
        <p:blipFill>
          <a:blip r:embed="rId2"/>
          <a:srcRect l="0" t="22481" r="0" b="24809"/>
          <a:stretch/>
        </p:blipFill>
        <p:spPr>
          <a:xfrm>
            <a:off x="380880" y="304920"/>
            <a:ext cx="332424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Какая  техника  используется при тушении пожаров.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пециализирован-ные пожарные маши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топомп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жарные вертолеты, самолет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жарные катера, су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жарные поезд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Рисунок 4" descr="rrs_FireTrain_2.jpg"/>
          <p:cNvPicPr/>
          <p:nvPr/>
        </p:nvPicPr>
        <p:blipFill>
          <a:blip r:embed="rId1"/>
          <a:stretch/>
        </p:blipFill>
        <p:spPr>
          <a:xfrm>
            <a:off x="6324480" y="1143000"/>
            <a:ext cx="2600280" cy="195120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5" descr="samookupaemosty_pogarnih_4.jpg"/>
          <p:cNvPicPr/>
          <p:nvPr/>
        </p:nvPicPr>
        <p:blipFill>
          <a:blip r:embed="rId2"/>
          <a:stretch/>
        </p:blipFill>
        <p:spPr>
          <a:xfrm>
            <a:off x="3381480" y="2514600"/>
            <a:ext cx="2448000" cy="167652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6" descr="Image51.jpg"/>
          <p:cNvPicPr/>
          <p:nvPr/>
        </p:nvPicPr>
        <p:blipFill>
          <a:blip r:embed="rId3"/>
          <a:srcRect l="6003" t="0" r="23332" b="28765"/>
          <a:stretch/>
        </p:blipFill>
        <p:spPr>
          <a:xfrm>
            <a:off x="5867280" y="4038480"/>
            <a:ext cx="2710080" cy="205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Рисунок 5" descr="19889.jpg"/>
          <p:cNvPicPr/>
          <p:nvPr/>
        </p:nvPicPr>
        <p:blipFill>
          <a:blip r:embed="rId1"/>
          <a:stretch/>
        </p:blipFill>
        <p:spPr>
          <a:xfrm>
            <a:off x="5105520" y="3733920"/>
            <a:ext cx="3784320" cy="283824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56386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Чем тушить огонь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324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да(кроме электропроводки, нефтепродуктов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сок, земля, пена, спецпорош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шма (используется для тушения горюче-смазочных материал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гонь(при тушении лесных пожаров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4" descr="j0199541"/>
          <p:cNvPicPr/>
          <p:nvPr/>
        </p:nvPicPr>
        <p:blipFill>
          <a:blip r:embed="rId2"/>
          <a:stretch/>
        </p:blipFill>
        <p:spPr>
          <a:xfrm>
            <a:off x="7358040" y="228600"/>
            <a:ext cx="1785960" cy="159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j0254420"/>
          <p:cNvPicPr/>
          <p:nvPr/>
        </p:nvPicPr>
        <p:blipFill>
          <a:blip r:embed="rId1"/>
          <a:stretch/>
        </p:blipFill>
        <p:spPr>
          <a:xfrm>
            <a:off x="5913360" y="4800600"/>
            <a:ext cx="3230640" cy="198108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ЗАПОМНИ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равила техники безопасности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0221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ильно используй  газовые и электрические приборы в быт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ильно используй  печное оборудова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блюдай меры безопасности при курен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оставляй  маленьки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тей без присмот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6" descr="j0233271"/>
          <p:cNvPicPr/>
          <p:nvPr/>
        </p:nvPicPr>
        <p:blipFill>
          <a:blip r:embed="rId2"/>
          <a:stretch/>
        </p:blipFill>
        <p:spPr>
          <a:xfrm>
            <a:off x="7391520" y="0"/>
            <a:ext cx="1584360" cy="117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1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5029200" y="502884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Работа выполнена на основе материалов интернет -ресурсо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6" descr="00034920"/>
          <p:cNvPicPr/>
          <p:nvPr/>
        </p:nvPicPr>
        <p:blipFill>
          <a:blip r:embed="rId1"/>
          <a:stretch/>
        </p:blipFill>
        <p:spPr>
          <a:xfrm>
            <a:off x="533520" y="4114800"/>
            <a:ext cx="4267080" cy="25210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20060213-6"/>
          <p:cNvPicPr/>
          <p:nvPr/>
        </p:nvPicPr>
        <p:blipFill>
          <a:blip r:embed="rId2"/>
          <a:stretch/>
        </p:blipFill>
        <p:spPr>
          <a:xfrm>
            <a:off x="6095880" y="380880"/>
            <a:ext cx="2819520" cy="4381560"/>
          </a:xfrm>
          <a:prstGeom prst="rect">
            <a:avLst/>
          </a:prstGeom>
          <a:ln w="0">
            <a:noFill/>
          </a:ln>
        </p:spPr>
      </p:pic>
      <p:sp>
        <p:nvSpPr>
          <p:cNvPr id="164" name="TextBox 7"/>
          <p:cNvSpPr/>
          <p:nvPr/>
        </p:nvSpPr>
        <p:spPr>
          <a:xfrm>
            <a:off x="98280" y="838080"/>
            <a:ext cx="6145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мни, соблюдение прави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отивопожарной безопас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-это обязанность каждого жител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ашей плане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Это наше с тобой здоровь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 благосостояние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Каждые 4 – 5 минут в нашей стране вспыхивает пожар. 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429000" y="1980720"/>
            <a:ext cx="556272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промышленных предприятиях, объектах сельского хозяйства, в учебных заведениях, детских дошкольных учреждениях и в жилых домах, при перевозках грузов на всех видах транспорта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4" descr="58"/>
          <p:cNvPicPr/>
          <p:nvPr/>
        </p:nvPicPr>
        <p:blipFill>
          <a:blip r:embed="rId1"/>
          <a:stretch/>
        </p:blipFill>
        <p:spPr>
          <a:xfrm>
            <a:off x="0" y="2666880"/>
            <a:ext cx="3581280" cy="350532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6" descr="00000003192-1.jpg"/>
          <p:cNvPicPr/>
          <p:nvPr/>
        </p:nvPicPr>
        <p:blipFill>
          <a:blip r:embed="rId2"/>
          <a:srcRect l="0" t="22481" r="0" b="24809"/>
          <a:stretch/>
        </p:blipFill>
        <p:spPr>
          <a:xfrm>
            <a:off x="6781680" y="5638680"/>
            <a:ext cx="187956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Огонь наш друг, но иногда приходит с ним в наш дом беда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30968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5" descr="02"/>
          <p:cNvPicPr/>
          <p:nvPr/>
        </p:nvPicPr>
        <p:blipFill>
          <a:blip r:embed="rId1"/>
          <a:stretch/>
        </p:blipFill>
        <p:spPr>
          <a:xfrm>
            <a:off x="228600" y="1523880"/>
            <a:ext cx="8534520" cy="5181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02"/>
          <p:cNvPicPr/>
          <p:nvPr/>
        </p:nvPicPr>
        <p:blipFill>
          <a:blip r:embed="rId2"/>
          <a:stretch/>
        </p:blipFill>
        <p:spPr>
          <a:xfrm>
            <a:off x="0" y="1523880"/>
            <a:ext cx="876312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6" descr="1105_02BC020D.jpg"/>
          <p:cNvPicPr/>
          <p:nvPr/>
        </p:nvPicPr>
        <p:blipFill>
          <a:blip r:embed="rId1"/>
          <a:stretch/>
        </p:blipFill>
        <p:spPr>
          <a:xfrm>
            <a:off x="4724280" y="152280"/>
            <a:ext cx="4048200" cy="26956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841320"/>
            <a:ext cx="3657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Из истори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3200400"/>
            <a:ext cx="84582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491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год, пожаром  в Дрездене, был уничтожен весь горо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547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д - 21 июня в Москве, погибло при пожаре 1700 челове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624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год. г. Осло сгорел вес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666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год в Лондоне, со 2  по 6 сентября «большой огонь» поглотил 14000 домов, лишил крова 200000 челове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Значение огня на разных этапах развития общества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54100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840"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Обогрев в холодное время год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840"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Защита от диких животны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840"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Приготовление пищ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840"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Обработка и изготовление орудий труд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840"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Освеще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840"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Преобразование энергии тепла в другой вид энергии -механическую, электрическую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Рисунок 5" descr="1663382000185aa54b0b6ef051ff42e366f79b70c5.jpg"/>
          <p:cNvPicPr/>
          <p:nvPr/>
        </p:nvPicPr>
        <p:blipFill>
          <a:blip r:embed="rId1"/>
          <a:stretch/>
        </p:blipFill>
        <p:spPr>
          <a:xfrm>
            <a:off x="5686560" y="1523880"/>
            <a:ext cx="300024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ожар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6560"/>
            <a:ext cx="8229600" cy="42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зникает, когда огонь выходит из-под контроля человека и процесс горения становится неуправляемы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00034909"/>
          <p:cNvPicPr/>
          <p:nvPr/>
        </p:nvPicPr>
        <p:blipFill>
          <a:blip r:embed="rId1"/>
          <a:stretch/>
        </p:blipFill>
        <p:spPr>
          <a:xfrm>
            <a:off x="457200" y="3657600"/>
            <a:ext cx="4465800" cy="2990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00034924"/>
          <p:cNvPicPr/>
          <p:nvPr/>
        </p:nvPicPr>
        <p:blipFill>
          <a:blip r:embed="rId2"/>
          <a:stretch/>
        </p:blipFill>
        <p:spPr>
          <a:xfrm>
            <a:off x="5410080" y="3657600"/>
            <a:ext cx="264492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ожар – это неконтролируемый процесс горения , сопровождающийся уничтожением материальных ценностей и создающий опасность для жизни и здоровья людей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47242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рение – это всякая реакция окисления, при которой выделяется тепло и наблюдается свечение горящих веществ, или продуктов их распа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оведение на пожаре: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 пожаре сообщить учителю(любому взрослому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 кричи, выполняй требования руководител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 паниковать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кидай школу вместе с классо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сле выхода из школы не  уходи без разреш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 предпринимай никаких действий без согласов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13" descr="MCj02902930000[1]"/>
          <p:cNvPicPr/>
          <p:nvPr/>
        </p:nvPicPr>
        <p:blipFill>
          <a:blip r:embed="rId1"/>
          <a:stretch/>
        </p:blipFill>
        <p:spPr>
          <a:xfrm>
            <a:off x="7308720" y="189000"/>
            <a:ext cx="1497240" cy="16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Опасность огня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сокая температура (вызывает ожоги, смерть людей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газованность (удушает, отравляет людей);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дымление (мешает тушить пожар, спасать людей)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кры и пламя ( вызывают новые очаги возгорания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4" descr="j0285498"/>
          <p:cNvPicPr/>
          <p:nvPr/>
        </p:nvPicPr>
        <p:blipFill>
          <a:blip r:embed="rId1"/>
          <a:stretch/>
        </p:blipFill>
        <p:spPr>
          <a:xfrm>
            <a:off x="6858000" y="152280"/>
            <a:ext cx="1360440" cy="152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</cp:lastModifiedBy>
  <dcterms:modified xsi:type="dcterms:W3CDTF">2013-04-23T17:17:41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