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25.gif" ContentType="image/gif"/>
  <Override PartName="/ppt/media/image12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wmf" ContentType="image/x-wmf"/>
  <Override PartName="/ppt/media/image3.jpeg" ContentType="image/jpeg"/>
  <Override PartName="/ppt/media/image15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CB4-58AB-4935-8B62-E624EF9F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B6F-F9F4-4FF7-8111-AB6B8DDB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8FB-89D5-48F1-9413-221A3A7E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3E43-87E6-46D1-BEA8-9FEA97EE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43BE-4D8C-4CF1-B9D8-3AD18E80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13E1-AC48-4BA6-9BFA-ED7557B2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A88A-8F24-43C6-B647-D9CF5B8D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61DA-40CF-4936-A8A6-DE39150A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9727-E2F1-4784-972D-B2D21C6F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E49E-34F5-4842-842C-1D9731FE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DD76-AC57-4AFD-BFC8-1CE85677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636-A537-45D1-A18E-C0B2402B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E08B-DE20-4A85-8408-701CDE74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178E-D75E-4D97-99E7-C6044766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BF53-C755-46C0-A042-46BCCF9A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3D0E-3E04-4A4A-AA68-3E0C3CC4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06E0-E4B3-45F0-949A-F9B3B7D5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C8E-17B5-47E1-ABB1-D15F1BDE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C0C-32A1-49F3-A416-B34E915D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FCD-18D7-40BF-B9A0-11352FAF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626-827D-4FEA-B43E-9F6CE84B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7AD-9474-48D1-A0B8-D74F4DFB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A5F-2BDF-4EB4-B8DB-3C1FA40F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CC8-4C46-4347-88B1-A5C3F9BC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6974-35F7-4EAF-9FB8-4A68A9F1D9F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9B80-44CC-4958-B331-324BED04415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Пожарная безопасность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419720" y="281952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а, обязанности и ответственность граждан в области пожарной безопас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00034912"/>
          <p:cNvPicPr/>
          <p:nvPr/>
        </p:nvPicPr>
        <p:blipFill>
          <a:blip r:embed="rId1"/>
          <a:stretch/>
        </p:blipFill>
        <p:spPr>
          <a:xfrm>
            <a:off x="228600" y="4038480"/>
            <a:ext cx="3505320" cy="23986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41a217737875.jpg"/>
          <p:cNvPicPr/>
          <p:nvPr/>
        </p:nvPicPr>
        <p:blipFill>
          <a:blip r:embed="rId2"/>
          <a:stretch/>
        </p:blipFill>
        <p:spPr>
          <a:xfrm>
            <a:off x="6705720" y="228600"/>
            <a:ext cx="2257200" cy="2529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8"/>
          <p:cNvSpPr/>
          <p:nvPr/>
        </p:nvSpPr>
        <p:spPr>
          <a:xfrm>
            <a:off x="2295360" y="281952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ный час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5793120" y="5562720"/>
            <a:ext cx="305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 в класс МБОУ СОШ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 Н.Н. Еж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6" descr="1boom1-b.jpg"/>
          <p:cNvPicPr/>
          <p:nvPr/>
        </p:nvPicPr>
        <p:blipFill>
          <a:blip r:embed="rId1"/>
          <a:stretch/>
        </p:blipFill>
        <p:spPr>
          <a:xfrm>
            <a:off x="0" y="1143000"/>
            <a:ext cx="4321080" cy="3255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111"/>
          <p:cNvPicPr/>
          <p:nvPr/>
        </p:nvPicPr>
        <p:blipFill>
          <a:blip r:embed="rId2"/>
          <a:stretch/>
        </p:blipFill>
        <p:spPr>
          <a:xfrm>
            <a:off x="4427640" y="3886200"/>
            <a:ext cx="4716360" cy="2590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аиболее распространенные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причины пожаров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в быту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Неосторожное обращение с огн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Неправильная эксплуатация печного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опления, электрооборуд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Шалости де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Использование пиротех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обходимость соблюдения правил пожарной безопасности диктуется законами жизни и определена законодательством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граждан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Ф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едеральным законом «О пожарной безопасности» (от 21декабря 1994 г.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усмотрены определенные права, обязанности и ответственность в области пожарной безопас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fire"/>
          <p:cNvPicPr/>
          <p:nvPr/>
        </p:nvPicPr>
        <p:blipFill>
          <a:blip r:embed="rId1"/>
          <a:stretch/>
        </p:blipFill>
        <p:spPr>
          <a:xfrm>
            <a:off x="2895480" y="4800600"/>
            <a:ext cx="3200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4" descr="1306835.jpg"/>
          <p:cNvPicPr/>
          <p:nvPr/>
        </p:nvPicPr>
        <p:blipFill>
          <a:blip r:embed="rId1"/>
          <a:stretch/>
        </p:blipFill>
        <p:spPr>
          <a:xfrm>
            <a:off x="195120" y="835200"/>
            <a:ext cx="8802720" cy="6029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человек в случае пожара имеет право н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щиту жизни, здоровья и имуществ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мещение ущерба в установленном поряд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стие в установлении причин пожара, нанесшего ущерб здоровью и имуществ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учение информации по вопросам пожарной безопас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стие в мероприятиях по обеспечению пожарной безо­пас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1519200" y="361800"/>
            <a:ext cx="6786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рава граждан в области пожарной безопас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4" descr="f262002068012451c61ee2565c311049_medium.jpg"/>
          <p:cNvPicPr/>
          <p:nvPr/>
        </p:nvPicPr>
        <p:blipFill>
          <a:blip r:embed="rId1"/>
          <a:stretch/>
        </p:blipFill>
        <p:spPr>
          <a:xfrm>
            <a:off x="5486400" y="4371840"/>
            <a:ext cx="3335400" cy="24861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ава граждан в области пожарной безоп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ждый человек в случае пожара имеет право н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щиту жизни, здоровья и имуществ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ещение ущерба в установленном поряд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стие в установлении причин пожара, нанесшего ущерб здоровью и имуществ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ение информации по вопросам пожарной безопас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стие в мероприятиях по обеспечению пожарной безо­пас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895120" y="-360"/>
            <a:ext cx="5867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В области пожарной безопасности каждый человек обязан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облюдать требования пожарной безопасности (в том чис­ле научиться обращению с огнем в повседневной жизни; иметь подручные средства пожаротушения в доме (квартире), научить­ся ими пользоватьс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меть в помещении первичные средства тушения пожаров в соответствии с правилами пожарной безопасност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Рисунок 4" descr="full_20091229161610.jpg"/>
          <p:cNvPicPr/>
          <p:nvPr/>
        </p:nvPicPr>
        <p:blipFill>
          <a:blip r:embed="rId1"/>
          <a:stretch/>
        </p:blipFill>
        <p:spPr>
          <a:xfrm>
            <a:off x="228600" y="4267080"/>
            <a:ext cx="3098880" cy="23241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2941157_f520.jpg"/>
          <p:cNvPicPr/>
          <p:nvPr/>
        </p:nvPicPr>
        <p:blipFill>
          <a:blip r:embed="rId2"/>
          <a:stretch/>
        </p:blipFill>
        <p:spPr>
          <a:xfrm>
            <a:off x="457200" y="228600"/>
            <a:ext cx="2311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457200" y="3048120"/>
            <a:ext cx="81532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обнаружении пожаров немедленно уведомить пожарную охран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 прибытия пожарной охраны принимать посильные меры по тушению пожара, спасению людей, имуще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полнять все законные требования должностных лиц по­жарной охра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Рисунок 2" descr="photos0-800x600.jpg"/>
          <p:cNvPicPr/>
          <p:nvPr/>
        </p:nvPicPr>
        <p:blipFill>
          <a:blip r:embed="rId1"/>
          <a:srcRect l="20003" t="1335" r="16001" b="8000"/>
          <a:stretch/>
        </p:blipFill>
        <p:spPr>
          <a:xfrm>
            <a:off x="6248520" y="380880"/>
            <a:ext cx="2438280" cy="25909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00000003192-1.jpg"/>
          <p:cNvPicPr/>
          <p:nvPr/>
        </p:nvPicPr>
        <p:blipFill>
          <a:blip r:embed="rId2"/>
          <a:srcRect l="0" t="22481" r="0" b="24809"/>
          <a:stretch/>
        </p:blipFill>
        <p:spPr>
          <a:xfrm>
            <a:off x="380880" y="304920"/>
            <a:ext cx="33242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акая  техника  используется при тушении пожаров.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ециализирован-ные пожарные маш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топомп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ные вертолеты, самоле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ные катера, с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ные поез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Рисунок 4" descr="rrs_FireTrain_2.jpg"/>
          <p:cNvPicPr/>
          <p:nvPr/>
        </p:nvPicPr>
        <p:blipFill>
          <a:blip r:embed="rId1"/>
          <a:stretch/>
        </p:blipFill>
        <p:spPr>
          <a:xfrm>
            <a:off x="6324480" y="114300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samookupaemosty_pogarnih_4.jpg"/>
          <p:cNvPicPr/>
          <p:nvPr/>
        </p:nvPicPr>
        <p:blipFill>
          <a:blip r:embed="rId2"/>
          <a:stretch/>
        </p:blipFill>
        <p:spPr>
          <a:xfrm>
            <a:off x="3381480" y="2514600"/>
            <a:ext cx="2448000" cy="16765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6" descr="Image51.jpg"/>
          <p:cNvPicPr/>
          <p:nvPr/>
        </p:nvPicPr>
        <p:blipFill>
          <a:blip r:embed="rId3"/>
          <a:srcRect l="6003" t="0" r="23332" b="28765"/>
          <a:stretch/>
        </p:blipFill>
        <p:spPr>
          <a:xfrm>
            <a:off x="5867280" y="4038480"/>
            <a:ext cx="27100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5" descr="19889.jpg"/>
          <p:cNvPicPr/>
          <p:nvPr/>
        </p:nvPicPr>
        <p:blipFill>
          <a:blip r:embed="rId1"/>
          <a:stretch/>
        </p:blipFill>
        <p:spPr>
          <a:xfrm>
            <a:off x="5105520" y="3733920"/>
            <a:ext cx="3784320" cy="28382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638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Чем тушить огонь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324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да(кроме электропроводки, нефтепродукто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сок, земля, пена, спецпоро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шма (используется для тушения горюче-смазочных материа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гонь(при тушении лесных пожар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j0199541"/>
          <p:cNvPicPr/>
          <p:nvPr/>
        </p:nvPicPr>
        <p:blipFill>
          <a:blip r:embed="rId2"/>
          <a:stretch/>
        </p:blipFill>
        <p:spPr>
          <a:xfrm>
            <a:off x="7358040" y="228600"/>
            <a:ext cx="1785960" cy="15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j0254420"/>
          <p:cNvPicPr/>
          <p:nvPr/>
        </p:nvPicPr>
        <p:blipFill>
          <a:blip r:embed="rId1"/>
          <a:stretch/>
        </p:blipFill>
        <p:spPr>
          <a:xfrm>
            <a:off x="5913360" y="4800600"/>
            <a:ext cx="3230640" cy="1981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АПОМНИ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авила техники безопасности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022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 используй  газовые и электрические приборы в бы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 используй  печное оборуд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й меры безопасности при кур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оставляй  маленьки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ей без присмо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6" descr="j0233271"/>
          <p:cNvPicPr/>
          <p:nvPr/>
        </p:nvPicPr>
        <p:blipFill>
          <a:blip r:embed="rId2"/>
          <a:stretch/>
        </p:blipFill>
        <p:spPr>
          <a:xfrm>
            <a:off x="7391520" y="0"/>
            <a:ext cx="1584360" cy="11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029200" y="50288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а выполнена на основе материалов интернет -ресурс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6" descr="00034920"/>
          <p:cNvPicPr/>
          <p:nvPr/>
        </p:nvPicPr>
        <p:blipFill>
          <a:blip r:embed="rId1"/>
          <a:stretch/>
        </p:blipFill>
        <p:spPr>
          <a:xfrm>
            <a:off x="533520" y="4114800"/>
            <a:ext cx="4267080" cy="2521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20060213-6"/>
          <p:cNvPicPr/>
          <p:nvPr/>
        </p:nvPicPr>
        <p:blipFill>
          <a:blip r:embed="rId2"/>
          <a:stretch/>
        </p:blipFill>
        <p:spPr>
          <a:xfrm>
            <a:off x="6095880" y="380880"/>
            <a:ext cx="2819520" cy="43815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98280" y="838080"/>
            <a:ext cx="614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мни, соблюдение прав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тивопожарной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это обязанность каждого жите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шей план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то наше с тобой здоров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благосостоян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аждые 4 – 5 минут в нашей стране вспыхивает пожар.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9000" y="1980720"/>
            <a:ext cx="5562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ромышленных предприятиях, объектах сельского хозяйства, в учебных заведениях, детских дошкольных учреждениях и в жилых домах, при перевозках грузов на всех видах транспорта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58"/>
          <p:cNvPicPr/>
          <p:nvPr/>
        </p:nvPicPr>
        <p:blipFill>
          <a:blip r:embed="rId1"/>
          <a:stretch/>
        </p:blipFill>
        <p:spPr>
          <a:xfrm>
            <a:off x="0" y="2666880"/>
            <a:ext cx="35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00000003192-1.jpg"/>
          <p:cNvPicPr/>
          <p:nvPr/>
        </p:nvPicPr>
        <p:blipFill>
          <a:blip r:embed="rId2"/>
          <a:srcRect l="0" t="22481" r="0" b="24809"/>
          <a:stretch/>
        </p:blipFill>
        <p:spPr>
          <a:xfrm>
            <a:off x="6781680" y="5638680"/>
            <a:ext cx="18795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гонь наш друг, но иногда приходит с ним в наш дом бед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3096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02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5181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02"/>
          <p:cNvPicPr/>
          <p:nvPr/>
        </p:nvPicPr>
        <p:blipFill>
          <a:blip r:embed="rId2"/>
          <a:stretch/>
        </p:blipFill>
        <p:spPr>
          <a:xfrm>
            <a:off x="0" y="152388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6" descr="1105_02BC020D.jpg"/>
          <p:cNvPicPr/>
          <p:nvPr/>
        </p:nvPicPr>
        <p:blipFill>
          <a:blip r:embed="rId1"/>
          <a:stretch/>
        </p:blipFill>
        <p:spPr>
          <a:xfrm>
            <a:off x="4724280" y="152280"/>
            <a:ext cx="4048200" cy="2695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41320"/>
            <a:ext cx="3657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з истор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32004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49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, пожаром  в Дрездене, был уничтожен весь гор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547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 - 21 июня в Москве, погибло при пожаре 1700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62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. г. Осло сгорел ве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66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 в Лондоне, со 2  по 6 сентября «большой огонь» поглотил 14000 домов, лишил крова 200000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начение огня на разных этапах развития общества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5410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84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богрев в холодное время го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84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Защита от диких животн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84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риготовление пищ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84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бработка и изготовление орудий тру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84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свещ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84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реобразование энергии тепла в другой вид энергии -механическую, электрическу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5" descr="1663382000185aa54b0b6ef051ff42e366f79b70c5.jpg"/>
          <p:cNvPicPr/>
          <p:nvPr/>
        </p:nvPicPr>
        <p:blipFill>
          <a:blip r:embed="rId1"/>
          <a:stretch/>
        </p:blipFill>
        <p:spPr>
          <a:xfrm>
            <a:off x="5686560" y="1523880"/>
            <a:ext cx="30002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жа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6560"/>
            <a:ext cx="82296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никает, когда огонь выходит из-под контроля человека и процесс горения становится неуправляем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00034909"/>
          <p:cNvPicPr/>
          <p:nvPr/>
        </p:nvPicPr>
        <p:blipFill>
          <a:blip r:embed="rId1"/>
          <a:stretch/>
        </p:blipFill>
        <p:spPr>
          <a:xfrm>
            <a:off x="457200" y="3657600"/>
            <a:ext cx="4465800" cy="299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00034924"/>
          <p:cNvPicPr/>
          <p:nvPr/>
        </p:nvPicPr>
        <p:blipFill>
          <a:blip r:embed="rId2"/>
          <a:stretch/>
        </p:blipFill>
        <p:spPr>
          <a:xfrm>
            <a:off x="5410080" y="3657600"/>
            <a:ext cx="2644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жар – это неконтролируемый процесс горения , сопровождающийся уничтожением материальных ценностей и создающий опасность для жизни и здоровья людей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ение – это всякая реакция окисления, при которой выделяется тепло и наблюдается свечение горящих веществ, или продуктов их расп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ведение на пожаре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 пожаре сообщить учителю(любому взрослому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кричи, выполняй требования руководител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аникова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кидай школу вместе с класс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ле выхода из школы не  уходи без раз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редпринимай никаких действий без соглас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3" descr="MCj02902930000[1]"/>
          <p:cNvPicPr/>
          <p:nvPr/>
        </p:nvPicPr>
        <p:blipFill>
          <a:blip r:embed="rId1"/>
          <a:stretch/>
        </p:blipFill>
        <p:spPr>
          <a:xfrm>
            <a:off x="7308720" y="189000"/>
            <a:ext cx="149724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пасность огн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окая температура (вызывает ожоги, смерть людей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азованность (удушает, отравляет людей)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ымление (мешает тушить пожар, спасать людей)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ры и пламя ( вызывают новые очаги возгорани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j0285498"/>
          <p:cNvPicPr/>
          <p:nvPr/>
        </p:nvPicPr>
        <p:blipFill>
          <a:blip r:embed="rId1"/>
          <a:stretch/>
        </p:blipFill>
        <p:spPr>
          <a:xfrm>
            <a:off x="6858000" y="152280"/>
            <a:ext cx="136044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</cp:lastModifiedBy>
  <dcterms:modified xsi:type="dcterms:W3CDTF">2013-04-23T17:17:41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