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ECC8-20A6-4A27-BB2A-DFE83C83A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0C4-3CC3-49FF-8D46-8DAADD5A73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6F8-2C53-47EA-B05F-D749278C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497-34A3-4CA6-A1EE-86807491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D6C-0E8D-4193-8189-DAEAE350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A42-796A-4A90-8F4F-DE9A5348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FD5-D99A-4892-8A4E-527DF07F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538-B5CF-4715-AEF2-F441E06B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D3C-8CED-4BF2-B7C0-45374A6D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BD7-B9A7-45F7-BDE6-8924439A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5A3-0015-4A75-9FB6-D7E32999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01F-3257-4901-B269-E5AB33AE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E10-72F2-4A6F-A66C-7F4601AC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7D9-94C0-4619-98D1-284B4478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CD75-A559-43C2-BFFE-7B79E38D6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овая информация </a:t>
            </a:r>
            <a:br>
              <a:rPr sz="36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ля несовершеннолетних и их родителей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56000" y="1844280"/>
            <a:ext cx="403200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340000" y="1712880"/>
            <a:ext cx="4608360" cy="4164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дители привлекаются к ответствен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невыполнение или ненадлежащее выполнение родительских обязанностей, а также за совершение правонарушения в отношении своих детей родители несу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министративную, уголовную и материальную ответствен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 могут быть по суду лишены родительских прав, если о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лоняются от выполнения  обязанностей родителей, в том числе при  злостном уклонении от уплаты алимен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лоупотребляют родительскими прав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стоко обращаются с детьми, в том числе  осуществляют психическое и физическое насилие, покушаются на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или преступление против жизни или здоровья своих детей либо против жизни или здоровья суп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шение родительских прав не освобождает родителей от обязанностей по содержанию ребё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ешения в интересах де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учётом интересов ребёнка суд может отобрать ребёнка у родителей без лишения родительских прав (ограничение родительских прав). Такое решение возможно по обстоятельствам, от  родителей не зависящих (опасные заболевания, стечение тяжёлых семейных обстоятельств и др.) и в случаях, когда оставление ребёнка с родителями опасно для н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епосредственной угрозе жизни ребёнка или его здоровью орган опеки и попечительства может немедленно отобрать ребёнка у родителей на основании решения органа 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, лишённые родительских прав или ограниченные в правах, теряют права, основанные на факте родства с ребёнком, а также право на льготы и государственные пособия, установленные для граждан, имеющих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миссии по делам несовершеннолетних могут применить к родителям административные ме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лучае злостного невыполнения родителями обязанностей по воспит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доведения их до состояние опьянения или потребления наркотических средств без назначения врача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овершение подростками в возрасте до 16 лет нарушений правил дорожного движ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оявление детей в общественных местах в пьяном виде, а равно за распитие ими спиртных напитков или в связи с совершением других правонарушений (А, 35-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Уголовном кодексе Российской Федерации предусмотрены специальные нормы об уголовной ответственности родител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овлечение несовершеннолетних детей в совершение преступления  путём обещаний, обмана, угроз или иным способ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овлечение несовершеннолетнего в  систематическое употребление спиртных напитков и одурманивающих вещес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нятие проституцией, бродяжничеством или попрошайнич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неисполнение или ненадлежащее исполнение обязанностей по воспитанию детей, если эти деяния соединены с жестоким обраще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злостное уклонение от уплаты средств на содержание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 несут имущественную ответственность по сделкам малолетних детей, а также за вред, причинённый малолетними детьми (до 14 ле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Методическ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оловный кодекс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ейный кодекс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лищный кодекс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венция ООН о павах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равочные материалы «В помощь социальному педагогу», Л.Е. Дмитриева, Благовещенск,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203640" y="3676680"/>
            <a:ext cx="1865160" cy="248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081760" y="3457440"/>
            <a:ext cx="164592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рожд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55720" y="1851120"/>
          <a:ext cx="7432560" cy="4022640"/>
        </p:xfrm>
        <a:graphic>
          <a:graphicData uri="http://schemas.openxmlformats.org/drawingml/2006/table">
            <a:tbl>
              <a:tblPr/>
              <a:tblGrid>
                <a:gridCol w="2523960"/>
                <a:gridCol w="2638440"/>
                <a:gridCol w="2270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им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и воспитываться в семье, насколько это возможно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 родителей и жить вместе с ними (если это не противоречит интересам ребенка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аботу и воспитание родителями (или лицами их заменяющими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стороннее развитие и уважение человеческого достоинств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ать свое мнение при решении в семье любого вопроса затрагивающего его интерес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ащиту своих прав и законных интересов родителями (лицами, их заменяющими), органами опеки и попечительства, прокурором и судо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гражданство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на праве собственности имущество (полученное в дар или в наследство, а также приобретенное на средства ребенка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амостоятельное обращение в орган опеки и попечительства за защитой своих пра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ся родителей и лиц, их заменяющих, принимать их заботу и воспитание, за исключением случаев пренебрежительного, жестокого, грубого, унижающего человеческое достоинство обращения, оскорбления или эксплуатаци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ть правила поведения, установленные в воспитательных и общеобразовательных учреждениях, дома и в общественных местах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03280" y="88920"/>
            <a:ext cx="158436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6 л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яют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2276640"/>
          <a:ext cx="7434360" cy="3665520"/>
        </p:xfrm>
        <a:graphic>
          <a:graphicData uri="http://schemas.openxmlformats.org/drawingml/2006/table">
            <a:tbl>
              <a:tblPr/>
              <a:tblGrid>
                <a:gridCol w="2524320"/>
                <a:gridCol w="2638440"/>
                <a:gridCol w="22716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0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ть мелкие бытовые сдел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ть сделки, направленные на безвозмездное получение выгоды, не требующие нотариального удостоверения или государственной регистраци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ть сделки по распоряжению средствами, предоставленными родителями или другими людьми, с согласия родителей для определенной цели или для свободного распоряж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основное общее образование (9 классов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ть устав школы, правила внутреннего распорядка учебного завед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реподавателями, администрацией учебного завед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вершение общественно опасных действий, бродяжничество, уклонение от учебы, пьянство, вплоть до направления комиссией по делам несовершеннолетних в специальное лечебно-воспитательное учрежд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96848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0 л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я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55720" y="1947960"/>
          <a:ext cx="7432560" cy="2743200"/>
        </p:xfrm>
        <a:graphic>
          <a:graphicData uri="http://schemas.openxmlformats.org/drawingml/2006/table">
            <a:tbl>
              <a:tblPr/>
              <a:tblGrid>
                <a:gridCol w="2523960"/>
                <a:gridCol w="2638440"/>
                <a:gridCol w="2270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8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воё мнение при решении в семье любого вопрос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заслушанным в ходе любого судебного или административного разбирательст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ать согласие на изменение своего имени и фамилии, на восстановление родителя в родительских правах, на усыновление или передачу в приемную семь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39800" y="0"/>
            <a:ext cx="2554200" cy="1792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1 л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яют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55720" y="2421000"/>
          <a:ext cx="7432560" cy="3672000"/>
        </p:xfrm>
        <a:graphic>
          <a:graphicData uri="http://schemas.openxmlformats.org/drawingml/2006/table">
            <a:tbl>
              <a:tblPr/>
              <a:tblGrid>
                <a:gridCol w="2523960"/>
                <a:gridCol w="2638440"/>
                <a:gridCol w="227016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помещен в специальное воспитательное учреждение для детей и подростков (спецшкола, спец. интернат и т.д.) в случае совершения общественно опасных действий или злостного систематического нарушения правил общественного повед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4 л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яют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55720" y="2081160"/>
          <a:ext cx="7432560" cy="4632480"/>
        </p:xfrm>
        <a:graphic>
          <a:graphicData uri="http://schemas.openxmlformats.org/drawingml/2006/table">
            <a:tbl>
              <a:tblPr/>
              <a:tblGrid>
                <a:gridCol w="2523960"/>
                <a:gridCol w="2638440"/>
                <a:gridCol w="2270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паспорт гражданина Российской Федерации, самостоятельно обращаться в суд для защиты в суд для защиты своих пра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ть отмены усыновл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ать согласие на изменение своего гражданств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ть установления отцовства в отношении своего ребенка в судебном порядк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ть в свободное от учёбы время (например, во время каникул) с согласия одного из родителей, не более 4часовв день с определенными, трудовым законодательством РФ, льгота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распоряжаться своим заработком, стипендией, иными дохода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осуществлять права автора произведения науки, литературы или искусства, изобретения или другого результата своей интеллектуальной деятельност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осить вклады в банки и распоряжаться и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ть велосипедом при движении по дорога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ть трудовые обязанности в соответствии с условиями контракта, правилами трудового распорядка и трудовым законодательство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ение из школы за совершение правонарушений, в том  числе грубые и неоднократные нарушения устава школ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имущественная ответственность по заключенным сделка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ещение причиненного ущерб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 за нарушение трудовой дисциплин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ая ответственность за отдельные виды преступлений (убийство, умышленное причинение тяжкого и средней тяжести среда здоровью, изнасилование, кража, грабеж, разбой, вымогательство неправомерное завладение транспортным средством, заведомо ложное сообщение об акте терроризма, вандализм, приведение в негодность транспортных средств или путей сообщения и другие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68360" y="54000"/>
            <a:ext cx="2519280" cy="200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48000" y="889560"/>
            <a:ext cx="2952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дители имеют право, несут обязанности и ответственность за воспитание и развитие ребёнка;  согласно Семейному кодексу Р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Админ\Documents\картинки\sport010.jpg"/>
          <p:cNvPicPr/>
          <p:nvPr/>
        </p:nvPicPr>
        <p:blipFill>
          <a:blip r:embed="rId1"/>
          <a:stretch/>
        </p:blipFill>
        <p:spPr>
          <a:xfrm>
            <a:off x="2556000" y="47628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дители имеют пра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обеспечение со стороны государства  общедоступности и бесплатности получения их детьми основного общего образов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ыбора для своих детей форм образования и видов образовательных учреждени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приём детей для обучения в образовательные учреждения, расположенные по месту жительст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ознакомление с Уставом образовательного учреждения и другими документами, регламентирующими  организацию образовательного процесс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частвовать в управлении образовательным учреждением, в котором обучаются их дет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 наличии оснований для жалобы на школу или преподавателя предварительно обсуждать вопросы с директором школы и учителем, имеющим к этому отнош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одитель, с  которым проживает ребёнок, не должен препятствовать общению ребёнка с другим родителем, если такое общение не причиняет вред физическому и психическому здоровью ребёнка, его нравственному развитию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ознакомление с ходом и содержанием образовательного процесс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щищать права и законные интересы  дете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заботу  и содержание со стороны своих совершеннолетних детей, если  родители не были лишены родительских пра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дители обяза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ть и защищать права и интересы своих детей, не причинять вред физическому и психическому здоровью детей. их нравственному развитию, воспитывать детей, исключая пренебрежительное, жестокое, грубое, унижающее человеческое достоинство обращение, оскорбление или эксплуатац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ть детям до 15 лет получение основного общего образования в общеобразовательной школ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ять Устав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допускать неоправданного вмешательства в работу преподавателей по вопросам, которые по своему характеру входят в круг профессиональных обязанностей учите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ть в пределах своих способностей и финансовых возможностей условия жизни, необходимые для нормального развития ребён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ть своих несовершеннолетних детей (порядок и формы предоставления содержания детям определяются родителями самостоятельно; в случае, если родители не предоставляют содержание своим несовершеннолетним детям, средства на содержание детей  (алименты) взыскиваются с родителей (родителя) в судебном поряд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9:23Z</dcterms:created>
  <dc:creator>Админ</dc:creator>
  <dc:description/>
  <dc:language>en-US</dc:language>
  <cp:lastModifiedBy>Админ</cp:lastModifiedBy>
  <dcterms:modified xsi:type="dcterms:W3CDTF">2013-04-23T02:12:50Z</dcterms:modified>
  <cp:revision>27</cp:revision>
  <dc:subject/>
  <dc:title>Правовая информация</dc:title>
</cp:coreProperties>
</file>