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0856-C3B7-486A-A004-49DFAD09F4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F6A-4230-438B-AD80-3605D047AB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47E-3F2F-4E7C-AAB9-6D3FD2DA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E72-145B-4CE5-8817-840A64D6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F9D-EEB7-4F9C-8930-2EE1991D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9BC-001A-449F-93B1-8411F2C2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386-9045-443E-845E-763A35F6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B83-3C86-4C26-87AE-2E007C2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690-3651-4C2D-A9F4-C3F87BFD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298-2320-4CE3-A189-9FA8898E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965-9F77-4C7E-8A09-06F33D8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AC43-7E0B-41C4-BB85-C9C67D1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9E5-59F4-48E8-9166-C6C1E624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1F7-5AC1-4AF8-8855-FAD4D70C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5FA0-5C5D-4FAC-BCBF-923A81E8D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овая информация </a:t>
            </a:r>
            <a:br>
              <a:rPr sz="3600"/>
            </a:b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ля несовершеннолетних и их родителей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56000" y="1844280"/>
            <a:ext cx="403200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340000" y="1712880"/>
            <a:ext cx="4608360" cy="4164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привлекаются к ответствен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невыполнение или ненадлежащее выполнение родительских обязанностей, а также за совершение правонарушения в отношении своих детей родители несу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ативную, уголовную и материальную ответственно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могут быть по суду лишены родительских прав, если о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лоняются от выполнения  обязанностей родителей, в том числе при  злостном уклонении от уплаты алимент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лоупотребляют родительскими пра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стоко обращаются с детьми, в том числе  осуществляют психическое и физическое насилие, покушаются на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или преступление против жизни или здоровья своих детей либо против жизни или здоровья супру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шение родительских прав не освобождает родителей от обязанностей по содержанию ребён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шения в интересах дет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ётом интересов ребёнка суд может отобрать ребёнка у родителей без лишения родительских прав (ограничение родительских прав). Такое решение возможно по обстоятельствам, от  родителей не зависящих (опасные заболевания, стечение тяжёлых семейных обстоятельств и др.) и в случаях, когда оставление ребёнка с родителями опасно для н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епосредственной угрозе жизни ребёнка или его здоровью орган опеки и попечительства может немедленно отобрать ребёнка у родителей на основании решения органа  местного самоуправ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, лишённые родительских прав или ограниченные в правах, теряют права, основанные на факте родства с ребёнком, а также право на льготы и государственные пособия, установленные для граждан, имеющих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омиссии по делам несовершеннолетних могут применить к родителям административные ме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учае злостного невыполнения родителями обязанностей по воспит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доведения их до состояние опьянения или потребления наркотических средств без назначения врача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овершение подростками в возрасте до 16 лет нарушений правил дорожного движ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оявление детей в общественных местах в пьяном виде, а равно за распитие ими спиртных напитков или в связи с совершением других правонарушений (А, 35-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В Уголовном кодексе Российской Федерации предусмотрены специальные нормы об уголовной ответственности родителе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овлечение несовершеннолетних детей в совершение преступления  путём обещаний, обмана, угроз или иным способ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овлечение несовершеннолетнего в  систематическое употребление спиртных напитков и одурманивающих вещест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анятие проституцией, бродяжничеством или попрошайничеств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неисполнение или ненадлежащее исполнение обязанностей по воспитанию детей, если эти деяния соединены с жестоким обраще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злостное уклонение от уплаты средств на содержание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и несут имущественную ответственность по сделкам малолетних детей, а также за вред, причинённый малолетними детьми (до 14 ле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Методическ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головный кодекс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мейный кодекс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ищный кодекс Р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венция ООН о павах ребё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равочные материалы «В помощь социальному педагогу», Л.Е. Дмитриева, Благовещенск,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203640" y="3676680"/>
            <a:ext cx="1865160" cy="248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5081760" y="3457440"/>
            <a:ext cx="164592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рожд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55720" y="1851120"/>
          <a:ext cx="7432560" cy="402264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им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ь и воспитываться в семье, насколько это возможн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родителей и жить вместе с ними (если это не противоречит интересам ребенка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боту и воспитание родителями (или лицами их заменяющими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стороннее развитие и уважение человеческого достоинств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жать свое мнение при решении в семье любого вопроса затрагивающего его интерес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щиту своих прав и законных интересов родителями (лицами, их заменяющими), органами опеки и попечительства, прокурором и судо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гражданство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на праве собственности имущество (полученное в дар или в наследство, а также приобретенное на средства ребенка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амостоятельное обращение в орган опеки и попечительства за защитой своих пра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ушаться родителей и лиц, их заменяющих, принимать их заботу и воспитание, за исключением случаев пренебрежительного, жестокого, грубого, унижающего человеческое достоинство обращения, оскорбления или эксплуатаци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ть правила поведения, установленные в воспитательных и общеобразовательных учреждениях, дома и в общественных местах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403280" y="88920"/>
            <a:ext cx="1584360" cy="168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6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2276640"/>
          <a:ext cx="7434360" cy="3665520"/>
        </p:xfrm>
        <a:graphic>
          <a:graphicData uri="http://schemas.openxmlformats.org/drawingml/2006/table">
            <a:tbl>
              <a:tblPr/>
              <a:tblGrid>
                <a:gridCol w="2524320"/>
                <a:gridCol w="2638440"/>
                <a:gridCol w="22716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0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ть мелкие бытовые сдел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ть сделки, направленные на безвозмездное получение выгоды, не требующие нотариального удостоверения или государственной регистраци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ать сделки по распоряжению средствами, предоставленными родителями или другими людьми, с согласия родителей для определенной цели или для свободного распоряж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основное общее образование (9 классов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ть устав школы, правила внутреннего распорядка учебного заведен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реподавателями, администрацией учебного завед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вершение общественно опасных действий, бродяжничество, уклонение от учебы, пьянство, вплоть до направления комиссией по делам несовершеннолетних в специальное лечебно-воспитательное учреждени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968480" cy="2017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0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55720" y="1947960"/>
          <a:ext cx="7432560" cy="274320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8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своё мнение при решении в семье любого вопрос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заслушанным в ходе любого судебного или административного разбирательств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ть согласие на изменение своего имени и фамилии, на восстановление родителя в родительских правах, на усыновление или передачу в приемную семью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39800" y="0"/>
            <a:ext cx="2554200" cy="179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1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55720" y="2421000"/>
          <a:ext cx="7432560" cy="367200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 быть помещен в специальное воспитательное учреждение для детей и подростков (спецшкола, спец. интернат и т.д.) в случае совершения общественно опасных действий или злостного систематического нарушения правил общественного повед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4 л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яют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55720" y="2081160"/>
          <a:ext cx="7432560" cy="4632480"/>
        </p:xfrm>
        <a:graphic>
          <a:graphicData uri="http://schemas.openxmlformats.org/drawingml/2006/table">
            <a:tbl>
              <a:tblPr/>
              <a:tblGrid>
                <a:gridCol w="2523960"/>
                <a:gridCol w="2638440"/>
                <a:gridCol w="22701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ва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язанности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ветственность ребёнка (несовершеннолетне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паспорт гражданина Российской Федерации, самостоятельно обращаться в суд для защиты в суд для защиты своих прав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ть отмены усыновлен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ать согласие на изменение своего гражданств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ть установления отцовства в отношении своего ребенка в судебном порядк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ть в свободное от учёбы время (например, во время каникул) с согласия одного из родителей, не более 4часовв день с определенными, трудовым законодательством РФ, льгот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распоряжаться своим заработком, стипендией, иными доход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осуществлять права автора произведения науки, литературы или искусства, изобретения или другого результата своей интеллектуальной деятельнос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осить вклады в банки и распоряжаться и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ть велосипедом при движении по дорога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ть трудовые обязанности в соответствии с условиями контракта, правилами трудового распорядка и трудовым законодательство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из школы за совершение правонарушений, в том  числе грубые и неоднократные нарушения устава школ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ая имущественная ответственность по заключенным сделка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ещение причиненного ущерба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ость за нарушение трудовой дисциплины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ая ответственность за отдельные виды преступлений (убийство, умышленное причинение тяжкого и средней тяжести среда здоровью, изнасилование, кража, грабеж, разбой, вымогательство неправомерное завладение транспортным средством, заведомо ложное сообщение об акте терроризма, вандализм, приведение в негодность транспортных средств или путей сообщения и другие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68360" y="54000"/>
            <a:ext cx="2519280" cy="2006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48000" y="889560"/>
            <a:ext cx="29527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имеют право, несут обязанности и ответственность за воспитание и развитие ребёнка;  согласно Семейному кодексу Р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Админ\Documents\картинки\sport010.jpg"/>
          <p:cNvPicPr/>
          <p:nvPr/>
        </p:nvPicPr>
        <p:blipFill>
          <a:blip r:embed="rId1"/>
          <a:stretch/>
        </p:blipFill>
        <p:spPr>
          <a:xfrm>
            <a:off x="2556000" y="476280"/>
            <a:ext cx="417672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имеют прав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обеспечение со стороны государства  общедоступности и бесплатности получения их детьми основного общего образова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ыбора для своих детей форм образования и видов образовательных учреждени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приём детей для обучения в образовательные учреждения, расположенные по месту жительств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ознакомление с Уставом образовательного учреждения и другими документами, регламентирующими  организацию образовательного процес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частвовать в управлении образовательным учреждением, в котором обучаются их дет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и наличии оснований для жалобы на школу или преподавателя предварительно обсуждать вопросы с директором школы и учителем, имеющим к этому отнош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одитель, с  которым проживает ребёнок, не должен препятствовать общению ребёнка с другим родителем, если такое общение не причиняет вред физическому и психическому здоровью ребёнка, его нравственному развитию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ознакомление с ходом и содержанием образовательного процесс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ащищать права и законные интересы  детей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 заботу  и содержание со стороны своих совершеннолетних детей, если  родители не были лишены родительских пра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одители обяза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ть и защищать права и интересы своих детей, не причинять вред физическому и психическому здоровью детей. их нравственному развитию, воспитывать детей, исключая пренебрежительное, жестокое, грубое, унижающее человеческое достоинство обращение, оскорбление или эксплуатаци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ть детям до 15 лет получение основного общего образования в общеобразовательной школ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ять Устав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допускать неоправданного вмешательства в работу преподавателей по вопросам, которые по своему характеру входят в круг профессиональных обязанностей уч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ть в пределах своих способностей и финансовых возможностей условия жизни, необходимые для нормального развития ребён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ржать своих несовершеннолетних детей (порядок и формы предоставления содержания детям определяются родителями самостоятельно; в случае, если родители не предоставляют содержание своим несовершеннолетним детям, средства на содержание детей  (алименты) взыскиваются с родителей (родителя) в судебном поряд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2:09:23Z</dcterms:created>
  <dc:creator>Админ</dc:creator>
  <dc:description/>
  <dc:language>en-US</dc:language>
  <cp:lastModifiedBy>Админ</cp:lastModifiedBy>
  <dcterms:modified xsi:type="dcterms:W3CDTF">2013-04-23T02:12:50Z</dcterms:modified>
  <cp:revision>27</cp:revision>
  <dc:subject/>
  <dc:title>Правовая информация</dc:title>
</cp:coreProperties>
</file>