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5.jpeg" ContentType="image/jpeg"/>
  <Override PartName="/ppt/media/image24.wmf" ContentType="image/x-wmf"/>
  <Override PartName="/ppt/media/image28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4.gif" ContentType="image/gif"/>
  <Override PartName="/ppt/media/image33.jpeg" ContentType="image/jpeg"/>
  <Override PartName="/ppt/media/image34.gif" ContentType="image/gif"/>
  <Override PartName="/ppt/media/image5.gif" ContentType="image/gif"/>
  <Override PartName="/ppt/media/image30.gif" ContentType="image/gif"/>
  <Override PartName="/ppt/media/image8.wmf" ContentType="image/x-wmf"/>
  <Override PartName="/ppt/media/image6.gif" ContentType="image/gif"/>
  <Override PartName="/ppt/media/image31.gif" ContentType="image/gif"/>
  <Override PartName="/ppt/media/image7.gif" ContentType="image/gif"/>
  <Override PartName="/ppt/media/image32.gif" ContentType="image/gif"/>
  <Override PartName="/ppt/media/image13.jpeg" ContentType="image/jpeg"/>
  <Override PartName="/ppt/media/image9.jpeg" ContentType="image/jpeg"/>
  <Override PartName="/ppt/media/image11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png" ContentType="image/png"/>
  <Override PartName="/ppt/media/image20.wmf" ContentType="image/x-wmf"/>
  <Override PartName="/ppt/media/image17.png" ContentType="image/png"/>
  <Override PartName="/ppt/media/image18.jpeg" ContentType="image/jpeg"/>
  <Override PartName="/ppt/media/image21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345D-0DB3-4329-BC7B-B2996D301B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335C-1206-48C2-98E4-652C94F7A7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уйте, дорогие ребята.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егодня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ы с вам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верши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утешеств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океа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об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»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э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м океа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еетс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ноже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островов, бухт, рифов, пол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ы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загадок и чудес. Открытие новых (для вас) островов в океане знаний – это цель нашего долгого морского путе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F122-88D1-431D-82F0-20D68425FD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EDE-09DC-4B57-AC79-54A02B0C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0B7-2A94-406A-BFED-9F19D2E1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2B3-4FB4-460F-A9E2-D76D88D4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859-9338-4393-BF87-296DCE98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8A443-F3C3-4DEF-AB55-2DB22ED1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E9A37-D2AB-4515-BF7F-762A2FB3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274B9-4D8E-45B4-BC12-50432FD5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4180D-F79B-4967-95F1-C5B9B970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15373-9A98-43C7-A189-9BCCB252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734FA-1C4C-445F-A1FA-58B6E5FA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D5D94-061A-4B97-B604-95ACE36D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1B8-931C-4207-878B-73C17FD6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ED16C-18D7-49B3-A0F1-3A8C4091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8072D-AC3E-44F4-9BEC-D90E0B6C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3C7C1-90CC-4D3E-A9A7-F9148E57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C17E1-C710-4D05-AB8B-D7750A0E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F307F-C91C-4A59-9C40-B71F4868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30C3-2D45-4378-BFDF-BA314EA7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5581-937F-4B80-BBF5-ADDD5B79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EF907-511B-4224-B60C-9FC573EA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D0A7-7E90-41B1-9969-DA688C89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1060-3AC3-48B7-B592-C96D9CC1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13D-0EE7-444F-8F37-55194E19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966C-6C5C-4B76-9DDB-811C0B90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0B07-C8CF-44F7-AA58-1610E240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CBBFC-9E81-4BA8-802A-B6C53D61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993E-F3EB-4D76-BCE1-632ADAC9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60F9-BC59-4F63-9048-3B5B8A4E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FA0F-FEEF-41F3-9764-D66D19E5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A726C-9719-433E-8F34-9805A8E5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DD1A9-7E63-46BF-B574-67D0A327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09BFA-59CA-47C1-9BD8-AA14C82B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713A6-498E-4709-B422-F371A18E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036-0BAE-43DD-AC93-B33DF764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77192-BB0C-4BDA-BE6F-49F368E7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C73CC-96C1-4DFD-AEA7-28D356A0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337F9-5355-4388-A44C-D77C5082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0169C-3D4C-425F-A148-1D5A9C16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5D1767-7710-4735-A47A-CFFD30F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38E10-EC00-4806-BB78-D4F4EA7F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10282D-FAAA-46B9-B0DB-FC33BC84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A1BC75-691B-452E-8655-533CDC58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C0CE7-2634-4F57-A785-2A01FEBB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26D25-CAD0-4EAF-BEFE-833B3B64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ADB-9F1C-4EA2-ACD3-A68E59B2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50AA2-227A-49A7-9323-0CB04F0B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1628F-ACC2-4C1F-966D-D51B58E6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5B88-29AD-48BF-8237-8DFE503A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7A120-0E05-4D60-9EE3-3A3DC30F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06F4E-0C44-4A77-B456-22FF3655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89C41-AD96-46EA-BF50-5B3CC93B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A3E8E-68F0-4C79-AC62-EA4A4A1F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5DE4-515E-49A9-BFFE-B24126CD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D902-110E-4ADD-935F-5FD284DF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5BD7-72DA-47CC-ACD5-98D00F7B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26F-B6EB-49FA-A445-38309459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70A20-3043-4B84-AAD3-A9EA0125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F435A-F11F-47A4-AF50-3C98E4D6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E18B7-6C35-47E1-8B0A-BF03D9B6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B0DAD-541A-43C3-9F97-363F9589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349EF-B88A-419C-89CC-29624639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9F170-E27A-426B-BEE4-B965A85A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E493C-2F6C-49F7-BDA2-17D17A5B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EF983-E385-4165-A430-B689B13B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AF7CB-D21A-4693-A0D5-E12E97B7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6BE1-0A97-4C3D-888D-0CBA5EB2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2E5-D1BB-4B6D-A3EE-2CD4432A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223C8-EA89-4800-9F57-A94E0E98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1AB5C-725D-4337-B1B1-85816D96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DCDB9-72C4-4ABF-AE66-27BD7CF0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65A-69C3-415A-B5A9-AFCC074D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B90-5645-4711-9EFD-7F3231E0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1632-2956-499A-A350-FA7F947BE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7C6E-204B-489C-8258-994B8C6E2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1453-A062-4402-B4B1-B9EDF8630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F47D-65AF-4BB3-8A49-12943116E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2D96-16A0-4095-8238-3AB9CAACD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9F13-B1FC-4117-9C59-8D00BDE44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" Target="slide3.xml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8.wm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" Target="slide2.xml"/><Relationship Id="rId8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5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6" name="Picture 2" descr="G:\8_preview.jpg"/>
            <p:cNvPicPr/>
            <p:nvPr/>
          </p:nvPicPr>
          <p:blipFill>
            <a:blip r:embed="rId2"/>
            <a:stretch/>
          </p:blipFill>
          <p:spPr>
            <a:xfrm rot="5400000">
              <a:off x="1143000" y="-114300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Прямоугольник 6"/>
            <p:cNvSpPr/>
            <p:nvPr/>
          </p:nvSpPr>
          <p:spPr>
            <a:xfrm rot="5400000">
              <a:off x="1630080" y="-477720"/>
              <a:ext cx="5963760" cy="78134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619280" y="2781360"/>
            <a:ext cx="567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Сегодня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3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апре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День недели – вторни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Время года – вес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Апрель четвертый  месяц в г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340000" y="836640"/>
            <a:ext cx="4876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a2fcab"/>
                  </a:solidFill>
                  <a:miter/>
                </a:ln>
                <a:solidFill>
                  <a:srgbClr val="33cc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математики</a:t>
            </a:r>
            <a:endParaRPr b="0" lang="en-US" sz="1800" spc="1" strike="noStrike">
              <a:ln w="19080">
                <a:solidFill>
                  <a:srgbClr val="a2fcab"/>
                </a:solidFill>
                <a:miter/>
              </a:ln>
              <a:solidFill>
                <a:srgbClr val="33cc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0" y="-1440"/>
          <a:ext cx="9144000" cy="6859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440"/>
                    <a:ext cx="9144000" cy="6859440"/>
                  </a:xfrm>
                  <a:prstGeom prst="rect">
                    <a:avLst/>
                  </a:prstGeom>
                  <a:ln w="9360">
                    <a:solidFill>
                      <a:srgbClr val="66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24000" y="2708280"/>
          <a:ext cx="8354880" cy="1982520"/>
        </p:xfrm>
        <a:graphic>
          <a:graphicData uri="http://schemas.openxmlformats.org/drawingml/2006/table">
            <a:tbl>
              <a:tblPr/>
              <a:tblGrid>
                <a:gridCol w="934920"/>
                <a:gridCol w="936720"/>
                <a:gridCol w="863640"/>
                <a:gridCol w="936360"/>
                <a:gridCol w="863640"/>
                <a:gridCol w="1368360"/>
                <a:gridCol w="1224000"/>
                <a:gridCol w="1227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684360" y="4005360"/>
            <a:ext cx="38088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47640" y="4005360"/>
            <a:ext cx="38124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005360"/>
            <a:ext cx="38124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005360"/>
            <a:ext cx="39672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11640" y="4005360"/>
            <a:ext cx="38088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64000" y="4005360"/>
            <a:ext cx="32076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16720" y="3933720"/>
            <a:ext cx="38088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956720" y="3933720"/>
            <a:ext cx="32040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24560" y="5889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400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0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04720" y="2924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41440" y="2924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4720" y="292428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,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004360" y="292428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5,4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1800" y="2924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00720" y="2924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7,6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51640" y="2924280"/>
            <a:ext cx="11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9,5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88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99"/>
                </a:solidFill>
                <a:latin typeface="TruthFB-Medium"/>
              </a:rPr>
              <a:t>«Живая планет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бята, Земля, если посмотреть на неё из космоса, голубая с коричневыми, желтыми, зелеными пятнами.  Суша занимае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/4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и земного ша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5640" y="3500280"/>
            <a:ext cx="712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На воду приходится </a:t>
            </a:r>
            <a:r>
              <a:rPr b="1" lang="en-US" sz="2000" spc="-1" strike="noStrike">
                <a:solidFill>
                  <a:srgbClr val="ff6699"/>
                </a:solidFill>
                <a:latin typeface="Arial"/>
              </a:rPr>
              <a:t>3/4</a:t>
            </a:r>
            <a:r>
              <a:rPr b="1" lang="en-US" sz="2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части поверхност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0200" y="2565360"/>
            <a:ext cx="871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179280" y="2286000"/>
            <a:ext cx="89647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4356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582 – Онеж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961 – Байка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641 – Балха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33" descr="lake-baikal-l26f22"/>
          <p:cNvPicPr/>
          <p:nvPr/>
        </p:nvPicPr>
        <p:blipFill>
          <a:blip r:embed="rId2"/>
          <a:srcRect l="0" t="0" r="0" b="10007"/>
          <a:stretch/>
        </p:blipFill>
        <p:spPr>
          <a:xfrm>
            <a:off x="4140360" y="1773360"/>
            <a:ext cx="5003640" cy="40766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337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Какое озеро в нашей стране назыв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«жемчужиной планеты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4360" y="5877000"/>
            <a:ext cx="457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6 332 – 1792 : 16 =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60000" y="580536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6 2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60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 начала 80-х годов в среднем ежедневно исчезал один вид животных, а еженедельно – один вид растений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7920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ля сохранения вымирающих видов создаются заповедники и другие охраняемые государством территор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1023840" y="2604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5280" y="407664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России в настоящее время находится свыше 90 заповед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505764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олни схему, и узнаешь, в каком году были организованы первые заповедники на территории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18900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наете ли вы, что свыше 20000 видов растений и животных находятся под угрозой вымирания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0200" y="404640"/>
            <a:ext cx="8713800" cy="621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600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600"/>
                </a:solidFill>
                <a:latin typeface="Times New Roman"/>
              </a:rPr>
              <a:t>                              </a:t>
            </a:r>
            <a:r>
              <a:rPr b="1" i="1" lang="ru-RU" sz="4000" spc="-1" strike="noStrike">
                <a:solidFill>
                  <a:srgbClr val="00c600"/>
                </a:solidFill>
                <a:latin typeface="Times New Roman"/>
              </a:rPr>
              <a:t>«Живая</a:t>
            </a:r>
            <a:r>
              <a:rPr b="1" i="1" lang="en-US" sz="40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c600"/>
                </a:solidFill>
                <a:latin typeface="Times New Roman"/>
              </a:rPr>
              <a:t>плане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600"/>
                </a:solidFill>
                <a:latin typeface="TruthFB-Medium"/>
              </a:rPr>
              <a:t>Первые заповедники на территории России были организованы в         году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2700360" y="3500280"/>
            <a:ext cx="1882800" cy="660600"/>
          </a:xfrm>
          <a:prstGeom prst="rightArrowCallout">
            <a:avLst>
              <a:gd name="adj1" fmla="val 25002"/>
              <a:gd name="adj2" fmla="val 25000"/>
              <a:gd name="adj3" fmla="val 47502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3500280"/>
            <a:ext cx="1944720" cy="609840"/>
          </a:xfrm>
          <a:prstGeom prst="rightArrowCallout">
            <a:avLst>
              <a:gd name="adj1" fmla="val 25002"/>
              <a:gd name="adj2" fmla="val 25000"/>
              <a:gd name="adj3" fmla="val 53148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118"/>
                </a:solidFill>
                <a:latin typeface="Times New Roman"/>
              </a:rPr>
              <a:t>12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3500280"/>
            <a:ext cx="1873080" cy="609840"/>
          </a:xfrm>
          <a:prstGeom prst="rightArrowCallout">
            <a:avLst>
              <a:gd name="adj1" fmla="val 25002"/>
              <a:gd name="adj2" fmla="val 25000"/>
              <a:gd name="adj3" fmla="val 51190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59640" y="3573360"/>
            <a:ext cx="1295280" cy="574920"/>
          </a:xfrm>
          <a:prstGeom prst="rect">
            <a:avLst/>
          </a:prstGeom>
          <a:solidFill>
            <a:srgbClr val="f715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118"/>
                </a:solidFill>
                <a:latin typeface="Times New Roman"/>
              </a:rPr>
              <a:t>19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24000" y="2708280"/>
            <a:ext cx="1079640" cy="609480"/>
          </a:xfrm>
          <a:prstGeom prst="wedgeRoundRectCallout">
            <a:avLst>
              <a:gd name="adj1" fmla="val -51324"/>
              <a:gd name="adj2" fmla="val 79949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118"/>
                </a:solidFill>
                <a:latin typeface="Times New Roman"/>
              </a:rPr>
              <a:t>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781360"/>
            <a:ext cx="1224000" cy="609480"/>
          </a:xfrm>
          <a:prstGeom prst="wedgeRoundRectCallout">
            <a:avLst>
              <a:gd name="adj1" fmla="val -39365"/>
              <a:gd name="adj2" fmla="val 79949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118"/>
                </a:solidFill>
                <a:latin typeface="Times New Roman"/>
              </a:rPr>
              <a:t>+15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00720" y="2708280"/>
            <a:ext cx="914400" cy="609480"/>
          </a:xfrm>
          <a:prstGeom prst="wedgeRoundRectCallout">
            <a:avLst>
              <a:gd name="adj1" fmla="val -75175"/>
              <a:gd name="adj2" fmla="val 56250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118"/>
                </a:solidFill>
                <a:latin typeface="Times New Roman"/>
              </a:rPr>
              <a:t>х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84720" y="1484280"/>
            <a:ext cx="957240" cy="520560"/>
          </a:xfrm>
          <a:prstGeom prst="rect">
            <a:avLst/>
          </a:prstGeom>
          <a:solidFill>
            <a:srgbClr val="f715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118"/>
                </a:solidFill>
                <a:latin typeface="Times New Roman"/>
              </a:rPr>
              <a:t>19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71640" y="3573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0118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190118"/>
                </a:solidFill>
                <a:latin typeface="Times New Roman"/>
              </a:rPr>
              <a:t>4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51480" y="350028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0118"/>
                </a:solidFill>
                <a:latin typeface="Times New Roman"/>
              </a:rPr>
              <a:t>19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1692360" y="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Найдите ошиб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6659640" y="836640"/>
            <a:ext cx="116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12,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6877440" y="306864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3,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6733080" y="4221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4" descr="smile"/>
          <p:cNvPicPr/>
          <p:nvPr/>
        </p:nvPicPr>
        <p:blipFill>
          <a:blip r:embed="rId2"/>
          <a:stretch/>
        </p:blipFill>
        <p:spPr>
          <a:xfrm>
            <a:off x="5292720" y="1844640"/>
            <a:ext cx="1297080" cy="966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6" descr="sad+smiley+face%5B1%5D"/>
          <p:cNvPicPr/>
          <p:nvPr/>
        </p:nvPicPr>
        <p:blipFill>
          <a:blip r:embed="rId3"/>
          <a:stretch/>
        </p:blipFill>
        <p:spPr>
          <a:xfrm>
            <a:off x="5651640" y="9810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8" descr="smile"/>
          <p:cNvPicPr/>
          <p:nvPr/>
        </p:nvPicPr>
        <p:blipFill>
          <a:blip r:embed="rId4"/>
          <a:stretch/>
        </p:blipFill>
        <p:spPr>
          <a:xfrm>
            <a:off x="4932360" y="5445000"/>
            <a:ext cx="1297080" cy="966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0" descr="sad+smiley+face%5B1%5D"/>
          <p:cNvPicPr/>
          <p:nvPr/>
        </p:nvPicPr>
        <p:blipFill>
          <a:blip r:embed="rId5"/>
          <a:stretch/>
        </p:blipFill>
        <p:spPr>
          <a:xfrm>
            <a:off x="5724360" y="3141720"/>
            <a:ext cx="640080" cy="639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1" descr="sad+smiley+face%5B1%5D"/>
          <p:cNvPicPr/>
          <p:nvPr/>
        </p:nvPicPr>
        <p:blipFill>
          <a:blip r:embed="rId6"/>
          <a:stretch/>
        </p:blipFill>
        <p:spPr>
          <a:xfrm>
            <a:off x="5508720" y="4221000"/>
            <a:ext cx="639720" cy="6400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2"/>
          <p:cNvSpPr/>
          <p:nvPr/>
        </p:nvSpPr>
        <p:spPr>
          <a:xfrm>
            <a:off x="1261800" y="907920"/>
            <a:ext cx="30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,2 + 5 = 7,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3"/>
          <p:cNvSpPr/>
          <p:nvPr/>
        </p:nvSpPr>
        <p:spPr>
          <a:xfrm>
            <a:off x="1119600" y="1989000"/>
            <a:ext cx="34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,42 – 0,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4"/>
          <p:cNvSpPr/>
          <p:nvPr/>
        </p:nvSpPr>
        <p:spPr>
          <a:xfrm>
            <a:off x="1261800" y="3141720"/>
            <a:ext cx="27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,6 : 3 = 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5"/>
          <p:cNvSpPr/>
          <p:nvPr/>
        </p:nvSpPr>
        <p:spPr>
          <a:xfrm>
            <a:off x="1261800" y="5445000"/>
            <a:ext cx="301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х 4 = 0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6"/>
          <p:cNvSpPr/>
          <p:nvPr/>
        </p:nvSpPr>
        <p:spPr>
          <a:xfrm>
            <a:off x="1119600" y="4221000"/>
            <a:ext cx="358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6 х 10 = 0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7">
            <a:hlinkClick r:id="rId7" action="ppaction://hlinksldjump"/>
          </p:cNvPr>
          <p:cNvSpPr/>
          <p:nvPr/>
        </p:nvSpPr>
        <p:spPr>
          <a:xfrm>
            <a:off x="8317080" y="60213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517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6"/>
          <p:cNvSpPr/>
          <p:nvPr/>
        </p:nvSpPr>
        <p:spPr>
          <a:xfrm>
            <a:off x="5364000" y="198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979640" y="206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19640" y="2060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404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Вычислите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значение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468360" y="2637000"/>
            <a:ext cx="6767640" cy="93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12,26 х 13 +10,53 : 13 =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56200" y="4365720"/>
            <a:ext cx="1581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308720" y="2565360"/>
            <a:ext cx="15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70,19</a:t>
            </a:r>
            <a:endParaRPr b="0" lang="en-US" sz="1800" spc="1" strike="noStrike">
              <a:ln w="12600">
                <a:solidFill>
                  <a:srgbClr val="66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08720" y="2492280"/>
            <a:ext cx="1835280" cy="107964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24000" y="4581360"/>
            <a:ext cx="3240000" cy="191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627280" y="2565360"/>
            <a:ext cx="365760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реза  -  179,63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на   -  177,48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оль -  170,19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44000" y="333360"/>
            <a:ext cx="545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Какое дерево явля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лучшим пылесос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ель"/>
          <p:cNvPicPr/>
          <p:nvPr/>
        </p:nvPicPr>
        <p:blipFill>
          <a:blip r:embed="rId2"/>
          <a:stretch/>
        </p:blipFill>
        <p:spPr>
          <a:xfrm>
            <a:off x="7236000" y="189000"/>
            <a:ext cx="1763640" cy="2590560"/>
          </a:xfrm>
          <a:prstGeom prst="rect">
            <a:avLst/>
          </a:prstGeom>
          <a:ln w="0">
            <a:noFill/>
          </a:ln>
        </p:spPr>
      </p:pic>
      <p:pic>
        <p:nvPicPr>
          <p:cNvPr id="385" name="Клип 6" descr="SDC12314.JPG"/>
          <p:cNvPicPr/>
          <p:nvPr/>
        </p:nvPicPr>
        <p:blipFill>
          <a:blip r:embed="rId3"/>
          <a:stretch/>
        </p:blipFill>
        <p:spPr>
          <a:xfrm>
            <a:off x="7164360" y="4724280"/>
            <a:ext cx="1762200" cy="1916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179280" y="4724280"/>
            <a:ext cx="1819440" cy="191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Documents and Settings\Admin\Мои документы\картинки для урока\70164678_69259029_pchyol1.gif"/>
          <p:cNvPicPr/>
          <p:nvPr/>
        </p:nvPicPr>
        <p:blipFill>
          <a:blip r:embed="rId2"/>
          <a:stretch/>
        </p:blipFill>
        <p:spPr>
          <a:xfrm>
            <a:off x="395280" y="1484280"/>
            <a:ext cx="2798640" cy="38829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3" descr=""/>
          <p:cNvPicPr/>
          <p:nvPr/>
        </p:nvPicPr>
        <p:blipFill>
          <a:blip r:embed="rId3"/>
          <a:stretch/>
        </p:blipFill>
        <p:spPr>
          <a:xfrm>
            <a:off x="3121200" y="255600"/>
            <a:ext cx="6083280" cy="1103400"/>
          </a:xfrm>
          <a:prstGeom prst="rect">
            <a:avLst/>
          </a:prstGeom>
          <a:ln w="0">
            <a:noFill/>
          </a:ln>
        </p:spPr>
      </p:pic>
      <p:sp>
        <p:nvSpPr>
          <p:cNvPr id="389" name="Выноска-облако 4"/>
          <p:cNvSpPr/>
          <p:nvPr/>
        </p:nvSpPr>
        <p:spPr>
          <a:xfrm>
            <a:off x="3714840" y="1714680"/>
            <a:ext cx="5214960" cy="4500360"/>
          </a:xfrm>
          <a:prstGeom prst="cloudCallout">
            <a:avLst>
              <a:gd name="adj1" fmla="val -37037"/>
              <a:gd name="adj2" fmla="val -745"/>
            </a:avLst>
          </a:prstGeom>
          <a:gradFill rotWithShape="0">
            <a:gsLst>
              <a:gs pos="0">
                <a:srgbClr val="00af7c"/>
              </a:gs>
              <a:gs pos="100000">
                <a:srgbClr val="00eaa6"/>
              </a:gs>
            </a:gsLst>
            <a:lin ang="16200000"/>
          </a:gradFill>
          <a:ln w="9360">
            <a:solidFill>
              <a:srgbClr val="0bcf9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верх рука и вниз р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Потянули их слег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Быстро поменяли ру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Нам сегодня не до скук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Выноска-облако 10"/>
          <p:cNvSpPr/>
          <p:nvPr/>
        </p:nvSpPr>
        <p:spPr>
          <a:xfrm>
            <a:off x="2916360" y="1628640"/>
            <a:ext cx="6000480" cy="4643640"/>
          </a:xfrm>
          <a:prstGeom prst="cloudCallout">
            <a:avLst>
              <a:gd name="adj1" fmla="val -41347"/>
              <a:gd name="adj2" fmla="val 46240"/>
            </a:avLst>
          </a:prstGeom>
          <a:gradFill rotWithShape="0">
            <a:gsLst>
              <a:gs pos="0">
                <a:srgbClr val="00af7c"/>
              </a:gs>
              <a:gs pos="100000">
                <a:srgbClr val="00eaa6"/>
              </a:gs>
            </a:gsLst>
            <a:lin ang="16200000"/>
          </a:gradFill>
          <a:ln w="9360">
            <a:solidFill>
              <a:srgbClr val="0bcf9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лево, вправо повер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И за парты все верну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H:\Анна\Природа\Океаны\OCE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6" descr=""/>
          <p:cNvPicPr/>
          <p:nvPr/>
        </p:nvPicPr>
        <p:blipFill>
          <a:blip r:embed="rId3"/>
          <a:stretch/>
        </p:blipFill>
        <p:spPr>
          <a:xfrm rot="3336000">
            <a:off x="5940000" y="4173840"/>
            <a:ext cx="2728800" cy="2477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2124000" y="1557360"/>
            <a:ext cx="4276800" cy="10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шение задач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В 1585 году фламандский инженер и учёный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имон Стевин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издал свой труд, который назвал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«Десятина»,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уместивший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7 страниц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Этот труд был посвящён необычным числам, одно из которых, например, записано таким образо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Ребята, а как мы сейчас запишем и прочитаем это число? Кто догадался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Чему  посвящён наш сегодняшний урок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есятичная дробь – это не новый тип числа, а новый способ записи чис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В России учение о десятичных дробях изложил Леонтий Филиппович Магницкий в 1703 году в первом учебнике математи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28720" cy="2209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981080" y="762120"/>
            <a:ext cx="6400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cc33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ческий материал</a:t>
            </a:r>
            <a:endParaRPr b="0" lang="en-US" sz="3200" spc="1" strike="noStrike">
              <a:ln w="12600">
                <a:solidFill>
                  <a:srgbClr val="33cc33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19640" y="3500280"/>
            <a:ext cx="1513080" cy="648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93080" y="3500280"/>
            <a:ext cx="1512720" cy="648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,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332000" y="1916280"/>
            <a:ext cx="6840360" cy="28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Масса рыбы, которую мы сего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поймали, 14 кг плюс половина е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собственной массы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Какова масса пойманной рыб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79640" y="404640"/>
            <a:ext cx="57610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Задача на смекал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042920" y="5013360"/>
            <a:ext cx="1225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w Cen MT"/>
              </a:rPr>
              <a:t>12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5364000" y="5805360"/>
            <a:ext cx="12258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6600"/>
                </a:solidFill>
                <a:latin typeface="Tw Cen MT"/>
              </a:rPr>
              <a:t>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1042920" y="5805360"/>
            <a:ext cx="1225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8</a:t>
            </a:r>
            <a:r>
              <a:rPr b="1" lang="en-US" sz="3200" spc="-1" strike="noStrike">
                <a:solidFill>
                  <a:srgbClr val="006600"/>
                </a:solidFill>
                <a:latin typeface="Tw Cen MT"/>
              </a:rPr>
              <a:t>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FISHY"/>
          <p:cNvPicPr/>
          <p:nvPr/>
        </p:nvPicPr>
        <p:blipFill>
          <a:blip r:embed="rId2"/>
          <a:stretch/>
        </p:blipFill>
        <p:spPr>
          <a:xfrm flipH="1">
            <a:off x="7019640" y="5013360"/>
            <a:ext cx="1571400" cy="1189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DD00637_"/>
          <p:cNvPicPr/>
          <p:nvPr/>
        </p:nvPicPr>
        <p:blipFill>
          <a:blip r:embed="rId3"/>
          <a:stretch/>
        </p:blipFill>
        <p:spPr>
          <a:xfrm rot="21111000">
            <a:off x="2771280" y="4723920"/>
            <a:ext cx="2303640" cy="17020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9"/>
          <p:cNvSpPr/>
          <p:nvPr/>
        </p:nvSpPr>
        <p:spPr>
          <a:xfrm>
            <a:off x="5435640" y="5013360"/>
            <a:ext cx="12240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w Cen MT"/>
              </a:rPr>
              <a:t>1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0 </a:t>
            </a:r>
            <a:r>
              <a:rPr b="1" lang="en-US" sz="3200" spc="-1" strike="noStrike">
                <a:solidFill>
                  <a:srgbClr val="006600"/>
                </a:solidFill>
                <a:latin typeface="Tw Cen MT"/>
              </a:rPr>
              <a:t>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4"/>
          <a:stretch/>
        </p:blipFill>
        <p:spPr>
          <a:xfrm>
            <a:off x="755640" y="1628640"/>
            <a:ext cx="781380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3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68360" y="765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Длина самого большого кита достигает 35,7 метра, а длина акулы на 10,7 метра меньше. Сколько метров длина акул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 rot="525000">
            <a:off x="5076360" y="3357720"/>
            <a:ext cx="3216240" cy="19238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 rot="21211800">
            <a:off x="833400" y="3642840"/>
            <a:ext cx="2808360" cy="1681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6156360" y="5589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35,7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81080" y="5589720"/>
            <a:ext cx="11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25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2"/>
          <p:cNvSpPr/>
          <p:nvPr/>
        </p:nvSpPr>
        <p:spPr>
          <a:xfrm>
            <a:off x="1258920" y="1197000"/>
            <a:ext cx="65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Концентрация соли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морской воде составляет           . Сколько литров воды нужно выпарить, чтобы получить 7 кг со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0" descr="an02612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27640" y="5300640"/>
            <a:ext cx="2743200" cy="11001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8360" y="465300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7 кг х 1000 : 35=200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2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" descr="G:\море\543.jpg"/>
          <p:cNvPicPr/>
          <p:nvPr/>
        </p:nvPicPr>
        <p:blipFill>
          <a:blip r:embed="rId4"/>
          <a:stretch/>
        </p:blipFill>
        <p:spPr>
          <a:xfrm>
            <a:off x="395280" y="4076640"/>
            <a:ext cx="4896000" cy="244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3" name="Object 7"/>
              <p:cNvSpPr txBox="1"/>
              <p:nvPr/>
            </p:nvSpPr>
            <p:spPr>
              <a:xfrm>
                <a:off x="6443640" y="1557360"/>
                <a:ext cx="8971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6" name="Picture 7" descr="people7"/>
          <p:cNvPicPr/>
          <p:nvPr/>
        </p:nvPicPr>
        <p:blipFill>
          <a:blip r:embed="rId4"/>
          <a:stretch/>
        </p:blipFill>
        <p:spPr>
          <a:xfrm>
            <a:off x="6934320" y="1295280"/>
            <a:ext cx="1877760" cy="1617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people1"/>
          <p:cNvPicPr/>
          <p:nvPr/>
        </p:nvPicPr>
        <p:blipFill>
          <a:blip r:embed="rId5"/>
          <a:stretch/>
        </p:blipFill>
        <p:spPr>
          <a:xfrm>
            <a:off x="3809880" y="2666880"/>
            <a:ext cx="1868760" cy="2089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people16"/>
          <p:cNvPicPr/>
          <p:nvPr/>
        </p:nvPicPr>
        <p:blipFill>
          <a:blip r:embed="rId6"/>
          <a:stretch/>
        </p:blipFill>
        <p:spPr>
          <a:xfrm>
            <a:off x="152280" y="4800600"/>
            <a:ext cx="1965600" cy="1798560"/>
          </a:xfrm>
          <a:prstGeom prst="rect">
            <a:avLst/>
          </a:prstGeom>
          <a:ln w="0">
            <a:noFill/>
          </a:ln>
        </p:spPr>
      </p:pic>
      <p:sp>
        <p:nvSpPr>
          <p:cNvPr id="419" name="WordArt 11"/>
          <p:cNvSpPr txBox="1"/>
          <p:nvPr/>
        </p:nvSpPr>
        <p:spPr>
          <a:xfrm>
            <a:off x="2843280" y="189000"/>
            <a:ext cx="6076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Самостоятельная работа</a:t>
            </a:r>
            <a:endParaRPr b="0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420" name="AutoShape 5">
            <a:hlinkClick r:id="rId7" action="ppaction://hlinksldjump"/>
          </p:cNvPr>
          <p:cNvSpPr/>
          <p:nvPr/>
        </p:nvSpPr>
        <p:spPr>
          <a:xfrm>
            <a:off x="5580000" y="6165720"/>
            <a:ext cx="1368360" cy="43200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79" h="21600">
                <a:moveTo>
                  <a:pt x="27183" y="3794"/>
                </a:moveTo>
                <a:lnTo>
                  <a:pt x="41196" y="10800"/>
                </a:lnTo>
                <a:lnTo>
                  <a:pt x="27183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ree"/>
          <p:cNvSpPr/>
          <p:nvPr/>
        </p:nvSpPr>
        <p:spPr>
          <a:xfrm>
            <a:off x="304920" y="175248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908000" y="333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атемат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34920" y="1879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4920" y="3549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34920" y="4384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34920" y="5219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34920" y="27147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539640" y="1919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,6  –  0,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539640" y="35514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5,3  х 10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539640" y="4375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4,1  х  2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539640" y="51991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5,5  : 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539640" y="2708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,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1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2,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03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5"/>
          <p:cNvSpPr/>
          <p:nvPr/>
        </p:nvSpPr>
        <p:spPr>
          <a:xfrm>
            <a:off x="1908000" y="404640"/>
            <a:ext cx="508644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6"/>
          <p:cNvSpPr/>
          <p:nvPr/>
        </p:nvSpPr>
        <p:spPr>
          <a:xfrm>
            <a:off x="3132000" y="184464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7"/>
          <p:cNvSpPr/>
          <p:nvPr/>
        </p:nvSpPr>
        <p:spPr>
          <a:xfrm>
            <a:off x="3059280" y="270828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9,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8"/>
          <p:cNvSpPr/>
          <p:nvPr/>
        </p:nvSpPr>
        <p:spPr>
          <a:xfrm>
            <a:off x="3132000" y="351792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9"/>
          <p:cNvSpPr/>
          <p:nvPr/>
        </p:nvSpPr>
        <p:spPr>
          <a:xfrm>
            <a:off x="3132000" y="435276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8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0"/>
          <p:cNvSpPr/>
          <p:nvPr/>
        </p:nvSpPr>
        <p:spPr>
          <a:xfrm>
            <a:off x="3132000" y="518796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500720" y="1879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500720" y="3549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500720" y="4384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500720" y="5219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7"/>
          <p:cNvSpPr/>
          <p:nvPr/>
        </p:nvSpPr>
        <p:spPr>
          <a:xfrm>
            <a:off x="4500720" y="27147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5003640" y="1919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9,6 –  0,6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9"/>
          <p:cNvSpPr/>
          <p:nvPr/>
        </p:nvSpPr>
        <p:spPr>
          <a:xfrm>
            <a:off x="5003640" y="35514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8,07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2,0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0"/>
          <p:cNvSpPr/>
          <p:nvPr/>
        </p:nvSpPr>
        <p:spPr>
          <a:xfrm>
            <a:off x="5003640" y="4375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2,3  х 3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1"/>
          <p:cNvSpPr/>
          <p:nvPr/>
        </p:nvSpPr>
        <p:spPr>
          <a:xfrm>
            <a:off x="5003640" y="51991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8,6 : 2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2"/>
          <p:cNvSpPr/>
          <p:nvPr/>
        </p:nvSpPr>
        <p:spPr>
          <a:xfrm>
            <a:off x="5003640" y="272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,55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4,04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4"/>
          <p:cNvSpPr/>
          <p:nvPr/>
        </p:nvSpPr>
        <p:spPr>
          <a:xfrm>
            <a:off x="7596360" y="184788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5"/>
          <p:cNvSpPr/>
          <p:nvPr/>
        </p:nvSpPr>
        <p:spPr>
          <a:xfrm>
            <a:off x="7596360" y="268272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,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6"/>
          <p:cNvSpPr/>
          <p:nvPr/>
        </p:nvSpPr>
        <p:spPr>
          <a:xfrm>
            <a:off x="7596360" y="351792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0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7"/>
          <p:cNvSpPr/>
          <p:nvPr/>
        </p:nvSpPr>
        <p:spPr>
          <a:xfrm>
            <a:off x="7596360" y="435276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8"/>
          <p:cNvSpPr/>
          <p:nvPr/>
        </p:nvSpPr>
        <p:spPr>
          <a:xfrm>
            <a:off x="7667640" y="515772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9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0"/>
          <p:cNvSpPr/>
          <p:nvPr/>
        </p:nvSpPr>
        <p:spPr>
          <a:xfrm>
            <a:off x="4500720" y="1052640"/>
            <a:ext cx="71280" cy="5805360"/>
          </a:xfrm>
          <a:prstGeom prst="line">
            <a:avLst/>
          </a:prstGeom>
          <a:ln w="38160">
            <a:solidFill>
              <a:srgbClr val="f7c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1"/>
          <p:cNvSpPr/>
          <p:nvPr/>
        </p:nvSpPr>
        <p:spPr>
          <a:xfrm>
            <a:off x="900000" y="112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c053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7c053"/>
                </a:solidFill>
                <a:latin typeface="Arial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2"/>
          <p:cNvSpPr/>
          <p:nvPr/>
        </p:nvSpPr>
        <p:spPr>
          <a:xfrm>
            <a:off x="5580000" y="126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c053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7c053"/>
                </a:solidFill>
                <a:latin typeface="Arial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9" descr="A_5bdolph"/>
          <p:cNvPicPr/>
          <p:nvPr/>
        </p:nvPicPr>
        <p:blipFill>
          <a:blip r:embed="rId2"/>
          <a:stretch/>
        </p:blipFill>
        <p:spPr>
          <a:xfrm>
            <a:off x="7340760" y="0"/>
            <a:ext cx="1803240" cy="17845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0" descr="del"/>
          <p:cNvPicPr/>
          <p:nvPr/>
        </p:nvPicPr>
        <p:blipFill>
          <a:blip r:embed="rId3"/>
          <a:stretch/>
        </p:blipFill>
        <p:spPr>
          <a:xfrm>
            <a:off x="0" y="0"/>
            <a:ext cx="1817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547280" y="4005000"/>
            <a:ext cx="58770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8 (4, 8пр.), с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     1 уров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.1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2 уров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37 (2), с.184              3 уров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981080" y="533520"/>
            <a:ext cx="5410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1" name="Picture 15" descr="image692"/>
          <p:cNvPicPr/>
          <p:nvPr/>
        </p:nvPicPr>
        <p:blipFill>
          <a:blip r:embed="rId2"/>
          <a:stretch/>
        </p:blipFill>
        <p:spPr>
          <a:xfrm>
            <a:off x="5435640" y="1484280"/>
            <a:ext cx="2057400" cy="2011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4" descr="image123"/>
          <p:cNvPicPr/>
          <p:nvPr/>
        </p:nvPicPr>
        <p:blipFill>
          <a:blip r:embed="rId3"/>
          <a:stretch/>
        </p:blipFill>
        <p:spPr>
          <a:xfrm>
            <a:off x="395280" y="1700280"/>
            <a:ext cx="254628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3"/>
          <p:cNvSpPr/>
          <p:nvPr/>
        </p:nvSpPr>
        <p:spPr>
          <a:xfrm>
            <a:off x="539640" y="574560"/>
            <a:ext cx="7848720" cy="63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Поставь себе оценку за </a:t>
            </a:r>
            <a:r>
              <a:rPr b="1" i="1" lang="en-US" sz="3600" spc="-1" strike="noStrike">
                <a:solidFill>
                  <a:srgbClr val="3366ff"/>
                </a:solidFill>
                <a:latin typeface="Times New Roman"/>
              </a:rPr>
              <a:t>ур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«5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90118"/>
                </a:solidFill>
                <a:latin typeface="Times New Roman"/>
              </a:rPr>
              <a:t>Мне понравилось. У меня все полу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«4»</a:t>
            </a:r>
            <a:r>
              <a:rPr b="1" i="1" lang="en-US" sz="3600" spc="-1" strike="noStrike">
                <a:solidFill>
                  <a:srgbClr val="66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90118"/>
                </a:solidFill>
                <a:latin typeface="Times New Roman"/>
              </a:rPr>
              <a:t>Мне не все удалось. Я испытывал небольшие затруд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«3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90118"/>
                </a:solidFill>
                <a:latin typeface="Times New Roman"/>
              </a:rPr>
              <a:t>Я испытывал трудности. Узнал много интере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2411280" y="1413000"/>
            <a:ext cx="151308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2411280" y="3068640"/>
            <a:ext cx="1513080" cy="576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484360" y="5013360"/>
            <a:ext cx="151308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 flipH="1">
            <a:off x="7020000" y="3500280"/>
            <a:ext cx="1800000" cy="22323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2987640" y="0"/>
            <a:ext cx="25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66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флексия</a:t>
            </a:r>
            <a:endParaRPr b="0" lang="en-US" sz="1800" spc="1" strike="noStrike">
              <a:ln w="12600">
                <a:solidFill>
                  <a:srgbClr val="66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H:\Анна\Природа\Пальмы, юг\Лазурь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G:\анимация\37R5.gif"/>
          <p:cNvPicPr/>
          <p:nvPr/>
        </p:nvPicPr>
        <p:blipFill>
          <a:blip r:embed="rId3"/>
          <a:stretch/>
        </p:blipFill>
        <p:spPr>
          <a:xfrm>
            <a:off x="357120" y="0"/>
            <a:ext cx="2428920" cy="2158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sailboat"/>
          <p:cNvPicPr/>
          <p:nvPr/>
        </p:nvPicPr>
        <p:blipFill>
          <a:blip r:embed="rId4"/>
          <a:stretch/>
        </p:blipFill>
        <p:spPr>
          <a:xfrm>
            <a:off x="5715000" y="4214880"/>
            <a:ext cx="2819520" cy="17049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sailboat"/>
          <p:cNvPicPr/>
          <p:nvPr/>
        </p:nvPicPr>
        <p:blipFill>
          <a:blip r:embed="rId5"/>
          <a:stretch/>
        </p:blipFill>
        <p:spPr>
          <a:xfrm>
            <a:off x="1143000" y="3857760"/>
            <a:ext cx="2819520" cy="17049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59280" y="16286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Молодцы! 8а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777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ruthFB-Medium"/>
              </a:rPr>
              <a:t>ТЕМА УРОКА:</a:t>
            </a:r>
            <a:br>
              <a:rPr sz="4000"/>
            </a:br>
            <a:r>
              <a:rPr b="1" i="1" lang="en-US" sz="4000" spc="-1" strike="noStrike">
                <a:solidFill>
                  <a:srgbClr val="000066"/>
                </a:solidFill>
                <a:latin typeface="TruthFB-Medium"/>
              </a:rPr>
              <a:t>Десятичные дроб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564000" y="3716280"/>
            <a:ext cx="53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ТО НИЧЕГО НЕ ЗАМЕЧА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ТОТ НИЧЕГО НЕ ИЗУЧ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ТО НИЧЕГО НЕ ИЗУЧА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ТОТ ВЕЧНО ХНЫЧЕТ И СКУЧАЕТ»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Ф. Се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4" descr="image123"/>
          <p:cNvPicPr/>
          <p:nvPr/>
        </p:nvPicPr>
        <p:blipFill>
          <a:blip r:embed="rId2"/>
          <a:stretch/>
        </p:blipFill>
        <p:spPr>
          <a:xfrm>
            <a:off x="611280" y="3068640"/>
            <a:ext cx="2546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268360" y="1916280"/>
            <a:ext cx="4897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66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rebuchet MS"/>
              </a:rPr>
              <a:t>Устный счет</a:t>
            </a:r>
            <a:endParaRPr b="0" i="1" lang="en-US" sz="4000" spc="1" strike="noStrike">
              <a:ln w="12600">
                <a:solidFill>
                  <a:srgbClr val="66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pic>
        <p:nvPicPr>
          <p:cNvPr id="269" name="Picture 10" descr="sailboat"/>
          <p:cNvPicPr/>
          <p:nvPr/>
        </p:nvPicPr>
        <p:blipFill>
          <a:blip r:embed="rId2"/>
          <a:stretch/>
        </p:blipFill>
        <p:spPr>
          <a:xfrm>
            <a:off x="4788000" y="4508640"/>
            <a:ext cx="28191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" descr="sailboat"/>
          <p:cNvPicPr/>
          <p:nvPr/>
        </p:nvPicPr>
        <p:blipFill>
          <a:blip r:embed="rId2"/>
          <a:stretch/>
        </p:blipFill>
        <p:spPr>
          <a:xfrm>
            <a:off x="4788000" y="4508640"/>
            <a:ext cx="2819160" cy="1704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79280" y="-309240"/>
            <a:ext cx="8964720" cy="72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Число 5 целых 12 тысячных записы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5,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5,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51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ри переводе обыкновенной дроби 3/100 в десятичную полу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3,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0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0,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колько цифр поле запятой находится в записи десяти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роби, если её название заканчивается словом «десятых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Наибольший русский осетр, выловленный в Волге, весил 1460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Выразить десятичными дробями (в тонна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1,460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1,46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14,6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лина осетра 8м . Выразить десятичными дробями (в километра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0,8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0,08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0,008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d9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оверь 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2, 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27640" y="26028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908000" y="1916280"/>
            <a:ext cx="616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На тарелке леж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3 целых яблок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2 половинки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4 четверти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Сколько яблок леж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на тарел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3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832720" cy="4197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979640" y="404640"/>
            <a:ext cx="57610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Задача на смекал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Установи соответств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78" name="Прямая со стрелкой 4"/>
          <p:cNvCxnSpPr/>
          <p:nvPr/>
        </p:nvCxnSpPr>
        <p:spPr>
          <a:xfrm>
            <a:off x="2410920" y="1916280"/>
            <a:ext cx="3241080" cy="14421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79" name="Прямая со стрелкой 6"/>
          <p:cNvCxnSpPr/>
          <p:nvPr/>
        </p:nvCxnSpPr>
        <p:spPr>
          <a:xfrm>
            <a:off x="2916360" y="3573360"/>
            <a:ext cx="2737080" cy="1728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8"/>
          <p:cNvCxnSpPr/>
          <p:nvPr/>
        </p:nvCxnSpPr>
        <p:spPr>
          <a:xfrm flipV="1">
            <a:off x="2771280" y="2349000"/>
            <a:ext cx="2809080" cy="3168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81" name=""/>
          <p:cNvSpPr/>
          <p:nvPr/>
        </p:nvSpPr>
        <p:spPr>
          <a:xfrm>
            <a:off x="5633640" y="152388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6,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25800" y="31417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6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8360" y="494172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6,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2"/>
              <p:cNvSpPr txBox="1"/>
              <p:nvPr/>
            </p:nvSpPr>
            <p:spPr>
              <a:xfrm>
                <a:off x="468360" y="1341360"/>
                <a:ext cx="12985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2"/>
              <p:cNvSpPr txBox="1"/>
              <p:nvPr/>
            </p:nvSpPr>
            <p:spPr>
              <a:xfrm>
                <a:off x="324000" y="4797360"/>
                <a:ext cx="175572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12"/>
              <p:cNvSpPr txBox="1"/>
              <p:nvPr/>
            </p:nvSpPr>
            <p:spPr>
              <a:xfrm>
                <a:off x="250920" y="2852640"/>
                <a:ext cx="210636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2"/>
              <p:cNvSpPr txBox="1"/>
              <p:nvPr/>
            </p:nvSpPr>
            <p:spPr>
              <a:xfrm>
                <a:off x="0" y="2852640"/>
                <a:ext cx="210672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ff9900"/>
                </a:solidFill>
                <a:latin typeface="Times New Roman"/>
              </a:rPr>
              <a:t>Сравните дроби </a:t>
            </a:r>
            <a:br>
              <a:rPr sz="5400"/>
            </a:b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 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1908000" y="1268280"/>
                <a:ext cx="44784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  <m:r>
                      <m:t xml:space="preserve">⋯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2771640" y="4797360"/>
                <a:ext cx="3629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⋯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2843280" y="3716280"/>
                <a:ext cx="31636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2340000" y="2060640"/>
                <a:ext cx="48672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284720" y="1163520"/>
            <a:ext cx="110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56000" y="1341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24360" y="213372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81280" y="274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36920" y="3613320"/>
            <a:ext cx="4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4724280"/>
            <a:ext cx="47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7"/>
              <p:cNvSpPr txBox="1"/>
              <p:nvPr/>
            </p:nvSpPr>
            <p:spPr>
              <a:xfrm>
                <a:off x="2556000" y="2852640"/>
                <a:ext cx="49528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0" name="Picture 10" descr="sailboat"/>
          <p:cNvPicPr/>
          <p:nvPr/>
        </p:nvPicPr>
        <p:blipFill>
          <a:blip r:embed="rId2"/>
          <a:stretch/>
        </p:blipFill>
        <p:spPr>
          <a:xfrm>
            <a:off x="6516720" y="4913280"/>
            <a:ext cx="2627280" cy="15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Times New Roman"/>
              </a:rPr>
              <a:t>Прочитайте только десятичные дроби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 </a:t>
            </a: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506;   1,2;   5,478;   3;  3,78;  0,09;     287;    7,631;  4,7;  9,508 ; 2,3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Times New Roman"/>
              </a:rPr>
              <a:t>Сосчитайте, сколько десятичных дробей на стро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Times New Roman"/>
              </a:rPr>
              <a:t>Расположите дроби в порядке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</a:rPr>
              <a:t>возраста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684360" y="508464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0,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508464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49440" y="508464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01800" y="501336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3,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41800" y="50133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4,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65440" y="501336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5,4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8000" y="595008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7,6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40720" y="595008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9,5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8:11:17Z</dcterms:created>
  <dc:creator>Компьютер</dc:creator>
  <dc:description/>
  <dc:language>en-US</dc:language>
  <cp:lastModifiedBy>Администратор</cp:lastModifiedBy>
  <dcterms:modified xsi:type="dcterms:W3CDTF">2013-04-23T17:14:41Z</dcterms:modified>
  <cp:revision>274</cp:revision>
  <dc:subject/>
  <dc:title>Слайд 1</dc:title>
</cp:coreProperties>
</file>