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F10-8FCC-4206-9179-D5BBBFA7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639-3082-4B67-80C7-3FC689EE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BB9-EDC1-478B-B219-FA7BE677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3F5-1F9F-4794-86C5-11E46962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55C-FAE7-401C-BDA9-6A4059C1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54C-92F4-49DE-83B2-5F9C3C1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51B-9D94-478D-A7B5-B17CEF3C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A77-C5E5-48A3-936E-0D2FEDAB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587-3482-45C0-80E4-52383960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61A-8944-4D48-85F3-F9B03179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E70-94B2-4710-AFD4-8E3EA5CB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F24-485B-4CA5-A13B-0D08F44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339933"/>
            </a:gs>
            <a:gs pos="100000">
              <a:srgbClr val="00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46F7-2596-460C-9D82-9012B37C85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«Путешествие в страну Легуми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160" y="2285640"/>
            <a:ext cx="4724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Урок по разделу «Систематика покрытосеменны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с6"/>
          <p:cNvPicPr/>
          <p:nvPr/>
        </p:nvPicPr>
        <p:blipFill>
          <a:blip r:embed="rId1"/>
          <a:stretch/>
        </p:blipFill>
        <p:spPr>
          <a:xfrm>
            <a:off x="304920" y="3124080"/>
            <a:ext cx="3733560" cy="23148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3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25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25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625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ХАРАКТЕРИСТИКА СЕМЕЙ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Мотыльков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 цветка : Ч(5)Л3+(2)Т(9) +1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е – кисть и гол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бо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фасоль, соя, горох, люпин, душистый горош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85800" y="2133720"/>
            <a:ext cx="320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3"/>
          <p:cNvPicPr/>
          <p:nvPr/>
        </p:nvPicPr>
        <p:blipFill>
          <a:blip r:embed="rId1"/>
          <a:stretch/>
        </p:blipFill>
        <p:spPr>
          <a:xfrm>
            <a:off x="5486400" y="4724280"/>
            <a:ext cx="3162240" cy="15242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2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75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225"/>
                            </p:stCondLst>
                            <p:childTnLst>
                              <p:par>
                                <p:cTn id="28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75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75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1875"/>
                            </p:stCondLst>
                            <p:childTnLst>
                              <p:par>
                                <p:cTn id="29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75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75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475"/>
                            </p:stCondLst>
                            <p:childTnLst>
                              <p:par>
                                <p:cTn id="29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КРЕСТОЦВЕТ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Ч2+2Л4Т2+4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е – кисть, в верхней части переходящая в щи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струч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пастушья сумка, капу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11"/>
          <p:cNvPicPr/>
          <p:nvPr/>
        </p:nvPicPr>
        <p:blipFill>
          <a:blip r:embed="rId1"/>
          <a:stretch/>
        </p:blipFill>
        <p:spPr>
          <a:xfrm>
            <a:off x="5257800" y="4572000"/>
            <a:ext cx="3429000" cy="1371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3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75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75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1325"/>
                            </p:stCondLst>
                            <p:childTnLst>
                              <p:par>
                                <p:cTn id="32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75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75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3225"/>
                            </p:stCondLst>
                            <p:childTnLst>
                              <p:par>
                                <p:cTn id="33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75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РОЗОЦВЕТ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Ч5Л5Т10+10+5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я – разно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ы – сухие и со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шиповник, роза, яблоня, слива, вишн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2"/>
          <p:cNvPicPr/>
          <p:nvPr/>
        </p:nvPicPr>
        <p:blipFill>
          <a:blip r:embed="rId1"/>
          <a:stretch/>
        </p:blipFill>
        <p:spPr>
          <a:xfrm>
            <a:off x="4876920" y="4114800"/>
            <a:ext cx="3276360" cy="22096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6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75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75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36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75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37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75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75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ПАСЛЁНОВ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Ч(5)Л(5)Т5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я – разно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коробочка или я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паслён, табак душистый, баклаж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12"/>
          <p:cNvPicPr/>
          <p:nvPr/>
        </p:nvPicPr>
        <p:blipFill>
          <a:blip r:embed="rId1"/>
          <a:stretch/>
        </p:blipFill>
        <p:spPr>
          <a:xfrm>
            <a:off x="4952880" y="4114800"/>
            <a:ext cx="3238560" cy="22860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75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40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75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75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40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75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75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ЛИЛЕЙ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Ок3+3Т3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я – разно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коробо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лук, чеснок, лилия, тюльп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14"/>
          <p:cNvPicPr/>
          <p:nvPr/>
        </p:nvPicPr>
        <p:blipFill>
          <a:blip r:embed="rId1"/>
          <a:stretch/>
        </p:blipFill>
        <p:spPr>
          <a:xfrm>
            <a:off x="4800600" y="4419720"/>
            <a:ext cx="3429000" cy="20574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725"/>
                            </p:stCondLst>
                            <p:childTnLst>
                              <p:par>
                                <p:cTn id="4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43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75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75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1425"/>
                            </p:stCondLst>
                            <p:childTnLst>
                              <p:par>
                                <p:cTn id="44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75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75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ЗЛА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  Ок(2)+2Т3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я – кол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зерн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 пырей, пшеница, просо, кукуру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15"/>
          <p:cNvPicPr/>
          <p:nvPr/>
        </p:nvPicPr>
        <p:blipFill>
          <a:blip r:embed="rId1"/>
          <a:stretch/>
        </p:blipFill>
        <p:spPr>
          <a:xfrm>
            <a:off x="4419720" y="4419720"/>
            <a:ext cx="4267080" cy="1981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875"/>
                            </p:stCondLst>
                            <p:childTnLst>
                              <p:par>
                                <p:cTn id="4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4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4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ЛОЖНОЦВЕТ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Ч5Л(5)Т5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я – разно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семя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подсолнечник, одуванчик, георг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029" descr="с5"/>
          <p:cNvPicPr/>
          <p:nvPr/>
        </p:nvPicPr>
        <p:blipFill>
          <a:blip r:embed="rId1"/>
          <a:stretch/>
        </p:blipFill>
        <p:spPr>
          <a:xfrm>
            <a:off x="5181480" y="4038480"/>
            <a:ext cx="3200400" cy="24386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75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75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50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75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51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75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75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51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75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75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СИСТЕМАТИКА ПРЕДСТАВИТЕЛЕЙ СЕМЕЙ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ЛАНДЫШ МАЙСК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ЦАРСТВО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ОТДЕЛ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РЫТОСЕМ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КЛАСС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ДО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СЕМЕЙСТВО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ЛЕЙ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РОД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ВИД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НДЫШ МАЙ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5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7400"/>
                            </p:stCondLst>
                            <p:childTnLst>
                              <p:par>
                                <p:cTn id="56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КАПУСТА КОЧАН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ЦАР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РАС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ОТДЕ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ПОКРЫТОСЕМ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КЛАС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ДВУДО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СЕМЕЙ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КРЕСТОЦВЕТ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Р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КАПУ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ВИ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КАПУСТА КОЧАН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58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5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3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5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ВОПРОСЫ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ГОЛОВОЛОМ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йство растений из класса однодольных, число частей цветка у которых кратно четырём, а плод струч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 цветковых, семя которых состоит из     двух семя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тическая категория, в которую объединяются близкородственные роды раст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корневой системы, который имеют растения из класса двудольных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NA00864_"/>
          <p:cNvPicPr/>
          <p:nvPr/>
        </p:nvPicPr>
        <p:blipFill>
          <a:blip r:embed="rId1"/>
          <a:stretch/>
        </p:blipFill>
        <p:spPr>
          <a:xfrm>
            <a:off x="6431040" y="457200"/>
            <a:ext cx="271296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Цели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урока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man Old Style"/>
              </a:rPr>
              <a:t>Образовательная: изучить характерные признаки покрытосеменн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man Old Style"/>
              </a:rPr>
              <a:t>Развивающая: развивать умения выделять главное, сравнивать, обобщать, заполнять табл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man Old Style"/>
              </a:rPr>
              <a:t>Воспитательная: воспитывать бережное отношение к природ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55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09480" y="45720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Семейство растений из класса однодольных, которые имеют плод зернов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истематическая категория, в которую объединяются сходные клас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Тип жилкования, который имеют листья однодольных раст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Класс цветковых, к которому относятся растения с мочковатой корневой систе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Орган растения, по особенностям строения которого цветковые растения делят на семейства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РЕШЕНИЕ ГОЛОВОЛОМКИ ЦВЕТКО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600200" y="20574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сложно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ц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вет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267080" y="23623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д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в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удоль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886200" y="3809880"/>
            <a:ext cx="4724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657600" y="27432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сем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267080" y="30481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с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ержнев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3809880" y="342900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зла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572000" y="37339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тд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3048120" y="4572000"/>
            <a:ext cx="556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505320" y="40384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дуго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в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о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057400" y="44197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однодольн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ы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4038480" y="48006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цв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т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5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6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6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67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67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68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68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Times New Roman"/>
              </a:rPr>
              <a:t>Список литера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838080" y="19051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85800" y="1828800"/>
            <a:ext cx="7315200" cy="78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Пономарёва И.Н. Биология:растения, бактерии, грибы, лишайники: учебник для 6 класса общеобразовательной школы .-М.:Вентана – граф,200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Реймерс Н.Ф.Основные биологические понятия и термины :В2-х т.-М.:Мир,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Грин Н.,Стаут.,Тейлор.,Биология.-М.:Мир,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Мамонтов С.Г.Биология:Справ.издание.-М.:Высш.шк.,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Bar dir="vert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0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143000" y="38088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ЫХ ВСТРЕЧ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7 КЛАСС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609480" y="3886200"/>
            <a:ext cx="7772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ЖЕЛАЕМ УСПЕХА !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0000">
    <p:randomBar dir="ver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0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ХОД 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Здравствуйте,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приглашаю вас совершить путешествие в страну, которой на географической карте нет. И всё же она существует. Иногда она огромная глазами не охватить,иногда крохотная – такая, что уместится на подоконнике. Страну называют Легумией. Это страна полной тишины. Когда её жители болеют или хотят пить, помощи они просят беззвучно. Если вы позаботитесь о них,они в долгу не останутся : неблагодарных среди легумов нет. Но заботится о них надо больше всего весной и летом.Поздней осенью в Легумии почти никто не остаётся. Путешествовать по этой стране можно только пешком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«Легум»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в переводе с французского – овощ, а страна Легумия – огород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75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675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2ed1d"/>
                </a:solidFill>
                <a:latin typeface="Times New Roman"/>
              </a:rPr>
              <a:t>В  добрый   путь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1 систематические един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2 характеристика семей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3 систематика представителей семей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4 головоломка «цветковы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0" descr="6"/>
          <p:cNvPicPr/>
          <p:nvPr/>
        </p:nvPicPr>
        <p:blipFill>
          <a:blip r:embed="rId1"/>
          <a:stretch/>
        </p:blipFill>
        <p:spPr>
          <a:xfrm>
            <a:off x="6095880" y="1905120"/>
            <a:ext cx="2857680" cy="17604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52" name="Picture 71" descr="9"/>
          <p:cNvPicPr/>
          <p:nvPr/>
        </p:nvPicPr>
        <p:blipFill>
          <a:blip r:embed="rId2"/>
          <a:stretch/>
        </p:blipFill>
        <p:spPr>
          <a:xfrm>
            <a:off x="6095880" y="4724280"/>
            <a:ext cx="2857680" cy="17607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4000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8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625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75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75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75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d10b"/>
                </a:solidFill>
                <a:latin typeface="Times New Roman"/>
              </a:rPr>
              <a:t>СИСТЕМАТИЧЕСКИЕ  ЕДИНИЦ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войные, или бинарные названия видов в 18 веке ввёл шведский учёный – натуралист Карл Линней. В 1753 году он опубликовал большой труд «Виды растений», где впервые применил двойные обозначения ви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18"/>
          <p:cNvPicPr/>
          <p:nvPr/>
        </p:nvPicPr>
        <p:blipFill>
          <a:blip r:embed="rId1"/>
          <a:stretch/>
        </p:blipFill>
        <p:spPr>
          <a:xfrm>
            <a:off x="609480" y="2438280"/>
            <a:ext cx="1729080" cy="25909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9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625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d10b"/>
                </a:solidFill>
                <a:latin typeface="Times New Roman"/>
              </a:rPr>
              <a:t>Вспомним системат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d10b"/>
                </a:solidFill>
                <a:latin typeface="Times New Roman"/>
              </a:rPr>
              <a:t>едини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7"/>
          <p:cNvPicPr/>
          <p:nvPr/>
        </p:nvPicPr>
        <p:blipFill>
          <a:blip r:embed="rId1"/>
          <a:stretch/>
        </p:blipFill>
        <p:spPr>
          <a:xfrm>
            <a:off x="2362320" y="2286000"/>
            <a:ext cx="3886200" cy="25909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4000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d10b"/>
                </a:solidFill>
                <a:latin typeface="Times New Roman"/>
              </a:rPr>
              <a:t>Систематика расте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ЦАР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ПОРЯД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СЕМЕ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Р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ВИ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8"/>
          <p:cNvPicPr/>
          <p:nvPr/>
        </p:nvPicPr>
        <p:blipFill>
          <a:blip r:embed="rId1"/>
          <a:stretch/>
        </p:blipFill>
        <p:spPr>
          <a:xfrm>
            <a:off x="5181480" y="2133720"/>
            <a:ext cx="3429000" cy="22096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4000">
    <p:randomBar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925"/>
                            </p:stCondLst>
                            <p:childTnLst>
                              <p:par>
                                <p:cTn id="14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925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925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1925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3925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925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31"/>
          <p:cNvSpPr/>
          <p:nvPr/>
        </p:nvSpPr>
        <p:spPr>
          <a:xfrm>
            <a:off x="304920" y="1522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ВИД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3"/>
          <p:cNvSpPr/>
          <p:nvPr/>
        </p:nvSpPr>
        <p:spPr>
          <a:xfrm>
            <a:off x="3200400" y="2590920"/>
            <a:ext cx="1066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38"/>
          <p:cNvSpPr/>
          <p:nvPr/>
        </p:nvSpPr>
        <p:spPr>
          <a:xfrm>
            <a:off x="2895480" y="1522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именьшая единица систематик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42"/>
          <p:cNvSpPr/>
          <p:nvPr/>
        </p:nvSpPr>
        <p:spPr>
          <a:xfrm>
            <a:off x="304920" y="22096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РОД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43"/>
          <p:cNvSpPr/>
          <p:nvPr/>
        </p:nvSpPr>
        <p:spPr>
          <a:xfrm>
            <a:off x="2971800" y="220968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окупность сходных ви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46"/>
          <p:cNvSpPr/>
          <p:nvPr/>
        </p:nvSpPr>
        <p:spPr>
          <a:xfrm>
            <a:off x="4038480" y="53341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49"/>
          <p:cNvSpPr/>
          <p:nvPr/>
        </p:nvSpPr>
        <p:spPr>
          <a:xfrm>
            <a:off x="0" y="4495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50"/>
          <p:cNvSpPr/>
          <p:nvPr/>
        </p:nvSpPr>
        <p:spPr>
          <a:xfrm>
            <a:off x="228600" y="4114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СЕМЕЙСТВО - ЭТ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51"/>
          <p:cNvSpPr/>
          <p:nvPr/>
        </p:nvSpPr>
        <p:spPr>
          <a:xfrm>
            <a:off x="3048120" y="48769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окупность сходных ро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25"/>
                            </p:stCondLst>
                            <p:childTnLst>
                              <p:par>
                                <p:cTn id="19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9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20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5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7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2280" y="15228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ПОРЯДОК -эт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267080" y="15228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окупность сходных семей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28600" y="16765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КЛАСС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523880"/>
            <a:ext cx="464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окупность сходных поряд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28600" y="31240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ОТДЕЛ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114800" y="304812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окупность сходных кла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57200" y="502920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52280" y="50212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ЦАРСТВО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191120" y="4495680"/>
            <a:ext cx="4495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ивысшая единица систе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825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825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7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7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175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3175"/>
                            </p:stCondLst>
                            <p:childTnLst>
                              <p:par>
                                <p:cTn id="25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2" dur="7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08:28:31Z</dcterms:created>
  <dc:creator>Неизвестный</dc:creator>
  <dc:description/>
  <dc:language>en-US</dc:language>
  <cp:lastModifiedBy>Admin</cp:lastModifiedBy>
  <dcterms:modified xsi:type="dcterms:W3CDTF">2013-04-08T17:52:24Z</dcterms:modified>
  <cp:revision>71</cp:revision>
  <dc:subject/>
  <dc:title>«Путешествие в страну Легумия»</dc:title>
</cp:coreProperties>
</file>