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608-B281-429E-9C2D-97EB6B9F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522D-C6E8-440E-A394-D18781A2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D08-1A44-4E7E-AAAC-BBD14B96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0DD-C64F-453F-BF2E-5A51D506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451-3BD0-4618-934C-A1C42780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B9E-5356-4225-BB06-3928D095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878-EA1A-4B02-9E78-79D391A1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AFA-E3D6-4356-8383-DCC6D24F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835-2DF9-44FF-8BDB-B3CD869C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05E-1385-489A-AB8E-801528F9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570-7402-4F67-8E51-3D58B7A1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8BE-4AB2-425D-A302-7B2A234C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50000">
              <a:srgbClr val="339933"/>
            </a:gs>
            <a:gs pos="100000">
              <a:srgbClr val="00cc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4211-70A3-4F48-9A63-2F5BFE149A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«Путешествие в страну Легумия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160" y="2285640"/>
            <a:ext cx="4724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Урок по разделу «Систематика покрытосеменных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Bookman Old Style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с6"/>
          <p:cNvPicPr/>
          <p:nvPr/>
        </p:nvPicPr>
        <p:blipFill>
          <a:blip r:embed="rId1"/>
          <a:stretch/>
        </p:blipFill>
        <p:spPr>
          <a:xfrm>
            <a:off x="304920" y="3124080"/>
            <a:ext cx="3733560" cy="23148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3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25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25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625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ХАРАКТЕРИСТИКА СЕМЕЙСТ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Мотыльков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  цветка : Ч(5)Л3+(2)Т(9) +1П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ветие – кисть и гол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д – бо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: фасоль, соя, горох, люпин, душистый гороше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685800" y="2133720"/>
            <a:ext cx="320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3"/>
          <p:cNvPicPr/>
          <p:nvPr/>
        </p:nvPicPr>
        <p:blipFill>
          <a:blip r:embed="rId1"/>
          <a:stretch/>
        </p:blipFill>
        <p:spPr>
          <a:xfrm>
            <a:off x="5486400" y="4724280"/>
            <a:ext cx="3162240" cy="15242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15000">
    <p:randomBar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28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75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75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225"/>
                            </p:stCondLst>
                            <p:childTnLst>
                              <p:par>
                                <p:cTn id="28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75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75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1875"/>
                            </p:stCondLst>
                            <p:childTnLst>
                              <p:par>
                                <p:cTn id="29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75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75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475"/>
                            </p:stCondLst>
                            <p:childTnLst>
                              <p:par>
                                <p:cTn id="29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75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75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КРЕСТОЦВЕТ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 цветка : Ч2+2Л4Т2+4П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ветие – кисть, в верхней части переходящая в щит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д – струч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: пастушья сумка, капус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11"/>
          <p:cNvPicPr/>
          <p:nvPr/>
        </p:nvPicPr>
        <p:blipFill>
          <a:blip r:embed="rId1"/>
          <a:stretch/>
        </p:blipFill>
        <p:spPr>
          <a:xfrm>
            <a:off x="5257800" y="4572000"/>
            <a:ext cx="3429000" cy="13716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15000">
    <p:randomBar dir="ver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75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32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75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75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1325"/>
                            </p:stCondLst>
                            <p:childTnLst>
                              <p:par>
                                <p:cTn id="32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75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75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3225"/>
                            </p:stCondLst>
                            <p:childTnLst>
                              <p:par>
                                <p:cTn id="33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75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РОЗОЦВЕТ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 цветка : Ч5Л5Т10+10+5П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ветия – разнообра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ды – сухие и соч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: шиповник, роза, яблоня, слива, вишня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2"/>
          <p:cNvPicPr/>
          <p:nvPr/>
        </p:nvPicPr>
        <p:blipFill>
          <a:blip r:embed="rId1"/>
          <a:stretch/>
        </p:blipFill>
        <p:spPr>
          <a:xfrm>
            <a:off x="4876920" y="4114800"/>
            <a:ext cx="3276360" cy="22096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15000">
    <p:randomBar dir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75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6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75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75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36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75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75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37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75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75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ПАСЛЁНОВ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 цветка : Ч(5)Л(5)Т5П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ветия – разнообра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д – коробочка или я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: паслён, табак душистый, баклаж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12"/>
          <p:cNvPicPr/>
          <p:nvPr/>
        </p:nvPicPr>
        <p:blipFill>
          <a:blip r:embed="rId1"/>
          <a:stretch/>
        </p:blipFill>
        <p:spPr>
          <a:xfrm>
            <a:off x="4952880" y="4114800"/>
            <a:ext cx="3238560" cy="22860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15000">
    <p:randomBar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7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39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75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75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40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75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75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40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75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75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ЛИЛЕЙ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 цветка : Ок3+3Т3П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ветия – разнообра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д – коробо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: лук, чеснок, лилия, тюльп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14"/>
          <p:cNvPicPr/>
          <p:nvPr/>
        </p:nvPicPr>
        <p:blipFill>
          <a:blip r:embed="rId1"/>
          <a:stretch/>
        </p:blipFill>
        <p:spPr>
          <a:xfrm>
            <a:off x="4800600" y="4419720"/>
            <a:ext cx="3429000" cy="20574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15000">
    <p:randomBar dir="ver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7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725"/>
                            </p:stCondLst>
                            <p:childTnLst>
                              <p:par>
                                <p:cTn id="43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75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43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75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75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1425"/>
                            </p:stCondLst>
                            <p:childTnLst>
                              <p:par>
                                <p:cTn id="444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75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75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ЗЛА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 цветка :   Ок(2)+2Т3П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ветия – кол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д – зернов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:  пырей, пшеница, просо, кукуру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15"/>
          <p:cNvPicPr/>
          <p:nvPr/>
        </p:nvPicPr>
        <p:blipFill>
          <a:blip r:embed="rId1"/>
          <a:stretch/>
        </p:blipFill>
        <p:spPr>
          <a:xfrm>
            <a:off x="4419720" y="4419720"/>
            <a:ext cx="4267080" cy="19810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15000">
    <p:randomBar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875"/>
                            </p:stCondLst>
                            <p:childTnLst>
                              <p:par>
                                <p:cTn id="47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75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75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8925"/>
                            </p:stCondLst>
                            <p:childTnLst>
                              <p:par>
                                <p:cTn id="4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48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7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75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СЛОЖНОЦВЕТ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ула цветка : Ч5Л(5)Т5П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ветия – разнообраз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д – семя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ставители : подсолнечник, одуванчик, георг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029" descr="с5"/>
          <p:cNvPicPr/>
          <p:nvPr/>
        </p:nvPicPr>
        <p:blipFill>
          <a:blip r:embed="rId1"/>
          <a:stretch/>
        </p:blipFill>
        <p:spPr>
          <a:xfrm>
            <a:off x="5181480" y="4038480"/>
            <a:ext cx="3200400" cy="243864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15000">
    <p:randomBar dir="vert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75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75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50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75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51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75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75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1350"/>
                            </p:stCondLst>
                            <p:childTnLst>
                              <p:par>
                                <p:cTn id="51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75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75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СИСТЕМАТИКА ПРЕДСТАВИТЕЛЕЙ СЕМЕЙ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ЛАНДЫШ МАЙСК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ЦАРСТВО 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ОТДЕЛ 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РЫТОСЕМЕ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КЛАСС 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ДО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СЕМЕЙСТВО 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ЛЕЙ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РОД 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ВИД 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НДЫШ МАЙ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0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5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5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5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5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3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7400"/>
                            </p:stCondLst>
                            <p:childTnLst>
                              <p:par>
                                <p:cTn id="56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КАПУСТА КОЧАН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ЦАР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 РАСТ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ОТДЕЛ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ПОКРЫТОСЕМЕН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КЛАС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 ДВУДО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СЕМЕЙ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 КРЕСТОЦВЕТ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РО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 КАПУ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ВИ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 КАПУСТА КОЧАНН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5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58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3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59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3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59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ВОПРОСЫ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ГОЛОВОЛОМ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ейство растений из класса однодольных, число частей цветка у которых кратно четырём, а плод струч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 цветковых, семя которых состоит из     двух семядо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тическая категория, в которую объединяются близкородственные роды раст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корневой системы, который имеют растения из класса двудольных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randomBar dir="vert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5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NA00864_"/>
          <p:cNvPicPr/>
          <p:nvPr/>
        </p:nvPicPr>
        <p:blipFill>
          <a:blip r:embed="rId1"/>
          <a:stretch/>
        </p:blipFill>
        <p:spPr>
          <a:xfrm>
            <a:off x="6431040" y="457200"/>
            <a:ext cx="271296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Цели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урока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man Old Style"/>
              </a:rPr>
              <a:t>Образовательная: изучить характерные признаки покрытосеменн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man Old Style"/>
              </a:rPr>
              <a:t>Развивающая: развивать умения выделять главное, сравнивать, обобщать, заполнять таблиц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man Old Style"/>
              </a:rPr>
              <a:t>Воспитательная: воспитывать бережное отношение к природ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55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609480" y="45720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Семейство растений из класса однодольных, которые имеют плод зернов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Систематическая категория, в которую объединяются сходные класс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Тип жилкования, который имеют листья однодольных раст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Класс цветковых, к которому относятся растения с мочковатой корневой систе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Орган растения, по особенностям строения которого цветковые растения делят на семейства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randomBar dir="vert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РЕШЕНИЕ ГОЛОВОЛОМКИ ЦВЕТКОВ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600200" y="20574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сложно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ц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вет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267080" y="23623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д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в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удоль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886200" y="3809880"/>
            <a:ext cx="4724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657600" y="274320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сем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267080" y="30481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с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ержнев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3809880" y="342900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зла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4572000" y="37339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о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тд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3048120" y="4572000"/>
            <a:ext cx="556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3505320" y="40384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дуго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в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о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057400" y="44197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однодольн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ы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4038480" y="48006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цв</a:t>
            </a: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е</a:t>
            </a: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т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Bar dir="vert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5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6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66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67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67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68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68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Times New Roman"/>
              </a:rPr>
              <a:t>Список литера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838080" y="19051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685800" y="1828800"/>
            <a:ext cx="7315200" cy="78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Пономарёва И.Н. Биология:растения, бактерии, грибы, лишайники: учебник для 6 класса общеобразовательной школы .-М.:Вентана – граф,200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Реймерс Н.Ф.Основные биологические понятия и термины :В2-х т.-М.:Мир,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Грин Н.,Стаут.,Тейлор.,Биология.-М.:Мир,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</a:rPr>
              <a:t>Мамонтов С.Г.Биология:Справ.издание.-М.:Высш.шк.,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Bar dir="vert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0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1143000" y="380880"/>
            <a:ext cx="68580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 НОВЫХ ВСТРЕЧ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7 КЛАССЕ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6"/>
          <p:cNvSpPr txBox="1"/>
          <p:nvPr/>
        </p:nvSpPr>
        <p:spPr>
          <a:xfrm>
            <a:off x="609480" y="3886200"/>
            <a:ext cx="7772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ЖЕЛАЕМ УСПЕХА !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0000">
    <p:randomBar dir="vert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0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ХОД  УРОК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Здравствуйте,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приглашаю вас совершить путешествие в страну, которой на географической карте нет. И всё же она существует. Иногда она огромная глазами не охватить,иногда крохотная – такая, что уместится на подоконнике. Страну называют Легумией. Это страна полной тишины. Когда её жители болеют или хотят пить, помощи они просят беззвучно. Если вы позаботитесь о них,они в долгу не останутся : неблагодарных среди легумов нет. Но заботится о них надо больше всего весной и летом.Поздней осенью в Легумии почти никто не остаётся. Путешествовать по этой стране можно только пешком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«Легум»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в переводе с французского – овощ, а страна Легумия – огород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75"/>
                            </p:stCondLst>
                            <p:childTnLst>
                              <p:par>
                                <p:cTn id="6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675"/>
                            </p:stCondLst>
                            <p:childTnLst>
                              <p:par>
                                <p:cTn id="6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f2ed1d"/>
                </a:solidFill>
                <a:latin typeface="Times New Roman"/>
              </a:rPr>
              <a:t>В  добрый   путь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1 систематические единиц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2 характеристика семей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3 систематика представителей семей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4 головоломка «цветковы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0" descr="6"/>
          <p:cNvPicPr/>
          <p:nvPr/>
        </p:nvPicPr>
        <p:blipFill>
          <a:blip r:embed="rId1"/>
          <a:stretch/>
        </p:blipFill>
        <p:spPr>
          <a:xfrm>
            <a:off x="6095880" y="1905120"/>
            <a:ext cx="2857680" cy="176040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  <p:pic>
        <p:nvPicPr>
          <p:cNvPr id="52" name="Picture 71" descr="9"/>
          <p:cNvPicPr/>
          <p:nvPr/>
        </p:nvPicPr>
        <p:blipFill>
          <a:blip r:embed="rId2"/>
          <a:stretch/>
        </p:blipFill>
        <p:spPr>
          <a:xfrm>
            <a:off x="6095880" y="4724280"/>
            <a:ext cx="2857680" cy="176076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4000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8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75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7625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75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75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75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d10b"/>
                </a:solidFill>
                <a:latin typeface="Times New Roman"/>
              </a:rPr>
              <a:t>СИСТЕМАТИЧЕСКИЕ  ЕДИНИЦ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Двойные, или бинарные названия видов в 18 веке ввёл шведский учёный – натуралист Карл Линней. В 1753 году он опубликовал большой труд «Виды растений», где впервые применил двойные обозначения ви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18"/>
          <p:cNvPicPr/>
          <p:nvPr/>
        </p:nvPicPr>
        <p:blipFill>
          <a:blip r:embed="rId1"/>
          <a:stretch/>
        </p:blipFill>
        <p:spPr>
          <a:xfrm>
            <a:off x="609480" y="2438280"/>
            <a:ext cx="1729080" cy="25909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9000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75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625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d10b"/>
                </a:solidFill>
                <a:latin typeface="Times New Roman"/>
              </a:rPr>
              <a:t>Вспомним систематическ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d10b"/>
                </a:solidFill>
                <a:latin typeface="Times New Roman"/>
              </a:rPr>
              <a:t>едини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7"/>
          <p:cNvPicPr/>
          <p:nvPr/>
        </p:nvPicPr>
        <p:blipFill>
          <a:blip r:embed="rId1"/>
          <a:stretch/>
        </p:blipFill>
        <p:spPr>
          <a:xfrm>
            <a:off x="2362320" y="2286000"/>
            <a:ext cx="3886200" cy="259092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4000">
    <p:randomBar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d10b"/>
                </a:solidFill>
                <a:latin typeface="Times New Roman"/>
              </a:rPr>
              <a:t>Систематика расте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ЦАР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ОТД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ПОРЯД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СЕМЕЙ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Р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ВИ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8"/>
          <p:cNvPicPr/>
          <p:nvPr/>
        </p:nvPicPr>
        <p:blipFill>
          <a:blip r:embed="rId1"/>
          <a:stretch/>
        </p:blipFill>
        <p:spPr>
          <a:xfrm>
            <a:off x="5181480" y="2133720"/>
            <a:ext cx="3429000" cy="2209680"/>
          </a:xfrm>
          <a:prstGeom prst="rect">
            <a:avLst/>
          </a:prstGeom>
          <a:ln w="76320">
            <a:solidFill>
              <a:srgbClr val="006600"/>
            </a:solidFill>
            <a:miter/>
          </a:ln>
        </p:spPr>
      </p:pic>
    </p:spTree>
  </p:cSld>
  <p:transition spd="slow" advTm="4000">
    <p:randomBar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425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925"/>
                            </p:stCondLst>
                            <p:childTnLst>
                              <p:par>
                                <p:cTn id="14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925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9925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1925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3925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925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031"/>
          <p:cNvSpPr/>
          <p:nvPr/>
        </p:nvSpPr>
        <p:spPr>
          <a:xfrm>
            <a:off x="304920" y="15228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ВИД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33"/>
          <p:cNvSpPr/>
          <p:nvPr/>
        </p:nvSpPr>
        <p:spPr>
          <a:xfrm>
            <a:off x="3200400" y="2590920"/>
            <a:ext cx="1066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38"/>
          <p:cNvSpPr/>
          <p:nvPr/>
        </p:nvSpPr>
        <p:spPr>
          <a:xfrm>
            <a:off x="2895480" y="1522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именьшая единица систематик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42"/>
          <p:cNvSpPr/>
          <p:nvPr/>
        </p:nvSpPr>
        <p:spPr>
          <a:xfrm>
            <a:off x="304920" y="22096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РОД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43"/>
          <p:cNvSpPr/>
          <p:nvPr/>
        </p:nvSpPr>
        <p:spPr>
          <a:xfrm>
            <a:off x="2971800" y="220968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вокупность сходных вид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46"/>
          <p:cNvSpPr/>
          <p:nvPr/>
        </p:nvSpPr>
        <p:spPr>
          <a:xfrm>
            <a:off x="4038480" y="533412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49"/>
          <p:cNvSpPr/>
          <p:nvPr/>
        </p:nvSpPr>
        <p:spPr>
          <a:xfrm>
            <a:off x="0" y="44956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50"/>
          <p:cNvSpPr/>
          <p:nvPr/>
        </p:nvSpPr>
        <p:spPr>
          <a:xfrm>
            <a:off x="228600" y="4114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СЕМЕЙСТВО - ЭТ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51"/>
          <p:cNvSpPr/>
          <p:nvPr/>
        </p:nvSpPr>
        <p:spPr>
          <a:xfrm>
            <a:off x="3048120" y="487692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вокупность сходных род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25"/>
                            </p:stCondLst>
                            <p:childTnLst>
                              <p:par>
                                <p:cTn id="191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25"/>
                            </p:stCondLst>
                            <p:childTnLst>
                              <p:par>
                                <p:cTn id="19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20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05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7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52280" y="15228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ПОРЯДОК -это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267080" y="15228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вокупность сходных семейст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28600" y="16765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КЛАСС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191120" y="1523880"/>
            <a:ext cx="464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вокупность сходных поряд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28600" y="312408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ОТДЕЛ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114800" y="304812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вокупность сходных кла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57200" y="502920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52280" y="50212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Times New Roman"/>
              </a:rPr>
              <a:t>ЦАРСТВО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191120" y="4495680"/>
            <a:ext cx="4495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ивысшая единица система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5" dur="7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825"/>
                            </p:stCondLst>
                            <p:childTnLst>
                              <p:par>
                                <p:cTn id="227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825"/>
                            </p:stCondLst>
                            <p:childTnLst>
                              <p:par>
                                <p:cTn id="23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4" dur="7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7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7175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3175"/>
                            </p:stCondLst>
                            <p:childTnLst>
                              <p:par>
                                <p:cTn id="25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2" dur="7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08:28:31Z</dcterms:created>
  <dc:creator>Неизвестный</dc:creator>
  <dc:description/>
  <dc:language>en-US</dc:language>
  <cp:lastModifiedBy>Admin</cp:lastModifiedBy>
  <dcterms:modified xsi:type="dcterms:W3CDTF">2013-04-08T17:52:24Z</dcterms:modified>
  <cp:revision>71</cp:revision>
  <dc:subject/>
  <dc:title>«Путешествие в страну Легумия»</dc:title>
</cp:coreProperties>
</file>