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DE2-B8D8-4E80-84B8-33B1CADD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843-EFCA-432D-9491-DB4A1A38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1F1D1-FD75-4C1F-A9BF-5D6F0E74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5BA8A-D68E-42FD-9FB9-ED0746D0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F7921-6520-4265-86B7-0609BAB0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436D5-6259-47B4-9802-5FABDBD6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FC4AF-F80A-4B19-943B-6A5FCE79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D58E9-D658-4449-9931-AB9E325C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17D50-29DD-485C-86EC-87A38134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5CDCF-4033-4E46-B6FB-D23571D4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9EE1D-C049-4618-AD9D-A5545063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CF0-AF21-4228-8610-74EAE47E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4E99-20C2-4D27-A4A8-941F1E85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32C5-A32E-4ACF-8FEB-04B94844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0DD5-6C58-4657-8D8A-35E08DCC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F53D-B5D1-4965-A57B-86C0C665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725F-98AD-491E-B4B6-B79E7BC3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7164-BFBB-48FF-9E8B-CF666C82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0502-3123-4473-9A70-C37F1C38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6FBB-366B-40E7-91E5-06620EB4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7DD-A9E4-42F7-ACF1-2C8AEA89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27ED-5774-4B05-A0A0-7C8AAE59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592F-860A-41CA-9403-CAC4F5F4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AD30-29E2-4DD7-AE0C-2850FA69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E20A-4256-41EE-8C04-F9B3056B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4A3E-42F0-4FE8-A553-AC776F3D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A01A7-CF9C-4F27-A89B-8BD3E997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49484-2559-47AD-ACDF-A6801B1B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2E89C-A90F-4407-A731-CE2000CF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B232D-CF25-4BF9-B3D8-B51A452A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DBBDB-4D49-4530-BDAF-F923109E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7A9-FE44-4936-A5A0-EC3845D1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40213-648A-46DA-AE81-0B70B2D5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F9A13-D352-44B2-852D-BA4596C3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DD4E-6805-46D9-B896-FAC849F2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61FCA-F198-4BEC-BF03-6DF60DCF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EBC56-F73A-40CB-B37A-EBE958A9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7FC7E-FBE7-4D31-B545-7A8567AF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34AE9-D5E6-4548-B146-BC9D077F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DF78A-39B1-4C28-8682-AEE5FD18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9F8D9-8049-4BA1-BE2B-BE48AEC8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FDAD8-F269-44F6-9A1E-7373B773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C44-E39B-4EBE-A56D-066F8F1B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2C600-4A95-40E2-A4F9-F9A7F706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492E3-1371-49E0-8FA6-6D8AF0C6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8024D-70F1-4EA1-BBBD-05437D2E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E6A46-5356-46E0-8F45-D42D3752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B0D15-2D55-4EF8-924E-1060424D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79B08-BC15-41C9-B43C-6A1EC977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EB08A-2358-4371-8A79-B1512BD2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77797-D7E0-400F-88CC-FE76D67F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AD4FC-1AB2-41FF-8852-B7E1FE9C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32C20-50BF-4B7B-AD38-2CE4C1A6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706-F675-4F7A-904C-2226ADEB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2A132-7C1E-48FC-BE85-382CF244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0DCAC-B790-46F8-B113-2172BFB7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73E89-9A81-4FD2-B78B-BAA1957C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1C0E4-B976-4D81-8A4C-7F6382D8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2D069-FA96-4549-81AA-353E9156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A05B4-7282-4F4A-9F97-DD772DC4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2A322-D7B7-47A3-B24E-05AC7084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C7818-7886-439E-8B86-BBB7A87E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9448C-5E0D-4CDD-ACA2-71B5AB5E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9358C-2A51-41B1-B2E9-BCE57B64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80E-91C7-496D-AC11-0A631F87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7AB66-3208-4072-A55D-41D938C7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FCBCA-5560-426F-8307-894DA6BE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7DDF7-D05B-41A3-8D89-B44C0962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F7F98-E23F-4E28-9F64-562C23C6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E904D-D2B2-48A8-A922-FB45946E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5232F-473B-499D-A057-054CF36F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7994A-5FF8-47D3-AF5C-E713EFD6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53122-A30F-454B-8743-2EA5ACA1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340D7-3E79-4A16-8320-634B17A2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20C3D-CB5C-4409-88E8-AC813B98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80C-4DB1-41BF-8510-379196AE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9D4A8-3474-40A1-B844-74600EFB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02187-224A-4D69-A891-3F1E9B0C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8437C-65D5-4E81-8380-A3DE2225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EE32E-B5FF-4FE4-868C-113CB7E3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8CE63-9222-4F7B-8C4B-FC2E386F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8AFCC-1950-40D4-8DF7-A03B1131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36D6D-90DB-4A52-8F01-6E6E1441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978DA-88BD-48ED-8634-118EDDC0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E0C3A-F615-4E0E-8304-1F9A2419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91F2A-8A82-4601-897E-A639440D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3A8-9546-4FAF-A134-64A26333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E9414-9AED-49A3-B20E-095B9B1E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600CA-2D24-424E-B0B2-70D01755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643D1-50FF-4AC2-B298-82F7AF60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BB8E8-AAB4-46FF-940B-7E429AD6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6FEE6-C917-4EB7-8923-39BF0048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9D96D-0C8B-4DF7-B507-1140403B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F22AE-7B76-408F-AD0A-8C01E78E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06C59-5797-4A7C-894A-DCE32730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20B43-B790-4F1C-B1E8-C62BE098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9B780-6A93-4EB9-A61D-E218F5A9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17F6-197D-4E64-8DCD-0CC6D08D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28CBC-DE55-4E56-9856-FF286392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D346E-721E-4FD1-A491-1DDCD632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FF9D5-927F-42B6-BE73-D7C94398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710E6-C1C0-481D-9691-1996BDC8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92A27-B550-439A-AE26-2F5704B2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7A67C-AEB2-4DE1-BBEB-D7E87683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A39CC-D7C4-4BC3-834E-F02C5A64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1C74E-18A8-495C-A23F-484990A7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8C2CA-CE41-4363-8025-B30B653F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CB9CC-2B7E-42A9-B186-9ED0F602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6AD9-19C3-409C-82C0-5BCE2A52992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7563-A1B4-49EA-B5FE-246345ED0CB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DD81-7B5A-440B-A043-70780B08BD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A969-1594-4878-B377-2A5ED00E225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E30F-1A07-4848-BC5D-E369E502991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7E3D-98FF-4348-82E0-25940CFD2A3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6E1D-77C2-43D9-A371-DE727F3945B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52FA-C0ED-4A20-8F2C-4FA08D4A26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401E-C4ED-4909-B8FB-EE8D312233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5" descr=""/>
          <p:cNvPicPr/>
          <p:nvPr/>
        </p:nvPicPr>
        <p:blipFill>
          <a:blip r:embed="rId1"/>
          <a:stretch/>
        </p:blipFill>
        <p:spPr>
          <a:xfrm>
            <a:off x="633240" y="476280"/>
            <a:ext cx="7913880" cy="45291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18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3329"/>
                </a:solidFill>
                <a:latin typeface="Franklin Gothic Book"/>
              </a:rPr>
              <a:t>МБОУ «Уринская СОШ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920" y="1356840"/>
            <a:ext cx="8686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асть учителей испытывают затруднения в реализации системно-деятельностного и компетентностного подходов в обучени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несовершенна система работы с учащимися по ликвидации пробелов в знаниях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система оценивания носит формальный характер, не включает практических задач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не всегда учитель может справиться с проблемой, связанной с возрастными особенностями ребёнка (недостаточный уровень психолого-педагогической компетенции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не всегда соблюдается преемственность в обучении и воспитании учащихс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работа по обмену опытом чаще всего не приводит к коллективному взаимодействию и формированию нового опыт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едостаточно организована работа по взаимодействию учителей с целью распространения опыта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8B46-965D-425B-8A68-303CEF8A696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здание  условий для непрерывного образования педагогов школы с целью повышению уровня по достижению современных результатов образова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3338-C852-4CA2-A6E4-34902206B1F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прохождение плановых курсов повышения квалификаци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организация участия учителей в семинарах, мастер-классах и т.д.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привлечение всех педагогов к участию в методических декадах школы и др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совершенствование системы по распространению и обобщению опы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0C39-29DE-4CC8-8E9E-AEDB97DABD4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103320" y="225360"/>
            <a:ext cx="889452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6" name=""/>
          <p:cNvGraphicFramePr/>
          <p:nvPr/>
        </p:nvGraphicFramePr>
        <p:xfrm>
          <a:off x="428760" y="1027080"/>
          <a:ext cx="8501040" cy="5902200"/>
        </p:xfrm>
        <a:graphic>
          <a:graphicData uri="http://schemas.openxmlformats.org/drawingml/2006/table">
            <a:tbl>
              <a:tblPr/>
              <a:tblGrid>
                <a:gridCol w="5786280"/>
                <a:gridCol w="981000"/>
                <a:gridCol w="1733760"/>
              </a:tblGrid>
              <a:tr h="12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ероприятия пр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роки 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бъём и источники финанс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17480"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хождение курсов повышения квалифик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2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юдж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ие педагогов в семинарах, мастер-классах по плану школы, УО, РИКУ и О и т.д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2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17480"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жегодный публичный от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2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2492280"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работы по обобщению опыт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выпуск методического сбор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выпуск  сборника «Качество образования в наших выпускниках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участие педагогов в ежегодной районной НМ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роведение школьных методических дек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2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У, У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sp>
        <p:nvSpPr>
          <p:cNvPr id="447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88DA-1DD8-445C-B68C-635240FDCCB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304920" y="714240"/>
          <a:ext cx="8686800" cy="6283440"/>
        </p:xfrm>
        <a:graphic>
          <a:graphicData uri="http://schemas.openxmlformats.org/drawingml/2006/table">
            <a:tbl>
              <a:tblPr/>
              <a:tblGrid>
                <a:gridCol w="5267160"/>
                <a:gridCol w="1285920"/>
                <a:gridCol w="213372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ероприятия пр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роки 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бъём и источники финанс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постоянного семинара с целью повышения психолого-педагогической компетенции учителе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2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739160"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ршенствование информационно-коммуникативной компетенции педагогов: использование  программы NETSHKOOL (электронный журнал, дневник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ка методических пособий, тест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3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ршенствование системы оценивания с учётом индивидуальных особенностей учащих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2-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ршенствование  работы «Школы молодого учителя»: составление и утверждение ежегодного плана работы, проведение методической декады молодых педагог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2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42600"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системы наставни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2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51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52CF-85FB-4B40-9044-E31F3F856F6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04920" y="1071720"/>
            <a:ext cx="86868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ведение ФГОС общего образования требует учителя иного уровня квалификации, готового к организации образовательного процесса в  современной информационно-образовательной среде, обеспечивающего реализацию требований ФГОС к результатам освоения основной образовательной программы на основе системно-деятельностного подхода -  методологической основы ФГОС. Поэтому наш проект предусматривает изменение и обновление существующей системы непрерывного повышения квалификации педагогов школы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6737-2FE5-4827-86E6-8215D9DE682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овершенствование системы непрерывного образования педагогов предполагает получение следующих результатов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рост численности учителей, имеющих  ВКК (25%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- получение нового педагогического опыт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адаптация молодых педагогов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достижение высоких результатов участия педагогов в профессиональных конкурсах разного уровн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рост численности учителей, участвующих в мероприятиях разного уровня по обобщению опыт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выпуск методических сборников, публикаций педагогов  в профессиональных изданиях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сохранение доли педагогов с высшей и первой квалификационной категорией при прохождении  аттестации в новой форм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увеличение числа молодых специалистов, привлеченных к педагогической деятельности;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6281-63CD-4351-8E92-A82D8EE7F0C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овершенствование системы оценивания (разработка интегрированных тестов и т.д.)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освоение и использование различных приёмов психолого-педагогической поддержки путём внедрения программы комплексного индивидуального сопровождения учащихся, в том числе системы мониторинговых исследований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продолжение работы по ведению портфолио педагогов (включая электронные портфолио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использование электронного документооборота (электронный журнал, дневник)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разработка методических пособий, тесто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EAEE-78F3-4985-916A-5620542C9D1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b248"/>
              </a:solidFill>
              <a:latin typeface="Franklin Gothic Medium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28400" y="571320"/>
            <a:ext cx="83725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e3b30"/>
                </a:solidFill>
                <a:latin typeface="Calibri"/>
                <a:ea typeface="Times New Roman"/>
              </a:rPr>
              <a:t>Цель проекта: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96b77"/>
                </a:solidFill>
                <a:latin typeface="Calibri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прерывное повышение профессиональной педагогической компетент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0D01-0F4F-4D83-8C45-F1AA18BA792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повышение уровня профессиональной компетентности педагогов школы через курсы повышения квалификации, обучающие семинары на рабочем месте, дистанционные курсы, самообразование педагогов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создание научно-обоснованной , гибкой системы непрерывного повышения квалификации через развитие творческих способностей личности педагога как фактора совершенствования интеллектуального и духовного потенциала общества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преобразование методических предметных объединений учителей в кафедры, творческие группы, лаборатории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F367-1795-43EE-A019-ADDDDFE883F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928440"/>
            <a:ext cx="8686800" cy="51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расширение публичности деятельности школы для привлечения новых обучающихся, повышения конкурентоспособности школы через внедрение традиционных отчетов деятельности школы, её подразделений о своей деятельности перед населением, родителями,  общественностью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реобразование методической работы в научно-методическую деятельность через внедрение в практику работы кафедр, лабораторий, творческих групп научно-проектной деятельности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9A7C-1543-45B5-B1EF-27BBFAC6E08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4 педагога, из них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сшей категории- 2 челове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 категории-9 челове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 категории- 8 челове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ттестованы на соответствие занимаемой должности-3 челове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8F3D-8633-4CE7-8C46-1DD6C4DFD80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33200" y="2376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503280" y="1357200"/>
            <a:ext cx="81835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009 г.        2010 г.       2011 г.    2012 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7%.         47%             52%         58%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перспективе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013 г.      2014 г.           2015 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66%          75%               88%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DFF5-270D-43A2-9E75-AC317D946D4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меют дополнительную специализацию-16 % педагог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лучают дополнительную специализацию- 25 % педагог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C30D-9175-4B2C-8FD2-7305ED0C520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ланомерное повышение квалификации педагогов является результатом системной работы ОУ, включающей различные формы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организация «Школы молодого учителя»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участие педагогов в профессиональных конкурсах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прохождение плановых курсов повышения квалификаци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посещение лекций, семинаров, мастер-классов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ежегодное участие учителей в районной НМК «Современное образование:опыт, проблмы, перспективы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организация работы по разработке рабочих программ по отдельным предметам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организация и проведение методических недель и декад в школе с целью распространения опыт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DA7E-845C-4F46-A5C9-569435E23C5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133200" y="-219240"/>
            <a:ext cx="8944200" cy="19749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Диагностика труда педагога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аучно-методический совет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Тематический педагогический совет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седания МО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седания творческих групп учителей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Методические семинары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ткрытые уроки и мероприяти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Участие педагогов в профессиональных конкурсах и фестивалях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Творческие отчеты учителей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азработка методических продуктов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одготовка публикаций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Аттестация педагогических работников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аучно-методическая конференци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CB43-720A-4158-9A24-254FA00B6AD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6:07:11Z</dcterms:created>
  <dc:creator>Пользователь</dc:creator>
  <dc:description/>
  <dc:language>en-US</dc:language>
  <cp:lastModifiedBy>Ирина</cp:lastModifiedBy>
  <dcterms:modified xsi:type="dcterms:W3CDTF">2012-08-20T00:52:43Z</dcterms:modified>
  <cp:revision>25</cp:revision>
  <dc:subject/>
  <dc:title>Источники права</dc:title>
</cp:coreProperties>
</file>