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4C3-2DE0-41BD-BB49-90D615CBF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7BB-E1ED-4965-8FCF-BCD6662B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5D851-0BA7-498A-A4EE-604DD17A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A2D20-0AC4-4CFB-896E-236C2CA6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5CDBA-ACBE-4A7C-ABDB-FA16F07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0E342-14D1-4F44-A329-20027BFE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6C875-3008-49C4-B775-850B7AC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2F933-4C72-437F-A57B-0C36715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792AA-FBD3-4DBF-BDAC-2DF6A739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FA327-02BC-4174-B416-A60DA204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0FA0F-61AC-4FE0-8048-544FC29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503-E1C1-44FC-B32B-F5ACB859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3DD-AE3D-4428-8BD3-42DB6BE1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AF6D-6E1D-439C-9A0D-2B7165D0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F7E7-0926-4484-827C-96C8ED9E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4AFD-B881-4B7F-9022-EB13D933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717A-2D12-41A3-8F12-411760AA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200E-6F8A-40B8-99AA-D6442E4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DCAC-AA45-4143-8DA5-C05EC75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0232-2755-4854-BDA6-F015DA4B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EF5B-BF3D-4B2F-9ED1-0EEA28B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23BD-BF9B-4DF1-998D-8E26C25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03B3-0EBD-4983-8C23-4CA0EE94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DEF1-9767-41F6-BB5B-4FCC9509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8AB2-EA46-4C07-96CF-FE515E00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1885-8F10-4764-BC0F-C0425614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7908-6F0C-4207-858C-22D41E6F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EF7B-B070-41B6-8361-567B7305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522DF-F0D2-4F26-ABC0-AB97131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8F29C-128B-48C3-A6A3-A3B35E6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1711E-AC79-4E6A-90D5-C7ACCE19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321-B8B8-4E1E-8ABB-B3D8C242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109C-F1F5-43F4-AC21-68CC2112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3307-12DD-42A4-A425-2704D60C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2AB2-D5BC-4D3C-8321-EE4962A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FAE6-366E-418E-A637-25008971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36C20-D731-4B3C-AC29-0D2E1803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5147-058E-4B07-B1EE-8C89BCD0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0359-2175-4967-B7FA-CFAB7347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3D39-6977-4F4B-8A9B-55C2C824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BB60F-727A-4EE2-89D9-1BE8B33D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12F7-2676-4769-A144-4162C1BC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A8A-3950-4382-AD6C-03E59ED1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5D16-F363-4443-9466-AD6FF257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1AF4F-FDE5-49BD-9E20-01E6463A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A820-9D4D-4980-B7DE-1C679046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AA171-6AAB-4040-99CB-DAA99C9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7E0E6-6454-45DB-A11D-70418AF6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7E0F-145A-48CD-94E1-0D59013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C9BE-8F98-41C9-812C-1533DD12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DE57D-76F9-462D-9231-265AF652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EEE6-913C-4C92-B931-7303FDDA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268C-7ECC-466B-9462-98A2E017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304-C6E8-4001-A44B-52BE805F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3C887-E57C-4D41-AE36-B285762D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7D0D-2AED-49A4-8191-554B5E67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2047-78CF-437D-BDE8-2CB0B37B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9A087-8E0C-4FBB-880B-B1C06340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E2035-BF94-4E0E-BDEE-61DD3793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9C6B3-220B-4728-80B4-5A433CC4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3B2A1-E27D-4ACA-8FC2-5E14DAE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A01EC-3860-4396-B8B8-5CB778C4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9B8E-F862-48E7-A392-6F16FD9F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154FD-E3E0-4B2C-933C-50FBC35D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94F-8D8C-4D8B-9319-57314745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B01DE-8AEB-4918-BC52-A5566C7A5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B8FA-B4BA-4D8F-A95D-3D9F050D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A215C-16D6-423C-9BAF-96434748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E289-0A49-42A6-9E73-60D5B405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F713B-B70C-4193-BBBC-8D44DC6B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ED60B-FDFA-401F-983E-7263E7DD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95356-A93A-4D9E-95BA-93104F36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0C4A-1B36-49FE-A565-A67A5BAF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BCB0E-6168-47AA-9261-0799F3CD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C507F-40F5-4A29-8AB7-52A12A12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AF9-8DDE-42B0-AD47-7C11F3C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21F7-6F1E-4015-8130-E1EDD1B5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67881-DFEB-4D78-A2DC-FCD55D05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470C4-D499-4C62-8536-FB9A15EF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1084C-0C99-4C5B-B407-D9B437F4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D2037-66C0-4B3C-BDEE-AA11A63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92BCB-EFBE-4334-9C3F-A4701AB5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900B2-07B3-4578-B356-37795E08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9E8D1-DD08-43CA-A0E3-44D43B02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8474B-DEE5-42C8-9614-611E9DDB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6E9E2-DFB5-4B0D-92EE-9DCEBFD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451-5111-41B3-9613-D06182DF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69AB-972B-4159-884B-02907302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A9D4-84DD-482C-B6C8-995D149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FACBC-5048-4C99-BEA3-3861D176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E8E5-2AD0-4AE5-B3F6-492D4787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7F37E-8EBB-4E06-B155-1CD51146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C5528-B4DE-471B-BDDA-AE4F01C5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6396F-C354-4253-B0F8-1FE62425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E5B0D-C053-4425-B51D-E220A54C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AD1DD-A996-420E-A779-D435DFA7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79373-E451-4E3B-850D-D0A46BFF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61B-6BA3-4327-BA5F-2DFFABB2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57EF5-3404-4751-99D3-AE48ED70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2DF57-BDCB-4159-A923-217E949B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3744E-E7CA-4B1B-B6F0-A1807609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2F88E-DA9E-42AB-81C1-91C22D98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62D76-9040-4872-B6D9-4C68F8CA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9632E-401A-4FB6-940D-DD82A372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959A-DA42-4B79-BCE0-519335BF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D8332-228B-490F-BFDA-FCFCC30E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8E289-9DF7-4A46-9572-528B5FBF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55FBF-266B-4E93-8E6F-F1BE01FA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B9F0-5D88-445F-986B-CD16EE39CF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C1B0-9114-40D8-B55F-79C94538B3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8EBF-F6CB-40F2-A2CA-7A17E1963E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EB03-0704-4358-82C0-51E2AF57F3B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2EEC-43ED-4218-9742-F8BDB876B0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B402-1158-4542-B238-6F9CCB70E5E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E940-CCB8-4689-87EF-CA43D851E59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22EA-F79F-4552-9342-39E99EF135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CEE8-1EF1-40D6-9ADB-AB4C90B639B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5" descr=""/>
          <p:cNvPicPr/>
          <p:nvPr/>
        </p:nvPicPr>
        <p:blipFill>
          <a:blip r:embed="rId1"/>
          <a:stretch/>
        </p:blipFill>
        <p:spPr>
          <a:xfrm>
            <a:off x="633240" y="476280"/>
            <a:ext cx="7913880" cy="4529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43329"/>
                </a:solidFill>
                <a:latin typeface="Franklin Gothic Book"/>
              </a:rPr>
              <a:t>МБОУ «Уринская СОШ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356840"/>
            <a:ext cx="8686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асть учителей испытывают затруднения в реализации системно-деятельностного и компетентностного подходов в обучени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несовершенна система работы с учащимися по ликвидации пробелов в знаниях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истема оценивания носит формальный характер, не включает практических задач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не всегда учитель может справиться с проблемой, связанной с возрастными особенностями ребёнка (недостаточный уровень психолого-педагогической компетенции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не всегда соблюдается преемственность в обучении и воспитании учащихс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абота по обмену опытом чаще всего не приводит к коллективному взаимодействию и формированию нового опы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едостаточно организована работа по взаимодействию учителей с целью распространения опыта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05F-DC2C-48CE-8F46-74AD49079EB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здание  условий для непрерывного образования педагогов школы с целью повышению уровня по достижению современных результатов образовани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FC64-38CC-425A-A28E-7E1DE4AC7C56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охождение плановых курсов повышения квалификаци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организация участия учителей в семинарах, мастер-классах и т.д.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привлечение всех педагогов к участию в методических декадах школы и д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совершенствование системы по распространению и обобщению опы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A64E-0C30-4B3C-8134-DADACEC3A85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103320" y="225360"/>
            <a:ext cx="889452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"/>
          <p:cNvGraphicFramePr/>
          <p:nvPr/>
        </p:nvGraphicFramePr>
        <p:xfrm>
          <a:off x="428760" y="1027080"/>
          <a:ext cx="8501040" cy="5902200"/>
        </p:xfrm>
        <a:graphic>
          <a:graphicData uri="http://schemas.openxmlformats.org/drawingml/2006/table">
            <a:tbl>
              <a:tblPr/>
              <a:tblGrid>
                <a:gridCol w="5786280"/>
                <a:gridCol w="981000"/>
                <a:gridCol w="1733760"/>
              </a:tblGrid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ероприятия пр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роки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ъём и источники финанс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хождение курсов повышения квалифик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Бюдж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астие педагогов в семинарах, мастер-классах по плану школы, УО, РИКУ и О и т.д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жегодный публичный от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249228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по обобщению опыт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ыпуск методического сбор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ыпуск  сборника «Качество образования в наших выпускниках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участие педагогов в ежегодной районной НМ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роведение школьных методических дек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, У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47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24B7-AF8B-44DC-9E90-50C644A0A9D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304920" y="714240"/>
          <a:ext cx="8686800" cy="6283440"/>
        </p:xfrm>
        <a:graphic>
          <a:graphicData uri="http://schemas.openxmlformats.org/drawingml/2006/table">
            <a:tbl>
              <a:tblPr/>
              <a:tblGrid>
                <a:gridCol w="5267160"/>
                <a:gridCol w="1285920"/>
                <a:gridCol w="213372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Мероприятия пр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роки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бъём и источники финанс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постоянного семинара с целью повышения психолого-педагогической компетенции учите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73916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информационно-коммуникативной компетенции педагогов: использование  программы NETSHKOOL (электронный журнал, дневник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методических пособий, тес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3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системы оценивания с учётом индивидуальных особенностей учащих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е  работы «Школы молодого учителя»: составление и утверждение ежегодного плана работы, проведение методической декады молодых педагог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42600">
                <a:tc>
                  <a:txBody>
                    <a:bodyPr lIns="68760" rIns="68760" tIns="0" bIns="0" anchor="t">
                      <a:noAutofit/>
                    </a:bodyPr>
                    <a:p>
                      <a:pPr marL="20520" indent="-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системы наставни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12-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51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03A5-4330-4FBF-ABBC-A35E0BBC205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4920" y="1071720"/>
            <a:ext cx="8686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ведение ФГОС общего образования требует учителя иного уровня квалификации, готового к организации образовательного процесса в  современной информационно-образовательной среде, обеспечивающего реализацию требований ФГОС к результатам освоения основной образовательной программы на основе системно-деятельностного подхода -  методологической основы ФГОС. Поэтому наш проект предусматривает изменение и обновление существующей системы непрерывного повышения квалификации педагогов школы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CEAB-AA71-4E5A-942E-6CF74EB27D3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вершенствование системы непрерывного образования педагогов предполагает получение следующих результатов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ост численности учителей, имеющих  ВКК (25%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- получение нового педагогического опы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адаптация молодых педагогов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достижение высоких результатов участия педагогов в профессиональных конкурсах разного уровн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рост численности учителей, участвующих в мероприятиях разного уровня по обобщению опыт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выпуск методических сборников, публикаций педагогов  в профессиональных изданиях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охранение доли педагогов с высшей и первой квалификационной категорией при прохождении  аттестации в новой форм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увеличение числа молодых специалистов, привлеченных к педагогической деятельности;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B8E3-20F6-4FA7-8212-A6236B20EE4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овершенствование системы оценивания (разработка интегрированных тестов и т.д.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освоение и использование различных приёмов психолого-педагогической поддержки путём внедрения программы комплексного индивидуального сопровождения учащихся, в том числе системы мониторинговых исследований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продолжение работы по ведению портфолио педагогов (включая электронные портфолио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 использование электронного документооборота (электронный журнал, дневник)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-разработка методических пособий, тестов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342D-34FD-46ED-B538-D726E95B3BF9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b248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400" y="571320"/>
            <a:ext cx="837252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e3b30"/>
                </a:solidFill>
                <a:latin typeface="Calibri"/>
                <a:ea typeface="Times New Roman"/>
              </a:rPr>
              <a:t>Цель проекта: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96b77"/>
                </a:solidFill>
                <a:latin typeface="Calibri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прерывное повышение профессиональной педагогической компетентност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C49C-3D55-472A-8A4E-57BCCC1934F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повышение уровня профессиональной компетентности педагогов школы через курсы повышения квалификации, обучающие семинары на рабочем месте, дистанционные курсы, самообразование педагогов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создание научно-обоснованной , гибкой системы непрерывного повышения квалификации через развитие творческих способностей личности педагога как фактора совершенствования интеллектуального и духовного потенциала общества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преобразование методических предметных объединений учителей в кафедры, творческие группы, лаборатории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AE00-1045-4D3A-8CCB-507703593F4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928440"/>
            <a:ext cx="868680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расширение публичности деятельности школы для привлечения новых обучающихся, повышения конкурентоспособности школы через внедрение традиционных отчетов деятельности школы, её подразделений о своей деятельности перед населением, родителями,  общественностью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преобразование методической работы в научно-методическую деятельность через внедрение в практику работы кафедр, лабораторий, творческих групп научно-проектной деятельности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1108-ABBB-461D-9436-6BB2788616DD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4 педагога, из них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сшей категории- 2 челове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1 категории-9 челове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 категории- 8 челове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ттестованы на соответствие занимаемой должности-3 человек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7A4-76DF-49D5-B770-034327C51C3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03280" y="1357200"/>
            <a:ext cx="81835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009 г.        2010 г.       2011 г.    2012 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47%.         47%             52%         58%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перспектив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2013 г.      2014 г.           2015 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66%          75%               88%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EF80-D088-4F57-9F32-D3BDFC1A0CD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меют дополнительную специализацию-16 % педагог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учают дополнительную специализацию- 25 % педагог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Нижний колонтитул 4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F480-B92F-481C-B40B-7E94A924115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ланомерное повышение квалификации педагогов является результатом системной работы ОУ, включающей различные формы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организация «Школы молодого учителя»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участие педагогов в профессиональных конкурсах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рохождение плановых курсов повышения квалификаци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осещение лекций, семинаров, мастер-классов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ежегодное участие учителей в районной НМК «Современное образование:опыт, проблмы, перспективы»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организация работы по разработке рабочих программ по отдельным предмет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организация и проведение методических недель и декад в школе с целью распространения опыт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70F6-71E3-4868-B23D-AEF262C2B13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33200" y="-219240"/>
            <a:ext cx="8944200" cy="19749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Диагностика труда педагог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учно-методический сове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Тематический педагогический сове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седания МО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седания творческих групп учителе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етодические семинар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ткрытые уроки и мероприят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частие педагогов в профессиональных конкурсах и фестивалях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Творческие отчеты учителе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зработка методических продукт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одготовка публикаций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Аттестация педагогических работник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учно-методическая конференция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4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EA5E-389D-4AC6-9866-E6AF29F9681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9T16:07:11Z</dcterms:created>
  <dc:creator>Пользователь</dc:creator>
  <dc:description/>
  <dc:language>en-US</dc:language>
  <cp:lastModifiedBy>Ирина</cp:lastModifiedBy>
  <dcterms:modified xsi:type="dcterms:W3CDTF">2012-08-20T00:52:43Z</dcterms:modified>
  <cp:revision>25</cp:revision>
  <dc:subject/>
  <dc:title>Источники права</dc:title>
</cp:coreProperties>
</file>