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7A97-164F-4C92-95CD-1C700665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77AE-7136-4EF4-BDB1-A41C1B58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6FCC-3EED-41D4-A586-BBA458B6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302-5353-461A-BBCA-003F16B6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15AD-1DF1-4099-B656-F04F48D1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606E-606A-4DA2-8CC8-199B2022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B79A-9AAD-4438-ADAC-B99EDADD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8485-1605-479F-8F01-CABBC86A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A5EB-B65B-423E-83AE-4AFB9392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DB9C-B5A1-4BE2-B5FC-3E71EB32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ED63-93AE-4715-B689-9826974C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F32D-D311-4061-BB13-8802500C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6070-0118-40D8-AC0B-A4EBBA1F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EF19-093C-4092-AB84-2DA28DC7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9D98-E51E-4C96-8DB8-7BB2DE08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EDE4-71E3-408A-AE6D-887A31D3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3374-BFF6-4CCC-9707-5D354098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FDFA-C23F-40F7-8A3C-45592322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959D-BE07-42C5-B233-79247A26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FA02-01DD-425F-AE6F-1842584C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82D5-4B7E-4330-B907-37B60B55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9AF0-2083-4896-A179-A8BAF5DE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E5D4-6F72-4457-9D8B-CAF77412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7E8E-C6D0-4248-90BC-89C4857C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06D9-F75B-4CC4-8816-B46EC48BD1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C1D3-DD1E-4E86-81B1-9D96705DA8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0560" y="1125000"/>
            <a:ext cx="6629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ff0000"/>
                </a:solidFill>
                <a:latin typeface="Arial"/>
              </a:rPr>
              <a:t>Социальный проект</a:t>
            </a:r>
            <a:br>
              <a:rPr sz="4600"/>
            </a:br>
            <a:r>
              <a:rPr b="1" i="1" lang="en-US" sz="4600" spc="-1" strike="noStrike">
                <a:solidFill>
                  <a:srgbClr val="ff0000"/>
                </a:solidFill>
                <a:latin typeface="Times New Roman"/>
              </a:rPr>
              <a:t>Маленькая часовня для большого дела</a:t>
            </a:r>
            <a:br>
              <a:rPr sz="4600"/>
            </a:b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858000" cy="15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С(К)ОУ школа-интер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ицы Медвёдов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Миронюк З.Н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щиеся 9 класса Литвинов А., Чайников С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79280" y="4292640"/>
            <a:ext cx="64040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ГБС(К)ОУ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 общеобразовательная школа-интернат </a:t>
            </a:r>
            <a:r>
              <a:rPr b="0" lang="en-US" sz="2000" spc="-1" strike="noStrike">
                <a:solidFill>
                  <a:srgbClr val="330033"/>
                </a:solidFill>
                <a:latin typeface="Arial"/>
              </a:rPr>
              <a:t>VIII </a:t>
            </a: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вида станицы Медведовской</a:t>
            </a:r>
            <a:br>
              <a:rPr sz="2000"/>
            </a:b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Краснодарского края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76720" y="981000"/>
            <a:ext cx="3167280" cy="244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403280" y="33336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33"/>
                </a:solidFill>
                <a:latin typeface="Arial"/>
              </a:rPr>
              <a:t>Актуальность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44720" y="1197000"/>
            <a:ext cx="284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Возрождение   духо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33"/>
                </a:solidFill>
                <a:latin typeface="Arial"/>
              </a:rPr>
              <a:t>и православной в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В школе провели конкурс на лучший макет часовни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2560" y="1599840"/>
            <a:ext cx="810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4176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— 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Дети представили шесть работ, лучшей признана коллективная работа группы старшеклассников под руководством учителя штукатурно-малярного дела 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Кругликова Виктора Сергеевича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5327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0:51:17Z</dcterms:created>
  <dc:creator>Комп</dc:creator>
  <dc:description/>
  <dc:language>en-US</dc:language>
  <cp:lastModifiedBy>Комп</cp:lastModifiedBy>
  <dcterms:modified xsi:type="dcterms:W3CDTF">2013-04-24T10:53:05Z</dcterms:modified>
  <cp:revision>1</cp:revision>
  <dc:subject/>
  <dc:title>Социальный проект Маленькая часовня для большого дела </dc:title>
</cp:coreProperties>
</file>