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0F1-EADB-4BDB-BFB8-CF730A3B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AFE-72A5-4BD6-B942-8F530227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5BC-5C40-4537-BE5C-80B65FF6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1B8-9B87-41D5-B236-339686BF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1F3F-713C-4CDC-B906-63210CDD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2CD4-9B4A-4EF2-B2FB-6607D9FB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2FCD-2EB7-4F66-B029-7A1D85DA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F327-96CF-4DF5-BF2E-5999748A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716A-6F75-4952-AE48-CA26A2D5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6D70-15B9-462E-A613-362161E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580A-A56B-4299-A2EF-F68086AF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3CC-5606-48B4-9DE4-CF58D8B1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CAE2-2BE4-454F-A5A6-24332C05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B51B-9D13-481E-ACFF-92A9DD4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23ED-8248-44D4-BB44-CD1A5E30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A4DC-B00B-4C2D-A0DE-A5036AD3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8978-9C83-4678-BB5C-48CFA6C7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2C5-4B87-4289-9F5D-B340B831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017-4F7F-44B0-B0E5-5FEEEA9F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CA2-A02B-410C-8445-B6A2F9E1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C0B-A45C-466A-98E2-B674BDEC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C41-DE17-4893-8382-4F7D2308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94B-0CE0-468F-9D2B-3815CB99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13B-F475-446A-A9A6-55B8949F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49E3-BAD8-49A8-8B18-DD3BC95BA9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B2A8-F1CE-4EFF-A08F-1E76EE8532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0000"/>
                </a:solidFill>
                <a:latin typeface="Arial"/>
              </a:rPr>
              <a:t>Социальный проект</a:t>
            </a:r>
            <a:br>
              <a:rPr sz="4600"/>
            </a:b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Маленькая часовня для большого дела</a:t>
            </a:r>
            <a:br>
              <a:rPr sz="4600"/>
            </a:b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5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С(К)ОУ школа-интер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ицы Медвёдов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иронюк З.Н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еся 9 класса Литвинов А., Чайников С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280" y="4292640"/>
            <a:ext cx="640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ГБС(К)ОУ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общеобразовательная школа-интернат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VIII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вида станицы Медведовской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Краснодарского края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3167280" cy="244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03280" y="33336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33"/>
                </a:solidFill>
                <a:latin typeface="Arial"/>
              </a:rPr>
              <a:t>Актуальност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44720" y="1197000"/>
            <a:ext cx="284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Возрождение   духо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и православной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В школе провели конкурс на лучший макет часовн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81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4176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— 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Дети представили шесть работ, лучшей признана коллективная работа группы старшеклассников под руководством учителя штукатурно-малярного дела 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Кругликова Виктора Сергеевича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532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0:51:17Z</dcterms:created>
  <dc:creator>Комп</dc:creator>
  <dc:description/>
  <dc:language>en-US</dc:language>
  <cp:lastModifiedBy>Комп</cp:lastModifiedBy>
  <dcterms:modified xsi:type="dcterms:W3CDTF">2013-04-24T10:53:05Z</dcterms:modified>
  <cp:revision>1</cp:revision>
  <dc:subject/>
  <dc:title>Социальный проект Маленькая часовня для большого дела </dc:title>
</cp:coreProperties>
</file>