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B2DE-F570-46CD-80D3-57650B0C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975-A913-422F-B53D-C54BB9D9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FFDD-FE37-44F7-BE9C-4314FFF0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9DBE-AF4E-4186-8E93-37F583C9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66DE-5519-420F-AE3F-39BA26A9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92EB-5889-49C1-860D-DC5135AC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34FB-8C50-4BD1-A6DD-363AC451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E9AA-2DC6-4642-ABBA-8E6BA7FE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A2A1-3DAA-4AB7-B727-435F465A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5F47-EEF5-46AC-861F-107F253F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6083-9B4C-4A82-89B8-9C5EAFFB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DB63-3E6F-4B72-9214-9BDDCC29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2842-BB81-45FE-B0B4-39F4D7AD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ECD8-58D8-40CF-AB6E-E1B78996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6AB9-6D13-40AD-BE2F-4DB8600C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2E21-E5A3-4483-BC4D-505A43B5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5C82-4858-4C0D-B398-9D271306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EFF8-6ED2-4BC7-86E4-12A3F2E6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545-BD45-4CE1-B995-371FEA7E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9F06-9913-4C94-BE15-4D46958B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E463-89C8-4B9E-ACA4-06789DF0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F5D3-1672-429D-8168-65F29331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4226-65D1-4948-ADBC-2D9ECF64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7FE-DCA5-4342-B59A-AB588344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A76D-07D3-4A42-A462-0C210AFC6E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25DC-CA90-4E3A-9C77-3D980765D4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1;&#1072;&#1085;&#1076;&#1072;&#1085;&#1072;" TargetMode="External"/><Relationship Id="rId3" Type="http://schemas.openxmlformats.org/officeDocument/2006/relationships/hyperlink" Target="http://ru.wikipedia.org/wiki/&#1050;&#1086;&#1089;&#1091;&#1093;&#1072;" TargetMode="External"/><Relationship Id="rId4" Type="http://schemas.openxmlformats.org/officeDocument/2006/relationships/hyperlink" Target="http://ru.wikipedia.org/wiki/&#1050;&#1086;&#1078;&#1072;" TargetMode="External"/><Relationship Id="rId5" Type="http://schemas.openxmlformats.org/officeDocument/2006/relationships/hyperlink" Target="http://ru.wikipedia.org/wiki/&#1050;&#1086;&#1078;&#1072;" TargetMode="External"/><Relationship Id="rId6" Type="http://schemas.openxmlformats.org/officeDocument/2006/relationships/hyperlink" Target="http://ru.wikipedia.org/wiki/&#1050;&#1086;&#1078;&#1072;" TargetMode="External"/><Relationship Id="rId7" Type="http://schemas.openxmlformats.org/officeDocument/2006/relationships/hyperlink" Target="http://ru.wikipedia.org/wiki/&#1054;&#1095;&#1082;&#1080;" TargetMode="External"/><Relationship Id="rId8" Type="http://schemas.openxmlformats.org/officeDocument/2006/relationships/hyperlink" Target="http://ru.wikipedia.org/wiki/&#1060;&#1072;&#1081;&#1083;:Donetsk_slet_bykerov_01.jpg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ru.wikipedia.org/wiki/&#1060;&#1072;&#1081;&#1083;:Russian-bikers-001.jpg" TargetMode="External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7;&#1080;&#1084;&#1074;&#1086;&#1083;" TargetMode="External"/><Relationship Id="rId3" Type="http://schemas.openxmlformats.org/officeDocument/2006/relationships/hyperlink" Target="http://ru.wikipedia.org/wiki/&#1050;&#1086;&#1085;&#1092;&#1077;&#1076;&#1077;&#1088;&#1072;&#1090;&#1080;&#1074;&#1085;&#1099;&#1077;_&#1096;&#1090;&#1072;&#1090;&#1099;_&#1040;&#1084;&#1077;&#1088;&#1080;&#1082;&#1080;" TargetMode="External"/><Relationship Id="rId4" Type="http://schemas.openxmlformats.org/officeDocument/2006/relationships/hyperlink" Target="http://ru.wikipedia.org/wiki/&#1058;&#1088;&#1072;&#1076;&#1080;&#1094;&#1080;&#1103;" TargetMode="External"/><Relationship Id="rId5" Type="http://schemas.openxmlformats.org/officeDocument/2006/relationships/hyperlink" Target="http://ru.wikipedia.org/wiki/&#1057;&#1064;&#1040;" TargetMode="External"/><Relationship Id="rId6" Type="http://schemas.openxmlformats.org/officeDocument/2006/relationships/hyperlink" Target="http://ru.wikipedia.org/wiki/&#1057;&#1080;&#1084;&#1074;&#1086;&#1083;" TargetMode="External"/><Relationship Id="rId7" Type="http://schemas.openxmlformats.org/officeDocument/2006/relationships/hyperlink" Target="http://ru.wikipedia.org/wiki/&#1053;&#1086;&#1085;&#1082;&#1086;&#1085;&#1092;&#1086;&#1088;&#1084;&#1080;&#1079;&#1084;" TargetMode="External"/><Relationship Id="rId8" Type="http://schemas.openxmlformats.org/officeDocument/2006/relationships/hyperlink" Target="http://ru.wikipedia.org/wiki/&#1057;&#1084;&#1077;&#1088;&#1090;&#1100;" TargetMode="External"/><Relationship Id="rId9" Type="http://schemas.openxmlformats.org/officeDocument/2006/relationships/hyperlink" Target="http://ru.wikipedia.org/wiki/&#1063;&#1077;&#1088;&#1077;&#1087;" TargetMode="External"/><Relationship Id="rId10" Type="http://schemas.openxmlformats.org/officeDocument/2006/relationships/hyperlink" Target="http://ru.wikipedia.org/wiki/&#1069;&#1084;&#1073;&#1083;&#1077;&#1084;&#1072;" TargetMode="External"/><Relationship Id="rId11" Type="http://schemas.openxmlformats.org/officeDocument/2006/relationships/hyperlink" Target="http://ru.wikipedia.org/wiki/&#1058;&#1072;&#1090;&#1091;&#1080;&#1088;&#1086;&#1074;&#1082;&#1072;" TargetMode="External"/><Relationship Id="rId12" Type="http://schemas.openxmlformats.org/officeDocument/2006/relationships/hyperlink" Target="http://ru.wikipedia.org/wiki/&#1046;&#1077;&#1083;&#1077;&#1079;&#1085;&#1099;&#1081;_&#1082;&#1088;&#1077;&#1089;&#1090;" TargetMode="External"/><Relationship Id="rId13" Type="http://schemas.openxmlformats.org/officeDocument/2006/relationships/hyperlink" Target="http://ru.wikipedia.org/wiki/&#1057;&#1074;&#1072;&#1089;&#1090;&#1080;&#1082;&#1072;" TargetMode="External"/><Relationship Id="rId14" Type="http://schemas.openxmlformats.org/officeDocument/2006/relationships/hyperlink" Target="http://ru.wikipedia.org/wiki/&#1057;&#1074;&#1072;&#1089;&#1090;&#1080;&#1082;&#1072;" TargetMode="External"/><Relationship Id="rId1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57;&#1091;&#1073;&#1082;&#1091;&#1083;&#1100;&#1090;&#1091;&#1088;&#1072;" TargetMode="External"/><Relationship Id="rId4" Type="http://schemas.openxmlformats.org/officeDocument/2006/relationships/hyperlink" Target="http://ru.wikipedia.org/wiki/1970-&#1077;" TargetMode="External"/><Relationship Id="rId5" Type="http://schemas.openxmlformats.org/officeDocument/2006/relationships/hyperlink" Target="http://ru.wikipedia.org/wiki/&#1060;&#1072;&#1081;&#1083;:51189164_3cc8f04821_o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57;&#1091;&#1073;&#1082;&#1091;&#1083;&#1100;&#1090;&#1091;&#1088;&#1072;" TargetMode="External"/><Relationship Id="rId4" Type="http://schemas.openxmlformats.org/officeDocument/2006/relationships/hyperlink" Target="http://ru.wikipedia.org/wiki/&#1051;&#1077;&#1074;&#1099;&#1077;_(&#1087;&#1086;&#1083;&#1080;&#1090;&#1080;&#1082;&#1072;)" TargetMode="External"/><Relationship Id="rId5" Type="http://schemas.openxmlformats.org/officeDocument/2006/relationships/hyperlink" Target="http://ru.wikipedia.org/w/index.php?title=&#1055;&#1088;&#1086;&#1075;&#1088;&#1077;&#1089;&#1089;&#1080;&#1074;&#1080;&#1079;&#1084;&amp;action=edit&amp;redlink=1" TargetMode="External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User-Ich_with_Mohawk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7;&#1091;&#1073;&#1082;&#1091;&#1083;&#1100;&#1090;&#1091;&#1088;&#1072;" TargetMode="External"/><Relationship Id="rId3" Type="http://schemas.openxmlformats.org/officeDocument/2006/relationships/hyperlink" Target="http://ru.wikipedia.org/wiki/&#1052;&#1091;&#1079;&#1099;&#1082;&#1072;" TargetMode="External"/><Relationship Id="rId4" Type="http://schemas.openxmlformats.org/officeDocument/2006/relationships/hyperlink" Target="http://ru.wikipedia.org/wiki/&#1052;&#1077;&#1090;&#1072;&#1083;" TargetMode="External"/><Relationship Id="rId5" Type="http://schemas.openxmlformats.org/officeDocument/2006/relationships/hyperlink" Target="http://ru.wikipedia.org/wiki/1970-&#1077;" TargetMode="External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2;&#1086;&#1076;&#1072;" TargetMode="External"/><Relationship Id="rId3" Type="http://schemas.openxmlformats.org/officeDocument/2006/relationships/hyperlink" Target="http://ru.wikipedia.org/wiki/&#1050;&#1086;&#1089;&#1091;&#1093;&#1072;" TargetMode="External"/><Relationship Id="rId4" Type="http://schemas.openxmlformats.org/officeDocument/2006/relationships/hyperlink" Target="http://ru.wikipedia.org/w/index.php?title=&#1050;&#1086;&#1078;&#1072;&#1085;&#1099;&#1081;_&#1078;&#1080;&#1083;&#1077;&#1090;&amp;action=edit&amp;redlink=1" TargetMode="External"/><Relationship Id="rId5" Type="http://schemas.openxmlformats.org/officeDocument/2006/relationships/hyperlink" Target="http://ru.wikipedia.org/wiki/&#1052;&#1077;&#1090;&#1072;&#1083;" TargetMode="External"/><Relationship Id="rId6" Type="http://schemas.openxmlformats.org/officeDocument/2006/relationships/hyperlink" Target="http://ru.wikipedia.org/w/index.php?title=&#1053;&#1072;&#1087;&#1091;&#1083;&#1100;&#1089;&#1085;&#1080;&#1082;&#1080;&amp;action=edit&amp;redlink=1" TargetMode="External"/><Relationship Id="rId7" Type="http://schemas.openxmlformats.org/officeDocument/2006/relationships/hyperlink" Target="http://ru.wikipedia.org/wiki/&#1060;&#1072;&#1081;&#1083;:Metalhead%27s_belt.jpg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ru.wikipedia.org/wiki/&#1060;&#1072;&#1081;&#1083;:PriestScorpionsNEC_017_Halford.jpg" TargetMode="External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6;&#1086;&#1085;&#1085;&#1080;_&#1044;&#1080;&#1086;" TargetMode="External"/><Relationship Id="rId3" Type="http://schemas.openxmlformats.org/officeDocument/2006/relationships/hyperlink" Target="http://ru.wikipedia.org/wiki/&#1056;&#1086;&#1085;&#1085;&#1080;_&#1044;&#1080;&#1086;" TargetMode="External"/><Relationship Id="rId4" Type="http://schemas.openxmlformats.org/officeDocument/2006/relationships/hyperlink" Target="http://ru.wikipedia.org/wiki/&#1056;&#1086;&#1085;&#1085;&#1080;_&#1044;&#1080;&#1086;" TargetMode="External"/><Relationship Id="rId5" Type="http://schemas.openxmlformats.org/officeDocument/2006/relationships/hyperlink" Target="http://ru.wikipedia.org/wiki/Rainbow" TargetMode="External"/><Relationship Id="rId6" Type="http://schemas.openxmlformats.org/officeDocument/2006/relationships/hyperlink" Target="http://ru.wikipedia.org/wiki/Black_Sabbath" TargetMode="External"/><Relationship Id="rId7" Type="http://schemas.openxmlformats.org/officeDocument/2006/relationships/hyperlink" Target="http://ru.wikipedia.org/wiki/Black_Sabbath" TargetMode="External"/><Relationship Id="rId8" Type="http://schemas.openxmlformats.org/officeDocument/2006/relationships/hyperlink" Target="http://ru.wikipedia.org/wiki/Black_Sabbath" TargetMode="External"/><Relationship Id="rId9" Type="http://schemas.openxmlformats.org/officeDocument/2006/relationships/hyperlink" Target="http://ru.wikipedia.org/wiki/&#1062;&#1099;&#1075;&#1072;&#1085;&#1077;" TargetMode="External"/><Relationship Id="rId10" Type="http://schemas.openxmlformats.org/officeDocument/2006/relationships/hyperlink" Target="http://ru.wikipedia.org/wiki/&#1052;&#1086;&#1083;&#1086;&#1093;" TargetMode="External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&#1042;&#1077;&#1083;&#1080;&#1082;&#1086;&#1073;&#1088;&#1080;&#1090;&#1072;&#1085;&#1080;&#1103;" TargetMode="External"/><Relationship Id="rId4" Type="http://schemas.openxmlformats.org/officeDocument/2006/relationships/hyperlink" Target="http://ru.wikipedia.org/wiki/&#1051;&#1086;&#1085;&#1076;&#1086;&#1085;" TargetMode="External"/><Relationship Id="rId5" Type="http://schemas.openxmlformats.org/officeDocument/2006/relationships/hyperlink" Target="http://ru.wikipedia.org/wiki/1960-&#1077;" TargetMode="External"/><Relationship Id="rId6" Type="http://schemas.openxmlformats.org/officeDocument/2006/relationships/hyperlink" Target="http://ru.wikipedia.org/wiki/&#1058;&#1077;&#1076;&#1099;" TargetMode="External"/><Relationship Id="rId7" Type="http://schemas.openxmlformats.org/officeDocument/2006/relationships/hyperlink" Target="http://ru.wikipedia.org/wiki/&#1058;&#1088;&#1072;&#1076;&#1080;&#1094;&#1080;&#1086;&#1085;&#1085;&#1099;&#1077;_&#1089;&#1082;&#1080;&#1085;&#1093;&#1077;&#1076;&#1099;" TargetMode="External"/><Relationship Id="rId8" Type="http://schemas.openxmlformats.org/officeDocument/2006/relationships/hyperlink" Target="http://ru.wikipedia.org/wiki/&#1044;&#1078;&#1072;&#1079;" TargetMode="External"/><Relationship Id="rId9" Type="http://schemas.openxmlformats.org/officeDocument/2006/relationships/hyperlink" Target="http://ru.wikipedia.org/wiki/&#1056;&#1080;&#1090;&#1084;-&#1101;&#1085;&#1076;-&#1073;&#1083;&#1102;&#1079;" TargetMode="External"/><Relationship Id="rId10" Type="http://schemas.openxmlformats.org/officeDocument/2006/relationships/hyperlink" Target="http://ru.wikipedia.org/wiki/&#1057;&#1086;&#1091;&#1083;" TargetMode="External"/><Relationship Id="rId11" Type="http://schemas.openxmlformats.org/officeDocument/2006/relationships/hyperlink" Target="http://ru.wikipedia.org/wiki/&#1056;&#1086;&#1082;-&#1085;-&#1088;&#1086;&#1083;&#1083;" TargetMode="External"/><Relationship Id="rId12" Type="http://schemas.openxmlformats.org/officeDocument/2006/relationships/hyperlink" Target="http://ru.wikipedia.org/wiki/&#1057;&#1082;&#1072;" TargetMode="External"/><Relationship Id="rId13" Type="http://schemas.openxmlformats.org/officeDocument/2006/relationships/hyperlink" Target="http://ru.wikipedia.org/wiki/&#1052;&#1086;&#1090;&#1086;&#1088;&#1086;&#1083;&#1083;&#1077;&#1088;" TargetMode="External"/><Relationship Id="rId14" Type="http://schemas.openxmlformats.org/officeDocument/2006/relationships/hyperlink" Target="http://ru.wikipedia.org/wiki/&#1060;&#1072;&#1081;&#1083;:Quadrophenia.jpg" TargetMode="External"/><Relationship Id="rId15" Type="http://schemas.openxmlformats.org/officeDocument/2006/relationships/image" Target="../media/image17.jpeg"/><Relationship Id="rId1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ubcult.ru/bikers.php" TargetMode="External"/><Relationship Id="rId3" Type="http://schemas.openxmlformats.org/officeDocument/2006/relationships/hyperlink" Target="http://www.subcult.ru/goths.php" TargetMode="External"/><Relationship Id="rId4" Type="http://schemas.openxmlformats.org/officeDocument/2006/relationships/hyperlink" Target="http://www.subcult.ru/goths.php" TargetMode="External"/><Relationship Id="rId5" Type="http://schemas.openxmlformats.org/officeDocument/2006/relationships/hyperlink" Target="http://www.subcult.ru/grafs.php" TargetMode="External"/><Relationship Id="rId6" Type="http://schemas.openxmlformats.org/officeDocument/2006/relationships/hyperlink" Target="http://www.subcult.ru/metall.php" TargetMode="External"/><Relationship Id="rId7" Type="http://schemas.openxmlformats.org/officeDocument/2006/relationships/hyperlink" Target="http://www.subcult.ru/metall.php" TargetMode="External"/><Relationship Id="rId8" Type="http://schemas.openxmlformats.org/officeDocument/2006/relationships/hyperlink" Target="http://www.subcult.ru/mods.php" TargetMode="External"/><Relationship Id="rId9" Type="http://schemas.openxmlformats.org/officeDocument/2006/relationships/hyperlink" Target="http://www.subcult.ru/punks.php" TargetMode="External"/><Relationship Id="rId10" Type="http://schemas.openxmlformats.org/officeDocument/2006/relationships/hyperlink" Target="http://www.subcult.ru/stedge.php" TargetMode="External"/><Relationship Id="rId11" Type="http://schemas.openxmlformats.org/officeDocument/2006/relationships/hyperlink" Target="http://www.subcult.ru/stedge.php" TargetMode="External"/><Relationship Id="rId12" Type="http://schemas.openxmlformats.org/officeDocument/2006/relationships/hyperlink" Target="http://www.subcult.ru/stedge.php" TargetMode="External"/><Relationship Id="rId13" Type="http://schemas.openxmlformats.org/officeDocument/2006/relationships/hyperlink" Target="http://www.subcult.ru/rasta.php" TargetMode="External"/><Relationship Id="rId14" Type="http://schemas.openxmlformats.org/officeDocument/2006/relationships/hyperlink" Target="http://www.subcult.ru/rasta.php" TargetMode="External"/><Relationship Id="rId15" Type="http://schemas.openxmlformats.org/officeDocument/2006/relationships/hyperlink" Target="http://www.subcult.ru/rasta.php" TargetMode="External"/><Relationship Id="rId16" Type="http://schemas.openxmlformats.org/officeDocument/2006/relationships/hyperlink" Target="http://www.subcult.ru/rasta.php" TargetMode="External"/><Relationship Id="rId17" Type="http://schemas.openxmlformats.org/officeDocument/2006/relationships/hyperlink" Target="http://www.subcult.ru/rave.php" TargetMode="External"/><Relationship Id="rId18" Type="http://schemas.openxmlformats.org/officeDocument/2006/relationships/hyperlink" Target="http://www.subcult.ru/rgames.php" TargetMode="External"/><Relationship Id="rId19" Type="http://schemas.openxmlformats.org/officeDocument/2006/relationships/hyperlink" Target="http://www.subcult.ru/rgames.php" TargetMode="External"/><Relationship Id="rId20" Type="http://schemas.openxmlformats.org/officeDocument/2006/relationships/hyperlink" Target="http://www.subcult.ru/rgames.php" TargetMode="External"/><Relationship Id="rId21" Type="http://schemas.openxmlformats.org/officeDocument/2006/relationships/hyperlink" Target="http://www.subcult.ru/rap.php" TargetMode="External"/><Relationship Id="rId22" Type="http://schemas.openxmlformats.org/officeDocument/2006/relationships/hyperlink" Target="http://www.subcult.ru/skins.php" TargetMode="External"/><Relationship Id="rId23" Type="http://schemas.openxmlformats.org/officeDocument/2006/relationships/hyperlink" Target="http://www.subcult.ru/trans.php" TargetMode="External"/><Relationship Id="rId24" Type="http://schemas.openxmlformats.org/officeDocument/2006/relationships/hyperlink" Target="http://www.subcult.ru/furry.php" TargetMode="External"/><Relationship Id="rId25" Type="http://schemas.openxmlformats.org/officeDocument/2006/relationships/hyperlink" Target="http://www.subcult.ru/footfans.php" TargetMode="External"/><Relationship Id="rId26" Type="http://schemas.openxmlformats.org/officeDocument/2006/relationships/hyperlink" Target="http://www.subcult.ru/hack.php" TargetMode="External"/><Relationship Id="rId27" Type="http://schemas.openxmlformats.org/officeDocument/2006/relationships/hyperlink" Target="http://www.subcult.ru/hack.php" TargetMode="External"/><Relationship Id="rId28" Type="http://schemas.openxmlformats.org/officeDocument/2006/relationships/hyperlink" Target="http://www.subcult.ru/hippi.php" TargetMode="External"/><Relationship Id="rId2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7;&#1091;&#1073;&#1082;&#1091;&#1083;&#1100;&#1090;&#1091;&#1088;&#1072;" TargetMode="External"/><Relationship Id="rId3" Type="http://schemas.openxmlformats.org/officeDocument/2006/relationships/hyperlink" Target="http://ru.wikipedia.org/wiki/&#1055;&#1086;&#1089;&#1090;-&#1087;&#1072;&#1085;&#1082;" TargetMode="External"/><Relationship Id="rId4" Type="http://schemas.openxmlformats.org/officeDocument/2006/relationships/hyperlink" Target="http://ru.wikipedia.org/wiki/&#1052;&#1080;&#1089;&#1090;&#1080;&#1094;&#1080;&#1079;&#1084;" TargetMode="External"/><Relationship Id="rId5" Type="http://schemas.openxmlformats.org/officeDocument/2006/relationships/hyperlink" Target="http://ru.wikipedia.org/wiki/&#1069;&#1079;&#1086;&#1090;&#1077;&#1088;&#1080;&#1082;&#1072;" TargetMode="External"/><Relationship Id="rId6" Type="http://schemas.openxmlformats.org/officeDocument/2006/relationships/hyperlink" Target="http://ru.wikipedia.org/wiki/&#1044;&#1077;&#1082;&#1072;&#1076;&#1072;&#1085;&#1089;" TargetMode="External"/><Relationship Id="rId7" Type="http://schemas.openxmlformats.org/officeDocument/2006/relationships/hyperlink" Target="http://ru.wikipedia.org/wiki/&#1061;&#1086;&#1088;&#1088;&#1086;&#1088;" TargetMode="External"/><Relationship Id="rId8" Type="http://schemas.openxmlformats.org/officeDocument/2006/relationships/hyperlink" Target="http://ru.wikipedia.org/wiki/&#1043;&#1086;&#1090;&#1080;&#1082;-&#1088;&#1086;&#1082;" TargetMode="External"/><Relationship Id="rId9" Type="http://schemas.openxmlformats.org/officeDocument/2006/relationships/hyperlink" Target="http://ru.wikipedia.org/wiki/&#1044;&#1101;&#1090;-&#1088;&#1086;&#1082;" TargetMode="External"/><Relationship Id="rId10" Type="http://schemas.openxmlformats.org/officeDocument/2006/relationships/hyperlink" Target="http://ru.wikipedia.org/wiki/&#1044;&#1072;&#1088;&#1082;&#1074;&#1077;&#1081;&#1074;" TargetMode="External"/><Relationship Id="rId11" Type="http://schemas.openxmlformats.org/officeDocument/2006/relationships/hyperlink" Target="http://ru.wikipedia.org/wiki/&#1057;&#1072;&#1090;&#1072;&#1085;&#1080;&#1079;&#1084;" TargetMode="External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Gothic_girl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ru.wikipedia.org/wiki/&#1060;&#1072;&#1081;&#1083;:L&#233;tain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33"/>
                </a:solidFill>
                <a:latin typeface="Tahoma"/>
              </a:rPr>
              <a:t>СУБКУЛЬТУРЫ</a:t>
            </a:r>
            <a:br>
              <a:rPr sz="6600"/>
            </a:b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Неформальные движения молодеж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Сатаниз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6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атанизм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— новое религиозное движение и мировоззрение, в которых образ Сатаны трактуется как позитивный символ могущества и свобод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Файл:Baphomet.png"/>
          <p:cNvPicPr/>
          <p:nvPr/>
        </p:nvPicPr>
        <p:blipFill>
          <a:blip r:embed="rId2"/>
          <a:stretch/>
        </p:blipFill>
        <p:spPr>
          <a:xfrm>
            <a:off x="5508720" y="1989000"/>
            <a:ext cx="284796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Сатаниз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82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Знак Бафомета — официальный символ Церкви Сатаны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Файл:Baphosimb.gif"/>
          <p:cNvPicPr/>
          <p:nvPr/>
        </p:nvPicPr>
        <p:blipFill>
          <a:blip r:embed="rId2"/>
          <a:stretch/>
        </p:blipFill>
        <p:spPr>
          <a:xfrm>
            <a:off x="4788000" y="1844640"/>
            <a:ext cx="3591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Байкеры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425628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айкер – это водитель мотоцикла, хотя не все так просто. Байкеры – это именно субкультура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Для них байк – стиль жизни, а не просто быстрый и удобный способ передвижения. Среди байкеров встречаются искренне религиозные люди. Хватает и атеистов. Но всех их объединяет одна вера, и поклонение одному кумиру - Скорост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Байкер живет и умирает, стремясь к запредельному. В этом они похожи на спортсменов. В определенной мере байкинг и есть спорт, но спорт экстремальный. Закованный в черную кожу суровый бородач, с ног до головы покрытый татуировками, может оказаться мастером спорта международного класса по мотокроссу и чемпионом страны тысяча девятьсот какого-то года, но он пришел в субкультуру байкеров, чтобы наслаждаться свободой и скорость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762440" y="2071800"/>
            <a:ext cx="381024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Внешний вид байкер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ереотипный внешний вид байкера: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банда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головной платок тёмных тонов, завязанный на пиратский манер на затылке) или черная вязаная шапочка, «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косух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 (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кожан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уртка с замком наискосок) или кожаная мотокуртка (часто поверх мотокуртки надевается джинсовая или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кожан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жилетка без рукавов с «цветами» (символикой) мотоклуба),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кожаны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штаны. Байкеры часто отпускают длинные волосы, усы, бороды. Для защиты глаз от ветра носят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очк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нередко игнорируют шл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ем не менее, в среде байкеров такой внешний вид не всегда является обязательным. Байкер может носить спортивную мотоодежду и экипировк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180px-Donetsk_slet_bykerov_01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11280" y="4365720"/>
            <a:ext cx="2736720" cy="2004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180px-Russian-bikers-001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643280" y="4437000"/>
            <a:ext cx="27226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Символика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 байкеров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Флаг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Конфедераци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точнее, его вариант — </a:t>
            </a:r>
            <a:r>
              <a:rPr b="0" lang="en" sz="1600" spc="-1" strike="noStrike">
                <a:solidFill>
                  <a:srgbClr val="ffffff"/>
                </a:solidFill>
                <a:latin typeface="Tahoma"/>
              </a:rPr>
              <a:t>Naval Jack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).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Традиц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его применения пошла от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американских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байкеров. Он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символизируе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нонконформизм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байкеров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зображение череп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Обычно символизирует бесстрашие перед лицом опасности и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смерт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Другой смысл использования символа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череп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у байкеров — защита от смерти. Существует поверие, что когда приходит Смерть, она оставляет на умершем свой знак — череп, а если на человеке уже есть этот символ, она думает, что здесь уже была и не трогает человек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Эмблем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у байкеров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эмблем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обычно называется «Цвета») клуба, нашитая на спину, которая показывает к какому мото-клубу принадлежит байкер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 %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Иногда на жилетах байкеров можно увидеть нашивку «1 %». Этот термин появился после выступления главы Американской Мотоциклетной Ассоциации (АМА), в котором тот сказал, что все мотоциклисты законопослушные люди, и только один процент из них являются «отверженными» и нарушают закон (outlaws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атуировк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Иногда высказывается мнение, что байкерская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татуировк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«biker’s tattoo») есть отдельный вид этого искусст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Железный крес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Перенят у американских солдат после Второй мировой войны, когда, собственно, и возникло байкерское движение. Носив награды врага, солдаты выражали протест против американской власти. Многие байкеры, особенно в России и в Германии, изображают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железный крес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без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свастик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вастик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На многих байкерах можно увидеть изображение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14"/>
              </a:rPr>
              <a:t>свастик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Вопрос об этом символе неоднозначен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Хип-хо́п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968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Хип-хо́п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англ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" sz="2800" spc="-1" strike="noStrike">
                <a:solidFill>
                  <a:srgbClr val="ffffff"/>
                </a:solidFill>
                <a:latin typeface="Tahoma"/>
              </a:rPr>
              <a:t>hip ho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 — молодёжная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субкультур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появившаяся в середине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1970-х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 среде афроамериканцев и латиноамериканце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250px-51189164_3cc8f04821_o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9280" y="1341360"/>
            <a:ext cx="3600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Направления хип-хопа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ие считают, что хип-хоп, это только музыка и особый стиль одежды. Хип-хоп, как таковой, делится на множество направлений. Каждое направление достаточно самостоятельно и несёт свой собственный смысл. То есть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хип-хоп, это культура. Это нельзя правильно объяснить словами, нельзя потрогать и понюхать. Хип-хоп для всех разный и индивидуальный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Для всех он значит что-то своё. Допустим, два человека считают себя частью хип-хоп культуры. Один безумно любит крутиться на голове, а второй рисовать на соседском заборе надписи папиной автоэмалью в баллончиках. Их ничего не соединяет... Почти... То есть хип-хоп, это не что то конкретное. Это культура, включающая в себя направления, например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Рэп, Фанк, Битбокс (Музыкальное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Брейк данс, Крамп (Танцевальное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Граффити (изобразительное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Панк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, </a:t>
            </a: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па́н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ан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а́нк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англ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" sz="2400" spc="-1" strike="noStrike">
                <a:solidFill>
                  <a:srgbClr val="ffffff"/>
                </a:solidFill>
                <a:latin typeface="Tahoma"/>
              </a:rPr>
              <a:t>punk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 — молодёжная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субкульту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возникшая в середине 70-х годов в Великобритании, США, Канаде и Австралии, характерными особенностями которой являются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критическое отношение к обществу и политике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нки придерживаются различных политических взглядов, но в большинстве своём они являются приверженцами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социально направленных идеологи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прогрессивизм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Распространенными воззрениями являются стремление к личной свободе и независимо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Внешний вид панков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Панки отличаются пёстрым эпатажным имидже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Многие панки красят волосы в яркие неестественные цвета, начёсывают и фиксируют их лаком, гелем или пивом, чтобы они стояли торчком. В 80-х у панков стала модной причёска «ирокез». Носят закатанные джинсы, некоторые предварительно вымачивают джинсы в растворе отбеливателя, чтобы те пошли рыжими разводами. Носят тяжёлые ботинки, а также кеды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Манеру носить кеды начали группа Ramones, а саму эту манеру они переняли у мексиканской шпаны (также именуемой как «латиносы»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Куртка-косух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— была перенята, как рок-н-ролльный атрибут из 50-х, когда мотоцикл и рок-н-ролл были неотделимыми компонентами. Панки первой волны стремились вернуть рок-музыке ту же нарочитую задиристость и драйв, которые со временем отняла массовая коммерциализация музык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одежде преобладает стиль «DEAD» то есть «мёртвый стиль»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Панки наносят черепа и знаки на одежду и аксессуары. Носят напульсники и ошейники из кожи с шипами, заклёпками и цепями. Многие панки делают татуировк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Также носят рваные протёртые джинсы. Цепи от собачьих поводков прицепляют к джинса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ичёска «ирокез»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180px-User-Ich_with_Mohawk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1268280"/>
            <a:ext cx="6192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молодёжная субкультура Росс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лодёжную субкультуру России необходимо рассматривать как результат социально-культурной деятельности молодёжи, которая для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реализации своего творческого потенциал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выражения протеста против существующего социального поряд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формирует особые социальные — формальные или неформальные - структур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смотря на различие в происхождении, молодежь различных социальных групп стоит перед одной и той же проблемой перехода из одной возрастной группы в другую. Молодежь как переходная фаза обладает общими чертами, которые проявляются в различной форме, зависящей уже от социального происхождения, унаследованной культуры родителей или иных значимых для них люд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Металли́с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еталли́с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еталхэ́д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ета́лер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— это молодёжная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субкультур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вдохновлённая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музыко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 стиле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мета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появившаяся в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1970-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г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Стиль одежд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518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ипичную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моду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среди многих металлистов можно описать так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ипичный ремень металлис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линные волосы у мужчин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жаная куртка «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косух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»,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кожаный жилет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ёрные футболки или балахоны с логотипом любимой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металлической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групп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Напульсник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— кожаные браслеты с заклёпками и/или шипами (порки), шипастые, проклёпанные ремни, цепи на джинсах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шивки — Нашивки на одежде и прочих окружающих предметах с изображениями любимых метал-групп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яжелая обувь — «камелоты», «гриндерсы», «мартинсы», «стилы», «гады», обычные высокие ботинки. Короткие сапоги с цепями — «казаки». Туфли (как правило, остроносые, «готические» штиблеты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жинсы (обычно синие или чёрные), кожаные штан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Цепи, крепящиеся на пояс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500px-Metalhead%27s_belt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4000" y="115920"/>
            <a:ext cx="4762440" cy="676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24360" y="1628640"/>
            <a:ext cx="317520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жест металлистов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5483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Характерный жест металлистов, известный в России как «коза» — вскинутый вверх кулак с разжатым мизинцем и указательным пальцем и направленной стороной ладони вперёд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 обиход рокеров и металлистов «козу» ввёл певец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Ронни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Ди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Rainbow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Black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Sabbath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нни научила этому жесту его бабушка, суеверная итальянка. По воспоминаниям Ронни, она складывала этот знак, если встречала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цыган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прочих подозрительных людей, а внуку объясняла, что это защищает от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malocchio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»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«дурного глаз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классическом, средневековом варианте «козы» для защиты от зла средний, безымянный и большой палец сжимались вместе.Дио показывал «козу» именно таким образом . Современные металлисты в основном делают жест «неправильно»: большой палец не прижимается к другим, а остаётся выставлен в сторону. Такой жест означает «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I Love You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 в американском языке жест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6227640" y="2708280"/>
            <a:ext cx="20894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Граффиттеры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651640" y="2203560"/>
            <a:ext cx="2539800" cy="3082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-449568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3" descr=""/>
          <p:cNvPicPr/>
          <p:nvPr/>
        </p:nvPicPr>
        <p:blipFill>
          <a:blip r:embed="rId3"/>
          <a:stretch/>
        </p:blipFill>
        <p:spPr>
          <a:xfrm>
            <a:off x="-4495680" y="2157480"/>
            <a:ext cx="1904760" cy="2543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50920" y="1110600"/>
            <a:ext cx="525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лово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граффит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- итальянское, и изначально значит “нацарапанный”. Так что под это определение можно подвести все, что угодно, включая наскальные рисунки, но этим термином принято обозначат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художества на стенах домов и в метро с помощью баллончиков с краско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(изредка – маркеров) чаще всего выдержанное в одном стиле. Уличных художников называют райтеры, графферы или граффитт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Скинхэды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изошло от англ. скин хэд - бритая голо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Это неофашистские молодежные группировки закрытого тип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Проповедуют культ сильной личности, расизм, шовинизм, культ черной магии, систематически занимаются физической подготовкой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е скрывают своих взглядов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Приветствием является вытянутая вперед ру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сто во главе такой молодежной группировки стоит взрослый человек с профашистскими взгляд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собрания чужие не допускаются. Организация военного образц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деология - подчинение сильной личности, все слабые и немощные не имеют права на жизн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основе идеологии - идеи национал-социализма и антисемитизм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навидят гранджеров, рэперов, хиппи, рэйверов и людей с другим цветом кож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металлистам и большинству рокеров либо равнодушны, либо симпатизируют им. Байкеров побаиваютс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Средний возраст скинов 17-18 лет. Любят слушать военные гимны и марши, "металл" середины 80-х годов. Очень похожа на скинхедов и другая субкультура: РНЕ (Русское национальное единство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бритая голов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835280" y="2071800"/>
            <a:ext cx="50418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Мо́д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5699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о́д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англ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" sz="2000" spc="-1" strike="noStrike">
                <a:solidFill>
                  <a:srgbClr val="ffffff"/>
                </a:solidFill>
                <a:latin typeface="Tahoma"/>
              </a:rPr>
              <a:t>Mods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т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Modernism, Modism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 —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британск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молодёжная субкультура, сформировавшаяся в конце 1950-х гг. в среде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лондонско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мелкой буржуазии и достигшая пика в середине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1960-х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гг. Моды пришли на смену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тедди-боя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и позже от среды самых радикальных модов отпочковались субкультуры как британских хиппи, так и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скинхед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Отличительной чертой модов было их особое внимание к внешнему вид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первоначально были популярны приталенные итальянские костюмы, затем британские брэнды),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любовь к музык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от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джаз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ритм-энд-блюз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соул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о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рок-н-ролл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ск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качестве транспорта моды выбирали себе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мотороллер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180px-Quadrophenia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443640" y="1557360"/>
            <a:ext cx="2376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Хиппи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организация не такая многочисленная, но имеет многолетние тради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х философия повлияла на взгляды и жизнь поколения 60-80-х го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У хиппи свои правила поведения и своя философ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Они объединяются в Систему. Это своего рода клуб, в который принимают не каждо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истема делится на группы (тусовки), где есть два слоя: "пионеры" и "олдовые" (мамонты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"Пионеры" - подростки, "олдовые" - старые члены Системы, серьезно вникающие в проблемы религии, мистики, художественного творч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се хиппи носят длинные распущенные волос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хайр), обычно расчесывая их на пробор. Лоб и затылок охватывает тонкая повязка (хайратник). Обычно присутствуют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джинсы или джинсовая курт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иногда балахон неопределенного цвета, на шее – «ксивник» (небольшая кожаная сумочка), украшенная бисером или вышивкой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На руках – «феньки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от англ. thing – вещь), т.е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амодельные браслеты или бусы, чаще всего из бисера, дерева или кож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Многие мужчины отпускают бород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Причины, по которым они носят длинные волосы, следующие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это более естественно, ближе к природе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Иисус Христос носил длинные волосы и бороду, хиппи ему подражают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длинные волосы позволяют лучше улавливать излучения космического разума, являясь своего рода антенн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75708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Форма одежд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4316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жинсы, свитера, футболки, вышедшие из моды пальто. Одежда нередко потрепанная или ей специально придается такой вид: искусственно делаются дырки, ставятся яркие заплаты на джинсах и куртках, делаются надписи на английском языке. В холодное время года хиппи живут в городе, ходят на "тусовки", а летом путешествуют автостопом, разбивают палаточные городк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580000" y="1413000"/>
            <a:ext cx="2737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Байке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Готы и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сатанис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Граффите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Металлис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 роке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М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Пан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Straight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edge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стрейтэджер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3"/>
              </a:rPr>
              <a:t>Растаманы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4"/>
              </a:rPr>
              <a:t> (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5"/>
              </a:rPr>
              <a:t>растафари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6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7"/>
              </a:rPr>
              <a:t>Рэйве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8"/>
              </a:rPr>
              <a:t>Ролевые игры (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9"/>
              </a:rPr>
              <a:t>ролевки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0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1"/>
              </a:rPr>
              <a:t>Рэпе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2"/>
              </a:rPr>
              <a:t>Скинхэ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3"/>
              </a:rPr>
              <a:t>Транс-куль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4"/>
              </a:rPr>
              <a:t>Фур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5"/>
              </a:rPr>
              <a:t>Футбольные болельщ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6"/>
              </a:rPr>
              <a:t>Хакеры и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7"/>
              </a:rPr>
              <a:t>краке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8"/>
              </a:rPr>
              <a:t>Хипп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деология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человек должен быть свободен, прежде всего, внутренн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вободен человек и в любви, способствующей единению люд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поведуют пацифизм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призывают не отвечать на насилие насилием, выступают против службы в армии. не изменять того, что происходит само собой (например, не стричь волос), не производить активных, целенаправленных действий, бездействовать, быть непритязательным в быту, уметь переносить невзгоды и лишен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иппи - романтики, любят все яркое, оригинальное, творческо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отят быть независимыми от общественных условностей, свободными личностя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ля раскрепощения своего сознания и ощущения свободы в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среде хиппи распространено курение гашиша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влекаются философией Востока. Из музыкальных течений предпочитают мягкий рок, в частности, группу "Аквариум", этническую музыку разных народ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астма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иппи родили растманов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Так называют себя все, кто курит марихуану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а самом деле настоящие растманы приверженцы ямайской религии растафари, разновидности эфиопского христианства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Растманов легко узнать по искусно заплетенным косичкам и желто-зелено-красным одежда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Главным божеством их является Джа, общаются с которым посредством курения анаши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Растман считает тело, данное ему Богом, идеалом и поэтому не приемлет суицид» стрижку, бритье и пирсинг (прокалывание разных частей тел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Растаманы (растафари)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61563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бкультура, возникшая в 20-е гг. XX в. на Ямайке и уходящая корнями в синкретические культы стран Африки и Карибского бассей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внешнем облике, помимо маек с листом каннабиса, беретов, вязаных балахонов и шапок (самодельных) расцвеченных красно-желто-зеленым (цвета флага Эфиопии), у растафари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имеются и другие знаки отличия. Например, расточки. Это несколько длинных волосков с вплетенными в них нитками, камушками, шариками или еще чем-нибудь и, конечно же, дреды-длинные локоны, заплетенные в косички, натертые воском для волос и скрученные в плотные тяж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300720" y="1484280"/>
            <a:ext cx="2664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игры, ролеви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38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чь пойдет о неоднозначной субкультуре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любителей ролевых иг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тех движениях, которые каким-либо образом с ней смыкают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Все ролевики – разные люди и объединяет их только одно: ребята очень уважают определенную эпоху (иногда - историческую, но чаще - выдуманную, описанную в бесконечных книгах фэнтэзи)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зывать всех ролевиков толкиенистами неправильно, это движение имеет много направл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62440" y="2558880"/>
            <a:ext cx="381024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Фурри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урри, иначе фёрри (от англ. furry) — это субкультура, которая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объединяет людей, так или иначе интересующихся антропоморфными животными в изобразительном искусстве, анимации, художественной литературе и дизайне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собенностью субкультуры является стремление её представителей к воплощению образа антропоморфного животного в творчестве или в себе, посредством идентификации с ним. Антропоморфными животными являются сказочные животные, то есть вымышленные существа, сочетающие в себе качества человека и животного как в анатомическом, так и поведенческом плане. Иными словами, "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фурри" - это изображения животных, ведущих себя как люди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Человеческими качествами наделяются, в основном, хищники — львы, гепарды, лисы, волки, а также грызун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Эти звери покрыты мехом, поэтому в англоязычной части субкультуры их прозвали «пушистыми» (furries). Это слово привилось и определило название субкульту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Транс-культура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ть музыкальное направление, которое не распоростаняется на TV и только последнее время выходит на радио, но при этом не является андеграундом в чистом виде. Оно не анонсируются, но при этом легко собирает по нескольку тысяч человек на свои мероприятия. Эту музыку слушают и играют во всем мире от Японии до Англии, но при этом она остается «terra incognita». Это транс-музыка. О трансе написано уже немало: Индия, психоделика, «open your mind», экспириенс и так дале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Транс-культура - Откуда они взялись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Конечно, без Индии не обошлос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Но для начала следует заглянуть еще глубже, в совсем далекое прошлое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сновы транс-музыки закладывались тогда, когда у совершенно разных народов появились очень схожие между собой особенности. Все они сопровождались громкой, ритмичной музыкой и огненными всполохами костра или факелов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Цели у этого процесса были разные: задобрить богов, отметить событие в жизни племени и прочее. Но неизменным было одно: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под влиянием всех вышеописанных действий все присутствовавшие впадали в транс (отсюда и название), становились одним целым, танцуя у костра, и это еще больше объединяло племя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ичем подобные ритуалы встречаются у всех без исключения народов и рас: и у древних индейцев, и у африканских племен, и у северных народност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шли века. Наступили шестидесятые. Расцвет хипповской культуры. Неуемные хиппи распространились по всему миру. И осели таки в Индии, на острове Гоа и сделали это место Меккой для всех приверженцев добра, любви, тепла и так далее. Таковым оно остается и до сих по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Эм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Эмо (emo)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это особый образ жизни и мышления человека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Эмо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эмоции, яркие эмоции прежде всего, причем как позитивные, так и негативные.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Эмо-люд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живут эмоциями. Для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эм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ыражение своих чувств - не проявление слабости, а обычное состояние. Быть собой – вот что для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м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амое главн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920" y="-2433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эм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84000" y="620280"/>
            <a:ext cx="6480360" cy="59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лодежь в стиле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м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едпочитает особый стиль, который выделяет их среди других субкультур. Эмо носят черный цвет в сочетании с розовым, или другим ярким цвет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лассическая одежда эмо, это одежда в черно-розовой гамме, где узоры так же двухцветны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личные повязки на руках и запястьях, пояса с железными бляшками, перчатки без пальцев, рюкзак с различными значками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мо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реди эмо вы можете увидеть парня в узких джинсах, но так же можете встретить молодежь эмо которые предпочитают носить много железных заклепок на джинсах. Браслеты на руках с черепами, ногти черного или серебристого цвет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мо макияж распространен как у девушек так и парней, эмо-макияж это подводка глаз черным карандашом, но не сильно обильно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чески эмо не делятся на женские и мужские, вы часто можете увидеть одинаковые стильные прически как у парней так и у девушек. Челка прикрывает один глаз, черный или темно-каштановый цвет волос. Укладка или отсутствие её, все это дает свободу в выборе индивидуальности, при этом дает четко понять что вы видите перед собой настоящего Эм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2376720" cy="2305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76360" y="5633280"/>
            <a:ext cx="85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Straight edge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Straight edge (англ. путь напрямик, сокращённо sXe) — более философское ответвление панк-культуры, движение или скорее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образ жизни, характерными чертами которого являются полный отказ от наркотиков (включая легальные алкоголь и табак)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разборчивость в половых связях, а также политические взгляды, характерные всему панк-движе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куда они взялис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начально возникший в среде американских панк-рок исполнителей как призыв против популяризации образа ‘грязного вечно непросыхающего панка’, Straight edge быстро превратился в этико-мировоззренческое движение, ставящее на первое место идею самоконтроля и личной свободы, и в начале 80-х стал довольно распространным выбором среди американских панков, особенно в Вашингтоне и Бостоне, где образовались очень мощные хардкор-сцены. К середине 80-х эта культура распространилась и за пределы Штатов, хотя до начала 90-х большого распространения на других континентах не получил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ahoma"/>
              </a:rPr>
              <a:t>Рэперы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реди множества других субкультурных форм, основанных на музыкальных стилях, в России широкий размах получил рэп (англ. rap - легкий удар, стук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Манера исполнения ("чтение"), внешний вид исполнителей, их действия идут в рэпе от уличной жизни подростков в негритянских кварталах Амери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На российской почве этот стиль носит подражательный характер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и в последнее время все больше входит составной частью в субкультурное полистилистическое образование, получившее название хип-хоп культура. Ее приоритеты, кроме рэпа: брейк-данс как форма танца и пластики тела, граффити как вид особого настенного рисунка, экстремальные виды спорта, стритбол (уличный баскетбол) и т. д.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Она достаточно демократична, не теряет прямой связи с "молодежью улицы",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хотя очевидно, что ее идентичность поддерживается извн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крупных городах довольно много молодежи в одежде, стилистически связанной с рэпом. Но фанаты рэпа относятся к "крутым парням в широких штанах", изображающих из себя рэперов, с презрением. На то обстоятельство, что рэперская одежда встречается достаточно часто в Москве и в некоторых других российских городах, в большей мере влияет экономический фактор: такая одежда продается на оптовых вещевых рынках и относительно недорог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о, разумеется, определенная часть молодежи вполне сознательно ориентирована на хип-хоп культуру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Характерные черты движ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4470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Отказ от наркотиков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 в том числе алкоголь, кофеин, табак, психоактивные вещества)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держанность в сексе (разборчивые половые связи, один партнер, критическое отношение к порно-индустрии)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Антифашизм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Вегетарианство,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веганство (нежелание быть участником убийства,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активное участие в защите прав животных)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не является обязательным)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Straight edge — субкультура, не предполагающая саморекламу или навязывание sXe-образа жизни окружающим, поэтому у сторонников движения нет каких-либо предпочтений в одежде, прическе и т. п. Единственное средство самоидентификации — использование креста («X») или аббревиатуры «sXe», в частности: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Крест на тыльной стороне ладони — символ, появившийся в конце семидесятых, когда несовершеннолетним, приходившим в клубы на концерты, рисовали на руке крест, чтобы тем в баре не продавали спиртное. Такой же крест, но уже добровольно, рисовали себе приверженцы Straight edge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Три креста, символ трёх НЕ: не пить, не курить, не «т…….» (налево и направо)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Надпись DRUG FREE («свободен от наркотиков») или POISON FREE («свободен от яда»), часто используемая на одежд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Часто вышеприведённые символы используются на татуировках, которые обозначают, что носящий их человек принял принципы Straight edge на всю жизнь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Рэйверы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856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"Рейв"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от англ. rave - бредить, бред, бессвязная речь, также: неистовствовать, реветь, выть, бушевать, говорить с энтузиазмом) трактуется в "Словаре современного сленга" Т. Торна как "дикая вечеринка (a wild party), танцы или ситуация отчаянного поведения"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сточником жизненных ориентиров рейверов стал музыкальный стиль, а если точнее - образцы стиля жизни их кумиров, музыкантов. Рейверы в основном берут модель поведения завсегдатаев ночных клубов. Соответственно этой модели образ жизни рейвера - ночн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Их внешность и поведение пропагандируют отход человека от природы. Рэйв - не только музыка, но и яркие синтетические одежды, крашеные волосы (часто экзотически окрашенные в квадраты, круги), особые серьги, феньки, танец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Их жизнь - сплошное развлечение. Развлечение - не только дискотеки, наркотики и прочие удовольствия, но и кинематограф, живопись, реже - театр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деология рэйверов базируется на развлечениях и невмешательстве. Они не считают, что деньги им должны обязательно давать родители. Согласны подработать, но там, где не нужно много трудиться, добывая себе на пропитание. В солидной, престижной фирме: за большие деньги - пожалуйста. Это тоже один из дорогих стилей жизни. Он и сейчас очень распространен среди молодежи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бычно рейверов по-простому называют «тусовщиками»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К рэйверам примыкают кислотники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Они тоже носят - экзотически яркие одежды и прически, смысл жизни видят в развлечения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Футбольные болельщи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Близкую к криминальным субкультурам группу составляют фанаты (фаны) футбольных команд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Сообщества футбольных фанатов - одна из наиболее распространенных форм субкультурной молодежной активности в современной России, имеющая давнее происхожд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 мере профессионализации футбола в России, возникла современная практика организованных выездов фанатов для поддержки команды на играх в других городах. Специфика этой субкультуры в том, что она требует от участников минимума усилий и не затрагивает глубоко образ жизни.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Сама игра на футбольном поле вдохновляет болельщиков, но более значимы для них моменты общей эмоциональной разрядки, возможности "оторваться", проявлять свои чувства в полной мере (орать, буянить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762440" y="1844640"/>
            <a:ext cx="4130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Футбольные болельщик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рой их действия, носят прямо криминальный характер. Молодые болельщики получают возможность в кругу своих сверстников моделировать свое поведение как групповое и в то же время не испытывающее давления основных социально-контрольных инстанций (родители, школа и т. п.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утбольные фанаты - сложное по организации сообщество. Выезды в другие города очень часто связаны с драками - нередко уже на вокзальной площади. Основное средство отличия фанатов - шарф ("розетка", "роза"). Обычный шарф выдержан в цветах футбольной команды и может иметь различные надписи. В рамках фановского движения сочетаются разные установки и стили жизни. Группа спартаковских болельщиков "Гладиаторы" руководствуются философией "чистого образа жизни". Физически хорошо развитые, ее участники избегают драк, но защищают "маленьких" - самую юную часть фанатов, новичков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762440" y="1989000"/>
            <a:ext cx="3986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юбер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дна из молодежных групп криминального характера, получившая широкую известность (в основном через публикации в СМИ) как своего рода модель агрессивного поведения молодежи в условиях социальной аном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городе Люберцы близ Москвы эта группа сформировалась как спонтанное объединение молодежи младших возрастных групп, отсюда и назва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обенностью социальной практики, выражавшейся люберами, является то, что в ней произошло соединение своеобразно понятой установки на здоровый образ жизни и агрессивного ответа на жизненную неустроенность и повсеместное нарушение социальной нормы в период «перестройки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леднее обстоятельство реализовалось у люберов в практике «ремонта» — совместных действиях по «оздоровлению» общества, а на деле целенаправленном преследовании тех, кто, по мнению любералов, портит общество (группа подростков вылавливает и избивает бомжей, проституток, алкоголиков и т. д. в качестве «меры перевоспитания»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Заключение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заключение хотелось бы сказать об актуальности исследований, связанных с проблемами молодеж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сследования в этой области социологии и психологии необходимы для разрешения того кризиса, который переживает сегодня Росс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А связь таких аспектов проблем молодежи, как молодежная субкультура и молодежная агрессивность очевидн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лько тщательные и систематические исследования в области развития социальной работы с молодежью могут помочь понять причины происходящего в нашем обществе конфликта поколен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обходимо понять суть молодежных исканий, отрешиться от безусловного осуждения того, что несет с собой молодежная культура, дифференцированно подходить к явлениям жизни современной молодеж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акже необходимо понять, что молодому человеку нужно определить границы своих реальных возможностей, узнать, на что он способен, утвердиться в обществ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тверждением этому может служить следующая цитата Эриксон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«Молодой человек должен, как акробат на трапеции, одним мощным движением опустить перекладину детства, перепрыгнуть и ухватиться за следующую перекладину зрелости. Он должен сделать это за очень короткий промежуток времени, полагаясь на надежность тех, кого он должен опустить, и тех, кто его примет на противоположной стороне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Внешний вид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Носят широкую, на несколько размеров больше одежду. Спортивн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Любимый вид спорта - баскетбол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Из украшений носят значки и серьги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олосы коротко стрижены.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Многие рэперы не пьют спиртных напитков, даже пива, но предпочитают сильные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ahoma"/>
              </a:rPr>
              <a:t>наркотик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эперы - не только те, кто слушает музыку в стиле "рэп", но и люди, пишущие рэп, проникнутые его идеей. В основной массе рэперы не агрессивны, кроме тех, кто причисляет себя к течению "Гангста"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951440" y="2085840"/>
            <a:ext cx="342900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Го́ты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 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о́т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— представители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молодёжной субкультур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зародившейся в конце 70-х годов XX-го века на волне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пост-пан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Готическая субкультура весьма разнообразна и неоднородна, однако для неё в той или иной степени характерны следующие черты: мрачный имидж, может проявляться интерес к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мистицизм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эзотерик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декаданс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любовь к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хорр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литературе и фильмам, любовь к готической музыке (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готик-ро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дэт-ро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дарквей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 т. п.).Часто ошибочно причисляются к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сатаниста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путаются с ними вследствие похожего мрачного образа и разных клиш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Внешний вид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200px-Gothic_girl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1773360"/>
            <a:ext cx="2880000" cy="3611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200px-Létain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5640" y="1773360"/>
            <a:ext cx="280836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СТИЛ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оты имеют свой узнаваемый имидж, который за последнее время претерпел значительные изменения. Как бы ни развивалась готика, остаются два неизменных основных элемента: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преобладающий чёрный цвет одежды (иногда с элементами других цветов), а также исключительно серебряные украшения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— золото принципиально не используется, поскольку расценивается как символ обычных, избитых ценностей, а также цвет солнца (серебро — цвет луны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Сатаниз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атани́з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сознательное или несознательное служение диаволу, противнику и врагу Божьему и человеческому, надеясь на его силу и пытаясь с его помощью решить какие-то свои проблем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14:24:58Z</dcterms:created>
  <dc:creator>Андрей</dc:creator>
  <dc:description/>
  <dc:language>en-US</dc:language>
  <cp:lastModifiedBy>Андрей</cp:lastModifiedBy>
  <dcterms:modified xsi:type="dcterms:W3CDTF">2009-09-15T20:37:31Z</dcterms:modified>
  <cp:revision>25</cp:revision>
  <dc:subject/>
  <dc:title>Слайд 1</dc:title>
</cp:coreProperties>
</file>