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8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EA9-620E-459C-82AD-93B27795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BD5-7AE5-443D-81C2-24B48974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FC6-519D-4F1B-AA54-224A4C2B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C91-7321-442D-BCEF-900E0098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9CD-3318-43A1-9F6D-1DF5FB42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EDB-EE37-477F-A091-452C65FB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A82-F043-4BA8-9151-35CB9AB4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B1F-E48F-4146-A3D8-11D2E493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A3C-35EB-4675-8567-84B6EA8C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BEF-86EB-4B61-9822-422A508B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571-C032-427A-A637-F63E7D43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583-7096-4F09-A7EF-4E29D681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3CF5-B912-4D46-B492-64B96D75BC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мое.bmp"/>
          <p:cNvPicPr/>
          <p:nvPr/>
        </p:nvPicPr>
        <p:blipFill>
          <a:blip r:embed="rId1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689040" y="774720"/>
            <a:ext cx="8454960" cy="415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school497.ru/download/u/02/img/13_1.gif"/>
          <p:cNvPicPr/>
          <p:nvPr/>
        </p:nvPicPr>
        <p:blipFill>
          <a:blip r:embed="rId3"/>
          <a:stretch/>
        </p:blipFill>
        <p:spPr>
          <a:xfrm>
            <a:off x="6375240" y="4227480"/>
            <a:ext cx="27687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68360" y="169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кран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лектронно-лучев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итора изображение выводится по “строчкам”, которые рисует электронный луч, пробегая по экра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 работы таких мониторов  заключается в том, что испускаемый электронной пушкой пучок электронов, попадая на экран, покрытый люминофором. вызывает его свеч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ttp://rom-em70.narod.ru/EU/images/luch.jpg"/>
          <p:cNvPicPr/>
          <p:nvPr/>
        </p:nvPicPr>
        <p:blipFill>
          <a:blip r:embed="rId2"/>
          <a:stretch/>
        </p:blipFill>
        <p:spPr>
          <a:xfrm>
            <a:off x="6434280" y="4430880"/>
            <a:ext cx="24588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ра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жидкокристаллическ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нитора представляет собой матрицу, каждый элемент которой — жидкий кристалл (как в электронных часах). Каждый пиксель ЖК-дисплея состоит из слоя молекул между двумя прозрачными электродами, и двух поляризационных фильтров, плоскости поляризации которых (как правило) перпендикулярны. В отсутствие жидких кристаллов свет, пропускаемый первым фильтром, практически полностью блокируется вторы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8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4716360" y="155736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освещаются специальными лампами. Под действием электрических сигналов кристаллы меняют свои оптические свойства, моделируя на экране элементы изоб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395280" y="1600200"/>
          <a:ext cx="8291520" cy="401796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ЭЛ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шее качество изображ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вредного излуч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льно невысокая цен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имает мало места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ляет мало электроэнерг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164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статки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дное воздействие на здоровье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 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чень качественная цветопере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черно-белом экране пиксель, на который падает электронный луч, светится белым цветом. Неосвещенный пиксель – черная точка. При изменении интенсивности электронного потока получаются промежуточные серые тона (оттенки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Получение растрового изображения"/>
          <p:cNvPicPr/>
          <p:nvPr/>
        </p:nvPicPr>
        <p:blipFill>
          <a:blip r:embed="rId2"/>
          <a:srcRect l="33122" t="0" r="0" b="23296"/>
          <a:stretch/>
        </p:blipFill>
        <p:spPr>
          <a:xfrm>
            <a:off x="2928960" y="4508640"/>
            <a:ext cx="350352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и глаза реагируют на основные цвета: красный (Red), зеленый(Green) и синий (Blue) и на их комбинации, которые создают бесконечное число цве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www.ixbt.com/video/images/monitor2.gif"/>
          <p:cNvPicPr/>
          <p:nvPr/>
        </p:nvPicPr>
        <p:blipFill>
          <a:blip r:embed="rId2"/>
          <a:stretch/>
        </p:blipFill>
        <p:spPr>
          <a:xfrm>
            <a:off x="826920" y="3573360"/>
            <a:ext cx="2376720" cy="220032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3348000" y="3543480"/>
            <a:ext cx="54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пиксел на цветном экране - это совокупность трех точек разного цвета: красного, зеленого и синего. Эти точки расположены так близко друг к другу, что нам они кажутся слившимися в одну т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тер, как и монитор, является устройством вывода. Только монитор выводит информацию на экран, а принтер — на бумаг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1042920" y="3687840"/>
            <a:ext cx="7350120" cy="245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Лазерный принтер Xerox Phaser 3010"/>
          <p:cNvPicPr/>
          <p:nvPr/>
        </p:nvPicPr>
        <p:blipFill>
          <a:blip r:embed="rId3"/>
          <a:srcRect l="0" t="6844" r="0" b="7768"/>
          <a:stretch/>
        </p:blipFill>
        <p:spPr>
          <a:xfrm>
            <a:off x="6110280" y="3962520"/>
            <a:ext cx="22082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53880" y="115920"/>
            <a:ext cx="8595000" cy="162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зволяет ввести в компьютер изображение: фотографию, страницу журнала, книги, рукопис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нирование выполняется при помощи светового луча. Источник света перемещается вдоль оригинала, считывая изображ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rcRect l="0" t="0" r="0" b="50012"/>
          <a:stretch/>
        </p:blipFill>
        <p:spPr>
          <a:xfrm>
            <a:off x="539640" y="4437000"/>
            <a:ext cx="266400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3"/>
          <a:srcRect l="-1663" t="50012" r="1682" b="0"/>
          <a:stretch/>
        </p:blipFill>
        <p:spPr>
          <a:xfrm>
            <a:off x="6084720" y="4498920"/>
            <a:ext cx="25066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жение в компьютер может вводиться с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цифрового фотоаппарат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цифровой видеокаме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Фотографии и видеофильмы в этих устройствах сохраняются в виде двоичного кода на магнитных дисках. Затем, используя кабельное соединение, их можно переписать на компьютерный дис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2"/>
          <a:stretch/>
        </p:blipFill>
        <p:spPr>
          <a:xfrm>
            <a:off x="1257480" y="468000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3"/>
          <a:stretch/>
        </p:blipFill>
        <p:spPr>
          <a:xfrm>
            <a:off x="5219640" y="4680000"/>
            <a:ext cx="358164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исты каких профессий используют графические пакеты (назовите не менее 5-6 профессий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какой области компьютерной графики относятся графические пакеты д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получения движущихся изображени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дготовки чертеж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построения граф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графического представления результатов научных эксперимен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) построения диаграм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) создания иллюстраций к книг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) создания видеопрезент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school497.ru/download/u/02/img/13_2.gif"/>
          <p:cNvPicPr/>
          <p:nvPr/>
        </p:nvPicPr>
        <p:blipFill>
          <a:blip r:embed="rId2"/>
          <a:srcRect l="0" t="0" r="25965" b="0"/>
          <a:stretch/>
        </p:blipFill>
        <p:spPr>
          <a:xfrm>
            <a:off x="900000" y="1700280"/>
            <a:ext cx="52246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xn--d1aigoeoc.xn--p1ai/upload/resize_cache/iblock/1ad/240_240_16a9cdfeb475445909b854c588a1af844/1ad5ebe7ee4fe6fbf7865ddf6adcf361.jpg"/>
          <p:cNvPicPr/>
          <p:nvPr/>
        </p:nvPicPr>
        <p:blipFill>
          <a:blip r:embed="rId3"/>
          <a:stretch/>
        </p:blipFill>
        <p:spPr>
          <a:xfrm>
            <a:off x="6497640" y="2840040"/>
            <a:ext cx="2189160" cy="16714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628560" y="5425920"/>
            <a:ext cx="80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показывает, что монитор (дисплей) и видеоадаптер через информационную магистраль связан с центральным процессором и оперативной памя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school497.ru/download/u/02/img/13_9.jpg"/>
          <p:cNvPicPr/>
          <p:nvPr/>
        </p:nvPicPr>
        <p:blipFill>
          <a:blip r:embed="rId2"/>
          <a:stretch/>
        </p:blipFill>
        <p:spPr>
          <a:xfrm>
            <a:off x="1908000" y="1197000"/>
            <a:ext cx="5256360" cy="2119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476360" y="3933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идеоадапте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стройство, управляющее работой диспле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39640" y="434340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адаптер состоит из двух час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идеопамят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едназначена для хранения двоичного кода изображения, выводимого на эк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исплейный проц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итает содержимое видеопамяти и в соответствии с ней управляет работой дисплея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upload.wikimedia.org/wikipedia/commons/thumb/5/5d/Seurat-La_Parade_detail.jpg/220px-Seurat-La_Parade_detail.jpg"/>
          <p:cNvPicPr/>
          <p:nvPr/>
        </p:nvPicPr>
        <p:blipFill>
          <a:blip r:embed="rId2"/>
          <a:stretch/>
        </p:blipFill>
        <p:spPr>
          <a:xfrm>
            <a:off x="7308720" y="115920"/>
            <a:ext cx="1727280" cy="28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upload.wikimedia.org/wikipedia/commons/thumb/4/4d/Georges_Seurat_-_Un_dimanche_apr%C3%A8s-midi_%C3%A0_l%27%C3%8Ele_de_la_Grande_Jatte.jpg/200px-Georges_Seurat_-_Un_dimanche_apr%C3%A8s-midi_%C3%A0_l%27%C3%8Ele_de_la_Grande_Jatte.jpg"/>
          <p:cNvPicPr/>
          <p:nvPr/>
        </p:nvPicPr>
        <p:blipFill>
          <a:blip r:embed="rId3"/>
          <a:stretch/>
        </p:blipFill>
        <p:spPr>
          <a:xfrm>
            <a:off x="3419640" y="2781360"/>
            <a:ext cx="5616360" cy="3762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79280" y="13032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ое зрение устроено так, что воспринимает  изображение, состоящее из отдельных точек, как единое целое. Эту особенность зрения с давних пор использовали худож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IX веке во Франции возникла техника живописи, которую назва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антилизм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рисунок составлялся из разноцветных точек, наносимых кистью на хол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0840" y="351000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ой технологии основана  технология полиграфической печати при изготовлении различного рода печатной продукции: газет, журналов, кни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26920" y="1700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 — сетка, решетка. В полиграфии — техническое устройство, прозрачная пленка с нанесенными на нее тонкими линиями в прямую или косую кле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826920" y="3068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 (оптика) — решётка для структурного преобразования направленного пучка лучей с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826920" y="42210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 развёртка — в телевидении, радиолокации, в системах отображения графической информации — способ разложения изображения на элементы и его воспроиз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school497.ru/download/u/02/img/13_5.jpg"/>
          <p:cNvPicPr/>
          <p:nvPr/>
        </p:nvPicPr>
        <p:blipFill>
          <a:blip r:embed="rId2"/>
          <a:stretch/>
        </p:blipFill>
        <p:spPr>
          <a:xfrm>
            <a:off x="3780000" y="4138560"/>
            <a:ext cx="4587840" cy="26067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79280" y="146052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и на экране компьютера выстроены в ровные ряды. Совокупность точечных строк образуют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графическую сетку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аст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точка носит названи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икс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picture element). Чем гуще сетка пикселей на экране, тем лучше качество изобра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682560" y="103320"/>
            <a:ext cx="8229600" cy="1628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2"/>
          <a:srcRect l="0" t="0" r="0" b="55003"/>
          <a:stretch/>
        </p:blipFill>
        <p:spPr>
          <a:xfrm>
            <a:off x="6227640" y="1312920"/>
            <a:ext cx="2592360" cy="2332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277920" y="1341360"/>
            <a:ext cx="561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графической сетки обычно представляется в форме произведения числа точек в горизонтальной строке на число ст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40 х 4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24 х 7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0 х 10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графической сетки называе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азрешением экран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экрана монитора принято измерять по длине диагонали в дюймах. Один дюйм — это 2,54 сантиметра. Дюймы обозначают двойным штрихом ввер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"/>
          <p:cNvPicPr/>
          <p:nvPr/>
        </p:nvPicPr>
        <p:blipFill>
          <a:blip r:embed="rId3"/>
          <a:srcRect l="3005" t="57007" r="-2986" b="0"/>
          <a:stretch/>
        </p:blipFill>
        <p:spPr>
          <a:xfrm>
            <a:off x="6372360" y="4149720"/>
            <a:ext cx="25668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Важнейшим устройством отображения информации является монит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Мониторы бывают: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1. Мониторы на основе электоронно-лучевой трубки (ЭЛТ);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2.Мониторы на основе жидких кристаллов (ЖК).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8" descr="монитор"/>
          <p:cNvPicPr/>
          <p:nvPr/>
        </p:nvPicPr>
        <p:blipFill>
          <a:blip r:embed="rId2"/>
          <a:stretch/>
        </p:blipFill>
        <p:spPr>
          <a:xfrm>
            <a:off x="1076400" y="4159080"/>
            <a:ext cx="2232000" cy="208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xn--d1aigoeoc.xn--p1ai/upload/resize_cache/iblock/1ad/240_240_16a9cdfeb475445909b854c588a1af844/1ad5ebe7ee4fe6fbf7865ddf6adcf361.jpg"/>
          <p:cNvPicPr/>
          <p:nvPr/>
        </p:nvPicPr>
        <p:blipFill>
          <a:blip r:embed="rId3"/>
          <a:stretch/>
        </p:blipFill>
        <p:spPr>
          <a:xfrm>
            <a:off x="5364000" y="3948120"/>
            <a:ext cx="30067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6:15:34Z</dcterms:created>
  <dc:creator>Аня</dc:creator>
  <dc:description/>
  <dc:language>en-US</dc:language>
  <cp:lastModifiedBy>user</cp:lastModifiedBy>
  <dcterms:modified xsi:type="dcterms:W3CDTF">2013-04-24T08:43:50Z</dcterms:modified>
  <cp:revision>35</cp:revision>
  <dc:subject/>
  <dc:title>Технические средства компьютерной графики</dc:title>
</cp:coreProperties>
</file>