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38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30.png" ContentType="image/png"/>
  <Override PartName="/ppt/media/image37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ADB-6A70-40D8-B2F8-99F930BB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09BB-962D-4730-8550-945BD1C9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359-C782-4D8A-89F0-C991FBB8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746-BEDF-470D-8EBB-C6B188AD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7F6-DB02-44C9-9634-0D142E3A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97B-D680-492F-B327-6368D381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69D3-4BA3-4EC0-AE09-895860DB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874F-BD3D-443D-889E-DAFE16A3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79E-33F1-4CE0-B297-D878ECC2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CBF-16EA-4C5F-A342-7963A26B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5C8-C2DE-41C3-A629-B6BAAC01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C9F-7A2D-4D65-8772-8F27C5FB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FC96-C3BA-4203-9511-B3ADCEBA97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мое.bmp"/>
          <p:cNvPicPr/>
          <p:nvPr/>
        </p:nvPicPr>
        <p:blipFill>
          <a:blip r:embed="rId1"/>
          <a:stretch/>
        </p:blipFill>
        <p:spPr>
          <a:xfrm>
            <a:off x="0" y="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689040" y="774720"/>
            <a:ext cx="8454960" cy="4157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school497.ru/download/u/02/img/13_1.gif"/>
          <p:cNvPicPr/>
          <p:nvPr/>
        </p:nvPicPr>
        <p:blipFill>
          <a:blip r:embed="rId3"/>
          <a:stretch/>
        </p:blipFill>
        <p:spPr>
          <a:xfrm>
            <a:off x="6375240" y="4227480"/>
            <a:ext cx="27687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68360" y="1699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кран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электронно-лучев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итора изображение выводится по “строчкам”, которые рисует электронный луч, пробегая по экра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 работы таких мониторов  заключается в том, что испускаемый электронной пушкой пучок электронов, попадая на экран, покрытый люминофором. вызывает его свечени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http://rom-em70.narod.ru/EU/images/luch.jpg"/>
          <p:cNvPicPr/>
          <p:nvPr/>
        </p:nvPicPr>
        <p:blipFill>
          <a:blip r:embed="rId2"/>
          <a:stretch/>
        </p:blipFill>
        <p:spPr>
          <a:xfrm>
            <a:off x="6434280" y="4430880"/>
            <a:ext cx="24588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1599840"/>
            <a:ext cx="4330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ран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жидкокристаллическ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онитора представляет собой матрицу, каждый элемент которой — жидкий кристалл (как в электронных часах). Каждый пиксель ЖК-дисплея состоит из слоя молекул между двумя прозрачными электродами, и двух поляризационных фильтров, плоскости поляризации которых (как правило) перпендикулярны. В отсутствие жидких кристаллов свет, пропускаемый первым фильтром, практически полностью блокируется вторы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Рисунок 4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848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5"/>
          <p:cNvSpPr/>
          <p:nvPr/>
        </p:nvSpPr>
        <p:spPr>
          <a:xfrm>
            <a:off x="4716360" y="155736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освещаются специальными лампами. Под действием электрических сигналов кристаллы меняют свои оптические свойства, моделируя на экране элементы изобра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395280" y="1600200"/>
          <a:ext cx="8291520" cy="4017960"/>
        </p:xfrm>
        <a:graphic>
          <a:graphicData uri="http://schemas.openxmlformats.org/drawingml/2006/table">
            <a:tbl>
              <a:tblPr/>
              <a:tblGrid>
                <a:gridCol w="4176720"/>
                <a:gridCol w="411480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ЭЛ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ошее качество изображени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ие вредного излучения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ительно невысокая цен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имает мало места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ляет мало электроэнерг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1640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достатки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дное воздействие на здоровье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 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очень качественная цветопереда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черно-белом экране пиксель, на который падает электронный луч, светится белым цветом. Неосвещенный пиксель – черная точка. При изменении интенсивности электронного потока получаются промежуточные серые тона (оттенки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Получение растрового изображения"/>
          <p:cNvPicPr/>
          <p:nvPr/>
        </p:nvPicPr>
        <p:blipFill>
          <a:blip r:embed="rId2"/>
          <a:srcRect l="33122" t="0" r="0" b="23296"/>
          <a:stretch/>
        </p:blipFill>
        <p:spPr>
          <a:xfrm>
            <a:off x="2928960" y="4508640"/>
            <a:ext cx="350352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и глаза реагируют на основные цвета: красный (Red), зеленый(Green) и синий (Blue) и на их комбинации, которые создают бесконечное число цве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http://www.ixbt.com/video/images/monitor2.gif"/>
          <p:cNvPicPr/>
          <p:nvPr/>
        </p:nvPicPr>
        <p:blipFill>
          <a:blip r:embed="rId2"/>
          <a:stretch/>
        </p:blipFill>
        <p:spPr>
          <a:xfrm>
            <a:off x="826920" y="3573360"/>
            <a:ext cx="2376720" cy="220032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3348000" y="3543480"/>
            <a:ext cx="54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пиксел на цветном экране - это совокупность трех точек разного цвета: красного, зеленого и синего. Эти точки расположены так близко друг к другу, что нам они кажутся слившимися в одну то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тер, как и монитор, является устройством вывода. Только монитор выводит информацию на экран, а принтер — на бумаг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Рисунок 3" descr=""/>
          <p:cNvPicPr/>
          <p:nvPr/>
        </p:nvPicPr>
        <p:blipFill>
          <a:blip r:embed="rId2"/>
          <a:stretch/>
        </p:blipFill>
        <p:spPr>
          <a:xfrm>
            <a:off x="1042920" y="3687840"/>
            <a:ext cx="7350120" cy="2454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Лазерный принтер Xerox Phaser 3010"/>
          <p:cNvPicPr/>
          <p:nvPr/>
        </p:nvPicPr>
        <p:blipFill>
          <a:blip r:embed="rId3"/>
          <a:srcRect l="0" t="6844" r="0" b="7768"/>
          <a:stretch/>
        </p:blipFill>
        <p:spPr>
          <a:xfrm>
            <a:off x="6110280" y="3962520"/>
            <a:ext cx="220824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53880" y="115920"/>
            <a:ext cx="8595000" cy="1627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кан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зволяет ввести в компьютер изображение: фотографию, страницу журнала, книги, рукопис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нирование выполняется при помощи светового луча. Источник света перемещается вдоль оригинала, считывая изображ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2"/>
          <a:srcRect l="0" t="0" r="0" b="50012"/>
          <a:stretch/>
        </p:blipFill>
        <p:spPr>
          <a:xfrm>
            <a:off x="539640" y="4437000"/>
            <a:ext cx="2664000" cy="21178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3"/>
          <a:srcRect l="-1663" t="50012" r="1682" b="0"/>
          <a:stretch/>
        </p:blipFill>
        <p:spPr>
          <a:xfrm>
            <a:off x="6084720" y="4498920"/>
            <a:ext cx="25066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жение в компьютер может вводиться с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цифрового фотоаппарат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с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цифровой видеокамер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Фотографии и видеофильмы в этих устройствах сохраняются в виде двоичного кода на магнитных дисках. Затем, используя кабельное соединение, их можно переписать на компьютерный диск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2"/>
          <a:stretch/>
        </p:blipFill>
        <p:spPr>
          <a:xfrm>
            <a:off x="1257480" y="468000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3"/>
          <a:stretch/>
        </p:blipFill>
        <p:spPr>
          <a:xfrm>
            <a:off x="5219640" y="4680000"/>
            <a:ext cx="358164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исты каких профессий используют графические пакеты (назовите не менее 5-6 профессий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какой области компьютерной графики относятся графические пакеты дл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получения движущихся изображени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подготовки чертеж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 построения график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) графического представления результатов научных эксперимент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) построения диаграм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) создания иллюстраций к книга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) создания видеопрезентац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school497.ru/download/u/02/img/13_2.gif"/>
          <p:cNvPicPr/>
          <p:nvPr/>
        </p:nvPicPr>
        <p:blipFill>
          <a:blip r:embed="rId2"/>
          <a:srcRect l="0" t="0" r="25965" b="0"/>
          <a:stretch/>
        </p:blipFill>
        <p:spPr>
          <a:xfrm>
            <a:off x="900000" y="1700280"/>
            <a:ext cx="5224680" cy="3529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xn--d1aigoeoc.xn--p1ai/upload/resize_cache/iblock/1ad/240_240_16a9cdfeb475445909b854c588a1af844/1ad5ebe7ee4fe6fbf7865ddf6adcf361.jpg"/>
          <p:cNvPicPr/>
          <p:nvPr/>
        </p:nvPicPr>
        <p:blipFill>
          <a:blip r:embed="rId3"/>
          <a:stretch/>
        </p:blipFill>
        <p:spPr>
          <a:xfrm>
            <a:off x="6497640" y="2840040"/>
            <a:ext cx="2189160" cy="16714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628560" y="5425920"/>
            <a:ext cx="80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показывает, что монитор (дисплей) и видеоадаптер через информационную магистраль связан с центральным процессором и оперативной памя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school497.ru/download/u/02/img/13_9.jpg"/>
          <p:cNvPicPr/>
          <p:nvPr/>
        </p:nvPicPr>
        <p:blipFill>
          <a:blip r:embed="rId2"/>
          <a:stretch/>
        </p:blipFill>
        <p:spPr>
          <a:xfrm>
            <a:off x="1908000" y="1197000"/>
            <a:ext cx="5256360" cy="21193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3"/>
          <p:cNvSpPr/>
          <p:nvPr/>
        </p:nvSpPr>
        <p:spPr>
          <a:xfrm>
            <a:off x="1476360" y="393372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идеоадаптер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стройство, управляющее работой диспле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539640" y="4343400"/>
            <a:ext cx="86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адаптер состоит из двух част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идеопамять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редназначена для хранения двоичного кода изображения, выводимого на экра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исплейный проц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читает содержимое видеопамяти и в соответствии с ней управляет работой дисплея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upload.wikimedia.org/wikipedia/commons/thumb/5/5d/Seurat-La_Parade_detail.jpg/220px-Seurat-La_Parade_detail.jpg"/>
          <p:cNvPicPr/>
          <p:nvPr/>
        </p:nvPicPr>
        <p:blipFill>
          <a:blip r:embed="rId2"/>
          <a:stretch/>
        </p:blipFill>
        <p:spPr>
          <a:xfrm>
            <a:off x="7308720" y="115920"/>
            <a:ext cx="1727280" cy="280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upload.wikimedia.org/wikipedia/commons/thumb/4/4d/Georges_Seurat_-_Un_dimanche_apr%C3%A8s-midi_%C3%A0_l%27%C3%8Ele_de_la_Grande_Jatte.jpg/200px-Georges_Seurat_-_Un_dimanche_apr%C3%A8s-midi_%C3%A0_l%27%C3%8Ele_de_la_Grande_Jatte.jpg"/>
          <p:cNvPicPr/>
          <p:nvPr/>
        </p:nvPicPr>
        <p:blipFill>
          <a:blip r:embed="rId3"/>
          <a:stretch/>
        </p:blipFill>
        <p:spPr>
          <a:xfrm>
            <a:off x="3419640" y="2781360"/>
            <a:ext cx="5616360" cy="3762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79280" y="13032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ческое зрение устроено так, что воспринимает  изображение, состоящее из отдельных точек, как единое целое. Эту особенность зрения с давних пор использовали худож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XIX веке во Франции возникла техника живописи, которую назва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антилизм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рисунок составлялся из разноцветных точек, наносимых кистью на хол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0840" y="3510000"/>
            <a:ext cx="30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ой технологии основана  технология полиграфической печати при изготовлении различного рода печатной продукции: газет, журналов, кни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26920" y="1700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р — сетка, решетка. В полиграфии — техническое устройство, прозрачная пленка с нанесенными на нее тонкими линиями в прямую или косую кле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826920" y="30686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р (оптика) — решётка для структурного преобразования направленного пучка лучей с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826920" y="422100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ровая развёртка — в телевидении, радиолокации, в системах отображения графической информации — способ разложения изображения на элементы и его воспроиз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20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school497.ru/download/u/02/img/13_5.jpg"/>
          <p:cNvPicPr/>
          <p:nvPr/>
        </p:nvPicPr>
        <p:blipFill>
          <a:blip r:embed="rId2"/>
          <a:stretch/>
        </p:blipFill>
        <p:spPr>
          <a:xfrm>
            <a:off x="3780000" y="4138560"/>
            <a:ext cx="4587840" cy="26067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2"/>
          <p:cNvSpPr/>
          <p:nvPr/>
        </p:nvSpPr>
        <p:spPr>
          <a:xfrm>
            <a:off x="179280" y="1460520"/>
            <a:ext cx="86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и на экране компьютера выстроены в ровные ряды. Совокупность точечных строк образуют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графическую сетку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раст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 точка носит название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икс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picture element). Чем гуще сетка пикселей на экране, тем лучше качество изобра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682560" y="103320"/>
            <a:ext cx="8229600" cy="1628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2"/>
          <a:srcRect l="0" t="0" r="0" b="55003"/>
          <a:stretch/>
        </p:blipFill>
        <p:spPr>
          <a:xfrm>
            <a:off x="6227640" y="1312920"/>
            <a:ext cx="2592360" cy="2332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277920" y="1341360"/>
            <a:ext cx="5619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графической сетки обычно представляется в форме произведения числа точек в горизонтальной строке на число стр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40 х 4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24 х 76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80 х 10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графической сетки называе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разрешением экран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экрана монитора принято измерять по длине диагонали в дюймах. Один дюйм — это 2,54 сантиметра. Дюймы обозначают двойным штрихом вверх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7" descr=""/>
          <p:cNvPicPr/>
          <p:nvPr/>
        </p:nvPicPr>
        <p:blipFill>
          <a:blip r:embed="rId3"/>
          <a:srcRect l="3005" t="57007" r="-2986" b="0"/>
          <a:stretch/>
        </p:blipFill>
        <p:spPr>
          <a:xfrm>
            <a:off x="6372360" y="4149720"/>
            <a:ext cx="256680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Важнейшим устройством отображения информации является монит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Мониторы бывают:</a:t>
            </a:r>
            <a:br>
              <a:rPr sz="2400"/>
            </a:b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1. Мониторы на основе электоронно-лучевой трубки (ЭЛТ);</a:t>
            </a:r>
            <a:br>
              <a:rPr sz="2400"/>
            </a:b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2.Мониторы на основе жидких кристаллов (ЖК).</a:t>
            </a:r>
            <a:br>
              <a:rPr sz="2400"/>
            </a:b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сунок 8" descr="монитор"/>
          <p:cNvPicPr/>
          <p:nvPr/>
        </p:nvPicPr>
        <p:blipFill>
          <a:blip r:embed="rId2"/>
          <a:stretch/>
        </p:blipFill>
        <p:spPr>
          <a:xfrm>
            <a:off x="1076400" y="4159080"/>
            <a:ext cx="2232000" cy="2082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xn--d1aigoeoc.xn--p1ai/upload/resize_cache/iblock/1ad/240_240_16a9cdfeb475445909b854c588a1af844/1ad5ebe7ee4fe6fbf7865ddf6adcf361.jpg"/>
          <p:cNvPicPr/>
          <p:nvPr/>
        </p:nvPicPr>
        <p:blipFill>
          <a:blip r:embed="rId3"/>
          <a:stretch/>
        </p:blipFill>
        <p:spPr>
          <a:xfrm>
            <a:off x="5364000" y="3948120"/>
            <a:ext cx="30067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6:15:34Z</dcterms:created>
  <dc:creator>Аня</dc:creator>
  <dc:description/>
  <dc:language>en-US</dc:language>
  <cp:lastModifiedBy>user</cp:lastModifiedBy>
  <dcterms:modified xsi:type="dcterms:W3CDTF">2013-04-24T08:43:50Z</dcterms:modified>
  <cp:revision>35</cp:revision>
  <dc:subject/>
  <dc:title>Технические средства компьютерной графики</dc:title>
</cp:coreProperties>
</file>