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6.jpeg" ContentType="image/jpe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B7A-1A01-40DB-B68B-7434C214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E27-DC70-4F3C-88C3-0459D576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6E2-74A5-4C8A-B803-06FB5766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EFD-8151-44F7-923D-56C699DF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FEBB-0565-410A-912E-7D4A6246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97D8-1CB1-49CC-8063-9DF6A007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EF54-346B-48C4-B0A8-6AE458B0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868-32E0-45B0-B466-D3D4ECF1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18ED-07B0-4BC7-9955-F85BEBE0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03E7-511E-4BE2-B0FA-C7309FB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E8F-E559-4158-9D64-F887D5F0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F38-1242-4D13-A986-6233A1E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C3E-0FEC-49C0-8CF2-D08081E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55D2-BB72-470D-8DDA-032CD67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0568-0384-44DD-B10D-800B0F5A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FD00-8CB0-4891-BF38-A778A567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01FB-63C0-4FED-B896-21989462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9E0-A608-4077-B29F-6E38B78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B1B-CF24-4774-90DD-6D91492F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276-D847-42F5-8096-AD2442E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C4D-C479-4A87-841E-BB67FEF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C9A-066A-4466-90DB-5C29D11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2D3-9295-439B-BDA2-8FF8E26B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07F-6438-4333-9711-845CD5AE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2C71-5756-4FB0-90B0-98C3FB48142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ED5E-5B3A-4472-91F6-2D00E840E23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В мире волшебной сказ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Автор проекта : Жирноклеева Ольга Марьян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Учитель 2 «В» класса ГБОУ СОШ №634 г.Москв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Проект для учащихся начальных классов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Наши рисунки к сказкам «Угадай сказку»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271520" y="4114800"/>
            <a:ext cx="2638440" cy="19810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5241960" y="4114800"/>
            <a:ext cx="2622600" cy="19810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411280" y="1989000"/>
            <a:ext cx="1122480" cy="1757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1108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абота на уроках труда.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Сказочные персонажи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2887920" cy="21668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2880000" cy="2084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2880000" cy="21639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826920" y="1989000"/>
            <a:ext cx="2843280" cy="2057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Развиваем воображ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78800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Иллюстрирование и озвучивание сказки Г.Х.Андерсена «Гадкий утёнок»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5616720" cy="421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Работа в Перво Лого с формами из цветной бумаг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5759640" cy="4319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Аннотация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Данный проект может проводиться при изучении тем устного народного творчества на уроках литературного чтения в начальной школе. Учащиеся делятся на группы для поисковой деятельности. Даётся пояснение, где можно найти информацию. Начинается работа над проектом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00560" cy="338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Цели проект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4000" y="2492280"/>
            <a:ext cx="38098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Формировать умение находить нужную информацию в разных источниках,    анализировать её и делать вывод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48320" y="2598840"/>
            <a:ext cx="3809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Задачи проект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Развивать умение характеризовать персонажей сказок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оспитывать интерес к произведениям детской       литературы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Вовлечь детей в творческий процесс сочинения сказок, стихов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Освоить представления о понятиях «миф» и «сказка»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4643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Темы самостоятельных исследований учащихся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Чудесные помощники главных сказочных герое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Волшебные предметы героев сказок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859280" y="3284640"/>
            <a:ext cx="4284720" cy="32115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Результаты представления исследований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Презентация «В мире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уклеты «Сочиняем сказки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Работа в программе Перво Лого; озвучивание и иллюстрирование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Тест «В мире волшебных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Составление кроссвордов «Теремок сказок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Итоги работы литературной гостиной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1903680" cy="18147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1763640" y="4365720"/>
            <a:ext cx="1917720" cy="1801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Инсценирование сказки Ш.Перро «Красная Шапочка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3209760" cy="18111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213000" cy="18036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116000" y="4365720"/>
            <a:ext cx="3260880" cy="1836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859280" y="4365720"/>
            <a:ext cx="3267000" cy="183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чиняем сказ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5760720" cy="4283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6443640" y="450864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443640" y="242100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Составляем кроссвор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284720" y="436572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11280" y="436572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1908000" y="1700280"/>
            <a:ext cx="316404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Работа с конструктором Лего «Придумай весёлую сказку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532240" y="2138400"/>
            <a:ext cx="2690640" cy="1944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rcRect l="-1613" t="0" r="0" b="0"/>
          <a:stretch/>
        </p:blipFill>
        <p:spPr>
          <a:xfrm>
            <a:off x="5003640" y="4292640"/>
            <a:ext cx="3097440" cy="2282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024000" cy="2270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8:55:55Z</dcterms:created>
  <dc:creator>Soul</dc:creator>
  <dc:description/>
  <dc:language>en-US</dc:language>
  <cp:lastModifiedBy>Soul</cp:lastModifiedBy>
  <dcterms:modified xsi:type="dcterms:W3CDTF">2013-04-23T20:34:52Z</dcterms:modified>
  <cp:revision>43</cp:revision>
  <dc:subject/>
  <dc:title>В мире волшебной сказки</dc:title>
</cp:coreProperties>
</file>