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27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6.jpeg" ContentType="image/jpeg"/>
  <Override PartName="/ppt/media/image20.wmf" ContentType="image/x-wmf"/>
  <Override PartName="/ppt/media/image14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67B2-E97B-4674-B6B0-71779095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6985-BFF5-439A-B01A-F3991272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DBD6-6EF0-4E6A-9EFC-ED043BB1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280C-5662-475B-ACEC-911FCCA2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E8AE-E7D2-4265-BD6D-6FBC57CE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9833-AF1E-4199-9F1E-84FC5B3B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9C09-6B43-418E-B14B-180FC2A4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72F2-5F1D-4420-80EE-3629156D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06C0-EC68-48C5-A4AB-77D2998F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8ACB-7A6C-471A-B3C8-61E293B6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C7F0-B6BB-4B33-9014-B901E844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715B-F916-4B8C-957F-48B6C121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CAE3-D324-4DBB-A99D-3DC1FF7E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9DA7-A0FE-417C-80E7-BAACD606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24A0-516A-4F2E-81E4-88A7E621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6BC9-7275-4F58-A300-7FEE90D8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9B4B-90DB-4FD4-A632-50B3141C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C6DC-037B-43E8-B384-C65F2B9A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3E7B-333E-4648-B022-4A121D78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3B73-46C1-4804-A363-3D0BE80D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3229-0D2B-4719-A800-EB44CD98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FA16-1366-4DD2-BFA0-EF12BFF3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A385-8510-4940-BDE9-08A14954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167E-277D-4C8C-BE06-74070A96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AD40-4274-4006-ACCC-1B69516BA10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2B5E-AD85-48B7-947F-B28971EA540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В мире волшебной сказк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Автор проекта : Жирноклеева Ольга Марьяновн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Учитель 2 «В» класса ГБОУ СОШ №634 г.Москв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роект для учащихся начальных классо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Наши рисунки к сказкам «Угадай сказку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271520" y="4114800"/>
            <a:ext cx="2638440" cy="19810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5241960" y="4114800"/>
            <a:ext cx="2622600" cy="19810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2411280" y="1989000"/>
            <a:ext cx="1122480" cy="17575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5364000" y="2133720"/>
            <a:ext cx="110808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Работа на уроках труда.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Сказочные персонажи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26920" y="4437000"/>
            <a:ext cx="2887920" cy="21668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2880000" cy="20844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4716360" y="4437000"/>
            <a:ext cx="2880000" cy="21639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826920" y="1989000"/>
            <a:ext cx="2843280" cy="2057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Развиваем воображени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3168720" cy="23749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4788000" y="3860640"/>
            <a:ext cx="3313080" cy="2484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Иллюстрирование и озвучивание сказки Г.Х.Андерсена «Гадкий утёнок»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1547640" y="2205000"/>
            <a:ext cx="5616720" cy="421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Работа в Перво Лого с формами из цветной бумаги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5759640" cy="4319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Аннотация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Данный проект может проводиться при изучении тем устного народного творчества на уроках литературного чтения в начальной школе. Учащиеся делятся на группы для поисковой деятельности. Даётся пояснение, где можно найти информацию. Начинается работа над проектом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300560" cy="33876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Цели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4000" y="2492280"/>
            <a:ext cx="380988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Формировать умение находить нужную информацию в разных источниках,    анализировать её и делать выводы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648320" y="2598840"/>
            <a:ext cx="3809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Задачи проекта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Развивать умение характеризовать персонажей сказок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Воспитывать интерес к произведениям детской       литературы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Вовлечь детей в творческий процесс сочинения сказок, стихов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Освоить представления о понятиях «миф» и «сказка»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356000" y="2421000"/>
            <a:ext cx="46436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Темы самостоятельных исследований учащихся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Чудесные помощники главных сказочных героев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Волшебные предметы героев сказок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859280" y="3284640"/>
            <a:ext cx="4284720" cy="32115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Результаты представления исследований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резентация «В мире сказок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Буклеты «Сочиняем сказки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Работа в программе Перво Лого; озвучивание и иллюстрирование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Тест «В мире волшебных сказок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Составление кроссвордов «Теремок сказок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Итоги работы литературной гостиной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1903680" cy="181476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1763640" y="4365720"/>
            <a:ext cx="1917720" cy="1801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Инсценирование сказки Ш.Перро «Красная Шапочка»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3209760" cy="18111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4788000" y="2205000"/>
            <a:ext cx="3213000" cy="18036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1116000" y="4365720"/>
            <a:ext cx="3260880" cy="18367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859280" y="4365720"/>
            <a:ext cx="3267000" cy="18302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очиняем сказк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5760720" cy="42832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6443640" y="4508640"/>
            <a:ext cx="2592360" cy="19461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6443640" y="242100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оставляем кроссворд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284720" y="4365720"/>
            <a:ext cx="3024000" cy="22701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611280" y="436572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1908000" y="1700280"/>
            <a:ext cx="3164040" cy="2286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Работа с конструктором Лего «Придумай весёлую сказку»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532240" y="2138400"/>
            <a:ext cx="2690640" cy="19447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rcRect l="-1613" t="0" r="0" b="0"/>
          <a:stretch/>
        </p:blipFill>
        <p:spPr>
          <a:xfrm>
            <a:off x="5003640" y="4292640"/>
            <a:ext cx="3097440" cy="228276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611280" y="4365720"/>
            <a:ext cx="3024000" cy="2270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18:55:55Z</dcterms:created>
  <dc:creator>Soul</dc:creator>
  <dc:description/>
  <dc:language>en-US</dc:language>
  <cp:lastModifiedBy>Soul</cp:lastModifiedBy>
  <dcterms:modified xsi:type="dcterms:W3CDTF">2013-04-23T20:34:52Z</dcterms:modified>
  <cp:revision>43</cp:revision>
  <dc:subject/>
  <dc:title>В мире волшебной сказки</dc:title>
</cp:coreProperties>
</file>