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7FF-3802-44D8-B4F7-9BF679B2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D9D-D408-412D-A381-159CAB3B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104-7AC1-4043-B8E3-4E7DDCBE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FF3-2539-4D90-B38E-97F870BC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B52-D3F9-4068-B0F1-06B83FC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863-BF46-4817-B256-B853A1C5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F54-5733-424F-9B0D-B9491DE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E98-78EB-436D-9CC9-2A64FAA2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609-2119-48DB-9296-908143B4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049-4EBA-418A-BE48-EE9782D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4D7-E9E4-437E-940B-D3B22983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918-004E-4862-9F62-B125F237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4184-2963-4FB9-8EA7-B242BBC32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7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а-путешествие 3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СОШ №1 Зайц Е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844280"/>
            <a:ext cx="6477120" cy="1513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 стране занимательной  Матема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114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343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18560" cy="11509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Фольклор 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ословицы и поговор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ук – от …..          нед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  …          мор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ядей во л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      вода на кис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ст до неб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        ….         н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 отмерь – один раз отреж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ятниц на нед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…          нянек дитя без гл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 не дерусь, а       ….          бою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с сошкой, а  ….        с лож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1773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6360" y="2205000"/>
            <a:ext cx="830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ю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42920" y="256536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6920" y="2924280"/>
            <a:ext cx="1246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дьмая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640" y="3357720"/>
            <a:ext cx="718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63640" y="3645000"/>
            <a:ext cx="1246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дьмом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42920" y="4076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640" y="443700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4797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19640" y="5084640"/>
            <a:ext cx="1245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рых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492360" y="5516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ро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Меры длины в старин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 старину русские меры длины  были основаны на размерах разных частей тела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ядь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– расстояние между концами вытяну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большого и указательного паль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пядь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= 18 - 19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267080"/>
            <a:ext cx="4343400" cy="2286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Про кого говорят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«У него семь пядей во лбу»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Об умном, мудром человеке</a:t>
            </a:r>
            <a:r>
              <a:rPr b="0" lang="en-US" sz="28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92060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16B-35E9-418D-8005-AC87695F26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Расположи в порядке возрастания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Единицы м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лограмм, тонна, центнер, 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200" y="386064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диницы дли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р, дециметр, километр, миллиметр, санти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997360"/>
            <a:ext cx="8462880" cy="1439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вер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Грамм, килограмм, центнер, тон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445000"/>
            <a:ext cx="871380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вер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миллиметр, сантиметр, дециметр, метр, кил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Математика и эк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560" y="1484280"/>
            <a:ext cx="4244760" cy="461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- 14 =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ударов в минуту делает сердце взрослого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х 7 =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сосен сберегает 1 центнер макул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0 :  * 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литров воды требуется человеку  в д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557000"/>
            <a:ext cx="4171680" cy="453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 :  * 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литров воды вытекает из неисправного кр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6 :  * 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кг углекислого газа поглощает за час 1 гектар ле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3 +  *  = 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кг чистого воздуха требуется в сутки для дыхания одного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206064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6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19280" y="4437000"/>
            <a:ext cx="330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42920" y="321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08720" y="206064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5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508720" y="3213000"/>
            <a:ext cx="1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508720" y="4437000"/>
            <a:ext cx="2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1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Реши экологическую задач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 семью из трех человек в сутки требуется 51кг чистого воздуха. Сколько потребуется кг воздуха на семью из 5 человек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5300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Ответ : 85 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Логика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ссуждай и вставляй в выражения слова «некоторые» или «вс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4360" y="1483920"/>
            <a:ext cx="7702560" cy="23050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 ком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  уравнения содержат неизвест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_ треугольники имеют три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_ числа  чет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_ числа меньше тыся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4076280"/>
            <a:ext cx="7773840" cy="25210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 ком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 задачи решаются в два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 квадраты - четырехуголь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 числа двузнач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 числа делятся н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0000" y="5445000"/>
            <a:ext cx="1479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42920" y="2924280"/>
            <a:ext cx="1152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71640" y="4724280"/>
            <a:ext cx="11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16000" y="3429000"/>
            <a:ext cx="1263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03280" y="206064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242100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403280" y="508464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7280" y="5950080"/>
            <a:ext cx="64008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Найди закономер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343400" cy="4343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  40  39  29      28  18  17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30и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) 7и 6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) 10и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57440" y="16761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удьте       внимательн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5909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5909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45820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2195640" y="5534640"/>
            <a:ext cx="6338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МО Л О Д Ц Ы !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се ли вы делаете зарядку по утра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, что есть зарядка для у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гадались?   Конечно,   это………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М   А   Т   Е   М   А   Т   И   К  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егодня мы попали в удивительную страну мудрецов «Заниматик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Миром управляют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1916280"/>
            <a:ext cx="4105440" cy="381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348000" y="1844640"/>
            <a:ext cx="1152720" cy="34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348000" y="3644640"/>
            <a:ext cx="324000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71280" y="2708280"/>
            <a:ext cx="3745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781360"/>
            <a:ext cx="3024360" cy="25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579640" y="2133360"/>
            <a:ext cx="144360" cy="30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84000" y="2205000"/>
            <a:ext cx="309564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3860640"/>
            <a:ext cx="2232000" cy="180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4000" y="5373720"/>
            <a:ext cx="125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М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00720" y="5734080"/>
            <a:ext cx="863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</a:t>
            </a:r>
            <a:endParaRPr b="1" lang="en-US" sz="4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67280" y="5084640"/>
            <a:ext cx="11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я</a:t>
            </a:r>
            <a:endParaRPr b="1" lang="en-US" sz="40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32720" y="3500280"/>
            <a:ext cx="115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п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96000" y="155736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т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360" y="2060640"/>
            <a:ext cx="120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3500280"/>
            <a:ext cx="115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ЕКТОРА НА ИГРОВОМ П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8920" y="1981080"/>
            <a:ext cx="6048360" cy="41148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рифм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олькл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елич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атематика и эк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Лог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ообража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У пчёлки глаз столько, сколько у тебя, да ещё столько, да ещё полстоль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Сколько глаз у пчёл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52360" cy="110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84720" y="5013360"/>
            <a:ext cx="792000" cy="752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524720" y="5013360"/>
            <a:ext cx="792360" cy="75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1152720" cy="110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187280" y="508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ложи пословицу.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числи, воспользуйся кодом  (ключом) и прочти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413000"/>
            <a:ext cx="6478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х9                            4х7                      24х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х5                            7х9                      9х2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х3                            6х4                       3х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х9                            20х2                      7х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х2                            5х9                        9х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д шифров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4581360"/>
          <a:ext cx="8206920" cy="1079640"/>
        </p:xfrm>
        <a:graphic>
          <a:graphicData uri="http://schemas.openxmlformats.org/drawingml/2006/table">
            <a:tbl>
              <a:tblPr/>
              <a:tblGrid>
                <a:gridCol w="683640"/>
                <a:gridCol w="684360"/>
                <a:gridCol w="684000"/>
                <a:gridCol w="683640"/>
                <a:gridCol w="684000"/>
                <a:gridCol w="683640"/>
                <a:gridCol w="684000"/>
                <a:gridCol w="683640"/>
                <a:gridCol w="684000"/>
                <a:gridCol w="684000"/>
                <a:gridCol w="684360"/>
                <a:gridCol w="683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24000" y="5850000"/>
            <a:ext cx="8569080" cy="100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66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Правильный ответ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Без  муки нет нау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Названия 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341360"/>
            <a:ext cx="1655640" cy="165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508640"/>
            <a:ext cx="1368360" cy="115236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1268280"/>
            <a:ext cx="2592360" cy="187164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500280"/>
            <a:ext cx="1439640" cy="1440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4221000"/>
            <a:ext cx="2736720" cy="1295640"/>
          </a:xfrm>
          <a:prstGeom prst="parallelogram">
            <a:avLst>
              <a:gd name="adj" fmla="val 52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1773360"/>
            <a:ext cx="1368360" cy="27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4160" y="3213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39080" y="32320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05040" y="580536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9080" y="530064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9800" y="5805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9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23736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340000" y="4581360"/>
            <a:ext cx="7128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4581360"/>
            <a:ext cx="57636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24360" y="1773360"/>
            <a:ext cx="216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292720" y="4436640"/>
            <a:ext cx="1429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800" y="64911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ма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ФИЗМИНУ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8327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00"/>
              </a:gs>
              <a:gs pos="100000">
                <a:srgbClr val="ff7c8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И СТОРОНЫ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ПОВОРОТЫ В СТОРОН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И УГ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ПОВОРОТ ТУДА, СЮД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И ВЕРШ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РУКИ ВВЕРХ, НОГИ ШИР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ЕУГОЛЬНИКИ ПРИШ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ШАГАЕМ НА МЕСТ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300"/>
                            </p:stCondLst>
                            <p:childTnLst>
                              <p:par>
                                <p:cTn id="22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40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75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45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26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Глаз- алма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7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еди эт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сочков головоломки есть 2 с одинаковой площадью. Как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 2 и 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) 1 и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3) 2 и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209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5029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7:57:24Z</dcterms:created>
  <dc:creator>kurs</dc:creator>
  <dc:description/>
  <dc:language>en-US</dc:language>
  <cp:lastModifiedBy>VERA</cp:lastModifiedBy>
  <dcterms:modified xsi:type="dcterms:W3CDTF">2009-03-10T17:53:25Z</dcterms:modified>
  <cp:revision>77</cp:revision>
  <dc:subject/>
  <dc:title>Презентация PowerPoint</dc:title>
</cp:coreProperties>
</file>