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6.wmf" ContentType="image/x-wmf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4073-75CC-442A-8E69-07057A79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DD3A-FA6D-4535-A61D-3426CD7D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66D1-CA19-428A-8C7D-259C4227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C41B-CF8D-4C91-BD76-AFDBF1F31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F942-D89A-4211-A7FC-76BCC32C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AA8C-E994-44EF-BD8A-E3ACF49F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A39D-2D1E-451F-BCE8-8CDABBAB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566B-6B76-435A-B822-EAA95BC8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EBC8-418D-4FC2-A578-20992520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E158-8A63-4384-BE41-D9BBF772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E688-AFF9-4E66-9118-45AC2F0E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724D-7679-4171-B039-AB02D794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408A-6291-4427-A905-E10E7E084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7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1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7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гра-путешествие 3 класс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МСОШ №1 Зайц Е.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1844280"/>
            <a:ext cx="6477120" cy="1513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В стране занимательной  Математи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411480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43434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918560" cy="115092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66"/>
              </a:gs>
              <a:gs pos="100000">
                <a:srgbClr val="ff7c8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Фольклор  </a:t>
            </a:r>
            <a:br>
              <a:rPr sz="36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Пословицы и поговорк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ук – от …..          неду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  …          мор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ядей во лб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          вода на кисел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ерст до небе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         ….         неб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з отмерь – один раз отреж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ятниц на недел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…          нянек дитя без глаз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ам не дерусь, а       ….          боюс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дин с сошкой, а  ….        с лож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340000" y="1773360"/>
            <a:ext cx="647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ми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476360" y="2205000"/>
            <a:ext cx="8301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мью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42920" y="2565360"/>
            <a:ext cx="719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мь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26920" y="2924280"/>
            <a:ext cx="124632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дьмая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71640" y="3357720"/>
            <a:ext cx="7189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мь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763640" y="3645000"/>
            <a:ext cx="124632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дьмом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42920" y="4076640"/>
            <a:ext cx="719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мь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71640" y="4437000"/>
            <a:ext cx="718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мь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4797360"/>
            <a:ext cx="647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ми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419640" y="5084640"/>
            <a:ext cx="124596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мерых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492360" y="5516640"/>
            <a:ext cx="719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меро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Меры длины в старин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В старину русские меры длины  были основаны на размерах разных частей тела челове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Пядь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– расстояние между концами вытянут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большого и указательного пальце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 пядь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= 18 - 19 с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4267080"/>
            <a:ext cx="4343400" cy="228600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?</a:t>
            </a: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Lucida Console"/>
              </a:rPr>
              <a:t>Про кого говорят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Monotype Corsiva"/>
              </a:rPr>
              <a:t>«У него семь пядей во лбу»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onotype Corsiva"/>
              </a:rPr>
              <a:t>Об умном, мудром человеке</a:t>
            </a:r>
            <a:r>
              <a:rPr b="0" lang="en-US" sz="2800" spc="-1" strike="noStrike">
                <a:solidFill>
                  <a:srgbClr val="000099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920600" cy="194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88B9-81F8-4E61-8346-6E05CE7D641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Расположи в порядке возрастания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Единицы масс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илограмм, тонна, центнер, грам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0200" y="3860640"/>
            <a:ext cx="8713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Единицы длин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тр, дециметр, километр, миллиметр, сантимет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0920" y="2997360"/>
            <a:ext cx="8462880" cy="14396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6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Проверь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Грамм, килограмм, центнер, тон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9280" y="5445000"/>
            <a:ext cx="8713800" cy="11527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6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Проверь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миллиметр, сантиметр, дециметр, метр, километ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Математика и эколог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50560" y="1484280"/>
            <a:ext cx="4244760" cy="4611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66"/>
              </a:gs>
              <a:gs pos="100000">
                <a:srgbClr val="00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 коман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 - 14 = 5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олько ударов в минуту делает сердце взрослого челове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* х 7 = 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олько сосен сберегает 1 центнер макулат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90 :  *  = 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олько литров воды требуется человеку  в ден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48320" y="1557000"/>
            <a:ext cx="4171680" cy="45385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66"/>
              </a:gs>
              <a:gs pos="100000">
                <a:srgbClr val="00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 коман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00 :  *  =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олько литров воды вытекает из неисправного кра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96 :  *  =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олько кг углекислого газа поглощает за час 1 гектар ле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3 +  *  =  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олько кг чистого воздуха требуется в сутки для дыхания одного челове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55640" y="2060640"/>
            <a:ext cx="57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6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619280" y="4437000"/>
            <a:ext cx="3301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042920" y="321300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508720" y="206064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5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508720" y="3213000"/>
            <a:ext cx="185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508720" y="4437000"/>
            <a:ext cx="28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1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Monotype Corsiva"/>
              </a:rPr>
              <a:t>Реши экологическую задач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а семью из трех человек в сутки требуется 51кг чистого воздуха. Сколько потребуется кг воздуха на семью из 5 человек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5300640"/>
            <a:ext cx="7772400" cy="1143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6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Monotype Corsiva"/>
              </a:rPr>
              <a:t>Ответ : 85 к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Логика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Рассуждай и вставляй в выражения слова «некоторые» или «вс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4360" y="1483920"/>
            <a:ext cx="7702560" cy="230508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50000">
                <a:srgbClr val="ffff66"/>
              </a:gs>
              <a:gs pos="100000">
                <a:srgbClr val="66ff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 коман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_______  уравнения содержат неизвестно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________ треугольники имеют три уг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________ числа  четные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________ числа меньше тыся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4360" y="4076280"/>
            <a:ext cx="7773840" cy="252108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50000">
                <a:srgbClr val="ffff66"/>
              </a:gs>
              <a:gs pos="100000">
                <a:srgbClr val="66ff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2 коман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_______ задачи решаются в два дейст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________ квадраты - четырехугольн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________ числа двузначные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________ числа делятся на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00000" y="5445000"/>
            <a:ext cx="147960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которые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042920" y="2924280"/>
            <a:ext cx="1152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которые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971640" y="4724280"/>
            <a:ext cx="1150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которые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116000" y="3429000"/>
            <a:ext cx="126360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которые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403280" y="2060640"/>
            <a:ext cx="63972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се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403280" y="2421000"/>
            <a:ext cx="63972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се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403280" y="5084640"/>
            <a:ext cx="63972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се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187280" y="5950080"/>
            <a:ext cx="640080" cy="28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се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500"/>
                            </p:stCondLst>
                            <p:childTnLst>
                              <p:par>
                                <p:cTn id="4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Monotype Corsiva"/>
              </a:rPr>
              <a:t>Найди закономерн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4343400" cy="4343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  40  39  29      28  18  17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)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 30и20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2) 7и 6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3) 10и9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57440" y="1676160"/>
            <a:ext cx="3505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Будьте       внимательны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57600" y="2590920"/>
            <a:ext cx="5335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43400" y="2590920"/>
            <a:ext cx="5335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8458200" y="6019560"/>
            <a:ext cx="7632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5410080" cy="5241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 flipV="1">
            <a:off x="2195640" y="5534640"/>
            <a:ext cx="63388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МО Л О Д Ц Ы !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Все ли вы делаете зарядку по утрам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знаете ли вы, что есть зарядка для ум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гадались?   Конечно,   это………       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М   А   Т   Е   М   А   Т   И   К   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Сегодня мы попали в удивительную страну мудрецов «Заниматику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0800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66"/>
              </a:gs>
              <a:gs pos="100000">
                <a:srgbClr val="ff7c8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Миром управляют чис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М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84360" y="1916280"/>
            <a:ext cx="4105440" cy="3816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348000" y="1844640"/>
            <a:ext cx="1152720" cy="345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348000" y="3644640"/>
            <a:ext cx="3240000" cy="165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2771280" y="2708280"/>
            <a:ext cx="3745080" cy="100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2781360"/>
            <a:ext cx="3024360" cy="2519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5579640" y="2133360"/>
            <a:ext cx="144360" cy="309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484000" y="2205000"/>
            <a:ext cx="3095640" cy="165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56000" y="3860640"/>
            <a:ext cx="2232000" cy="180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24000" y="5373720"/>
            <a:ext cx="12556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ОМ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00720" y="5734080"/>
            <a:ext cx="8632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а</a:t>
            </a:r>
            <a:endParaRPr b="1" lang="en-US" sz="40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867280" y="5084640"/>
            <a:ext cx="1152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я</a:t>
            </a:r>
            <a:endParaRPr b="1" lang="en-US" sz="4000" spc="1" strike="noStrike">
              <a:ln w="0">
                <a:noFill/>
              </a:ln>
              <a:solidFill>
                <a:srgbClr val="00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732720" y="3500280"/>
            <a:ext cx="115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п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796000" y="1557360"/>
            <a:ext cx="122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ют</a:t>
            </a:r>
            <a:endParaRPr b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692360" y="2060640"/>
            <a:ext cx="12081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в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258920" y="3500280"/>
            <a:ext cx="1152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ис</a:t>
            </a:r>
            <a:endParaRPr b="0" lang="en-US" sz="24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2789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СЕКТОРА НА ИГРОВОМ ПОЛ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18920" y="1981080"/>
            <a:ext cx="6048360" cy="411480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50000">
                <a:srgbClr val="ffff66"/>
              </a:gs>
              <a:gs pos="100000">
                <a:srgbClr val="66ff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Арифмет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Геомет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Физкультминут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Фолькл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Величи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Математика и эколо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Лог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omic Sans MS"/>
              </a:rPr>
              <a:t>Соображал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У пчёлки глаз столько, сколько у тебя, да ещё столько, да ещё полстольк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</a:rPr>
              <a:t>Сколько глаз у пчёлк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52360" cy="1101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4360" y="436572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284720" y="5013360"/>
            <a:ext cx="792000" cy="752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7524720" y="5013360"/>
            <a:ext cx="792360" cy="752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1152720" cy="1101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1187280" y="508464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Сложи пословицу.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ычисли, воспользуйся кодом  (ключом) и прочти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1413000"/>
            <a:ext cx="64785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х9                            4х7                      24х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х5                            7х9                      9х2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х3                            6х4                       3х4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х9                            20х2                      7х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х2                            5х9                        9х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Код шифровк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586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50920" y="4581360"/>
          <a:ext cx="8206920" cy="1079640"/>
        </p:xfrm>
        <a:graphic>
          <a:graphicData uri="http://schemas.openxmlformats.org/drawingml/2006/table">
            <a:tbl>
              <a:tblPr/>
              <a:tblGrid>
                <a:gridCol w="683640"/>
                <a:gridCol w="684360"/>
                <a:gridCol w="684000"/>
                <a:gridCol w="683640"/>
                <a:gridCol w="684000"/>
                <a:gridCol w="683640"/>
                <a:gridCol w="684000"/>
                <a:gridCol w="683640"/>
                <a:gridCol w="684000"/>
                <a:gridCol w="684000"/>
                <a:gridCol w="684360"/>
                <a:gridCol w="6836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324000" y="5850000"/>
            <a:ext cx="8569080" cy="100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66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Правильный ответ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Без  муки нет нау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Названия  геометрических фигу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35280" y="1341360"/>
            <a:ext cx="1655640" cy="165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4508640"/>
            <a:ext cx="1368360" cy="1152360"/>
          </a:xfrm>
          <a:prstGeom prst="octagon">
            <a:avLst>
              <a:gd name="adj" fmla="val 2928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35640" y="1268280"/>
            <a:ext cx="2592360" cy="1871640"/>
          </a:xfrm>
          <a:prstGeom prst="triangle">
            <a:avLst>
              <a:gd name="adj" fmla="val 50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3500280"/>
            <a:ext cx="1439640" cy="1440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56360" y="4221000"/>
            <a:ext cx="2736720" cy="1295640"/>
          </a:xfrm>
          <a:prstGeom prst="parallelogram">
            <a:avLst>
              <a:gd name="adj" fmla="val 5293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95640" y="1773360"/>
            <a:ext cx="1368360" cy="2736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54160" y="321300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вадра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39080" y="323208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05040" y="5805360"/>
            <a:ext cx="21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етырехуголь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29080" y="5300640"/>
            <a:ext cx="6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у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29800" y="580536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ногоуголь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89800" y="45813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рез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6237360"/>
            <a:ext cx="1942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2340000" y="4581360"/>
            <a:ext cx="71280" cy="165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40000" y="4581360"/>
            <a:ext cx="576360" cy="28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924360" y="1773360"/>
            <a:ext cx="216000" cy="7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292720" y="4436640"/>
            <a:ext cx="14292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9800" y="649116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оман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80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ФИЗМИНУТ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765000"/>
            <a:ext cx="7772400" cy="583272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50000">
                <a:srgbClr val="ffff00"/>
              </a:gs>
              <a:gs pos="100000">
                <a:srgbClr val="ff7c8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1-2-3-ТРИ СТОРОНЫ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(ПОВОРОТЫ В СТОРОНЫ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1-2-3-ТРИ УГЛ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(ПОВОРОТ ТУДА, СЮДА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1-2-3-ТРИ ВЕРШИ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(РУКИ ВВЕРХ, НОГИ ШИРЕ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1-2-3-ТРЕУГОЛЬНИКИ ПРИШЛ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(ШАГАЕМ НА МЕСТЕ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300"/>
                            </p:stCondLst>
                            <p:childTnLst>
                              <p:par>
                                <p:cTn id="226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400"/>
                            </p:stCondLst>
                            <p:childTnLst>
                              <p:par>
                                <p:cTn id="233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7750"/>
                            </p:stCondLst>
                            <p:childTnLst>
                              <p:par>
                                <p:cTn id="24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9000"/>
                            </p:stCondLst>
                            <p:childTnLst>
                              <p:par>
                                <p:cTn id="24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450"/>
                            </p:stCondLst>
                            <p:childTnLst>
                              <p:par>
                                <p:cTn id="25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2100"/>
                            </p:stCondLst>
                            <p:childTnLst>
                              <p:par>
                                <p:cTn id="26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Глаз- алма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7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реди эти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усочков головоломки есть 2 с одинаковой площадью. Каки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) 2 и 4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2) 1 и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3) 2 и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4382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57800" y="24382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57800" y="22096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24382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0" y="2743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2514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2895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86400" y="2895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26668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895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15000" y="26668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26668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29400" y="2971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26668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24382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2971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2971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0" y="3200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4038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4038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4038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4038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19920" y="4038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26668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4120" y="38098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4120" y="42670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42670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91320" y="42670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81680" y="38098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4956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38098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4038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42670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4038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38880" y="4038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38880" y="38098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38880" y="42670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7480" y="4038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53080" y="403848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19920" y="5257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248520" y="5257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77120" y="5257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48520" y="5029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77120" y="5486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54864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9920" y="5715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5715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5943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77120" y="57150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248520" y="5943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77120" y="59436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61722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07:57:24Z</dcterms:created>
  <dc:creator>kurs</dc:creator>
  <dc:description/>
  <dc:language>en-US</dc:language>
  <cp:lastModifiedBy>VERA</cp:lastModifiedBy>
  <dcterms:modified xsi:type="dcterms:W3CDTF">2009-03-10T17:53:25Z</dcterms:modified>
  <cp:revision>77</cp:revision>
  <dc:subject/>
  <dc:title>Презентация PowerPoint</dc:title>
</cp:coreProperties>
</file>