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37D-F7E4-4A64-9110-0BCA7B45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0AD-9BC1-47A1-97C8-F035E57B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340-305A-480C-AD5F-8613F5DC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464-57EF-4C11-AE65-C19F1234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40F-3DE2-40A0-AEDD-7552F283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E16-2D71-44E5-BF5D-B5199FB1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ED3E-BA76-4E00-906C-358E35D6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7238-4031-4933-9743-5ABDACC8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FFC-DE68-4F64-936A-EFBD3C54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C313-44D0-4A94-A946-E03E31E4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AE5-38A2-445B-8103-1A028BD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0F0-AD09-477B-804F-E529DB45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D1D1-F2EC-4EF0-88BF-228C52793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93;&#1074;&#1086;&#1081;&#1085;&#1099;&#1081;%20&#1083;&#1077;&#1089;&amp;noreask=1&amp;pos=0&amp;rpt=simage&amp;lr=2&amp;uinfo=sw-1349-sh-643-fw-1124-fh-448-pd-1&amp;img_url=http%3A%2F%2Felementy.ru%2Fimages%2Fnews%2Flarch_mountain_600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логические факторы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взаимоотношения между человеком и живот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условия, под воздействием которых обитает орга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 Живые 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среда обитания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К экологическим факторам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 биолог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. абиот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. биотически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. антропогенные ф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Что относиться к основным абиотическим фактор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ля чего животным и растениям необходим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каждый правильный ответ – 1 ба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, В,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т, влажность (вода), темп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синтез, фотопериодизм, зрение, источник теп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итерии отмет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5» - 11-10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4» - 8-9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3» - 5-7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2» - меньше 5 б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Биотические </a:t>
            </a:r>
            <a:br>
              <a:rPr sz="6000"/>
            </a:b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факто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4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было интерес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нал много нов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скучно, неинтересно,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чего нового не у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трудн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нятный матери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838160" cy="154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1905120" cy="1616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38080" y="4267080"/>
            <a:ext cx="198144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2:03:37Z</dcterms:created>
  <dc:creator>маша</dc:creator>
  <dc:description/>
  <dc:language>en-US</dc:language>
  <cp:lastModifiedBy>МОУСОШ с.АНЦИФЕРОВО</cp:lastModifiedBy>
  <dcterms:modified xsi:type="dcterms:W3CDTF">2013-04-08T05:22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