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2F4-CDA1-42D2-9D33-CD1BEF21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40B-BC7F-4340-A9B4-AB2B775D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6DA-66BF-4CB4-BC3F-3F0BC44B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E3D-B428-4C6E-B771-B98E5F3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DA6-8E40-4F7A-9000-2A940D24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EF9-7CB4-476D-8911-04E7548D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E64-2E13-46BA-B4AE-516B79ED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848-9BE6-4100-BF31-0E60D407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E2A-DC3D-4676-B4DF-51525CC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791-3D56-4ECC-A640-6BB647A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3EB-AB55-40FC-962D-11DFD5A7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62D-3858-4CA2-A8A1-A9F06ACE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C27-86C7-4D3C-AD4D-22CB4FE8D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3;&#1074;&#1086;&#1081;&#1085;&#1099;&#1081;%20&#1083;&#1077;&#1089;&amp;noreask=1&amp;pos=0&amp;rpt=simage&amp;lr=2&amp;uinfo=sw-1349-sh-643-fw-1124-fh-448-pd-1&amp;img_url=http%3A%2F%2Felementy.ru%2Fimages%2Fnews%2Flarch_mountain_60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логические факторы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взаимоотношения между человеком и живот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условия, под воздействием которых обитает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среда обитания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 экологическим факторам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б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абиот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 биот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антропогенны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Что относиться к основным абиотическим фактор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ля чего животным и растениям необходим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, В,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, влажность (вода), 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синтез, фотопериодизм, зрение, источник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итерии отме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5» - 11-1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4» - 8-9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3» - 5-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2» - меньше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Биотические </a:t>
            </a: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фак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4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было интерес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л много но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скучно, неинтересно,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чего нового не у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труд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нятный матери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838160" cy="15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1905120" cy="1616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4267080"/>
            <a:ext cx="198144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2:03:37Z</dcterms:created>
  <dc:creator>маша</dc:creator>
  <dc:description/>
  <dc:language>en-US</dc:language>
  <cp:lastModifiedBy>МОУСОШ с.АНЦИФЕРОВО</cp:lastModifiedBy>
  <dcterms:modified xsi:type="dcterms:W3CDTF">2013-04-08T05:22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